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coin.wav" ContentType="audio/x-wav"/>
  <Override PartName="/ppt/media/image18.gif" ContentType="image/gif"/>
  <Override PartName="/ppt/media/image20.gif" ContentType="image/gif"/>
  <Override PartName="/ppt/media/image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3.png" ContentType="image/png"/>
  <Override PartName="/ppt/media/chimes.wav" ContentType="audio/x-wav"/>
  <Override PartName="/ppt/media/wind.wav" ContentType="audio/x-wav"/>
  <Override PartName="/ppt/media/image14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каем по надпис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932194-7041-406C-B673-2AF8D7908F3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каем по картинкам под таблиц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2D6FA0-770F-4E32-A614-5290697180D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0E31-0B36-4444-BCA0-5DAA908D2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31440"/>
            <a:ext cx="7694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77B4-3139-4AD8-A60D-B1ADDBFC2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5AE4-9D0F-4F8D-86A2-2F8B00BAC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31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4231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4231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FA78-5F4E-4BB3-9B4E-4471420D7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3634-8AE8-4538-AC2E-EA18D9B3B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FD8D-BFFB-4E86-9108-ED755036E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F73C-6722-4031-ABE4-6A80AA01B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B979-3C1D-4235-8F9F-9C108309E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571A-9A55-44AC-8D5E-DB5AE6F94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9329-F656-469E-9731-B7DBB86AF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69D0-5145-476E-A2A5-0822B42A4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31440"/>
            <a:ext cx="7694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843D-6052-4221-B444-98150C582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F7A6DC-85EE-4837-8B53-605EE6ADF82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7"/>
          <p:cNvSpPr/>
          <p:nvPr/>
        </p:nvSpPr>
        <p:spPr>
          <a:xfrm rot="184200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 rot="18420000">
            <a:off x="783072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AutoShape 10"/>
            <p:cNvSpPr/>
            <p:nvPr/>
          </p:nvSpPr>
          <p:spPr>
            <a:xfrm>
              <a:off x="38160" y="5564160"/>
              <a:ext cx="1727280" cy="1028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622520" y="5686560"/>
              <a:ext cx="110880" cy="2030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31680" y="5991120"/>
              <a:ext cx="1255680" cy="64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04840" y="6045120"/>
              <a:ext cx="831960" cy="592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70040" y="5607000"/>
              <a:ext cx="212760" cy="1904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017720" y="6608880"/>
              <a:ext cx="118800" cy="176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0280" y="5726160"/>
              <a:ext cx="304560" cy="6062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1060560" y="5699160"/>
              <a:ext cx="576000" cy="2746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550800" y="5862600"/>
              <a:ext cx="246240" cy="1047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AutoShape 21"/>
                <p:cNvSpPr/>
                <p:nvPr/>
              </p:nvSpPr>
              <p:spPr>
                <a:xfrm>
                  <a:off x="792000" y="5694480"/>
                  <a:ext cx="24768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AutoShape 22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AutoShape 23"/>
                <p:cNvSpPr/>
                <p:nvPr/>
              </p:nvSpPr>
              <p:spPr>
                <a:xfrm>
                  <a:off x="1593720" y="5654520"/>
                  <a:ext cx="66960" cy="18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AutoShape 24"/>
              <p:cNvSpPr/>
              <p:nvPr/>
            </p:nvSpPr>
            <p:spPr>
              <a:xfrm>
                <a:off x="120600" y="5924520"/>
                <a:ext cx="943200" cy="39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>
                <a:off x="412920" y="6168960"/>
                <a:ext cx="385560" cy="23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AutoShape 26"/>
              <p:cNvSpPr/>
              <p:nvPr/>
            </p:nvSpPr>
            <p:spPr>
              <a:xfrm>
                <a:off x="896760" y="5842080"/>
                <a:ext cx="168480" cy="37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AutoShape 28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AutoShape 29"/>
                <p:cNvSpPr/>
                <p:nvPr/>
              </p:nvSpPr>
              <p:spPr>
                <a:xfrm>
                  <a:off x="7920" y="5918040"/>
                  <a:ext cx="1335240" cy="69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AutoShape 30"/>
                <p:cNvSpPr/>
                <p:nvPr/>
              </p:nvSpPr>
              <p:spPr>
                <a:xfrm>
                  <a:off x="168120" y="5985000"/>
                  <a:ext cx="125640" cy="26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AutoShape 31"/>
                <p:cNvSpPr/>
                <p:nvPr/>
              </p:nvSpPr>
              <p:spPr>
                <a:xfrm>
                  <a:off x="712800" y="5540400"/>
                  <a:ext cx="509400" cy="9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AutoShape 32"/>
                <p:cNvSpPr/>
                <p:nvPr/>
              </p:nvSpPr>
              <p:spPr>
                <a:xfrm>
                  <a:off x="917640" y="5794200"/>
                  <a:ext cx="150840" cy="39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AutoShape 33"/>
                <p:cNvSpPr/>
                <p:nvPr/>
              </p:nvSpPr>
              <p:spPr>
                <a:xfrm>
                  <a:off x="520560" y="5762520"/>
                  <a:ext cx="308160" cy="212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AutoShape 34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AutoShape 35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AutoShape 37"/>
            <p:cNvSpPr/>
            <p:nvPr/>
          </p:nvSpPr>
          <p:spPr>
            <a:xfrm flipH="1">
              <a:off x="8680320" y="4159080"/>
              <a:ext cx="324000" cy="22640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flipH="1">
              <a:off x="8740800" y="2116080"/>
              <a:ext cx="324000" cy="25909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3280" y="-142200"/>
            <a:ext cx="2983680" cy="2847240"/>
            <a:chOff x="6893280" y="-142200"/>
            <a:chExt cx="2983680" cy="284724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3280" y="-142200"/>
              <a:ext cx="2983680" cy="2847240"/>
              <a:chOff x="6893280" y="-142200"/>
              <a:chExt cx="2983680" cy="2847240"/>
            </a:xfrm>
          </p:grpSpPr>
          <p:sp>
            <p:nvSpPr>
              <p:cNvPr id="40" name="AutoShape 41"/>
              <p:cNvSpPr/>
              <p:nvPr/>
            </p:nvSpPr>
            <p:spPr>
              <a:xfrm rot="18420000">
                <a:off x="8618400" y="172512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3280" y="-142200"/>
                <a:ext cx="2983680" cy="2847240"/>
                <a:chOff x="6893280" y="-142200"/>
                <a:chExt cx="2983680" cy="2847240"/>
              </a:xfrm>
            </p:grpSpPr>
            <p:sp>
              <p:nvSpPr>
                <p:cNvPr id="42" name="AutoShape 43"/>
                <p:cNvSpPr/>
                <p:nvPr/>
              </p:nvSpPr>
              <p:spPr>
                <a:xfrm rot="18420000">
                  <a:off x="7775280" y="-23040"/>
                  <a:ext cx="349200" cy="224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AutoShape 44"/>
                <p:cNvSpPr/>
                <p:nvPr/>
              </p:nvSpPr>
              <p:spPr>
                <a:xfrm rot="18420000">
                  <a:off x="7906320" y="641160"/>
                  <a:ext cx="613800" cy="790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AutoShape 45"/>
                <p:cNvSpPr/>
                <p:nvPr/>
              </p:nvSpPr>
              <p:spPr>
                <a:xfrm rot="18420000">
                  <a:off x="7499520" y="416520"/>
                  <a:ext cx="115560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AutoShape 46"/>
                <p:cNvSpPr/>
                <p:nvPr/>
              </p:nvSpPr>
              <p:spPr>
                <a:xfrm rot="18420000">
                  <a:off x="7517520" y="66960"/>
                  <a:ext cx="1734840" cy="2428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AutoShape 47"/>
                <p:cNvSpPr/>
                <p:nvPr/>
              </p:nvSpPr>
              <p:spPr>
                <a:xfrm rot="18420000">
                  <a:off x="8378280" y="1860480"/>
                  <a:ext cx="385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AutoShape 48"/>
                <p:cNvSpPr/>
                <p:nvPr/>
              </p:nvSpPr>
              <p:spPr>
                <a:xfrm rot="18420000">
                  <a:off x="8290440" y="1655640"/>
                  <a:ext cx="412920" cy="258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AutoShape 49"/>
                <p:cNvSpPr/>
                <p:nvPr/>
              </p:nvSpPr>
              <p:spPr>
                <a:xfrm rot="18420000">
                  <a:off x="7804800" y="298800"/>
                  <a:ext cx="4129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AutoShape 50"/>
                <p:cNvSpPr/>
                <p:nvPr/>
              </p:nvSpPr>
              <p:spPr>
                <a:xfrm rot="18420000">
                  <a:off x="7744680" y="131760"/>
                  <a:ext cx="408240" cy="24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audio" Target="../media/wind.wav"/><Relationship Id="rId9" Type="http://schemas.openxmlformats.org/officeDocument/2006/relationships/audio" Target="../media/chimes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14800" y="3857760"/>
            <a:ext cx="2500200" cy="2751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"/>
          <p:cNvSpPr/>
          <p:nvPr/>
        </p:nvSpPr>
        <p:spPr>
          <a:xfrm>
            <a:off x="1371600" y="1511280"/>
            <a:ext cx="6400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Логические задач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неизвест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елёдка        лё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олистка       лис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72 35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084720" y="41497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169320" y="4149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1187280" y="292428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3059280" y="2924280"/>
            <a:ext cx="649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1258920" y="378936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3348000" y="3789360"/>
            <a:ext cx="7192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1619280" y="4581360"/>
            <a:ext cx="7207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2987640" y="4581360"/>
            <a:ext cx="7923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а отрезка так, чтобы получилось восемь одинаковых треуголь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604960" y="2637000"/>
            <a:ext cx="3934080" cy="38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е прямые так, чтобы получилось восемь одинаковых треуголь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714760" y="2643120"/>
            <a:ext cx="3933720" cy="3819600"/>
          </a:xfrm>
          <a:prstGeom prst="rect">
            <a:avLst/>
          </a:prstGeom>
          <a:ln w="0">
            <a:noFill/>
          </a:ln>
        </p:spPr>
      </p:pic>
      <p:sp>
        <p:nvSpPr>
          <p:cNvPr id="96" name="Line 4"/>
          <p:cNvSpPr/>
          <p:nvPr/>
        </p:nvSpPr>
        <p:spPr>
          <a:xfrm flipH="1">
            <a:off x="2784600" y="2786040"/>
            <a:ext cx="3574800" cy="357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214280" y="0"/>
            <a:ext cx="5857920" cy="2571840"/>
          </a:xfrm>
          <a:prstGeom prst="rect">
            <a:avLst/>
          </a:prstGeom>
          <a:ln w="0">
            <a:noFill/>
          </a:ln>
        </p:spPr>
      </p:pic>
      <p:sp>
        <p:nvSpPr>
          <p:cNvPr id="98" name="Line 3"/>
          <p:cNvSpPr/>
          <p:nvPr/>
        </p:nvSpPr>
        <p:spPr>
          <a:xfrm>
            <a:off x="2786040" y="2786040"/>
            <a:ext cx="3571920" cy="35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дите одну линию так, чтобы получилось девять треугольник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63532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6352920" cy="2038320"/>
          </a:xfrm>
          <a:prstGeom prst="rect">
            <a:avLst/>
          </a:prstGeom>
          <a:ln w="0">
            <a:noFill/>
          </a:ln>
        </p:spPr>
      </p:pic>
      <p:sp>
        <p:nvSpPr>
          <p:cNvPr id="103" name="Line 3"/>
          <p:cNvSpPr/>
          <p:nvPr/>
        </p:nvSpPr>
        <p:spPr>
          <a:xfrm flipV="1">
            <a:off x="928800" y="4213080"/>
            <a:ext cx="642924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14680" y="0"/>
            <a:ext cx="576252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8"/>
          <p:cNvSpPr/>
          <p:nvPr/>
        </p:nvSpPr>
        <p:spPr>
          <a:xfrm>
            <a:off x="4429080" y="3714840"/>
            <a:ext cx="150012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1143000" y="3571920"/>
            <a:ext cx="150012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6500880" y="3357720"/>
            <a:ext cx="1428840" cy="825480"/>
          </a:xfrm>
          <a:prstGeom prst="rect">
            <a:avLst/>
          </a:prstGeom>
          <a:solidFill>
            <a:srgbClr val="d9d9d9"/>
          </a:solidFill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 коф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714240" y="428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чашку, стакан и пиалу налили чай, кофе, и молоко. В пиале – не кофе, в стакане – не кофе и не молоко.  Какой напиток  налит в чашку, пиалу, стак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0040" y="4643280"/>
          <a:ext cx="7786800" cy="2133720"/>
        </p:xfrm>
        <a:graphic>
          <a:graphicData uri="http://schemas.openxmlformats.org/drawingml/2006/table">
            <a:tbl>
              <a:tblPr/>
              <a:tblGrid>
                <a:gridCol w="1482840"/>
                <a:gridCol w="2076480"/>
                <a:gridCol w="2076480"/>
                <a:gridCol w="2151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к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и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ЛОК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0" name="Минус 16"/>
          <p:cNvSpPr/>
          <p:nvPr/>
        </p:nvSpPr>
        <p:spPr>
          <a:xfrm>
            <a:off x="6929280" y="5000760"/>
            <a:ext cx="571680" cy="3571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люс 17"/>
          <p:cNvSpPr/>
          <p:nvPr/>
        </p:nvSpPr>
        <p:spPr>
          <a:xfrm>
            <a:off x="6929280" y="5857920"/>
            <a:ext cx="57168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люс 19"/>
          <p:cNvSpPr/>
          <p:nvPr/>
        </p:nvSpPr>
        <p:spPr>
          <a:xfrm>
            <a:off x="4929120" y="5429160"/>
            <a:ext cx="57168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люс 20"/>
          <p:cNvSpPr/>
          <p:nvPr/>
        </p:nvSpPr>
        <p:spPr>
          <a:xfrm>
            <a:off x="2928960" y="4929120"/>
            <a:ext cx="57132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26"/>
          <p:cNvSpPr/>
          <p:nvPr/>
        </p:nvSpPr>
        <p:spPr>
          <a:xfrm>
            <a:off x="4286160" y="3571920"/>
            <a:ext cx="1857600" cy="82548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коф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 моло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C:\Documents and Settings\UserXP\Мои документы\мама документы\ПРЕЗЕНТАЦИИ  И УРОКИ  КОПИИ С ДИСКОВ\3586_016433.jpg"/>
          <p:cNvPicPr/>
          <p:nvPr/>
        </p:nvPicPr>
        <p:blipFill>
          <a:blip r:embed="rId1"/>
          <a:srcRect l="29828" t="34101" r="29828" b="33623"/>
          <a:stretch/>
        </p:blipFill>
        <p:spPr>
          <a:xfrm>
            <a:off x="1571760" y="2214720"/>
            <a:ext cx="1446120" cy="1157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XP\Мои документы\мама документы\ПРЕЗЕНТАЦИИ  И УРОКИ  КОПИИ С ДИСКОВ\stak37.jpg"/>
          <p:cNvPicPr/>
          <p:nvPr/>
        </p:nvPicPr>
        <p:blipFill>
          <a:blip r:embed="rId2"/>
          <a:srcRect l="0" t="37780" r="27997" b="0"/>
          <a:stretch/>
        </p:blipFill>
        <p:spPr>
          <a:xfrm>
            <a:off x="4000680" y="2143080"/>
            <a:ext cx="1500120" cy="1373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UserXP\Мои документы\мама документы\ПРЕЗЕНТАЦИИ  И УРОКИ  КОПИИ С ДИСКОВ\e9201.jpg"/>
          <p:cNvPicPr/>
          <p:nvPr/>
        </p:nvPicPr>
        <p:blipFill>
          <a:blip r:embed="rId3">
            <a:lum contrast="-10000"/>
          </a:blip>
          <a:stretch/>
        </p:blipFill>
        <p:spPr>
          <a:xfrm>
            <a:off x="6429240" y="192888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18" name="Дата 21"/>
          <p:cNvSpPr/>
          <p:nvPr/>
        </p:nvSpPr>
        <p:spPr>
          <a:xfrm>
            <a:off x="4287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Нижний колонтитул 22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инус 21"/>
          <p:cNvSpPr/>
          <p:nvPr/>
        </p:nvSpPr>
        <p:spPr>
          <a:xfrm flipH="1">
            <a:off x="4785480" y="5000760"/>
            <a:ext cx="714600" cy="3571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инус 22"/>
          <p:cNvSpPr/>
          <p:nvPr/>
        </p:nvSpPr>
        <p:spPr>
          <a:xfrm>
            <a:off x="4643280" y="6215040"/>
            <a:ext cx="571680" cy="3571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3571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ижний колонтитул 2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Documents and Settings\UserXP\Мои документы\Мои рисунки\2011-06-23\Image0001.JPG"/>
          <p:cNvPicPr/>
          <p:nvPr/>
        </p:nvPicPr>
        <p:blipFill>
          <a:blip r:embed="rId1"/>
          <a:stretch/>
        </p:blipFill>
        <p:spPr>
          <a:xfrm>
            <a:off x="2286000" y="2500200"/>
            <a:ext cx="4429080" cy="2760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3143160" y="5429160"/>
            <a:ext cx="1184400" cy="973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1714680" y="52862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4857840" y="5214960"/>
            <a:ext cx="1000080" cy="121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215040" y="5357880"/>
            <a:ext cx="1200240" cy="928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2714760" y="42876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ЧА №  9  (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7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857160" y="107172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оги ребятам!  Какие из предметов на рисунке можно разместить в таблицу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C:\Documents and Settings\UserXP\Мои документы\Мама картинки2\Мама 2\МАТЕРИАЛЫ К УРОКАМ МАТЕМ-КА\Image0013.jpg"/>
          <p:cNvPicPr/>
          <p:nvPr/>
        </p:nvPicPr>
        <p:blipFill>
          <a:blip r:embed="rId6"/>
          <a:stretch/>
        </p:blipFill>
        <p:spPr>
          <a:xfrm>
            <a:off x="500040" y="2928960"/>
            <a:ext cx="1571760" cy="2365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UserXP\Мои документы\Мама картинки2\Мама 2\МАТЕРИАЛЫ К УРОКАМ МАТЕМ-КА\Image0010.jpg"/>
          <p:cNvPicPr/>
          <p:nvPr/>
        </p:nvPicPr>
        <p:blipFill>
          <a:blip r:embed="rId7"/>
          <a:srcRect l="0" t="7798" r="0" b="0"/>
          <a:stretch/>
        </p:blipFill>
        <p:spPr>
          <a:xfrm>
            <a:off x="6929280" y="2922480"/>
            <a:ext cx="157176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5631E-006 L 0.09236 -0.16782 E">
                                      <p:cBhvr>
                                        <p:cTn id="23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87 E">
                                      <p:cBhvr>
                                        <p:cTn id="24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.00486 -0.00554 L 0.25 -0.33287 E">
                                      <p:cBhvr>
                                        <p:cTn id="26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закономерность и продолжи ря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828440"/>
            <a:ext cx="85694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, А, 4, Б, 6, В, … , …, …, …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5, 8, 13, 6, 11,…, …, …, … 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18728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399564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059280" y="4005360"/>
            <a:ext cx="936360" cy="144360"/>
          </a:xfrm>
          <a:custGeom>
            <a:avLst/>
            <a:gdLst>
              <a:gd name="textAreaLeft" fmla="*/ 163800 w 936360"/>
              <a:gd name="textAreaRight" fmla="*/ 678960 w 9363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212400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74440" y="23241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371280" y="23493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966720" y="23493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887960" y="2349360"/>
            <a:ext cx="5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47636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39248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28492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319284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15656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230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022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814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67772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1"/>
          <a:stretch/>
        </p:blipFill>
        <p:spPr>
          <a:xfrm>
            <a:off x="7020000" y="5157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Какое число должно стоять вместо «?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75564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64328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755640" y="3858840"/>
            <a:ext cx="151272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268360" y="2421000"/>
            <a:ext cx="180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2268360" y="3860640"/>
            <a:ext cx="15116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4643280" y="3858840"/>
            <a:ext cx="151308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6156360" y="2421000"/>
            <a:ext cx="144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6156360" y="3860640"/>
            <a:ext cx="15112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619280" y="3213000"/>
            <a:ext cx="7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41128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05992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451120" y="3213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30072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962680" y="39337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84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94936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9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24:59Z</dcterms:created>
  <dc:creator>Admin</dc:creator>
  <dc:description/>
  <dc:language>en-US</dc:language>
  <cp:lastModifiedBy>user</cp:lastModifiedBy>
  <dcterms:modified xsi:type="dcterms:W3CDTF">2013-10-28T21:50:24Z</dcterms:modified>
  <cp:revision>62</cp:revision>
  <dc:subject/>
  <dc:title>Логические задачки</dc:title>
</cp:coreProperties>
</file>