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coin.wav" ContentType="audio/x-wav"/>
  <Override PartName="/ppt/media/image18.gif" ContentType="image/gif"/>
  <Override PartName="/ppt/media/image20.gif" ContentType="image/gi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3.png" ContentType="image/png"/>
  <Override PartName="/ppt/media/chimes.wav" ContentType="audio/x-wav"/>
  <Override PartName="/ppt/media/wind.wav" ContentType="audio/x-wav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каем по надпис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FDFBED-11D3-47CA-9254-D7D868F00E2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каем по картинкам под таблиц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F59500-ABE9-4837-840D-069A8FF06A6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F3A9-A9D5-40EB-9000-8B80E9E85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31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86C8-BC37-4772-9A1B-4ED82623D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FE80-F9EA-418F-939C-0F7B91147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231440"/>
            <a:ext cx="247752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470C-1784-4467-BB11-0EEF5D234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E8A4-45B0-4133-96E5-253350E8C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3C97-3B89-492C-A8D7-C7457F991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85EF-F0AC-4260-8232-329F3659D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9CC0-9730-4E2E-B8F0-4743397C2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2743-E77D-49A3-8E2F-DB102DB40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5D8D-CE20-4175-87D8-88E952534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231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0A70-B88A-4E8B-BEFE-ADDB86AEF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31440"/>
            <a:ext cx="76946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8673-C78A-491D-9E22-09CBBB602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CB5FA1-805F-4588-817E-EB52102C8FB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AutoShape 10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3280" y="-142200"/>
            <a:ext cx="2983680" cy="2847240"/>
            <a:chOff x="6893280" y="-142200"/>
            <a:chExt cx="2983680" cy="284724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3280" y="-142200"/>
              <a:ext cx="2983680" cy="2847240"/>
              <a:chOff x="6893280" y="-142200"/>
              <a:chExt cx="2983680" cy="284724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3280" y="-142200"/>
                <a:ext cx="2983680" cy="2847240"/>
                <a:chOff x="6893280" y="-142200"/>
                <a:chExt cx="2983680" cy="284724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5280" y="-23040"/>
                  <a:ext cx="34920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6320" y="641160"/>
                  <a:ext cx="613800" cy="79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499520" y="416520"/>
                  <a:ext cx="115560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7520" y="66960"/>
                  <a:ext cx="1734840" cy="2428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78280" y="1860480"/>
                  <a:ext cx="385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90440" y="1655640"/>
                  <a:ext cx="412920" cy="25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4800" y="298800"/>
                  <a:ext cx="4129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4680" y="131760"/>
                  <a:ext cx="40824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14800" y="3857760"/>
            <a:ext cx="2500200" cy="2751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"/>
          <p:cNvSpPr/>
          <p:nvPr/>
        </p:nvSpPr>
        <p:spPr>
          <a:xfrm>
            <a:off x="1371600" y="1511280"/>
            <a:ext cx="6400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Логические задач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" dur="1" fill="hold"/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неизвест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елёдка        лё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олистка       ли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72 35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084720" y="41497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169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1187280" y="292428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059280" y="2924280"/>
            <a:ext cx="649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1258920" y="378936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348000" y="3789360"/>
            <a:ext cx="7192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1619280" y="4581360"/>
            <a:ext cx="720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2987640" y="4581360"/>
            <a:ext cx="7923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а отрезка так, чтобы получилось восемь одинаковых треуголь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604960" y="2637000"/>
            <a:ext cx="3934080" cy="38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е прямые так, чтобы получилось восемь одинаковых треуголь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714760" y="2643120"/>
            <a:ext cx="3933720" cy="3819600"/>
          </a:xfrm>
          <a:prstGeom prst="rect">
            <a:avLst/>
          </a:prstGeom>
          <a:ln w="0">
            <a:noFill/>
          </a:ln>
        </p:spPr>
      </p:pic>
      <p:sp>
        <p:nvSpPr>
          <p:cNvPr id="96" name="Line 4"/>
          <p:cNvSpPr/>
          <p:nvPr/>
        </p:nvSpPr>
        <p:spPr>
          <a:xfrm flipH="1">
            <a:off x="2784600" y="2786040"/>
            <a:ext cx="3574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214280" y="0"/>
            <a:ext cx="5857920" cy="257184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2786040" y="2786040"/>
            <a:ext cx="3571920" cy="35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дите одну линию так, чтобы получилось девять треугольник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6353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6352920" cy="2038320"/>
          </a:xfrm>
          <a:prstGeom prst="rect">
            <a:avLst/>
          </a:prstGeom>
          <a:ln w="0">
            <a:noFill/>
          </a:ln>
        </p:spPr>
      </p:pic>
      <p:sp>
        <p:nvSpPr>
          <p:cNvPr id="103" name="Line 3"/>
          <p:cNvSpPr/>
          <p:nvPr/>
        </p:nvSpPr>
        <p:spPr>
          <a:xfrm flipV="1">
            <a:off x="928800" y="4213080"/>
            <a:ext cx="64292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14680" y="0"/>
            <a:ext cx="576252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8"/>
          <p:cNvSpPr/>
          <p:nvPr/>
        </p:nvSpPr>
        <p:spPr>
          <a:xfrm>
            <a:off x="4429080" y="3714840"/>
            <a:ext cx="15001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1143000" y="3571920"/>
            <a:ext cx="15001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6500880" y="3357720"/>
            <a:ext cx="142884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 коф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714240" y="428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ашку, стакан и пиалу налили чай, кофе, и молоко. В пиале – не кофе, в стакане – не кофе и не молоко.  Какой напиток  налит в чашку, пиалу, стак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0040" y="4643280"/>
          <a:ext cx="7786800" cy="2133720"/>
        </p:xfrm>
        <a:graphic>
          <a:graphicData uri="http://schemas.openxmlformats.org/drawingml/2006/table">
            <a:tbl>
              <a:tblPr/>
              <a:tblGrid>
                <a:gridCol w="1482840"/>
                <a:gridCol w="2076480"/>
                <a:gridCol w="2076480"/>
                <a:gridCol w="2151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к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ЛОК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Минус 16"/>
          <p:cNvSpPr/>
          <p:nvPr/>
        </p:nvSpPr>
        <p:spPr>
          <a:xfrm>
            <a:off x="6929280" y="5000760"/>
            <a:ext cx="57168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люс 17"/>
          <p:cNvSpPr/>
          <p:nvPr/>
        </p:nvSpPr>
        <p:spPr>
          <a:xfrm>
            <a:off x="6929280" y="5857920"/>
            <a:ext cx="57168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люс 19"/>
          <p:cNvSpPr/>
          <p:nvPr/>
        </p:nvSpPr>
        <p:spPr>
          <a:xfrm>
            <a:off x="4929120" y="5429160"/>
            <a:ext cx="57168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люс 20"/>
          <p:cNvSpPr/>
          <p:nvPr/>
        </p:nvSpPr>
        <p:spPr>
          <a:xfrm>
            <a:off x="2928960" y="4929120"/>
            <a:ext cx="57132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286160" y="3571920"/>
            <a:ext cx="1857600" cy="82548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коф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 моло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C:\Documents and Settings\UserXP\Мои документы\мама документы\ПРЕЗЕНТАЦИИ  И УРОКИ  КОПИИ С ДИСКОВ\3586_016433.jpg"/>
          <p:cNvPicPr/>
          <p:nvPr/>
        </p:nvPicPr>
        <p:blipFill>
          <a:blip r:embed="rId1"/>
          <a:srcRect l="29828" t="34101" r="29828" b="33623"/>
          <a:stretch/>
        </p:blipFill>
        <p:spPr>
          <a:xfrm>
            <a:off x="1571760" y="2214720"/>
            <a:ext cx="1446120" cy="1157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XP\Мои документы\мама документы\ПРЕЗЕНТАЦИИ  И УРОКИ  КОПИИ С ДИСКОВ\stak37.jpg"/>
          <p:cNvPicPr/>
          <p:nvPr/>
        </p:nvPicPr>
        <p:blipFill>
          <a:blip r:embed="rId2"/>
          <a:srcRect l="0" t="37780" r="27997" b="0"/>
          <a:stretch/>
        </p:blipFill>
        <p:spPr>
          <a:xfrm>
            <a:off x="4000680" y="2143080"/>
            <a:ext cx="1500120" cy="137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UserXP\Мои документы\мама документы\ПРЕЗЕНТАЦИИ  И УРОКИ  КОПИИ С ДИСКОВ\e9201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6429240" y="192888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118" name="Дата 21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Нижний колонтитул 22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инус 21"/>
          <p:cNvSpPr/>
          <p:nvPr/>
        </p:nvSpPr>
        <p:spPr>
          <a:xfrm flipH="1">
            <a:off x="4785480" y="5000760"/>
            <a:ext cx="71460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инус 22"/>
          <p:cNvSpPr/>
          <p:nvPr/>
        </p:nvSpPr>
        <p:spPr>
          <a:xfrm>
            <a:off x="4643280" y="6215040"/>
            <a:ext cx="571680" cy="3571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3571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Documents and Settings\UserXP\Мои документы\Мои рисунки\2011-06-23\Image0001.JPG"/>
          <p:cNvPicPr/>
          <p:nvPr/>
        </p:nvPicPr>
        <p:blipFill>
          <a:blip r:embed="rId1"/>
          <a:stretch/>
        </p:blipFill>
        <p:spPr>
          <a:xfrm>
            <a:off x="2286000" y="2500200"/>
            <a:ext cx="4429080" cy="2760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143160" y="5429160"/>
            <a:ext cx="1184400" cy="97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1714680" y="528624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4857840" y="5214960"/>
            <a:ext cx="1000080" cy="12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215040" y="5357880"/>
            <a:ext cx="1200240" cy="928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2714760" y="4287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ЧА №  9  (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857160" y="107172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оги ребятам!  Какие из предметов на рисунке можно разместить в таблицу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Documents and Settings\UserXP\Мои документы\Мама картинки2\Мама 2\МАТЕРИАЛЫ К УРОКАМ МАТЕМ-КА\Image0013.jpg"/>
          <p:cNvPicPr/>
          <p:nvPr/>
        </p:nvPicPr>
        <p:blipFill>
          <a:blip r:embed="rId6"/>
          <a:stretch/>
        </p:blipFill>
        <p:spPr>
          <a:xfrm>
            <a:off x="500040" y="2928960"/>
            <a:ext cx="1571760" cy="2365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UserXP\Мои документы\Мама картинки2\Мама 2\МАТЕРИАЛЫ К УРОКАМ МАТЕМ-КА\Image0010.jpg"/>
          <p:cNvPicPr/>
          <p:nvPr/>
        </p:nvPicPr>
        <p:blipFill>
          <a:blip r:embed="rId7"/>
          <a:srcRect l="0" t="7798" r="0" b="0"/>
          <a:stretch/>
        </p:blipFill>
        <p:spPr>
          <a:xfrm>
            <a:off x="6929280" y="2922480"/>
            <a:ext cx="157176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5631E-006 L 0.09236 -0.16782 E">
                                      <p:cBhvr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24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0486 -0.00554 L 0.25 -0.33287 E">
                                      <p:cBhvr>
                                        <p:cTn id="26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закономерность и продолжи ря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828440"/>
            <a:ext cx="85694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, А, 4, Б, 6, В, … , …, …, …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5, 8, 13, 6, 11,…, …, …, …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18728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399564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059280" y="4005360"/>
            <a:ext cx="936360" cy="144360"/>
          </a:xfrm>
          <a:custGeom>
            <a:avLst/>
            <a:gdLst>
              <a:gd name="textAreaLeft" fmla="*/ 163800 w 936360"/>
              <a:gd name="textAreaRight" fmla="*/ 678960 w 9363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12400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74440" y="2324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371280" y="23493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966720" y="2349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887960" y="2349360"/>
            <a:ext cx="5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47636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9248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28492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319284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15656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230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022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814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67772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Какое число должно стоять вместо «?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75564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64328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755640" y="3858840"/>
            <a:ext cx="151272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268360" y="2421000"/>
            <a:ext cx="180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268360" y="3860640"/>
            <a:ext cx="1511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4643280" y="3858840"/>
            <a:ext cx="151308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6156360" y="2421000"/>
            <a:ext cx="144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6156360" y="3860640"/>
            <a:ext cx="1511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619280" y="321300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41128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5992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45112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30072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962680" y="39337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84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94936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9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24:59Z</dcterms:created>
  <dc:creator>Admin</dc:creator>
  <dc:description/>
  <dc:language>en-US</dc:language>
  <cp:lastModifiedBy>user</cp:lastModifiedBy>
  <dcterms:modified xsi:type="dcterms:W3CDTF">2013-10-28T21:50:24Z</dcterms:modified>
  <cp:revision>62</cp:revision>
  <dc:subject/>
  <dc:title>Логические задачки</dc:title>
</cp:coreProperties>
</file>