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814B-5FAE-4EA7-A192-0D2769C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3270-8BFD-4EEA-BC24-303007E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43DF-AC81-45DF-B824-876FB3B3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47A8-0555-4534-AD91-777D5FCA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58D5-CEE9-465E-91C4-C3288C83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A5E-E116-428C-91ED-F119557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7D3D-4AEE-47D5-ABE8-AB1E5DA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AC9C-8958-4F1B-BA79-53F8FC4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99D4-8D4C-4889-8BB0-F7AA77F7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7C4-D0F3-4B82-877F-76316F0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03E4-94BC-454A-9992-6FFAF10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8BA4-B227-4CEC-AD3F-E7B66941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A70-EABB-4851-A8A9-8C4AC591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5D38-A466-47A3-B257-8FABF28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30F-E700-4EBD-9BFF-01920A9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DB9-08BA-4A10-86D6-4E00438C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DEB4-FD08-40EE-9345-AB7D7420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A5AE-716A-4F8C-8D51-562F424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5AED-6C18-4B3C-8BA9-68CC41B8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43AE-3276-4E7F-90A4-5D571D6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0CED-3A03-4A74-9F3E-FBCF1C4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F729-AC35-4DDF-B110-07E0A2D4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A51B-3452-462E-BFDB-CC76AEE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9299-511F-426F-A19C-C64B93AD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1AF-A880-4A3D-BF2F-7F713EFADDF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547-C6FA-484E-9EA2-C2571B7EAAC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Учитель</cp:lastModifiedBy>
  <dcterms:modified xsi:type="dcterms:W3CDTF">2014-09-16T23:57:15Z</dcterms:modified>
  <cp:revision>78</cp:revision>
  <dc:subject/>
  <dc:title>Правила  культурного  поведения в театре</dc:title>
</cp:coreProperties>
</file>