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3EE6-E165-4CCB-8E0E-387D3DB1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D863-9ED0-4D8A-A1D9-A28B204A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96C1-2F00-4531-A4A9-7622C8D6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126D-8645-4A39-96D7-08ABD0E0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F8B7-81CD-436C-8758-72A1E92D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B266-3186-4D99-BEB3-3974CFA3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AD86-0F84-44DF-A491-0C4D54AC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AFDE-BE86-4FAB-9F61-AFE4B261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7CE4-C1E2-4909-99FB-BB9B51CF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5886-0C73-4E3B-82F4-A148E19F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B7B2-44EC-40FD-8C39-9B52D8F9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6E96-98AE-4571-94C3-A7CB4C7E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6E4B-569A-46EA-9305-95548F4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22E6-3068-4121-AA39-3D48C8F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9809-45AD-4C2C-A1B2-0682BC75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0569-CC08-4E3B-B263-5535FD9C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4710-BD5B-452D-96B6-A108E393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0969-E187-4642-9AC9-FC056AAB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3F8E-9687-440A-8E71-54258292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DB47-644B-4FF6-80F3-C60F6A30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837E-FB13-4019-8351-45C9E868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ABC0-1B68-4A1A-84C0-87A5EEA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8567-A765-4319-A8BD-A679C2B1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6280-D0BF-4B19-AB0F-0BD5F9A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CFC9-FA96-4FD4-8E85-C0E5F2496D1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E087-E215-4718-BBC9-8A09925435E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arusel-toys.ru/images/catalog/image_b.php?namephoto=2905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ermitage.internet.emax.ru/hermitage/imgs_Ru/05/5_0_12_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2714760"/>
            <a:ext cx="857268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Arial"/>
                <a:ea typeface="Arial"/>
              </a:rPr>
              <a:t>Правила поведения в театр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4500360"/>
            <a:ext cx="8215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Картинка 15 из 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142920"/>
            <a:ext cx="36435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400068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высшей степени невежливо во время спектакля обращаться с вопросами к соседям, комментировать происходящее на сцене, разговаривать, шелестеть программкой, шуршать обертками, е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Юбилей Мариинского театра"/>
          <p:cNvPicPr/>
          <p:nvPr/>
        </p:nvPicPr>
        <p:blipFill>
          <a:blip r:embed="rId1"/>
          <a:stretch/>
        </p:blipFill>
        <p:spPr>
          <a:xfrm>
            <a:off x="1785960" y="142920"/>
            <a:ext cx="53578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2920" y="442908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 время спектакля не разговаривай с соседями. Это мешает актёрам и отвлекает зр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же если тебе не очень нравится спектакль, обсуждать это во время действи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" descr="http://www.show-master.ru/pic/33/big/56.2.jpg"/>
          <p:cNvPicPr/>
          <p:nvPr/>
        </p:nvPicPr>
        <p:blipFill>
          <a:blip r:embed="rId1"/>
          <a:stretch/>
        </p:blipFill>
        <p:spPr>
          <a:xfrm>
            <a:off x="2357280" y="214200"/>
            <a:ext cx="4822920" cy="32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teatr_deti"/>
          <p:cNvPicPr/>
          <p:nvPr/>
        </p:nvPicPr>
        <p:blipFill>
          <a:blip r:embed="rId2"/>
          <a:stretch/>
        </p:blipFill>
        <p:spPr>
          <a:xfrm>
            <a:off x="642960" y="28576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920" y="442872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постукивайте ногой в такт музыке - это мешает слуш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Картинка 1 из 2013"/>
          <p:cNvPicPr/>
          <p:nvPr/>
        </p:nvPicPr>
        <p:blipFill>
          <a:blip r:embed="rId1"/>
          <a:stretch/>
        </p:blipFill>
        <p:spPr>
          <a:xfrm>
            <a:off x="1785960" y="214200"/>
            <a:ext cx="527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2920" y="4928760"/>
            <a:ext cx="8858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пить воды, съесть конфету или бутерброд 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жете в буфете во время антракта. Есть во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пектакл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http://www.rgtk.ru/pictures/rgtk/p1070125.jpg"/>
          <p:cNvPicPr/>
          <p:nvPr/>
        </p:nvPicPr>
        <p:blipFill>
          <a:blip r:embed="rId1"/>
          <a:stretch/>
        </p:blipFill>
        <p:spPr>
          <a:xfrm>
            <a:off x="4857840" y="14292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http://www.pilig.ru/images/news133/2.jpg"/>
          <p:cNvPicPr/>
          <p:nvPr/>
        </p:nvPicPr>
        <p:blipFill>
          <a:blip r:embed="rId2"/>
          <a:stretch/>
        </p:blipFill>
        <p:spPr>
          <a:xfrm>
            <a:off x="2857680" y="28576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Картинка 17 из 523"/>
          <p:cNvPicPr/>
          <p:nvPr/>
        </p:nvPicPr>
        <p:blipFill>
          <a:blip r:embed="rId3"/>
          <a:stretch/>
        </p:blipFill>
        <p:spPr>
          <a:xfrm>
            <a:off x="285840" y="142920"/>
            <a:ext cx="38624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428616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трак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зговаривайте тихо - так, чтобы слыш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ь собеседник. Будьте скромны - не думайте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ружающих интересует именно ваше мнение о спектак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тине, лекци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357960" y="2438280"/>
            <a:ext cx="3152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http://szb.sbrf.ru/charity/drinka_056.jpg"/>
          <p:cNvPicPr/>
          <p:nvPr/>
        </p:nvPicPr>
        <p:blipFill>
          <a:blip r:embed="rId1"/>
          <a:stretch/>
        </p:blipFill>
        <p:spPr>
          <a:xfrm>
            <a:off x="2071800" y="500040"/>
            <a:ext cx="47624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407160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вставайте с места, пока не опустят занав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только потому, что это нетактично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ю к актёрам и зрителям. Часто послед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ова пьесы бывают самые важ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Сцена с участниками концерта"/>
          <p:cNvPicPr/>
          <p:nvPr/>
        </p:nvPicPr>
        <p:blipFill>
          <a:blip r:embed="rId1"/>
          <a:stretch/>
        </p:blipFill>
        <p:spPr>
          <a:xfrm>
            <a:off x="1643040" y="285840"/>
            <a:ext cx="50846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42560" y="4643280"/>
            <a:ext cx="854388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жать в гардероб, пока артисты на сцене, по крайней мере, невежли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http://www.mospravda.ru/i/issue/12715-untitled.jpg"/>
          <p:cNvPicPr/>
          <p:nvPr/>
        </p:nvPicPr>
        <p:blipFill>
          <a:blip r:embed="rId1"/>
          <a:stretch/>
        </p:blipFill>
        <p:spPr>
          <a:xfrm>
            <a:off x="3143160" y="142920"/>
            <a:ext cx="2381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4214520"/>
            <a:ext cx="90010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рошие спектакли, концерты классичес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ыки долго хранятся в памяти. Пусть 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печатление от них не будет испорчено незна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лементарных правил п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ВЕНЕЦИАНСКАЯ КАРНАВАЛЬНАЯ МАСКА"/>
          <p:cNvPicPr/>
          <p:nvPr/>
        </p:nvPicPr>
        <p:blipFill>
          <a:blip r:embed="rId1"/>
          <a:stretch/>
        </p:blipFill>
        <p:spPr>
          <a:xfrm>
            <a:off x="142920" y="14292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fin-crisis.ru/_nw/9/16164.jpg"/>
          <p:cNvPicPr/>
          <p:nvPr/>
        </p:nvPicPr>
        <p:blipFill>
          <a:blip r:embed="rId2"/>
          <a:stretch/>
        </p:blipFill>
        <p:spPr>
          <a:xfrm>
            <a:off x="3929040" y="107172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7640" y="4429080"/>
            <a:ext cx="889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ть быть тактичным, предупредительным, вежливым дома и в  школе , в гостях и в общественных местах — одно из положительных качеств воспитанного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0" descr="http://pics.livejournal.com/sergey_63/pic/000fsq8a/s320x240"/>
          <p:cNvPicPr/>
          <p:nvPr/>
        </p:nvPicPr>
        <p:blipFill>
          <a:blip r:embed="rId1"/>
          <a:stretch/>
        </p:blipFill>
        <p:spPr>
          <a:xfrm>
            <a:off x="142920" y="200016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артинка 1 из 11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43160" y="142920"/>
            <a:ext cx="429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442872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вая в театре, кинотеатре, читальном зал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е, на лекции, надо всегда помнить, что вы зд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дин: вести себя так, чтобы не мешать друг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http://feb-web.ru/feb/lermont/pictures/PLM-0442.jpg"/>
          <p:cNvPicPr/>
          <p:nvPr/>
        </p:nvPicPr>
        <p:blipFill>
          <a:blip r:embed="rId1"/>
          <a:stretch/>
        </p:blipFill>
        <p:spPr>
          <a:xfrm>
            <a:off x="1928880" y="214200"/>
            <a:ext cx="46195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2560" y="4571640"/>
            <a:ext cx="87152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щущение праздника создает нарядная одеж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http://www.u-mama.ru/img/news/00001_740.jpg"/>
          <p:cNvPicPr/>
          <p:nvPr/>
        </p:nvPicPr>
        <p:blipFill>
          <a:blip r:embed="rId1"/>
          <a:stretch/>
        </p:blipFill>
        <p:spPr>
          <a:xfrm>
            <a:off x="928800" y="571680"/>
            <a:ext cx="6191280" cy="307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tbn2.google.com/images?q=tbn:jq2KllfLX1ENoM:http://www.ljplus.ru/img4/a/r/arina_holina/dior.jpg"/>
          <p:cNvPicPr/>
          <p:nvPr/>
        </p:nvPicPr>
        <p:blipFill>
          <a:blip r:embed="rId2"/>
          <a:stretch/>
        </p:blipFill>
        <p:spPr>
          <a:xfrm>
            <a:off x="5072040" y="571680"/>
            <a:ext cx="2049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2920" y="4357440"/>
            <a:ext cx="8786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спектакль следует прийти за 15-20 ми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тоб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дать верхнюю одежду в гардероб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обрести программку, которая ознакомит в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авом исполнителей, прочесть её, найти сво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вое мес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ttp://www.teatr-tolstogo.ru/uploads/images/content/history-1.jpg"/>
          <p:cNvPicPr/>
          <p:nvPr/>
        </p:nvPicPr>
        <p:blipFill>
          <a:blip r:embed="rId1"/>
          <a:stretch/>
        </p:blipFill>
        <p:spPr>
          <a:xfrm>
            <a:off x="5072040" y="285840"/>
            <a:ext cx="2476440" cy="371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tortos.ru/aks/garda_2.jpg"/>
          <p:cNvPicPr/>
          <p:nvPr/>
        </p:nvPicPr>
        <p:blipFill>
          <a:blip r:embed="rId2"/>
          <a:stretch/>
        </p:blipFill>
        <p:spPr>
          <a:xfrm>
            <a:off x="142920" y="714240"/>
            <a:ext cx="416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4214520"/>
            <a:ext cx="9144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мерок от пальто лучше положить в карман или сумочку, а не теребить в руках - чтоб случайно не уронить во время спектак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http://belousoff06.ru/img/n4.gif"/>
          <p:cNvPicPr/>
          <p:nvPr/>
        </p:nvPicPr>
        <p:blipFill>
          <a:blip r:embed="rId1"/>
          <a:stretch/>
        </p:blipFill>
        <p:spPr>
          <a:xfrm>
            <a:off x="1571760" y="1285920"/>
            <a:ext cx="1973160" cy="214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://www.megalit.sp.ru/images_gn/19_gn.jpg"/>
          <p:cNvPicPr/>
          <p:nvPr/>
        </p:nvPicPr>
        <p:blipFill>
          <a:blip r:embed="rId2"/>
          <a:stretch/>
        </p:blipFill>
        <p:spPr>
          <a:xfrm>
            <a:off x="4929120" y="13572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2920" y="4071960"/>
            <a:ext cx="88581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бираясь к своему месту, надо проход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доль ряда кресел лицом к уже сидящим зрителя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варительно сказав: «Разрешите прой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ходить к ним спиной некультур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2" descr="http://www.bashinform.ru/photos/2007-07-28/IMG_8798.jpg"/>
          <p:cNvPicPr/>
          <p:nvPr/>
        </p:nvPicPr>
        <p:blipFill>
          <a:blip r:embed="rId1"/>
          <a:stretch/>
        </p:blipFill>
        <p:spPr>
          <a:xfrm>
            <a:off x="2071800" y="28584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2921040" cy="185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42920" y="4142880"/>
            <a:ext cx="88581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ваше место по недоразумению оказа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нятым, не вступайте в пререкания, про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просите капельдинера разрешить эту ситу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Картинка 1 из 23"/>
          <p:cNvPicPr/>
          <p:nvPr/>
        </p:nvPicPr>
        <p:blipFill>
          <a:blip r:embed="rId2"/>
          <a:stretch/>
        </p:blipFill>
        <p:spPr>
          <a:xfrm>
            <a:off x="4214880" y="428760"/>
            <a:ext cx="372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40719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вное правило, неукоснительно соблюдаемое воспитанным человеком в театре, — поддержание глубокой тишины. Мобильные телефоны и пейджеры нужно обязательно выключить до начала предст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http://www.mobile-review.com/phonemodels/nokia/image/2100.jpg"/>
          <p:cNvPicPr/>
          <p:nvPr/>
        </p:nvPicPr>
        <p:blipFill>
          <a:blip r:embed="rId1"/>
          <a:stretch/>
        </p:blipFill>
        <p:spPr>
          <a:xfrm>
            <a:off x="6929280" y="2571840"/>
            <a:ext cx="1446480" cy="153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ttp://mignews.com.ua/data/Articles/AnonsPhoto/290321.JPEG"/>
          <p:cNvPicPr/>
          <p:nvPr/>
        </p:nvPicPr>
        <p:blipFill>
          <a:blip r:embed="rId2"/>
          <a:stretch/>
        </p:blipFill>
        <p:spPr>
          <a:xfrm>
            <a:off x="214200" y="2714760"/>
            <a:ext cx="1405080" cy="134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s54.radikal.ru/i144/0903/1d/93405356f77c.jpg"/>
          <p:cNvPicPr/>
          <p:nvPr/>
        </p:nvPicPr>
        <p:blipFill>
          <a:blip r:embed="rId3"/>
          <a:stretch/>
        </p:blipFill>
        <p:spPr>
          <a:xfrm>
            <a:off x="1785960" y="214200"/>
            <a:ext cx="4943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20:10:09Z</dcterms:created>
  <dc:creator>T.R.A.S.H.</dc:creator>
  <dc:description/>
  <dc:language>en-US</dc:language>
  <cp:lastModifiedBy>Учитель</cp:lastModifiedBy>
  <dcterms:modified xsi:type="dcterms:W3CDTF">2014-09-16T23:57:15Z</dcterms:modified>
  <cp:revision>78</cp:revision>
  <dc:subject/>
  <dc:title>Правила  культурного  поведения в театре</dc:title>
</cp:coreProperties>
</file>