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B696-E3A9-4621-9429-B3E6B1BB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32FF-C188-42F5-A09D-4EC30A5C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30F9-E26E-476B-8D6F-C974AA84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B82E-F0EB-43BC-BBFA-C5C07AB1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CFB-83AE-44A8-8183-DC3AE9DC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912-A2FC-4E8C-A98E-3B6AEEE5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238-3978-449F-9708-E2DF41C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1B0-8753-4B09-9802-1EB188A2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8C4-846F-41E1-BD13-7FD38F10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B18F-D31F-4EB5-97F4-6246FCC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AB2-73A8-4066-8B18-0826445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1E32-4ED9-45A5-B9FD-8878EA8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5301-17DC-44C6-9663-0B2260B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15E3-C392-4504-AAD3-00CE8EB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9762-0AC9-493B-A0D2-8EA719D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BE7-7546-440F-8D8F-C54D9E3B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F4FA-FF07-471B-8550-4B97E4CA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7925-94B4-4517-A0C6-E055651F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AC89-8BFA-40A9-B8D3-95E371D1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C630-5673-409A-B533-6C04B04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5CF0-89A1-48A3-944A-AB7B440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8720-EF26-4EA8-BA27-AFEFF59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8D73-C401-4CD6-9AF0-D712B2D0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DFA6-CE81-456D-9195-2D57AAA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F35-88A8-451B-8C18-E3020729B33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2FF-8460-44A0-A707-CEE5A9F4E0D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Учитель</cp:lastModifiedBy>
  <dcterms:modified xsi:type="dcterms:W3CDTF">2014-09-16T23:57:15Z</dcterms:modified>
  <cp:revision>78</cp:revision>
  <dc:subject/>
  <dc:title>Правила  культурного  поведения в театре</dc:title>
</cp:coreProperties>
</file>