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B51-02EC-41E6-A22D-36810A23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778-4C60-4347-BF54-6E673932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B94-3EA4-46AB-B1D9-1C7E1D58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3A5-7487-4EA8-8D3A-BF8941D6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3534-9C1C-434B-BC09-4CB3F8D6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128D-FE7D-4D3F-B0E0-31090B3B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F9AA-DFC9-457C-A816-F41FEFC9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AF7D-EBAB-462E-8CE8-DB016353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01A3-47FB-41C1-8E02-93773CEB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A78B-198B-42E4-8C02-BB8B85B4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8C31-3BB0-42C6-A5C4-F8BF9012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BF6-1F0C-483D-9B15-9100B605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6D71-F964-49EE-8479-469C376B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F6C5-68E8-4F7B-A5AC-2BF832AC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9F17-7D55-455C-A89A-17FB1BD1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F466-DD1F-4C4F-A860-7C2ABAA1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F147-E4B2-495F-B9F8-52D823CC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30569-9D99-472B-A52F-85909B69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1EAF5-DD17-405C-823F-A8CB7FEF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DA715-2E6E-4A4E-8033-4B5560AE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C90FE-CEFA-4342-8F5E-A3773F0B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FA016-F697-4BD6-8938-F46797DB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BF5C-9CB4-482B-A93C-082EF5E7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5B05A-7E0D-4212-9F43-553F0B3E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36DD6-5B99-4DEC-90E3-32E5BE50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CECD9-A84A-41F3-9C8D-2908C869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6E31D-F3DC-41FA-881B-E5B3AA8E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938ED-E2A1-4497-8EC6-0AFA6C66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A1155-02C9-406F-9AC4-33BBFD55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3EF70-F3BC-47C9-A88A-148206B9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7C48D-3ADB-4C00-9850-2B4A3AF3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B234C-95F0-45C5-AFC8-6BFB985E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EED09-3941-493C-94BE-F9779BB7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0B6-3162-45EC-AC68-B83E097A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CC892-7506-4FB3-BD1C-397BE968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4E670-AE35-4850-B5FD-A1C58CD4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233F9-66F8-4CE8-A1E2-3A1F0E11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AEAFC-E64F-41DF-98D7-9C2702C6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76F48-586B-4E65-997C-438A37C7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90E25-581B-4064-A22A-A6E92743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34046-A8BC-459E-AB91-3403B3FF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45CE6-E6B9-4F3D-A5D5-BC3A7995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7FDCC-BA3F-427A-B965-32150A3E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2840-B602-4D15-9841-69BEE817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78E-F1BE-4808-98D9-D7CFF08C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0F8-B775-4286-BD62-F5F9E413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450-AC6C-410F-9909-3AF21147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7DA-2754-450F-87EB-F344E389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FB9E-D2F1-4E55-A134-1FED421BAE2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1922-CC12-47FB-A41B-64F1E123A32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6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5C1B-E8B2-4E7D-972C-76C9E1E408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1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E728-2A17-4508-BA6F-7942747045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ложение однозначных чисел с переходом через десяток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59280" y="5157360"/>
            <a:ext cx="5760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Мир построен на силе чисел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Пифагор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нимись по ступенькам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211640" y="3500280"/>
            <a:ext cx="936720" cy="1584360"/>
            <a:chOff x="4211640" y="3500280"/>
            <a:chExt cx="936720" cy="1584360"/>
          </a:xfrm>
        </p:grpSpPr>
        <p:sp>
          <p:nvSpPr>
            <p:cNvPr id="282" name=""/>
            <p:cNvSpPr/>
            <p:nvPr/>
          </p:nvSpPr>
          <p:spPr>
            <a:xfrm>
              <a:off x="4284720" y="4437000"/>
              <a:ext cx="863640" cy="647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1"/>
            <a:stretch/>
          </p:blipFill>
          <p:spPr>
            <a:xfrm>
              <a:off x="4211640" y="3500280"/>
              <a:ext cx="900000" cy="101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"/>
          <p:cNvSpPr/>
          <p:nvPr/>
        </p:nvSpPr>
        <p:spPr>
          <a:xfrm>
            <a:off x="3419640" y="4724280"/>
            <a:ext cx="86328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5084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92360" y="544500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работай с соседо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411280" y="2707920"/>
            <a:ext cx="0" cy="2890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724360" y="2781360"/>
            <a:ext cx="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211640" y="2781360"/>
            <a:ext cx="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236000" y="2781360"/>
            <a:ext cx="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411280" y="4436640"/>
            <a:ext cx="0" cy="2890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11640" y="3500280"/>
            <a:ext cx="0" cy="2890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724360" y="4508640"/>
            <a:ext cx="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140360" y="4436640"/>
            <a:ext cx="0" cy="2890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308720" y="4508640"/>
            <a:ext cx="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24360" y="3500280"/>
            <a:ext cx="0" cy="360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36000" y="3429000"/>
            <a:ext cx="0" cy="360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11280" y="5157720"/>
            <a:ext cx="0" cy="358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40360" y="5157720"/>
            <a:ext cx="0" cy="358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5157720"/>
            <a:ext cx="0" cy="358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08720" y="5157720"/>
            <a:ext cx="0" cy="358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11280" y="3500280"/>
            <a:ext cx="0" cy="2890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19280" y="2997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 +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24360" y="3141720"/>
            <a:ext cx="8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3640" y="3068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 + 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59280" y="3068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 + 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72360" y="2997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 + 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4724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 +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48000" y="47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 + 6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32360" y="47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 +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00720" y="4724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 + 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319880" y="189000"/>
            <a:ext cx="18241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нимись по ступенькам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211640" y="3500280"/>
            <a:ext cx="936720" cy="1584360"/>
            <a:chOff x="4211640" y="3500280"/>
            <a:chExt cx="936720" cy="1584360"/>
          </a:xfrm>
        </p:grpSpPr>
        <p:sp>
          <p:nvSpPr>
            <p:cNvPr id="317" name=""/>
            <p:cNvSpPr/>
            <p:nvPr/>
          </p:nvSpPr>
          <p:spPr>
            <a:xfrm>
              <a:off x="4284720" y="4437000"/>
              <a:ext cx="863640" cy="647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4211640" y="3500280"/>
              <a:ext cx="900000" cy="101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"/>
          <p:cNvSpPr/>
          <p:nvPr/>
        </p:nvSpPr>
        <p:spPr>
          <a:xfrm>
            <a:off x="3419640" y="4724280"/>
            <a:ext cx="86328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56000" y="5084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92360" y="544500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26920" y="587700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нимись по ступенькам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076720" y="3213000"/>
            <a:ext cx="936720" cy="1584360"/>
            <a:chOff x="5076720" y="3213000"/>
            <a:chExt cx="936720" cy="1584360"/>
          </a:xfrm>
        </p:grpSpPr>
        <p:sp>
          <p:nvSpPr>
            <p:cNvPr id="325" name=""/>
            <p:cNvSpPr/>
            <p:nvPr/>
          </p:nvSpPr>
          <p:spPr>
            <a:xfrm>
              <a:off x="5149800" y="4149720"/>
              <a:ext cx="863640" cy="647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5076720" y="3213000"/>
              <a:ext cx="900000" cy="101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"/>
          <p:cNvSpPr/>
          <p:nvPr/>
        </p:nvSpPr>
        <p:spPr>
          <a:xfrm>
            <a:off x="4284720" y="443700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19640" y="4724280"/>
            <a:ext cx="86328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56000" y="5084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26920" y="566100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5300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ставь и реши задач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971280" y="2565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1781280" cy="13762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1654200" cy="18115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916360" y="3573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5 упражне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700360" y="48690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?(упр.),на 4 упр. </a:t>
            </a:r>
            <a:r>
              <a:rPr b="1" lang="en-US" sz="2800" spc="-1" strike="noStrike">
                <a:solidFill>
                  <a:srgbClr val="99cc99"/>
                </a:solidFill>
                <a:latin typeface="Arial"/>
              </a:rPr>
              <a:t>б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300720" y="4365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сего- ?(упр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верь решение задач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 + 4 = 9 (упр.)- на брусья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)  9 + 5 = 14(упр.)-всег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63640" y="4724280"/>
            <a:ext cx="6193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35280" y="530064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    +    5    =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+    4   =   1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050920" y="5013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50920" y="5013360"/>
            <a:ext cx="1081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48000" y="5013360"/>
            <a:ext cx="1152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00720" y="501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48000" y="6165720"/>
            <a:ext cx="25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867280" y="5805000"/>
            <a:ext cx="0" cy="35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59280" y="47242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59280" y="5877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203640" y="5084280"/>
            <a:ext cx="0" cy="289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03640" y="5734080"/>
            <a:ext cx="0" cy="287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олодцы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867280" y="2997360"/>
            <a:ext cx="936720" cy="1583640"/>
            <a:chOff x="5867280" y="2997360"/>
            <a:chExt cx="936720" cy="1583640"/>
          </a:xfrm>
        </p:grpSpPr>
        <p:sp>
          <p:nvSpPr>
            <p:cNvPr id="355" name=""/>
            <p:cNvSpPr/>
            <p:nvPr/>
          </p:nvSpPr>
          <p:spPr>
            <a:xfrm>
              <a:off x="5940360" y="3933720"/>
              <a:ext cx="863640" cy="6472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356" name="" descr=""/>
            <p:cNvPicPr/>
            <p:nvPr/>
          </p:nvPicPr>
          <p:blipFill>
            <a:blip r:embed="rId1"/>
            <a:stretch/>
          </p:blipFill>
          <p:spPr>
            <a:xfrm>
              <a:off x="5867280" y="2997360"/>
              <a:ext cx="900000" cy="10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"/>
          <p:cNvSpPr/>
          <p:nvPr/>
        </p:nvSpPr>
        <p:spPr>
          <a:xfrm>
            <a:off x="5076720" y="414972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211640" y="4508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56000" y="5084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6920" y="566100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5300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348000" y="479736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7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и и задач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вторю состав чисел от 1 до 1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учусь новому вычислению с переходом через 1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уду внимательным, смекалистым, активным  математик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Считайте, ребята, точнее считайт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Хорошее дело смелей прибавляйте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Плохие дела поскорей вычитайте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Учебник научит нас новому счет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Скорей за работу, скорей за работу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Числа повторяю, рифму подбираю!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693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  2   3   4   5   6    7    8   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йди лишне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бведи число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едини пары чисел, составляющие  число 10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9" idx="1"/>
            <a:endCxn id="189" idx="1"/>
          </p:cNvCxnSpPr>
          <p:nvPr/>
        </p:nvCxnSpPr>
        <p:spPr>
          <a:xfrm>
            <a:off x="755280" y="4509720"/>
            <a:ext cx="1080" cy="1080"/>
          </a:xfrm>
          <a:prstGeom prst="straightConnector1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1979640" y="2924280"/>
            <a:ext cx="2448000" cy="9363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427640" y="2852640"/>
            <a:ext cx="1512720" cy="1008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2852640"/>
            <a:ext cx="1871640" cy="7207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284360" y="2781360"/>
            <a:ext cx="1152360" cy="79200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6360" y="2781360"/>
            <a:ext cx="1368360" cy="5763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84720" y="2781360"/>
            <a:ext cx="720720" cy="5745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19640" y="2781360"/>
            <a:ext cx="718920" cy="2887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140000" y="2781360"/>
            <a:ext cx="360360" cy="28728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564000" y="2707920"/>
            <a:ext cx="28728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850920" y="2708280"/>
            <a:ext cx="14292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88000" y="2421000"/>
            <a:ext cx="6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307200" y="2421000"/>
            <a:ext cx="681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76920" y="2365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300720" y="3213000"/>
            <a:ext cx="183348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50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-103)"/>
                                      </p:to>
                                    </p:set>
                                    <p:set>
                                      <p:cBhvr>
                                        <p:cTn id="63" dur="50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-103)"/>
                                      </p:to>
                                    </p:set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нимись по ступенькам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19280" y="3860640"/>
            <a:ext cx="936720" cy="1584360"/>
            <a:chOff x="1619280" y="3860640"/>
            <a:chExt cx="936720" cy="1584360"/>
          </a:xfrm>
        </p:grpSpPr>
        <p:sp>
          <p:nvSpPr>
            <p:cNvPr id="208" name=""/>
            <p:cNvSpPr/>
            <p:nvPr/>
          </p:nvSpPr>
          <p:spPr>
            <a:xfrm>
              <a:off x="1692360" y="4797360"/>
              <a:ext cx="863640" cy="647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1619280" y="3860640"/>
              <a:ext cx="900000" cy="101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Дополни до 10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125360"/>
          <a:ext cx="8964720" cy="4537080"/>
        </p:xfrm>
        <a:graphic>
          <a:graphicData uri="http://schemas.openxmlformats.org/drawingml/2006/table">
            <a:tbl>
              <a:tblPr/>
              <a:tblGrid>
                <a:gridCol w="2105280"/>
                <a:gridCol w="1168200"/>
                <a:gridCol w="1014480"/>
                <a:gridCol w="857160"/>
                <a:gridCol w="935280"/>
                <a:gridCol w="934920"/>
                <a:gridCol w="934920"/>
                <a:gridCol w="1014480"/>
              </a:tblGrid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гаемое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гаемое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чение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ммы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2700360" y="2565360"/>
            <a:ext cx="50328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2565360"/>
            <a:ext cx="50328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2565360"/>
            <a:ext cx="5760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2565360"/>
            <a:ext cx="50472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00720" y="2565360"/>
            <a:ext cx="50472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4360" y="2565360"/>
            <a:ext cx="57636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01080" y="2565360"/>
            <a:ext cx="57456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нимись по ступенькам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484360" y="3789360"/>
            <a:ext cx="936720" cy="1584360"/>
            <a:chOff x="2484360" y="3789360"/>
            <a:chExt cx="936720" cy="1584360"/>
          </a:xfrm>
        </p:grpSpPr>
        <p:sp>
          <p:nvSpPr>
            <p:cNvPr id="221" name=""/>
            <p:cNvSpPr/>
            <p:nvPr/>
          </p:nvSpPr>
          <p:spPr>
            <a:xfrm>
              <a:off x="2557440" y="4726080"/>
              <a:ext cx="863640" cy="647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2484360" y="3789360"/>
              <a:ext cx="900000" cy="101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>
            <a:off x="1692360" y="501336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моги найти дорог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5+3=      4+3=       9-6=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8-4=      7+2=       3+3=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            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6+7=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1692360" cy="10936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342120" y="4844880"/>
            <a:ext cx="2801880" cy="2013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rot="8151600">
            <a:off x="1073880" y="3157560"/>
            <a:ext cx="1582920" cy="287280"/>
          </a:xfrm>
          <a:prstGeom prst="rightArrow">
            <a:avLst>
              <a:gd name="adj1" fmla="val 50000"/>
              <a:gd name="adj2" fmla="val 137751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2509200">
            <a:off x="2700000" y="2565360"/>
            <a:ext cx="304920" cy="2041560"/>
          </a:xfrm>
          <a:prstGeom prst="upArrow">
            <a:avLst>
              <a:gd name="adj1" fmla="val 50000"/>
              <a:gd name="adj2" fmla="val 167385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8969600">
            <a:off x="3243240" y="3225600"/>
            <a:ext cx="1930320" cy="287280"/>
          </a:xfrm>
          <a:prstGeom prst="leftArrow">
            <a:avLst>
              <a:gd name="adj1" fmla="val 50000"/>
              <a:gd name="adj2" fmla="val 167982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8025600">
            <a:off x="4281840" y="3515040"/>
            <a:ext cx="2141640" cy="289080"/>
          </a:xfrm>
          <a:prstGeom prst="leftArrow">
            <a:avLst>
              <a:gd name="adj1" fmla="val 50000"/>
              <a:gd name="adj2" fmla="val 185212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2620800">
            <a:off x="6588000" y="2492280"/>
            <a:ext cx="320760" cy="1790640"/>
          </a:xfrm>
          <a:prstGeom prst="downArrow">
            <a:avLst>
              <a:gd name="adj1" fmla="val 50000"/>
              <a:gd name="adj2" fmla="val 139562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 rot="20685600">
            <a:off x="3425400" y="4850640"/>
            <a:ext cx="3951360" cy="335160"/>
          </a:xfrm>
          <a:prstGeom prst="leftArrow">
            <a:avLst>
              <a:gd name="adj1" fmla="val 50000"/>
              <a:gd name="adj2" fmla="val 29473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нимись по ступенькам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059280" y="3716280"/>
            <a:ext cx="936000" cy="1584360"/>
            <a:chOff x="3059280" y="3716280"/>
            <a:chExt cx="936000" cy="1584360"/>
          </a:xfrm>
        </p:grpSpPr>
        <p:sp>
          <p:nvSpPr>
            <p:cNvPr id="236" name=""/>
            <p:cNvSpPr/>
            <p:nvPr/>
          </p:nvSpPr>
          <p:spPr>
            <a:xfrm>
              <a:off x="3132000" y="4653000"/>
              <a:ext cx="863280" cy="647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3059280" y="3716280"/>
              <a:ext cx="899640" cy="101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"/>
          <p:cNvSpPr/>
          <p:nvPr/>
        </p:nvSpPr>
        <p:spPr>
          <a:xfrm>
            <a:off x="2268360" y="494172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3280" y="5300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учимся вычислять 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092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2436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360" y="2492280"/>
            <a:ext cx="21780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5600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5928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3564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1200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79640" y="2997360"/>
            <a:ext cx="28728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56000" y="2997360"/>
            <a:ext cx="28728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2997360"/>
            <a:ext cx="28728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08360" y="2997360"/>
            <a:ext cx="28728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64360" y="2492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9+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67640" y="2492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=1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042920" y="3573360"/>
            <a:ext cx="4608360" cy="1303560"/>
            <a:chOff x="1042920" y="3573360"/>
            <a:chExt cx="4608360" cy="1303560"/>
          </a:xfrm>
        </p:grpSpPr>
        <p:sp>
          <p:nvSpPr>
            <p:cNvPr id="257" name=""/>
            <p:cNvSpPr/>
            <p:nvPr/>
          </p:nvSpPr>
          <p:spPr>
            <a:xfrm>
              <a:off x="1042920" y="4005360"/>
              <a:ext cx="46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9  +   4   =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 10  </a:t>
              </a: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 +    3   =   1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87280" y="3716280"/>
              <a:ext cx="0" cy="36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186920" y="3716280"/>
              <a:ext cx="647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34920" y="35733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99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79280" y="3860640"/>
              <a:ext cx="0" cy="216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9280" y="4365720"/>
              <a:ext cx="0" cy="215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34920" y="4508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121840" y="3716280"/>
              <a:ext cx="79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14560" y="3716280"/>
              <a:ext cx="0" cy="28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050920" y="4724280"/>
              <a:ext cx="194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95640" y="4437000"/>
              <a:ext cx="0" cy="28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356000" y="5013360"/>
            <a:ext cx="4390920" cy="1233360"/>
            <a:chOff x="4356000" y="5013360"/>
            <a:chExt cx="4390920" cy="1233360"/>
          </a:xfrm>
        </p:grpSpPr>
        <p:sp>
          <p:nvSpPr>
            <p:cNvPr id="269" name=""/>
            <p:cNvSpPr/>
            <p:nvPr/>
          </p:nvSpPr>
          <p:spPr>
            <a:xfrm>
              <a:off x="4356000" y="5373720"/>
              <a:ext cx="43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7   +    5   =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10  </a:t>
              </a: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 +   2   =    1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435280" y="5301720"/>
              <a:ext cx="0" cy="142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27280" y="5157720"/>
              <a:ext cx="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426920" y="5157720"/>
              <a:ext cx="8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580000" y="5157720"/>
              <a:ext cx="72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6300720" y="515772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579640" y="609444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35640" y="5734080"/>
              <a:ext cx="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35280" y="5734080"/>
              <a:ext cx="0" cy="215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92360" y="501336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92360" y="587844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25 0.00116 C 0.13698 0.00856 0.24288 0.01619 0.28681 0.00324 C 0.33073 -0.00971 0.29358 -0.06358 0.29462 -0.07699 E">
                                      <p:cBhvr>
                                        <p:cTn id="234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8:16:34Z</dcterms:created>
  <dc:creator>Учитель</dc:creator>
  <dc:description/>
  <dc:language>en-US</dc:language>
  <cp:lastModifiedBy>Учитель</cp:lastModifiedBy>
  <dcterms:modified xsi:type="dcterms:W3CDTF">2007-02-16T04:15:37Z</dcterms:modified>
  <cp:revision>49</cp:revision>
  <dc:subject/>
  <dc:title>Сложение однозначных чисел с переходом через десяток</dc:title>
</cp:coreProperties>
</file>