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1F1-6037-44E6-ABC9-07F580EB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F25-EA93-4A41-9EA5-212BF3A3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2AB-7792-4BE3-937B-F2949CCB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084-FD21-4A4C-A3E9-226E9585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0053-276A-4C15-A794-B6F0C960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0F6F-257D-4208-9744-D696837B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CB11-F1C6-429E-9A93-F5E03305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44B7-A1CB-4354-9376-A1FC3852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93C8-5022-43CB-847D-182D145D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A7FE-4BF7-4B87-8995-6745FB7F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DCB1-C6DB-4325-87BD-E9778F4C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5DD-ACFF-4691-94B2-4FEA6C9E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9658-1399-4FC3-AAF6-6C159B0D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B3C1-1C80-462B-A008-23E0953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1964-05EF-48A1-8843-FFFDA8AE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DF6A-07D4-4EF4-8CBC-72F90849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389D-96D0-4A52-8C35-12CE1952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2D728-1A2D-415F-BB28-28ACCC87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B878-2572-4580-B144-0F7EAB9C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F59F-34F7-4350-A8F0-5740071D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C819-9AF7-4AFA-B500-24E69A9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55BE-0B93-450E-87DE-A0B778D3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9FC-1D73-4905-9CC6-978BC26D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CAE87-FCA3-4F58-A52E-4634B87F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81C13-34EB-4780-AFEE-1F5632C5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ECE9-DA24-4600-9E26-8EA90444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98E3-F932-4EC2-9CD7-7900EC30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8150-FBEB-4EBD-9139-59CAAF22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F7A75-9660-42DF-8D9A-65833CA3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1D4B-DCE3-4816-BF37-7DA36913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6606E-D485-4EE6-94AC-8815C23D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C2186-6A1F-42DE-88B1-68BC1E74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7AF08-B08F-4551-AD13-AF6C01F3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805-D9C6-4872-8FFA-F78D7F87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21B47-E698-451C-BB59-EE548408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6EC5-EA1D-4315-8ECC-62D1C764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FD9CB-6404-4831-86B4-90012959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1396-3218-4A88-B137-91EFCFEB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29FB-A754-4520-B784-1C16BA32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F2C3F-7DD2-4F11-BB0F-2FE7A0A6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87DD5-3EE4-44BB-BDC1-F44A8452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CEF6-715B-4E57-B23C-C5CFA02F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D23A2-AB3C-475C-97F9-025F1CC1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6AD-538E-4882-A032-8CEE3E7B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207-0B70-41E9-B407-939CF68C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0D0-B50D-4B6E-85DE-35ED222C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DB0-54AE-48E7-BD5A-0A502EC9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74A-B28B-47B9-B4B3-8A77B65B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89F6-5DC8-4730-B14B-B9BC42489B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6DBA-976A-442C-87F9-E38A9E5E4A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6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1160-9FEB-4F3D-8EF7-BDACAE8BF4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1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7EA4-1B09-4CE9-B961-EDA99E57E0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ложение однозначных чисел с переходом через десяток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59280" y="5157360"/>
            <a:ext cx="5760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Мир построен на силе чисел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211640" y="3500280"/>
            <a:ext cx="936720" cy="1584360"/>
            <a:chOff x="4211640" y="3500280"/>
            <a:chExt cx="936720" cy="1584360"/>
          </a:xfrm>
        </p:grpSpPr>
        <p:sp>
          <p:nvSpPr>
            <p:cNvPr id="282" name=""/>
            <p:cNvSpPr/>
            <p:nvPr/>
          </p:nvSpPr>
          <p:spPr>
            <a:xfrm>
              <a:off x="4284720" y="443700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4211640" y="350028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/>
          <p:cNvSpPr/>
          <p:nvPr/>
        </p:nvSpPr>
        <p:spPr>
          <a:xfrm>
            <a:off x="3419640" y="472428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92360" y="5445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работай с соседо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411280" y="270792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724360" y="278136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11640" y="278136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236000" y="278136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411280" y="443664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11640" y="350028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724360" y="450864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140360" y="443664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308720" y="450864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24360" y="3500280"/>
            <a:ext cx="0" cy="360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6000" y="3429000"/>
            <a:ext cx="0" cy="360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4036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08720" y="5157720"/>
            <a:ext cx="0" cy="358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11280" y="3500280"/>
            <a:ext cx="0" cy="289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19280" y="2997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314172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3640" y="306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3068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72360" y="2997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+ 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472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6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00720" y="4724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+ 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319880" y="189000"/>
            <a:ext cx="1824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11640" y="3500280"/>
            <a:ext cx="936720" cy="1584360"/>
            <a:chOff x="4211640" y="3500280"/>
            <a:chExt cx="936720" cy="1584360"/>
          </a:xfrm>
        </p:grpSpPr>
        <p:sp>
          <p:nvSpPr>
            <p:cNvPr id="317" name=""/>
            <p:cNvSpPr/>
            <p:nvPr/>
          </p:nvSpPr>
          <p:spPr>
            <a:xfrm>
              <a:off x="4284720" y="443700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4211640" y="350028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3419640" y="472428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5445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26920" y="5877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076720" y="3213000"/>
            <a:ext cx="936720" cy="1584360"/>
            <a:chOff x="5076720" y="3213000"/>
            <a:chExt cx="936720" cy="1584360"/>
          </a:xfrm>
        </p:grpSpPr>
        <p:sp>
          <p:nvSpPr>
            <p:cNvPr id="325" name=""/>
            <p:cNvSpPr/>
            <p:nvPr/>
          </p:nvSpPr>
          <p:spPr>
            <a:xfrm>
              <a:off x="5149800" y="414972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5076720" y="321300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/>
          <p:cNvSpPr/>
          <p:nvPr/>
        </p:nvSpPr>
        <p:spPr>
          <a:xfrm>
            <a:off x="4284720" y="4437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472428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5661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300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ставь и реши задач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97128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1781280" cy="13762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1654200" cy="18115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916360" y="3573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 упражне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4869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?(упр.),на 4 упр. </a:t>
            </a:r>
            <a:r>
              <a:rPr b="1" lang="en-US" sz="2800" spc="-1" strike="noStrike">
                <a:solidFill>
                  <a:srgbClr val="99cc99"/>
                </a:solidFill>
                <a:latin typeface="Arial"/>
              </a:rPr>
              <a:t>б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00720" y="4365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сего- ?(упр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верь решение 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 + 4 = 9 (упр.)- на брусь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)  9 + 5 = 14(упр.)-всег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63640" y="4724280"/>
            <a:ext cx="61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5280" y="5300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   +    5    =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+    4   =   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050920" y="5013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0920" y="501336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48000" y="5013360"/>
            <a:ext cx="1152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00720" y="501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48000" y="616572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867280" y="5805000"/>
            <a:ext cx="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47242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59280" y="5877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203640" y="5084280"/>
            <a:ext cx="0" cy="289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03640" y="5734080"/>
            <a:ext cx="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олодцы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867280" y="2997360"/>
            <a:ext cx="936720" cy="1583640"/>
            <a:chOff x="5867280" y="2997360"/>
            <a:chExt cx="936720" cy="1583640"/>
          </a:xfrm>
        </p:grpSpPr>
        <p:sp>
          <p:nvSpPr>
            <p:cNvPr id="355" name=""/>
            <p:cNvSpPr/>
            <p:nvPr/>
          </p:nvSpPr>
          <p:spPr>
            <a:xfrm>
              <a:off x="5940360" y="3933720"/>
              <a:ext cx="863640" cy="647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1"/>
            <a:stretch/>
          </p:blipFill>
          <p:spPr>
            <a:xfrm>
              <a:off x="5867280" y="2997360"/>
              <a:ext cx="900000" cy="10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5076720" y="414972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11640" y="4508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56000" y="5084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56610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5300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48000" y="47973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и и задач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вторю состав чисел от 1 до 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учусь новому вычислению с переходом через 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уду внимательным, смекалистым, активным  математик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читайте, ребята, точнее считайт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Хорошее дело смелей прибавляйте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Плохие дела поскорей вычитайте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Учебник научит нас новому счет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Скорей за работу, скорей за работу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исла повторяю, рифму подбираю!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  2   3   4   5   6    7    8  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йди лишне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веди число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едини пары чисел, составляющие  число 1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9" idx="1"/>
            <a:endCxn id="189" idx="1"/>
          </p:cNvCxnSpPr>
          <p:nvPr/>
        </p:nvCxnSpPr>
        <p:spPr>
          <a:xfrm>
            <a:off x="755280" y="4509720"/>
            <a:ext cx="108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1979640" y="2924280"/>
            <a:ext cx="2448000" cy="936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427640" y="2852640"/>
            <a:ext cx="1512720" cy="1008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852640"/>
            <a:ext cx="1871640" cy="720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284360" y="2781360"/>
            <a:ext cx="1152360" cy="7920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781360"/>
            <a:ext cx="1368360" cy="576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84720" y="2781360"/>
            <a:ext cx="720720" cy="5745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2781360"/>
            <a:ext cx="718920" cy="2887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140000" y="2781360"/>
            <a:ext cx="360360" cy="28728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564000" y="2707920"/>
            <a:ext cx="28728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850920" y="2708280"/>
            <a:ext cx="1429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88000" y="2421000"/>
            <a:ext cx="6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307200" y="2421000"/>
            <a:ext cx="681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76920" y="2365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300720" y="3213000"/>
            <a:ext cx="1833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-103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-103)"/>
                                      </p:to>
                                    </p:se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19280" y="3860640"/>
            <a:ext cx="936720" cy="1584360"/>
            <a:chOff x="1619280" y="3860640"/>
            <a:chExt cx="936720" cy="1584360"/>
          </a:xfrm>
        </p:grpSpPr>
        <p:sp>
          <p:nvSpPr>
            <p:cNvPr id="208" name=""/>
            <p:cNvSpPr/>
            <p:nvPr/>
          </p:nvSpPr>
          <p:spPr>
            <a:xfrm>
              <a:off x="1692360" y="479736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619280" y="386064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ополни до 10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125360"/>
          <a:ext cx="8964720" cy="4537080"/>
        </p:xfrm>
        <a:graphic>
          <a:graphicData uri="http://schemas.openxmlformats.org/drawingml/2006/table">
            <a:tbl>
              <a:tblPr/>
              <a:tblGrid>
                <a:gridCol w="2105280"/>
                <a:gridCol w="1168200"/>
                <a:gridCol w="1014480"/>
                <a:gridCol w="857160"/>
                <a:gridCol w="935280"/>
                <a:gridCol w="934920"/>
                <a:gridCol w="934920"/>
                <a:gridCol w="1014480"/>
              </a:tblGrid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гаемое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гаемое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ммы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700360" y="2565360"/>
            <a:ext cx="50328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2565360"/>
            <a:ext cx="50328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2565360"/>
            <a:ext cx="5760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2565360"/>
            <a:ext cx="50472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00720" y="2565360"/>
            <a:ext cx="50472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2565360"/>
            <a:ext cx="57636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01080" y="2565360"/>
            <a:ext cx="57456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484360" y="3789360"/>
            <a:ext cx="936720" cy="1584360"/>
            <a:chOff x="2484360" y="3789360"/>
            <a:chExt cx="936720" cy="1584360"/>
          </a:xfrm>
        </p:grpSpPr>
        <p:sp>
          <p:nvSpPr>
            <p:cNvPr id="221" name=""/>
            <p:cNvSpPr/>
            <p:nvPr/>
          </p:nvSpPr>
          <p:spPr>
            <a:xfrm>
              <a:off x="2557440" y="4726080"/>
              <a:ext cx="86364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2484360" y="3789360"/>
              <a:ext cx="90000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1692360" y="50133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моги найти дорог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5+3=      4+3=       9-6=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8-4=      7+2=       3+3=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6+7=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1692360" cy="1093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342120" y="4844880"/>
            <a:ext cx="2801880" cy="2013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rot="8151600">
            <a:off x="1073880" y="3157560"/>
            <a:ext cx="1582920" cy="287280"/>
          </a:xfrm>
          <a:prstGeom prst="rightArrow">
            <a:avLst>
              <a:gd name="adj1" fmla="val 50000"/>
              <a:gd name="adj2" fmla="val 137751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509200">
            <a:off x="2700000" y="2565360"/>
            <a:ext cx="304920" cy="2041560"/>
          </a:xfrm>
          <a:prstGeom prst="upArrow">
            <a:avLst>
              <a:gd name="adj1" fmla="val 50000"/>
              <a:gd name="adj2" fmla="val 16738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8969600">
            <a:off x="3243240" y="3225600"/>
            <a:ext cx="1930320" cy="287280"/>
          </a:xfrm>
          <a:prstGeom prst="leftArrow">
            <a:avLst>
              <a:gd name="adj1" fmla="val 50000"/>
              <a:gd name="adj2" fmla="val 16798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8025600">
            <a:off x="4281840" y="3515040"/>
            <a:ext cx="2141640" cy="289080"/>
          </a:xfrm>
          <a:prstGeom prst="leftArrow">
            <a:avLst>
              <a:gd name="adj1" fmla="val 50000"/>
              <a:gd name="adj2" fmla="val 18521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620800">
            <a:off x="6588000" y="2492280"/>
            <a:ext cx="320760" cy="1790640"/>
          </a:xfrm>
          <a:prstGeom prst="downArrow">
            <a:avLst>
              <a:gd name="adj1" fmla="val 50000"/>
              <a:gd name="adj2" fmla="val 13956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 rot="20685600">
            <a:off x="3425400" y="4850640"/>
            <a:ext cx="3951360" cy="335160"/>
          </a:xfrm>
          <a:prstGeom prst="leftArrow">
            <a:avLst>
              <a:gd name="adj1" fmla="val 50000"/>
              <a:gd name="adj2" fmla="val 29473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нимись по ступенькам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059280" y="3716280"/>
            <a:ext cx="936000" cy="1584360"/>
            <a:chOff x="3059280" y="3716280"/>
            <a:chExt cx="936000" cy="1584360"/>
          </a:xfrm>
        </p:grpSpPr>
        <p:sp>
          <p:nvSpPr>
            <p:cNvPr id="236" name=""/>
            <p:cNvSpPr/>
            <p:nvPr/>
          </p:nvSpPr>
          <p:spPr>
            <a:xfrm>
              <a:off x="3132000" y="4653000"/>
              <a:ext cx="863280" cy="647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3059280" y="3716280"/>
              <a:ext cx="899640" cy="101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2268360" y="494172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53006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учимся вычислять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2436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360" y="2492280"/>
            <a:ext cx="21780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600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564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12000" y="2492280"/>
            <a:ext cx="21744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7964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600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29973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9+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67640" y="2492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=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042920" y="3573360"/>
            <a:ext cx="4608360" cy="1303560"/>
            <a:chOff x="1042920" y="3573360"/>
            <a:chExt cx="4608360" cy="1303560"/>
          </a:xfrm>
        </p:grpSpPr>
        <p:sp>
          <p:nvSpPr>
            <p:cNvPr id="257" name=""/>
            <p:cNvSpPr/>
            <p:nvPr/>
          </p:nvSpPr>
          <p:spPr>
            <a:xfrm>
              <a:off x="1042920" y="400536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9  +   4   =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10 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 +    3   =   1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87280" y="3716280"/>
              <a:ext cx="0" cy="36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6920" y="3716280"/>
              <a:ext cx="64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34920" y="3573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99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9280" y="3860640"/>
              <a:ext cx="0" cy="216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9280" y="4365720"/>
              <a:ext cx="0" cy="215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34920" y="450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121840" y="3716280"/>
              <a:ext cx="7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14560" y="3716280"/>
              <a:ext cx="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050920" y="472428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95640" y="4437000"/>
              <a:ext cx="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356000" y="5013360"/>
            <a:ext cx="4390920" cy="1233360"/>
            <a:chOff x="4356000" y="5013360"/>
            <a:chExt cx="4390920" cy="1233360"/>
          </a:xfrm>
        </p:grpSpPr>
        <p:sp>
          <p:nvSpPr>
            <p:cNvPr id="269" name=""/>
            <p:cNvSpPr/>
            <p:nvPr/>
          </p:nvSpPr>
          <p:spPr>
            <a:xfrm>
              <a:off x="4356000" y="5373720"/>
              <a:ext cx="43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7   +    5   =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10 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 +   2   =    1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35280" y="5301720"/>
              <a:ext cx="0" cy="142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27280" y="5157720"/>
              <a:ext cx="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426920" y="5157720"/>
              <a:ext cx="8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580000" y="515772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300720" y="51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579640" y="6094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5640" y="5734080"/>
              <a:ext cx="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35280" y="5734080"/>
              <a:ext cx="0" cy="215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92360" y="50133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92360" y="587844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0.00116 C 0.13698 0.00856 0.24288 0.01619 0.28681 0.00324 C 0.33073 -0.00971 0.29358 -0.06358 0.29462 -0.07699 E">
                                      <p:cBhvr>
                                        <p:cTn id="234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16:34Z</dcterms:created>
  <dc:creator>Учитель</dc:creator>
  <dc:description/>
  <dc:language>en-US</dc:language>
  <cp:lastModifiedBy>Учитель</cp:lastModifiedBy>
  <dcterms:modified xsi:type="dcterms:W3CDTF">2007-02-16T04:15:37Z</dcterms:modified>
  <cp:revision>49</cp:revision>
  <dc:subject/>
  <dc:title>Сложение однозначных чисел с переходом через десяток</dc:title>
</cp:coreProperties>
</file>