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F17-428F-4340-B46A-71350445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A6B-7169-4847-9188-79859334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85E-1122-44D8-A9C9-E371E6AF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6EE-EE16-49CC-AB38-38A70FB1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C505-6B94-4B8D-A1C3-62B16A80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EE6-3E1D-46F9-B184-C1993A6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2FF3-3D24-417B-99F6-5B1DD0F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F5A0-1B6A-49D7-BA9C-8863E4A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A572-17C5-453D-BA16-BBC1D5D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AB9-23E5-4CC8-891C-AC2E046B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C56-2F27-4307-A951-C1F6FF9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060-D1F8-4260-BD77-D474FA1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6700-1A36-466E-A9CF-55DE7B8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C19D-C833-4FC4-A60F-DB445D1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D8F3-8AF8-4105-B6AA-521C1C1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F1A0-3EFF-40FD-9FB0-0A497D3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6D0C-4415-4703-9AEF-B3722C8B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CB58-2A22-485F-85E3-2E4250D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9148-D5D4-4E69-B29A-FCE0EEC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EEFA-6443-481A-A5A3-FE8D835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C311-DAA8-42A3-86F2-29BAF741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B156-790E-4EAD-95BC-DF4E379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CDD-D9C6-4BF0-8248-34A21C6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8BAF-7AA1-47C9-B37D-B5F02FA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1320-5959-4EA9-8189-205F4B9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AA1F-C45F-4379-8D31-730F278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05CF-91EA-4343-9465-5B0AE5F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63E4-21C1-4465-AB63-E1E5F6BF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C7F2-FC20-4FB0-BF70-B12C25B9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7C90-DB10-46A0-965B-45B45E6D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21C6-50CC-421A-B7CC-A0A75563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CBFE-0CED-464A-8052-992A43E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DEAA-789A-43F3-B0FA-E79AC68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7C6-650A-47E3-84A7-C030601D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C78E-5654-4F33-A824-2AF40CCA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FA15-2B72-4959-B491-F27C5A8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EF4E-134A-46E8-ABF8-E89BED5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40F8-A0D3-43E2-AF90-2B89BAE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B830-D751-4EBC-AC48-E1377D6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B19F-93A8-42BD-B9C1-81EF1BC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3698-F698-4101-AC9F-8F25DC5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A399-CFA2-4BDE-8392-A3FB41B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1FFD-741B-45D8-9D54-9C6CA1C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DA2-D28C-44D3-B84B-A73565E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7A5-7863-48F4-8C82-84412D44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2BC-D60F-46EF-BC4F-7FC3536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D8D-E963-497D-9B7A-5546E6C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D15-75DF-4D23-8A13-A4A6B63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B60-4DC8-4BFE-A698-CB6705BBC6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4E0-4D54-41AE-B7DB-331A02F8BD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002-1956-45EB-BEDD-D697540B4F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157-FA3D-4119-8937-89DDC9A25F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однозначных чисел с переходом через десято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59280" y="5157360"/>
            <a:ext cx="5760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Мир построен на силе чисел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282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работай с сосед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11280" y="270792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72436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1164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23600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41128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2436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14036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0872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350028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342900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0872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29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141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3068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2360" y="29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47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00720" y="4724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9880" y="189000"/>
            <a:ext cx="1824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317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6920" y="587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76720" y="3213000"/>
            <a:ext cx="936720" cy="1584360"/>
            <a:chOff x="5076720" y="3213000"/>
            <a:chExt cx="936720" cy="1584360"/>
          </a:xfrm>
        </p:grpSpPr>
        <p:sp>
          <p:nvSpPr>
            <p:cNvPr id="325" name=""/>
            <p:cNvSpPr/>
            <p:nvPr/>
          </p:nvSpPr>
          <p:spPr>
            <a:xfrm>
              <a:off x="5149800" y="414972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5076720" y="321300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4284720" y="443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ставь и 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781280" cy="13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654200" cy="1811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91636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 упражн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486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?(упр.),на 4 упр. </a:t>
            </a: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00720" y="4365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го- ?(уп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решение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+ 4 = 9 (упр.)- на брусь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)  9 + 5 = 14(упр.)-всег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4724280"/>
            <a:ext cx="61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530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   +    5    =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+    4   =   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050920" y="5013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5013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48000" y="5013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00720" y="501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616572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867280" y="5805000"/>
            <a:ext cx="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7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587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03640" y="5084280"/>
            <a:ext cx="0" cy="289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3640" y="5734080"/>
            <a:ext cx="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867280" y="2997360"/>
            <a:ext cx="936720" cy="1583640"/>
            <a:chOff x="5867280" y="2997360"/>
            <a:chExt cx="936720" cy="1583640"/>
          </a:xfrm>
        </p:grpSpPr>
        <p:sp>
          <p:nvSpPr>
            <p:cNvPr id="355" name=""/>
            <p:cNvSpPr/>
            <p:nvPr/>
          </p:nvSpPr>
          <p:spPr>
            <a:xfrm>
              <a:off x="5940360" y="3933720"/>
              <a:ext cx="863640" cy="647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5867280" y="2997360"/>
              <a:ext cx="90000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5076720" y="4149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11640" y="4508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48000" y="4797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торю состав чисел от 1 до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учусь новому вычислению с переходом через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уду внимательным, смекалистым, активным  математ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читайте, ребята, точнее считай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Хорошее дело смелей прибавля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Плохие дела поскорей вычита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Учебник научит нас новому счет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корей за работу, скорей за работу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исла повторяю, рифму подбираю!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  2   3   4   5   6    7    8  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йди лишн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веди число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едини пары чисел, составляющие  число 1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9" idx="1"/>
            <a:endCxn id="189" idx="1"/>
          </p:cNvCxnSpPr>
          <p:nvPr/>
        </p:nvCxnSpPr>
        <p:spPr>
          <a:xfrm>
            <a:off x="755280" y="45097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979640" y="2924280"/>
            <a:ext cx="2448000" cy="936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427640" y="2852640"/>
            <a:ext cx="1512720" cy="1008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852640"/>
            <a:ext cx="1871640" cy="720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84360" y="2781360"/>
            <a:ext cx="1152360" cy="7920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781360"/>
            <a:ext cx="1368360" cy="57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84720" y="2781360"/>
            <a:ext cx="720720" cy="5745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781360"/>
            <a:ext cx="718920" cy="2887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000" y="2781360"/>
            <a:ext cx="360360" cy="28728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564000" y="2707920"/>
            <a:ext cx="2872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0920" y="2708280"/>
            <a:ext cx="1429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2421000"/>
            <a:ext cx="6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307200" y="2421000"/>
            <a:ext cx="68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76920" y="236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300720" y="321300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3860640"/>
            <a:ext cx="936720" cy="1584360"/>
            <a:chOff x="1619280" y="3860640"/>
            <a:chExt cx="936720" cy="1584360"/>
          </a:xfrm>
        </p:grpSpPr>
        <p:sp>
          <p:nvSpPr>
            <p:cNvPr id="208" name=""/>
            <p:cNvSpPr/>
            <p:nvPr/>
          </p:nvSpPr>
          <p:spPr>
            <a:xfrm>
              <a:off x="1692360" y="479736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619280" y="386064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полни до 10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125360"/>
          <a:ext cx="8964720" cy="4537080"/>
        </p:xfrm>
        <a:graphic>
          <a:graphicData uri="http://schemas.openxmlformats.org/drawingml/2006/table">
            <a:tbl>
              <a:tblPr/>
              <a:tblGrid>
                <a:gridCol w="2105280"/>
                <a:gridCol w="1168200"/>
                <a:gridCol w="1014480"/>
                <a:gridCol w="857160"/>
                <a:gridCol w="935280"/>
                <a:gridCol w="934920"/>
                <a:gridCol w="934920"/>
                <a:gridCol w="1014480"/>
              </a:tblGrid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ы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70036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565360"/>
            <a:ext cx="5760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2565360"/>
            <a:ext cx="5763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2565360"/>
            <a:ext cx="5745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484360" y="3789360"/>
            <a:ext cx="936720" cy="1584360"/>
            <a:chOff x="2484360" y="3789360"/>
            <a:chExt cx="936720" cy="1584360"/>
          </a:xfrm>
        </p:grpSpPr>
        <p:sp>
          <p:nvSpPr>
            <p:cNvPr id="221" name=""/>
            <p:cNvSpPr/>
            <p:nvPr/>
          </p:nvSpPr>
          <p:spPr>
            <a:xfrm>
              <a:off x="2557440" y="472608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2484360" y="378936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692360" y="5013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моги найти доро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5+3=      4+3=       9-6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8-4=      7+2=       3+3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6+7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1692360" cy="1093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42120" y="484488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8151600">
            <a:off x="1073880" y="3157560"/>
            <a:ext cx="1582920" cy="287280"/>
          </a:xfrm>
          <a:prstGeom prst="rightArrow">
            <a:avLst>
              <a:gd name="adj1" fmla="val 50000"/>
              <a:gd name="adj2" fmla="val 13775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509200">
            <a:off x="2700000" y="2565360"/>
            <a:ext cx="304920" cy="2041560"/>
          </a:xfrm>
          <a:prstGeom prst="upArrow">
            <a:avLst>
              <a:gd name="adj1" fmla="val 50000"/>
              <a:gd name="adj2" fmla="val 16738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969600">
            <a:off x="3243240" y="3225600"/>
            <a:ext cx="1930320" cy="287280"/>
          </a:xfrm>
          <a:prstGeom prst="leftArrow">
            <a:avLst>
              <a:gd name="adj1" fmla="val 50000"/>
              <a:gd name="adj2" fmla="val 16798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8025600">
            <a:off x="4281840" y="3515040"/>
            <a:ext cx="2141640" cy="289080"/>
          </a:xfrm>
          <a:prstGeom prst="leftArrow">
            <a:avLst>
              <a:gd name="adj1" fmla="val 50000"/>
              <a:gd name="adj2" fmla="val 18521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620800">
            <a:off x="6588000" y="2492280"/>
            <a:ext cx="320760" cy="1790640"/>
          </a:xfrm>
          <a:prstGeom prst="downArrow">
            <a:avLst>
              <a:gd name="adj1" fmla="val 50000"/>
              <a:gd name="adj2" fmla="val 1395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0685600">
            <a:off x="3425400" y="4850640"/>
            <a:ext cx="3951360" cy="335160"/>
          </a:xfrm>
          <a:prstGeom prst="leftArrow">
            <a:avLst>
              <a:gd name="adj1" fmla="val 50000"/>
              <a:gd name="adj2" fmla="val 29473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59280" y="3716280"/>
            <a:ext cx="936000" cy="1584360"/>
            <a:chOff x="3059280" y="3716280"/>
            <a:chExt cx="936000" cy="1584360"/>
          </a:xfrm>
        </p:grpSpPr>
        <p:sp>
          <p:nvSpPr>
            <p:cNvPr id="236" name=""/>
            <p:cNvSpPr/>
            <p:nvPr/>
          </p:nvSpPr>
          <p:spPr>
            <a:xfrm>
              <a:off x="3132000" y="4653000"/>
              <a:ext cx="86328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3059280" y="3716280"/>
              <a:ext cx="89964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2268360" y="4941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учимся вычислять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2492280"/>
            <a:ext cx="21780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+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249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42920" y="3573360"/>
            <a:ext cx="4608360" cy="1303560"/>
            <a:chOff x="1042920" y="3573360"/>
            <a:chExt cx="4608360" cy="1303560"/>
          </a:xfrm>
        </p:grpSpPr>
        <p:sp>
          <p:nvSpPr>
            <p:cNvPr id="257" name=""/>
            <p:cNvSpPr/>
            <p:nvPr/>
          </p:nvSpPr>
          <p:spPr>
            <a:xfrm>
              <a:off x="1042920" y="400536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9  +   4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 3   =   1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87280" y="3716280"/>
              <a:ext cx="0" cy="36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6920" y="3716280"/>
              <a:ext cx="64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4920" y="3573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99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9280" y="3860640"/>
              <a:ext cx="0" cy="21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9280" y="436572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34920" y="450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21840" y="3716280"/>
              <a:ext cx="7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4560" y="371628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050920" y="4724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95640" y="443700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56000" y="5013360"/>
            <a:ext cx="4390920" cy="1233360"/>
            <a:chOff x="4356000" y="5013360"/>
            <a:chExt cx="4390920" cy="1233360"/>
          </a:xfrm>
        </p:grpSpPr>
        <p:sp>
          <p:nvSpPr>
            <p:cNvPr id="269" name=""/>
            <p:cNvSpPr/>
            <p:nvPr/>
          </p:nvSpPr>
          <p:spPr>
            <a:xfrm>
              <a:off x="4356000" y="537372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7   +    5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2   =    1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35280" y="5301720"/>
              <a:ext cx="0" cy="142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7280" y="515772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26920" y="515772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80000" y="515772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00720" y="51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579640" y="6094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5640" y="573408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280" y="573408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360" y="50133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2360" y="587844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00116 C 0.13698 0.00856 0.24288 0.01619 0.28681 0.00324 C 0.33073 -0.00971 0.29358 -0.06358 0.29462 -0.07699 E">
                                      <p:cBhvr>
                                        <p:cTn id="23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16:34Z</dcterms:created>
  <dc:creator>Учитель</dc:creator>
  <dc:description/>
  <dc:language>en-US</dc:language>
  <cp:lastModifiedBy>Учитель</cp:lastModifiedBy>
  <dcterms:modified xsi:type="dcterms:W3CDTF">2007-02-16T04:15:37Z</dcterms:modified>
  <cp:revision>49</cp:revision>
  <dc:subject/>
  <dc:title>Сложение однозначных чисел с переходом через десяток</dc:title>
</cp:coreProperties>
</file>