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applause.wav" ContentType="audio/x-wav"/>
  <Override PartName="/ppt/media/image10.png" ContentType="image/png"/>
  <Override PartName="/ppt/media/image5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2.png" ContentType="image/png"/>
  <Override PartName="/ppt/media/%D0%BA%D0%B0%D0%BF%D0%BB%D1%8F.wav" ContentType="audio/x-wav"/>
  <Override PartName="/ppt/media/image14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2C5-5D34-4B21-A1E4-FBAF0DAD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CE1-C484-464B-A703-EE946262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8BB-8198-461E-8126-FCBABF17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B35-E2DD-4298-8E89-1A48FD96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847-4E11-4D53-AB2F-2D7CFE8D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102-2A4F-4925-BEE5-4355B656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5D9-095D-4E3F-8684-031A01D2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46B-A9D0-40A7-8653-877029A9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CF0-8C31-4B0A-89E9-980472D3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000-D907-448A-B129-6483997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518-2A78-4BE9-AB6D-CBCC4685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C9C-DFC8-4ED5-80CD-DC10119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4BF7-674F-40DB-A426-A5B54478A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applause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applause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&#1082;&#1072;&#1087;&#1083;&#1103;.wav"/><Relationship Id="rId8" Type="http://schemas.openxmlformats.org/officeDocument/2006/relationships/audio" Target="../media/applause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image" Target="../media/image1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applause.wav"/><Relationship Id="rId8" Type="http://schemas.openxmlformats.org/officeDocument/2006/relationships/audio" Target="../media/&#1082;&#1072;&#1087;&#1083;&#1103;.wav"/><Relationship Id="rId9" Type="http://schemas.openxmlformats.org/officeDocument/2006/relationships/audio" Target="../media/&#1082;&#1072;&#1087;&#1083;&#1103;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Comic Sans MS"/>
              </a:rPr>
              <a:t>тренажер</a:t>
            </a:r>
            <a:br>
              <a:rPr sz="7200"/>
            </a:br>
            <a:r>
              <a:rPr b="1" lang="ru-RU" sz="7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Comic Sans MS"/>
              </a:rPr>
              <a:t>«Сложение в пределах 2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508280"/>
            <a:ext cx="6400800" cy="141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РомащёваО.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2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2389320" cy="31305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/>
          <p:cNvSpPr/>
          <p:nvPr/>
        </p:nvSpPr>
        <p:spPr>
          <a:xfrm>
            <a:off x="2057400" y="1752480"/>
            <a:ext cx="6840360" cy="3810240"/>
          </a:xfrm>
          <a:prstGeom prst="wedgeEllipseCallout">
            <a:avLst>
              <a:gd name="adj1" fmla="val -63435"/>
              <a:gd name="adj2" fmla="val 1154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Century Schoolbook"/>
              </a:rPr>
              <a:t>Правила иг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362320" y="1905120"/>
            <a:ext cx="626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Здравствуйте, ребя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Меня зовут Лё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Я прочитал много книг и перепутал всех сказочных персонажей. Учитель  просит  меня назвать героев книги  Н.Н.Нос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«Приключения Незнайки и его друз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Помогите мне! Решите примеры и нажмите  на правильный ответ, тогда я вспомню всех героев книги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 rot="20752200">
            <a:off x="6248520" y="1523880"/>
            <a:ext cx="963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люльки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6+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neznaika07"/>
          <p:cNvPicPr/>
          <p:nvPr/>
        </p:nvPicPr>
        <p:blipFill>
          <a:blip r:embed="rId1"/>
          <a:stretch/>
        </p:blipFill>
        <p:spPr>
          <a:xfrm>
            <a:off x="6629400" y="1752480"/>
            <a:ext cx="1297080" cy="202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3338640" y="4114800"/>
            <a:ext cx="1962000" cy="24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1042920" y="1523880"/>
            <a:ext cx="1863720" cy="20480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8"/>
          <p:cNvGrpSpPr/>
          <p:nvPr/>
        </p:nvGrpSpPr>
        <p:grpSpPr>
          <a:xfrm>
            <a:off x="152280" y="990720"/>
            <a:ext cx="3505320" cy="2577960"/>
            <a:chOff x="152280" y="990720"/>
            <a:chExt cx="3505320" cy="257796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152280" y="990720"/>
              <a:ext cx="350532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1409040" y="1188360"/>
              <a:ext cx="99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2133720" y="4038480"/>
            <a:ext cx="3811320" cy="2562480"/>
            <a:chOff x="2133720" y="4038480"/>
            <a:chExt cx="3811320" cy="2562480"/>
          </a:xfrm>
        </p:grpSpPr>
        <p:pic>
          <p:nvPicPr>
            <p:cNvPr id="59" name="Picture 12" descr=""/>
            <p:cNvPicPr/>
            <p:nvPr/>
          </p:nvPicPr>
          <p:blipFill>
            <a:blip r:embed="rId5"/>
            <a:stretch/>
          </p:blipFill>
          <p:spPr>
            <a:xfrm>
              <a:off x="2133720" y="4038480"/>
              <a:ext cx="3811320" cy="25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/>
            <p:cNvSpPr/>
            <p:nvPr/>
          </p:nvSpPr>
          <p:spPr>
            <a:xfrm>
              <a:off x="3644280" y="4169880"/>
              <a:ext cx="10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4"/>
          <p:cNvGrpSpPr/>
          <p:nvPr/>
        </p:nvGrpSpPr>
        <p:grpSpPr>
          <a:xfrm>
            <a:off x="5181480" y="1066680"/>
            <a:ext cx="3429000" cy="2732040"/>
            <a:chOff x="5181480" y="1066680"/>
            <a:chExt cx="3429000" cy="2732040"/>
          </a:xfrm>
        </p:grpSpPr>
        <p:pic>
          <p:nvPicPr>
            <p:cNvPr id="62" name="Picture 15" descr=""/>
            <p:cNvPicPr/>
            <p:nvPr/>
          </p:nvPicPr>
          <p:blipFill>
            <a:blip r:embed="rId6"/>
            <a:stretch/>
          </p:blipFill>
          <p:spPr>
            <a:xfrm>
              <a:off x="5181480" y="1066680"/>
              <a:ext cx="3429000" cy="27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6"/>
            <p:cNvSpPr/>
            <p:nvPr/>
          </p:nvSpPr>
          <p:spPr>
            <a:xfrm>
              <a:off x="6409440" y="1205640"/>
              <a:ext cx="96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1503360" cy="21492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"/>
          <p:cNvSpPr txBox="1"/>
          <p:nvPr/>
        </p:nvSpPr>
        <p:spPr>
          <a:xfrm rot="20752200">
            <a:off x="6705720" y="2438280"/>
            <a:ext cx="963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й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7+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3924360" y="4267080"/>
            <a:ext cx="125244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611280" y="1295280"/>
            <a:ext cx="1677960" cy="239724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8"/>
          <p:cNvGrpSpPr/>
          <p:nvPr/>
        </p:nvGrpSpPr>
        <p:grpSpPr>
          <a:xfrm>
            <a:off x="2666880" y="4038480"/>
            <a:ext cx="3048120" cy="2500560"/>
            <a:chOff x="2666880" y="4038480"/>
            <a:chExt cx="3048120" cy="2500560"/>
          </a:xfrm>
        </p:grpSpPr>
        <p:pic>
          <p:nvPicPr>
            <p:cNvPr id="71" name="Picture 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2666880" y="4038480"/>
              <a:ext cx="304812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0"/>
            <p:cNvSpPr/>
            <p:nvPr/>
          </p:nvSpPr>
          <p:spPr>
            <a:xfrm>
              <a:off x="4104360" y="4294080"/>
              <a:ext cx="86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228600" y="1219320"/>
            <a:ext cx="3200400" cy="2570040"/>
            <a:chOff x="228600" y="1219320"/>
            <a:chExt cx="3200400" cy="2570040"/>
          </a:xfrm>
        </p:grpSpPr>
        <p:pic>
          <p:nvPicPr>
            <p:cNvPr id="74" name="Picture 12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228600" y="1219320"/>
              <a:ext cx="320040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3"/>
            <p:cNvSpPr/>
            <p:nvPr/>
          </p:nvSpPr>
          <p:spPr>
            <a:xfrm>
              <a:off x="1466640" y="1482120"/>
              <a:ext cx="90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4"/>
          <p:cNvGrpSpPr/>
          <p:nvPr/>
        </p:nvGrpSpPr>
        <p:grpSpPr>
          <a:xfrm>
            <a:off x="5257800" y="1371600"/>
            <a:ext cx="3276720" cy="2773440"/>
            <a:chOff x="5257800" y="1371600"/>
            <a:chExt cx="3276720" cy="2773440"/>
          </a:xfrm>
        </p:grpSpPr>
        <p:pic>
          <p:nvPicPr>
            <p:cNvPr id="77" name="Picture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5257800" y="1371600"/>
              <a:ext cx="327672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6"/>
            <p:cNvSpPr/>
            <p:nvPr/>
          </p:nvSpPr>
          <p:spPr>
            <a:xfrm>
              <a:off x="6495120" y="1443240"/>
              <a:ext cx="926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 rot="20752200">
            <a:off x="1907640" y="1484280"/>
            <a:ext cx="9637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маш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9+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1295280" cy="2350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6156360" y="1341360"/>
            <a:ext cx="2043000" cy="246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1914480" cy="2718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8"/>
          <p:cNvGrpSpPr/>
          <p:nvPr/>
        </p:nvGrpSpPr>
        <p:grpSpPr>
          <a:xfrm>
            <a:off x="2971800" y="3886200"/>
            <a:ext cx="3505320" cy="2819160"/>
            <a:chOff x="2971800" y="3886200"/>
            <a:chExt cx="3505320" cy="2819160"/>
          </a:xfrm>
        </p:grpSpPr>
        <p:pic>
          <p:nvPicPr>
            <p:cNvPr id="86" name="Picture 9" descr=""/>
            <p:cNvPicPr/>
            <p:nvPr/>
          </p:nvPicPr>
          <p:blipFill>
            <a:blip r:embed="rId4"/>
            <a:stretch/>
          </p:blipFill>
          <p:spPr>
            <a:xfrm>
              <a:off x="2971800" y="3886200"/>
              <a:ext cx="350532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4228920" y="4031280"/>
              <a:ext cx="992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5334120" y="1219320"/>
            <a:ext cx="3581280" cy="2655720"/>
            <a:chOff x="5334120" y="1219320"/>
            <a:chExt cx="3581280" cy="2655720"/>
          </a:xfrm>
        </p:grpSpPr>
        <p:pic>
          <p:nvPicPr>
            <p:cNvPr id="89" name="Picture 12" descr=""/>
            <p:cNvPicPr/>
            <p:nvPr/>
          </p:nvPicPr>
          <p:blipFill>
            <a:blip r:embed="rId5"/>
            <a:stretch/>
          </p:blipFill>
          <p:spPr>
            <a:xfrm>
              <a:off x="5334120" y="1219320"/>
              <a:ext cx="3581280" cy="26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6684840" y="1355760"/>
              <a:ext cx="101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380880" y="1295280"/>
            <a:ext cx="3657600" cy="2876400"/>
            <a:chOff x="380880" y="1295280"/>
            <a:chExt cx="3657600" cy="2876400"/>
          </a:xfrm>
        </p:grpSpPr>
        <p:pic>
          <p:nvPicPr>
            <p:cNvPr id="92" name="Picture 15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365760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1932480" y="1516320"/>
              <a:ext cx="1036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 rot="20752200">
            <a:off x="6587640" y="1700280"/>
            <a:ext cx="963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рчун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8+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6659640" y="2060640"/>
            <a:ext cx="1584360" cy="25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1527120" cy="1846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908000" y="3789360"/>
            <a:ext cx="2270160" cy="25401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8"/>
          <p:cNvGrpSpPr/>
          <p:nvPr/>
        </p:nvGrpSpPr>
        <p:grpSpPr>
          <a:xfrm>
            <a:off x="0" y="620640"/>
            <a:ext cx="4105080" cy="3024000"/>
            <a:chOff x="0" y="620640"/>
            <a:chExt cx="4105080" cy="3024000"/>
          </a:xfrm>
        </p:grpSpPr>
        <p:pic>
          <p:nvPicPr>
            <p:cNvPr id="101" name="Picture 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0" y="620640"/>
              <a:ext cx="410508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0"/>
            <p:cNvSpPr/>
            <p:nvPr/>
          </p:nvSpPr>
          <p:spPr>
            <a:xfrm>
              <a:off x="1627560" y="852840"/>
              <a:ext cx="116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1476360" y="3716280"/>
            <a:ext cx="3816360" cy="2808000"/>
            <a:chOff x="1476360" y="3716280"/>
            <a:chExt cx="3816360" cy="2808000"/>
          </a:xfrm>
        </p:grpSpPr>
        <p:pic>
          <p:nvPicPr>
            <p:cNvPr id="104" name="Picture 12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1476360" y="3716280"/>
              <a:ext cx="381636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3024000" y="3931920"/>
              <a:ext cx="108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4"/>
          <p:cNvGrpSpPr/>
          <p:nvPr/>
        </p:nvGrpSpPr>
        <p:grpSpPr>
          <a:xfrm>
            <a:off x="5003640" y="1557360"/>
            <a:ext cx="3960720" cy="3168360"/>
            <a:chOff x="5003640" y="1557360"/>
            <a:chExt cx="3960720" cy="3168360"/>
          </a:xfrm>
        </p:grpSpPr>
        <p:pic>
          <p:nvPicPr>
            <p:cNvPr id="107" name="Picture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5003640" y="1557360"/>
              <a:ext cx="396072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6"/>
            <p:cNvSpPr/>
            <p:nvPr/>
          </p:nvSpPr>
          <p:spPr>
            <a:xfrm>
              <a:off x="6497640" y="1800360"/>
              <a:ext cx="112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 rot="20752200">
            <a:off x="2437920" y="5334120"/>
            <a:ext cx="963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ш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3+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059280" y="4038480"/>
            <a:ext cx="1152360" cy="2181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6588000" y="1523880"/>
            <a:ext cx="128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692360" y="1143000"/>
            <a:ext cx="1379520" cy="23302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8"/>
          <p:cNvGrpSpPr/>
          <p:nvPr/>
        </p:nvGrpSpPr>
        <p:grpSpPr>
          <a:xfrm>
            <a:off x="1905120" y="3809880"/>
            <a:ext cx="3489120" cy="2635200"/>
            <a:chOff x="1905120" y="3809880"/>
            <a:chExt cx="3489120" cy="2635200"/>
          </a:xfrm>
        </p:grpSpPr>
        <p:pic>
          <p:nvPicPr>
            <p:cNvPr id="116" name="Picture 9" descr=""/>
            <p:cNvPicPr/>
            <p:nvPr/>
          </p:nvPicPr>
          <p:blipFill>
            <a:blip r:embed="rId4"/>
            <a:stretch/>
          </p:blipFill>
          <p:spPr>
            <a:xfrm>
              <a:off x="1905120" y="3809880"/>
              <a:ext cx="3489120" cy="26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3421800" y="4080600"/>
              <a:ext cx="986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762120" y="1066680"/>
            <a:ext cx="3587760" cy="2503440"/>
            <a:chOff x="762120" y="1066680"/>
            <a:chExt cx="3587760" cy="2503440"/>
          </a:xfrm>
        </p:grpSpPr>
        <p:pic>
          <p:nvPicPr>
            <p:cNvPr id="119" name="Picture 12" descr=""/>
            <p:cNvPicPr/>
            <p:nvPr/>
          </p:nvPicPr>
          <p:blipFill>
            <a:blip r:embed="rId5"/>
            <a:stretch/>
          </p:blipFill>
          <p:spPr>
            <a:xfrm>
              <a:off x="762120" y="1066680"/>
              <a:ext cx="358776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2251080" y="1323000"/>
              <a:ext cx="1016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181480" y="1219320"/>
            <a:ext cx="3229200" cy="2633400"/>
            <a:chOff x="5181480" y="1219320"/>
            <a:chExt cx="3229200" cy="2633400"/>
          </a:xfrm>
        </p:grpSpPr>
        <p:pic>
          <p:nvPicPr>
            <p:cNvPr id="122" name="Picture 15" descr=""/>
            <p:cNvPicPr/>
            <p:nvPr/>
          </p:nvPicPr>
          <p:blipFill>
            <a:blip r:embed="rId6"/>
            <a:stretch/>
          </p:blipFill>
          <p:spPr>
            <a:xfrm>
              <a:off x="5181480" y="1219320"/>
              <a:ext cx="3229200" cy="26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6"/>
            <p:cNvSpPr/>
            <p:nvPr/>
          </p:nvSpPr>
          <p:spPr>
            <a:xfrm>
              <a:off x="6492240" y="1557000"/>
              <a:ext cx="9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7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295280" cy="23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1779480" cy="26845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 rot="20752200">
            <a:off x="1402920" y="1125000"/>
            <a:ext cx="1322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маш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5105520" y="1143000"/>
            <a:ext cx="3390840" cy="2852280"/>
            <a:chOff x="5105520" y="1143000"/>
            <a:chExt cx="3390840" cy="2852280"/>
          </a:xfrm>
        </p:grpSpPr>
        <p:pic>
          <p:nvPicPr>
            <p:cNvPr id="128" name="Picture 6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1143000"/>
              <a:ext cx="3390840" cy="28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7"/>
            <p:cNvSpPr/>
            <p:nvPr/>
          </p:nvSpPr>
          <p:spPr>
            <a:xfrm>
              <a:off x="6384960" y="1289520"/>
              <a:ext cx="960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6600"/>
                </a:solidFill>
                <a:latin typeface="Century Schoolbook"/>
              </a:rPr>
              <a:t>7+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4"/>
          <a:stretch/>
        </p:blipFill>
        <p:spPr>
          <a:xfrm>
            <a:off x="3780000" y="3789360"/>
            <a:ext cx="1815840" cy="261144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1"/>
          <p:cNvGrpSpPr/>
          <p:nvPr/>
        </p:nvGrpSpPr>
        <p:grpSpPr>
          <a:xfrm>
            <a:off x="0" y="990720"/>
            <a:ext cx="4032000" cy="3023640"/>
            <a:chOff x="0" y="990720"/>
            <a:chExt cx="4032000" cy="3023640"/>
          </a:xfrm>
        </p:grpSpPr>
        <p:pic>
          <p:nvPicPr>
            <p:cNvPr id="134" name="Picture 12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990720"/>
              <a:ext cx="4032000" cy="30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3"/>
            <p:cNvSpPr/>
            <p:nvPr/>
          </p:nvSpPr>
          <p:spPr>
            <a:xfrm>
              <a:off x="1445760" y="1455480"/>
              <a:ext cx="114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2286000" y="3809880"/>
            <a:ext cx="3816360" cy="2808360"/>
            <a:chOff x="2286000" y="3809880"/>
            <a:chExt cx="3816360" cy="2808360"/>
          </a:xfrm>
        </p:grpSpPr>
        <p:pic>
          <p:nvPicPr>
            <p:cNvPr id="137" name="Picture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286000" y="3809880"/>
              <a:ext cx="3816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6"/>
            <p:cNvSpPr/>
            <p:nvPr/>
          </p:nvSpPr>
          <p:spPr>
            <a:xfrm>
              <a:off x="3652920" y="4025880"/>
              <a:ext cx="10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A%D0%B0%D0%BF%D0%BB%D1%8F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9">
            <a:hlinkClick r:id="" action="ppaction://hlinkshowjump?jump=nextslide"/>
          </p:cNvPr>
          <p:cNvSpPr/>
          <p:nvPr/>
        </p:nvSpPr>
        <p:spPr>
          <a:xfrm>
            <a:off x="7991640" y="6210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7"/>
          <p:cNvSpPr txBox="1"/>
          <p:nvPr/>
        </p:nvSpPr>
        <p:spPr>
          <a:xfrm>
            <a:off x="1752480" y="990720"/>
            <a:ext cx="4953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щёв Даниил</dc:creator>
  <dc:description/>
  <dc:language>en-US</dc:language>
  <cp:lastModifiedBy>Учитель</cp:lastModifiedBy>
  <dcterms:modified xsi:type="dcterms:W3CDTF">2019-03-05T01:38:17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