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B594-8569-4991-8BE6-CD8F9390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A1A6-EB8A-4CA2-B0E5-C2D21E03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4A7B-A7ED-4FB1-9329-9312F27D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ECE9-07D9-4995-B9B3-955216A0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C305-10B8-4634-8F5B-94879535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EF68-FBAE-42AC-B7D9-9EE2D7BA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F9F-CCDE-4D61-AD9A-72EF2309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E834-18F5-4BA4-A0CB-065A3A9C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BFC-8AB9-4984-A30A-79AEE946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D43-C841-4F77-88F8-651AB190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E23A-32C3-4101-ADFF-31D6AA87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B8D2-1E28-44E4-A0BC-0D0C9512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969A-15A1-4A00-99E8-1C54CA12DC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321949954"/>
          <p:cNvPicPr/>
          <p:nvPr/>
        </p:nvPicPr>
        <p:blipFill>
          <a:blip r:embed="rId1"/>
          <a:stretch/>
        </p:blipFill>
        <p:spPr>
          <a:xfrm>
            <a:off x="2195640" y="-23760"/>
            <a:ext cx="6858000" cy="44514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457280" y="4340160"/>
            <a:ext cx="606600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324000" y="260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сать текст. В конце каждого предложения поставить нужный знак препинания: точку, вопросительный, воск­лицательный зна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-7920" y="1460520"/>
            <a:ext cx="690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шка Марусь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одного хозяина жила кошка звали её Марусь­ка она была тощая её плохо кормили однажды кошка убежала в лес там Маруська потолстела и похорошела много она в лесу поела мышей вот так ко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Dimon\Рабочий стол\ШКОЛА\картинки\ОТДЕЛЬНЫЕ КАРТИНКИ(2)\c63.gif"/>
          <p:cNvPicPr/>
          <p:nvPr/>
        </p:nvPicPr>
        <p:blipFill>
          <a:blip r:embed="rId1"/>
          <a:stretch/>
        </p:blipFill>
        <p:spPr>
          <a:xfrm>
            <a:off x="6892920" y="3448080"/>
            <a:ext cx="2000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30240" y="115920"/>
            <a:ext cx="554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исать текст. В конце каждого предложения поставить нужный знак препинания: точку, вопросительный, воск­лицательный знак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30240" y="1557360"/>
            <a:ext cx="911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р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ро — это подземный город быстро мчат там поезда они перевозят много пассажиров летом в метро прохладно дождливой осенью и суровой зимой тепло и сухо большое и красивое метро в Москве мы им гордим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Documents and Settings\Dimon\Мои документы\Мои рисунки\2d236dcbcd55.jpg"/>
          <p:cNvPicPr/>
          <p:nvPr/>
        </p:nvPicPr>
        <p:blipFill>
          <a:blip r:embed="rId1"/>
          <a:stretch/>
        </p:blipFill>
        <p:spPr>
          <a:xfrm>
            <a:off x="3708360" y="4861080"/>
            <a:ext cx="2260800" cy="1695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Dimon\Мои документы\Мои рисунки\74094_1290495167_42608x399227_s800x600.jpg"/>
          <p:cNvPicPr/>
          <p:nvPr/>
        </p:nvPicPr>
        <p:blipFill>
          <a:blip r:embed="rId2"/>
          <a:stretch/>
        </p:blipFill>
        <p:spPr>
          <a:xfrm>
            <a:off x="6534000" y="5013360"/>
            <a:ext cx="2540160" cy="1782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Dimon\Мои документы\Мои рисунки\Dubai_Metro_02.jpg"/>
          <p:cNvPicPr/>
          <p:nvPr/>
        </p:nvPicPr>
        <p:blipFill>
          <a:blip r:embed="rId3"/>
          <a:stretch/>
        </p:blipFill>
        <p:spPr>
          <a:xfrm>
            <a:off x="179280" y="4519440"/>
            <a:ext cx="3054600" cy="233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Documents and Settings\Dimon\Мои документы\Мои рисунки\Dubai_Metro.jpg"/>
          <p:cNvPicPr/>
          <p:nvPr/>
        </p:nvPicPr>
        <p:blipFill>
          <a:blip r:embed="rId4"/>
          <a:stretch/>
        </p:blipFill>
        <p:spPr>
          <a:xfrm>
            <a:off x="6227640" y="28440"/>
            <a:ext cx="28195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0" y="0"/>
            <a:ext cx="90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исать текст. В конце каждого предложения поставить нужный знак препинания: точку, вопросительный, воск­лицательный зна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108000" y="1590840"/>
            <a:ext cx="903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оопар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оопарке всегда весело и шумно распушил свой красивый хвост павлин медведь выпрашивал ку­сочки сахара а видел ли ты моржа морж — полярный житель у моржа острые и могучие клы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Dimon\Мои документы\Мои рисунки\pavlin_580.jpg"/>
          <p:cNvPicPr/>
          <p:nvPr/>
        </p:nvPicPr>
        <p:blipFill>
          <a:blip r:embed="rId1"/>
          <a:stretch/>
        </p:blipFill>
        <p:spPr>
          <a:xfrm>
            <a:off x="6227640" y="4848120"/>
            <a:ext cx="2671920" cy="178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Dimon\Мои документы\Мои рисунки\i (11).jpg"/>
          <p:cNvPicPr/>
          <p:nvPr/>
        </p:nvPicPr>
        <p:blipFill>
          <a:blip r:embed="rId2"/>
          <a:stretch/>
        </p:blipFill>
        <p:spPr>
          <a:xfrm>
            <a:off x="3459240" y="4365720"/>
            <a:ext cx="2225520" cy="167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Dimon\Мои документы\Мои рисунки\0_4a6a_f41919f3_XL_1.jpg"/>
          <p:cNvPicPr/>
          <p:nvPr/>
        </p:nvPicPr>
        <p:blipFill>
          <a:blip r:embed="rId3"/>
          <a:stretch/>
        </p:blipFill>
        <p:spPr>
          <a:xfrm>
            <a:off x="395280" y="4789440"/>
            <a:ext cx="24573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исать текст. В конце каждого предложения поставить нужный знак препинания: точку, вопросительный, воск­лицательный зна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0" y="1700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ул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яла чудная погода блестел и искрился снег мы поехали в лес на лыжах вот крутой спуск весело гудит в ушах ветер быстро летят лыжи тучи стали за­крывать небо мы поспешили домой а вы часто совер­шаете такие прогу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Dimon\Мои документы\Мои рисунки\0_43cf1_a421bb40_XL.gif"/>
          <p:cNvPicPr/>
          <p:nvPr/>
        </p:nvPicPr>
        <p:blipFill>
          <a:blip r:embed="rId1"/>
          <a:stretch/>
        </p:blipFill>
        <p:spPr>
          <a:xfrm>
            <a:off x="7020000" y="4176720"/>
            <a:ext cx="205884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440" y="33480"/>
            <a:ext cx="914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исать текст. В конце каждого предложения поставить нужный знак препинания: точку, вопросительный, воск­лицательный зна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3240" y="1773360"/>
            <a:ext cx="9140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н деревье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ходит время зимних снов дуб снял могучую шапку берёзки сбросили золотые блузки осинки ски­нули алые кофточки деревья притихли и задремали ели и сосны так и уснули одетыми проспят деревья до вес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Dimon\Мои документы\Мои рисунки\0_2268b_740d7f5b_L.gif"/>
          <p:cNvPicPr/>
          <p:nvPr/>
        </p:nvPicPr>
        <p:blipFill>
          <a:blip r:embed="rId1"/>
          <a:stretch/>
        </p:blipFill>
        <p:spPr>
          <a:xfrm>
            <a:off x="6227640" y="4508640"/>
            <a:ext cx="27273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5T08:23:47Z</dcterms:created>
  <dc:creator>SamLab.ws</dc:creator>
  <dc:description/>
  <dc:language>en-US</dc:language>
  <cp:lastModifiedBy>Учитель</cp:lastModifiedBy>
  <dcterms:modified xsi:type="dcterms:W3CDTF">2015-11-19T02:23:34Z</dcterms:modified>
  <cp:revision>7</cp:revision>
  <dc:subject/>
  <dc:title>Презентация PowerPoint</dc:title>
</cp:coreProperties>
</file>