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604-6DBA-419C-932A-2909341E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6CC-31E7-4031-9CB1-7E541CE9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3E4-B72E-4085-A2EA-B54B1B79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AF4-A19C-46AD-BFE4-3AFCC5DD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C66-E6D2-4D29-8632-2CAA0D28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0D1-4504-43B2-BEB3-34FAA4F6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034-99BA-44BE-A8CF-5A99B636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9B5-0866-4B17-81A2-85C2ECD5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877-EAF2-4117-B710-EE9310D0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419-5C39-4A74-80C8-B8EEB638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F07-AF6D-4E6D-9918-2B928DD8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100-B13E-4786-9C99-31EE36AD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9F7F-3D4B-4A06-9C4C-0319A2DE0D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321949954"/>
          <p:cNvPicPr/>
          <p:nvPr/>
        </p:nvPicPr>
        <p:blipFill>
          <a:blip r:embed="rId1"/>
          <a:stretch/>
        </p:blipFill>
        <p:spPr>
          <a:xfrm>
            <a:off x="2195640" y="-23760"/>
            <a:ext cx="6858000" cy="4451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457280" y="4340160"/>
            <a:ext cx="60660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-7920" y="1460520"/>
            <a:ext cx="690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шка Марусь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одного хозяина жила кошка звали её Марусь­ка она была тощая её плохо кормили однажды кошка убежала в лес там Маруська потолстела и похорошела много она в лесу поела мышей вот так к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Dimon\Рабочий стол\ШКОЛА\картинки\ОТДЕЛЬНЫЕ КАРТИНКИ(2)\c63.gif"/>
          <p:cNvPicPr/>
          <p:nvPr/>
        </p:nvPicPr>
        <p:blipFill>
          <a:blip r:embed="rId1"/>
          <a:stretch/>
        </p:blipFill>
        <p:spPr>
          <a:xfrm>
            <a:off x="6892920" y="344808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0240" y="115920"/>
            <a:ext cx="554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30240" y="1557360"/>
            <a:ext cx="911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р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ро — это подземный город быстро мчат там поезда они перевозят много пассажиров летом в метро прохладно дождливой осенью и суровой зимой тепло и сухо большое и красивое метро в Москве мы им гордим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Dimon\Мои документы\Мои рисунки\2d236dcbcd55.jpg"/>
          <p:cNvPicPr/>
          <p:nvPr/>
        </p:nvPicPr>
        <p:blipFill>
          <a:blip r:embed="rId1"/>
          <a:stretch/>
        </p:blipFill>
        <p:spPr>
          <a:xfrm>
            <a:off x="3708360" y="4861080"/>
            <a:ext cx="2260800" cy="169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Dimon\Мои документы\Мои рисунки\74094_1290495167_42608x399227_s800x600.jpg"/>
          <p:cNvPicPr/>
          <p:nvPr/>
        </p:nvPicPr>
        <p:blipFill>
          <a:blip r:embed="rId2"/>
          <a:stretch/>
        </p:blipFill>
        <p:spPr>
          <a:xfrm>
            <a:off x="6534000" y="5013360"/>
            <a:ext cx="2540160" cy="178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Dimon\Мои документы\Мои рисунки\Dubai_Metro_02.jpg"/>
          <p:cNvPicPr/>
          <p:nvPr/>
        </p:nvPicPr>
        <p:blipFill>
          <a:blip r:embed="rId3"/>
          <a:stretch/>
        </p:blipFill>
        <p:spPr>
          <a:xfrm>
            <a:off x="179280" y="4519440"/>
            <a:ext cx="3054600" cy="233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Dimon\Мои документы\Мои рисунки\Dubai_Metro.jpg"/>
          <p:cNvPicPr/>
          <p:nvPr/>
        </p:nvPicPr>
        <p:blipFill>
          <a:blip r:embed="rId4"/>
          <a:stretch/>
        </p:blipFill>
        <p:spPr>
          <a:xfrm>
            <a:off x="6227640" y="28440"/>
            <a:ext cx="28195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0"/>
            <a:ext cx="90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08000" y="1590840"/>
            <a:ext cx="90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оопар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оопарке всегда весело и шумно распушил свой красивый хвост павлин медведь выпрашивал ку­сочки сахара а видел ли ты моржа морж — полярный житель у моржа острые и могучие клы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Dimon\Мои документы\Мои рисунки\pavlin_580.jpg"/>
          <p:cNvPicPr/>
          <p:nvPr/>
        </p:nvPicPr>
        <p:blipFill>
          <a:blip r:embed="rId1"/>
          <a:stretch/>
        </p:blipFill>
        <p:spPr>
          <a:xfrm>
            <a:off x="6227640" y="4848120"/>
            <a:ext cx="2671920" cy="178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Dimon\Мои документы\Мои рисунки\i (11).jpg"/>
          <p:cNvPicPr/>
          <p:nvPr/>
        </p:nvPicPr>
        <p:blipFill>
          <a:blip r:embed="rId2"/>
          <a:stretch/>
        </p:blipFill>
        <p:spPr>
          <a:xfrm>
            <a:off x="3459240" y="4365720"/>
            <a:ext cx="2225520" cy="167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Dimon\Мои документы\Мои рисунки\0_4a6a_f41919f3_XL_1.jpg"/>
          <p:cNvPicPr/>
          <p:nvPr/>
        </p:nvPicPr>
        <p:blipFill>
          <a:blip r:embed="rId3"/>
          <a:stretch/>
        </p:blipFill>
        <p:spPr>
          <a:xfrm>
            <a:off x="395280" y="4789440"/>
            <a:ext cx="2457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0" y="1700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ул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яла чудная погода блестел и искрился снег мы поехали в лес на лыжах вот крутой спуск весело гудит в ушах ветер быстро летят лыжи тучи стали за­крывать небо мы поспешили домой а вы часто совер­шаете такие прогу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Dimon\Мои документы\Мои рисунки\0_43cf1_a421bb40_XL.gif"/>
          <p:cNvPicPr/>
          <p:nvPr/>
        </p:nvPicPr>
        <p:blipFill>
          <a:blip r:embed="rId1"/>
          <a:stretch/>
        </p:blipFill>
        <p:spPr>
          <a:xfrm>
            <a:off x="7020000" y="4176720"/>
            <a:ext cx="20588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440" y="33480"/>
            <a:ext cx="914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3240" y="1773360"/>
            <a:ext cx="914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н деревь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ходит время зимних снов дуб снял могучую шапку берёзки сбросили золотые блузки осинки ски­нули алые кофточки деревья притихли и задремали ели и сосны так и уснули одетыми проспят деревья до вес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Dimon\Мои документы\Мои рисунки\0_2268b_740d7f5b_L.gif"/>
          <p:cNvPicPr/>
          <p:nvPr/>
        </p:nvPicPr>
        <p:blipFill>
          <a:blip r:embed="rId1"/>
          <a:stretch/>
        </p:blipFill>
        <p:spPr>
          <a:xfrm>
            <a:off x="6227640" y="4508640"/>
            <a:ext cx="27273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08:23:47Z</dcterms:created>
  <dc:creator>SamLab.ws</dc:creator>
  <dc:description/>
  <dc:language>en-US</dc:language>
  <cp:lastModifiedBy>Учитель</cp:lastModifiedBy>
  <dcterms:modified xsi:type="dcterms:W3CDTF">2015-11-19T02:23:34Z</dcterms:modified>
  <cp:revision>7</cp:revision>
  <dc:subject/>
  <dc:title>Презентация PowerPoint</dc:title>
</cp:coreProperties>
</file>