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0F3B-33C3-4571-A4EB-494CF940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5F18-5E51-4C2A-850B-C70F7A4C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873E-B613-4D75-B93F-907A2CA2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0B33-B07A-450A-BC6E-307AB066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B9CC-EBE9-470E-9858-029A49E6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3AC4-3907-4CBC-8887-083C5563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AA90-BA70-4D4B-9568-6AFB3361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2F4B-4103-4CE1-98F5-82B8F2EE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352F-DE02-467A-861C-1895C2B7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8694-6868-4F6C-8810-A689A8BD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7B55-8FED-47F8-94E4-AA128EDA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91CB-F014-481A-AE46-F9F6DDE6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2126-72DC-470F-8E02-FD05BB7627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-36360" y="27000"/>
            <a:ext cx="9144000" cy="6858000"/>
          </a:xfrm>
          <a:prstGeom prst="rect">
            <a:avLst/>
          </a:prstGeom>
          <a:solidFill>
            <a:srgbClr val="b1edbc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аслоны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61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4"/>
          <p:cNvGrpSpPr/>
          <p:nvPr/>
        </p:nvGrpSpPr>
        <p:grpSpPr>
          <a:xfrm>
            <a:off x="2916360" y="3645000"/>
            <a:ext cx="3600360" cy="1150920"/>
            <a:chOff x="2916360" y="3645000"/>
            <a:chExt cx="3600360" cy="1150920"/>
          </a:xfrm>
        </p:grpSpPr>
        <p:pic>
          <p:nvPicPr>
            <p:cNvPr id="44" name="Picture 5" descr="Е"/>
            <p:cNvPicPr/>
            <p:nvPr/>
          </p:nvPicPr>
          <p:blipFill>
            <a:blip r:embed="rId2"/>
            <a:stretch/>
          </p:blipFill>
          <p:spPr>
            <a:xfrm>
              <a:off x="3708360" y="3645000"/>
              <a:ext cx="1008000" cy="1008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45" name="Picture 6" descr="Т"/>
            <p:cNvPicPr/>
            <p:nvPr/>
          </p:nvPicPr>
          <p:blipFill>
            <a:blip r:embed="rId3"/>
            <a:stretch/>
          </p:blipFill>
          <p:spPr>
            <a:xfrm>
              <a:off x="2916360" y="3716640"/>
              <a:ext cx="1079280" cy="10792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46" name="Picture 7" descr="С"/>
            <p:cNvPicPr/>
            <p:nvPr/>
          </p:nvPicPr>
          <p:blipFill>
            <a:blip r:embed="rId4"/>
            <a:stretch/>
          </p:blipFill>
          <p:spPr>
            <a:xfrm>
              <a:off x="4573800" y="3716640"/>
              <a:ext cx="1008000" cy="1008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47" name="Picture 8" descr="Т"/>
            <p:cNvPicPr/>
            <p:nvPr/>
          </p:nvPicPr>
          <p:blipFill>
            <a:blip r:embed="rId5"/>
            <a:stretch/>
          </p:blipFill>
          <p:spPr>
            <a:xfrm>
              <a:off x="5437080" y="3716640"/>
              <a:ext cx="1079640" cy="10792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48" name="WordArt 9"/>
          <p:cNvSpPr txBox="1"/>
          <p:nvPr/>
        </p:nvSpPr>
        <p:spPr>
          <a:xfrm>
            <a:off x="3121200" y="4983120"/>
            <a:ext cx="3323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по   математике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10"/>
          <p:cNvSpPr txBox="1"/>
          <p:nvPr/>
        </p:nvSpPr>
        <p:spPr>
          <a:xfrm>
            <a:off x="2268360" y="260280"/>
            <a:ext cx="45244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зентацию выполнила</a:t>
            </a:r>
            <a:endParaRPr b="1" lang="en-US" sz="24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читель начальных классов</a:t>
            </a:r>
            <a:endParaRPr b="1" lang="en-US" sz="24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мащёва О.Л.</a:t>
            </a:r>
            <a:endParaRPr b="1" lang="en-US" sz="24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AutoShape 11">
            <a:hlinkClick r:id="" action="ppaction://hlinkshowjump?jump=nextslide"/>
          </p:cNvPr>
          <p:cNvSpPr/>
          <p:nvPr/>
        </p:nvSpPr>
        <p:spPr>
          <a:xfrm>
            <a:off x="3205080" y="6021360"/>
            <a:ext cx="3024360" cy="682560"/>
          </a:xfrm>
          <a:custGeom>
            <a:avLst/>
            <a:gdLst>
              <a:gd name="textAreaLeft" fmla="*/ 43920 w 3024360"/>
              <a:gd name="textAreaRight" fmla="*/ 2980440 w 30243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95669" h="21600">
                <a:moveTo>
                  <a:pt x="0" y="0"/>
                </a:moveTo>
                <a:lnTo>
                  <a:pt x="95669" y="0"/>
                </a:lnTo>
                <a:lnTo>
                  <a:pt x="95669" y="21600"/>
                </a:lnTo>
                <a:lnTo>
                  <a:pt x="0" y="21600"/>
                </a:lnTo>
                <a:close/>
              </a:path>
              <a:path fill="lightenLess" w="95669" h="21600">
                <a:moveTo>
                  <a:pt x="0" y="0"/>
                </a:moveTo>
                <a:lnTo>
                  <a:pt x="95669" y="0"/>
                </a:lnTo>
                <a:lnTo>
                  <a:pt x="94269" y="1400"/>
                </a:lnTo>
                <a:lnTo>
                  <a:pt x="1400" y="1400"/>
                </a:lnTo>
                <a:close/>
              </a:path>
              <a:path fill="darken" w="95669" h="21600">
                <a:moveTo>
                  <a:pt x="95669" y="0"/>
                </a:moveTo>
                <a:lnTo>
                  <a:pt x="95669" y="21600"/>
                </a:lnTo>
                <a:lnTo>
                  <a:pt x="94269" y="20200"/>
                </a:lnTo>
                <a:lnTo>
                  <a:pt x="94269" y="1400"/>
                </a:lnTo>
                <a:close/>
              </a:path>
              <a:path fill="darkenLess" w="95669" h="21600">
                <a:moveTo>
                  <a:pt x="95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269" y="20200"/>
                </a:lnTo>
                <a:close/>
              </a:path>
              <a:path fill="lighten" w="95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ать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>
            <a:hlinkClick r:id="" action="ppaction://hlinkshowjump?jump=lastslide"/>
          </p:cNvPr>
          <p:cNvSpPr/>
          <p:nvPr/>
        </p:nvSpPr>
        <p:spPr>
          <a:xfrm>
            <a:off x="108000" y="115920"/>
            <a:ext cx="1225440" cy="574560"/>
          </a:xfrm>
          <a:custGeom>
            <a:avLst/>
            <a:gdLst>
              <a:gd name="textAreaLeft" fmla="*/ 37080 w 1225440"/>
              <a:gd name="textAreaRight" fmla="*/ 1188360 w 12254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46054" h="21600">
                <a:moveTo>
                  <a:pt x="0" y="0"/>
                </a:moveTo>
                <a:lnTo>
                  <a:pt x="46054" y="0"/>
                </a:lnTo>
                <a:lnTo>
                  <a:pt x="46054" y="21600"/>
                </a:lnTo>
                <a:lnTo>
                  <a:pt x="0" y="21600"/>
                </a:lnTo>
                <a:close/>
              </a:path>
              <a:path fill="lightenLess" w="46054" h="21600">
                <a:moveTo>
                  <a:pt x="0" y="0"/>
                </a:moveTo>
                <a:lnTo>
                  <a:pt x="46054" y="0"/>
                </a:lnTo>
                <a:lnTo>
                  <a:pt x="44654" y="1400"/>
                </a:lnTo>
                <a:lnTo>
                  <a:pt x="1400" y="1400"/>
                </a:lnTo>
                <a:close/>
              </a:path>
              <a:path fill="darken" w="46054" h="21600">
                <a:moveTo>
                  <a:pt x="46054" y="0"/>
                </a:moveTo>
                <a:lnTo>
                  <a:pt x="46054" y="21600"/>
                </a:lnTo>
                <a:lnTo>
                  <a:pt x="44654" y="20200"/>
                </a:lnTo>
                <a:lnTo>
                  <a:pt x="44654" y="1400"/>
                </a:lnTo>
                <a:close/>
              </a:path>
              <a:path fill="darkenLess" w="46054" h="21600">
                <a:moveTo>
                  <a:pt x="4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4" y="20200"/>
                </a:lnTo>
                <a:close/>
              </a:path>
              <a:path fill="lighten" w="4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">
            <a:hlinkClick r:id="rId6" action="ppaction://hlinksldjump"/>
          </p:cNvPr>
          <p:cNvSpPr/>
          <p:nvPr/>
        </p:nvSpPr>
        <p:spPr>
          <a:xfrm>
            <a:off x="8459640" y="115920"/>
            <a:ext cx="611280" cy="576360"/>
          </a:xfrm>
          <a:custGeom>
            <a:avLst/>
            <a:gdLst>
              <a:gd name="textAreaLeft" fmla="*/ 37080 w 611280"/>
              <a:gd name="textAreaRight" fmla="*/ 574200 w 611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2908" h="21600">
                <a:moveTo>
                  <a:pt x="0" y="0"/>
                </a:moveTo>
                <a:lnTo>
                  <a:pt x="22908" y="0"/>
                </a:lnTo>
                <a:lnTo>
                  <a:pt x="22908" y="21600"/>
                </a:lnTo>
                <a:lnTo>
                  <a:pt x="0" y="21600"/>
                </a:lnTo>
                <a:close/>
              </a:path>
              <a:path fill="lightenLess" w="22908" h="21600">
                <a:moveTo>
                  <a:pt x="0" y="0"/>
                </a:moveTo>
                <a:lnTo>
                  <a:pt x="22908" y="0"/>
                </a:lnTo>
                <a:lnTo>
                  <a:pt x="21508" y="1400"/>
                </a:lnTo>
                <a:lnTo>
                  <a:pt x="1400" y="1400"/>
                </a:lnTo>
                <a:close/>
              </a:path>
              <a:path fill="darken" w="22908" h="21600">
                <a:moveTo>
                  <a:pt x="22908" y="0"/>
                </a:moveTo>
                <a:lnTo>
                  <a:pt x="22908" y="21600"/>
                </a:lnTo>
                <a:lnTo>
                  <a:pt x="21508" y="20200"/>
                </a:lnTo>
                <a:lnTo>
                  <a:pt x="21508" y="1400"/>
                </a:lnTo>
                <a:close/>
              </a:path>
              <a:path fill="darkenLess" w="22908" h="21600">
                <a:moveTo>
                  <a:pt x="22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8" y="20200"/>
                </a:lnTo>
                <a:close/>
              </a:path>
              <a:path fill="lighten" w="22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8" h="21600">
                <a:moveTo>
                  <a:pt x="11454" y="3837"/>
                </a:moveTo>
                <a:lnTo>
                  <a:pt x="14030" y="6448"/>
                </a:lnTo>
                <a:lnTo>
                  <a:pt x="14030" y="4707"/>
                </a:lnTo>
                <a:lnTo>
                  <a:pt x="15806" y="4707"/>
                </a:lnTo>
                <a:lnTo>
                  <a:pt x="15806" y="8224"/>
                </a:lnTo>
                <a:lnTo>
                  <a:pt x="18417" y="10800"/>
                </a:lnTo>
                <a:lnTo>
                  <a:pt x="16763" y="10800"/>
                </a:lnTo>
                <a:lnTo>
                  <a:pt x="16763" y="17989"/>
                </a:lnTo>
                <a:lnTo>
                  <a:pt x="6145" y="17989"/>
                </a:lnTo>
                <a:lnTo>
                  <a:pt x="6145" y="10800"/>
                </a:lnTo>
                <a:lnTo>
                  <a:pt x="4491" y="10800"/>
                </a:lnTo>
                <a:close/>
              </a:path>
              <a:path fill="darkenLess" w="22908" h="21600">
                <a:moveTo>
                  <a:pt x="14030" y="6448"/>
                </a:moveTo>
                <a:lnTo>
                  <a:pt x="14030" y="4707"/>
                </a:lnTo>
                <a:lnTo>
                  <a:pt x="15806" y="4707"/>
                </a:lnTo>
                <a:lnTo>
                  <a:pt x="15806" y="8224"/>
                </a:lnTo>
                <a:close/>
              </a:path>
              <a:path fill="darkenLess" w="22908" h="21600">
                <a:moveTo>
                  <a:pt x="10531" y="14299"/>
                </a:moveTo>
                <a:lnTo>
                  <a:pt x="12377" y="14299"/>
                </a:lnTo>
                <a:lnTo>
                  <a:pt x="12377" y="17989"/>
                </a:lnTo>
                <a:lnTo>
                  <a:pt x="16763" y="17989"/>
                </a:lnTo>
                <a:lnTo>
                  <a:pt x="16763" y="10800"/>
                </a:lnTo>
                <a:lnTo>
                  <a:pt x="6145" y="10800"/>
                </a:lnTo>
                <a:lnTo>
                  <a:pt x="6145" y="17989"/>
                </a:lnTo>
                <a:lnTo>
                  <a:pt x="1053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998800" y="146160"/>
            <a:ext cx="2724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опрос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360" y="2066760"/>
            <a:ext cx="253368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сколь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135320" y="2066760"/>
            <a:ext cx="288288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ьше, ч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534160" y="2066760"/>
            <a:ext cx="43524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цыфры с детьми"/>
          <p:cNvPicPr/>
          <p:nvPr/>
        </p:nvPicPr>
        <p:blipFill>
          <a:blip r:embed="rId1"/>
          <a:srcRect l="26567" t="0" r="53020" b="67582"/>
          <a:stretch/>
        </p:blipFill>
        <p:spPr>
          <a:xfrm>
            <a:off x="6792840" y="692280"/>
            <a:ext cx="1882800" cy="2185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цыфры с детьми"/>
          <p:cNvPicPr/>
          <p:nvPr/>
        </p:nvPicPr>
        <p:blipFill>
          <a:blip r:embed="rId2"/>
          <a:srcRect l="0" t="32056" r="76737" b="36916"/>
          <a:stretch/>
        </p:blipFill>
        <p:spPr>
          <a:xfrm>
            <a:off x="2050920" y="620640"/>
            <a:ext cx="221616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цыфры с детьми"/>
          <p:cNvPicPr/>
          <p:nvPr/>
        </p:nvPicPr>
        <p:blipFill>
          <a:blip r:embed="rId1"/>
          <a:srcRect l="48001" t="35158" r="30834" b="33814"/>
          <a:stretch/>
        </p:blipFill>
        <p:spPr>
          <a:xfrm>
            <a:off x="6805440" y="909720"/>
            <a:ext cx="1943280" cy="1942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2998800" y="146160"/>
            <a:ext cx="30351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опрос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6360" y="2066760"/>
            <a:ext cx="253368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сколь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4135320" y="2066760"/>
            <a:ext cx="288288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ьше, ч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8534160" y="2066760"/>
            <a:ext cx="43524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цыфры с детьми"/>
          <p:cNvPicPr/>
          <p:nvPr/>
        </p:nvPicPr>
        <p:blipFill>
          <a:blip r:embed="rId2"/>
          <a:srcRect l="25316" t="66191" r="55019" b="3738"/>
          <a:stretch/>
        </p:blipFill>
        <p:spPr>
          <a:xfrm>
            <a:off x="2268360" y="836640"/>
            <a:ext cx="1873440" cy="20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аслоны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2611440" y="3463920"/>
            <a:ext cx="3657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го заданий выполне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611440" y="4040280"/>
            <a:ext cx="3657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ено вер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2570040" y="4616280"/>
            <a:ext cx="3657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нт выпол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281400" y="5229360"/>
            <a:ext cx="12193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знайка"/>
          <p:cNvPicPr/>
          <p:nvPr/>
        </p:nvPicPr>
        <p:blipFill>
          <a:blip r:embed="rId1"/>
          <a:stretch/>
        </p:blipFill>
        <p:spPr>
          <a:xfrm>
            <a:off x="41400" y="260280"/>
            <a:ext cx="4243320" cy="65264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3132000" y="549360"/>
            <a:ext cx="585324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Чтобы узнать, на сколь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дно число больше 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меньше другого, над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з большего числа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ыче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меньше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>
            <a:hlinkClick r:id="" action="ppaction://hlinkshowjump?jump=previousslide"/>
          </p:cNvPr>
          <p:cNvSpPr/>
          <p:nvPr/>
        </p:nvSpPr>
        <p:spPr>
          <a:xfrm>
            <a:off x="8028000" y="6022800"/>
            <a:ext cx="755640" cy="574920"/>
          </a:xfrm>
          <a:custGeom>
            <a:avLst/>
            <a:gdLst>
              <a:gd name="textAreaLeft" fmla="*/ 37080 w 755640"/>
              <a:gd name="textAreaRight" fmla="*/ 718560 w 75564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28385" h="21600">
                <a:moveTo>
                  <a:pt x="0" y="0"/>
                </a:moveTo>
                <a:lnTo>
                  <a:pt x="28385" y="0"/>
                </a:lnTo>
                <a:lnTo>
                  <a:pt x="28385" y="21600"/>
                </a:lnTo>
                <a:lnTo>
                  <a:pt x="0" y="21600"/>
                </a:lnTo>
                <a:close/>
              </a:path>
              <a:path fill="lightenLess" w="28385" h="21600">
                <a:moveTo>
                  <a:pt x="0" y="0"/>
                </a:moveTo>
                <a:lnTo>
                  <a:pt x="28385" y="0"/>
                </a:lnTo>
                <a:lnTo>
                  <a:pt x="26985" y="1400"/>
                </a:lnTo>
                <a:lnTo>
                  <a:pt x="1400" y="1400"/>
                </a:lnTo>
                <a:close/>
              </a:path>
              <a:path fill="darken" w="28385" h="21600">
                <a:moveTo>
                  <a:pt x="28385" y="0"/>
                </a:moveTo>
                <a:lnTo>
                  <a:pt x="28385" y="21600"/>
                </a:lnTo>
                <a:lnTo>
                  <a:pt x="26985" y="20200"/>
                </a:lnTo>
                <a:lnTo>
                  <a:pt x="26985" y="1400"/>
                </a:lnTo>
                <a:close/>
              </a:path>
              <a:path fill="darkenLess" w="28385" h="21600">
                <a:moveTo>
                  <a:pt x="28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85" y="20200"/>
                </a:lnTo>
                <a:close/>
              </a:path>
              <a:path fill="lighten" w="28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85" h="21600">
                <a:moveTo>
                  <a:pt x="7186" y="7493"/>
                </a:moveTo>
                <a:lnTo>
                  <a:pt x="10694" y="7493"/>
                </a:lnTo>
                <a:lnTo>
                  <a:pt x="10694" y="12828"/>
                </a:lnTo>
                <a:cubicBezTo>
                  <a:pt x="10694" y="13751"/>
                  <a:pt x="11495" y="14482"/>
                  <a:pt x="12530" y="14482"/>
                </a:cubicBezTo>
                <a:lnTo>
                  <a:pt x="14193" y="14482"/>
                </a:lnTo>
                <a:cubicBezTo>
                  <a:pt x="15228" y="14482"/>
                  <a:pt x="16029" y="13751"/>
                  <a:pt x="16029" y="12828"/>
                </a:cubicBezTo>
                <a:lnTo>
                  <a:pt x="16029" y="7493"/>
                </a:lnTo>
                <a:lnTo>
                  <a:pt x="14193" y="7493"/>
                </a:lnTo>
                <a:lnTo>
                  <a:pt x="17700" y="3985"/>
                </a:lnTo>
                <a:lnTo>
                  <a:pt x="21373" y="7493"/>
                </a:lnTo>
                <a:lnTo>
                  <a:pt x="19537" y="7493"/>
                </a:lnTo>
                <a:lnTo>
                  <a:pt x="19537" y="12828"/>
                </a:lnTo>
                <a:cubicBezTo>
                  <a:pt x="19537" y="15596"/>
                  <a:pt x="16961" y="18155"/>
                  <a:pt x="14193" y="18155"/>
                </a:cubicBezTo>
                <a:lnTo>
                  <a:pt x="12530" y="18155"/>
                </a:lnTo>
                <a:cubicBezTo>
                  <a:pt x="9763" y="18155"/>
                  <a:pt x="7186" y="15596"/>
                  <a:pt x="7186" y="12828"/>
                </a:cubicBezTo>
                <a:close/>
              </a:path>
            </a:pathLst>
          </a:custGeom>
          <a:solidFill>
            <a:srgbClr val="b7c0e7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аеж и гр"/>
          <p:cNvPicPr/>
          <p:nvPr/>
        </p:nvPicPr>
        <p:blipFill>
          <a:blip r:embed="rId1"/>
          <a:stretch/>
        </p:blipFill>
        <p:spPr>
          <a:xfrm>
            <a:off x="34920" y="44280"/>
            <a:ext cx="2514600" cy="266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аеж"/>
          <p:cNvPicPr/>
          <p:nvPr/>
        </p:nvPicPr>
        <p:blipFill>
          <a:blip r:embed="rId2"/>
          <a:stretch/>
        </p:blipFill>
        <p:spPr>
          <a:xfrm>
            <a:off x="6323040" y="189000"/>
            <a:ext cx="2857320" cy="25239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3141360" y="115920"/>
            <a:ext cx="2724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97080" y="2565360"/>
            <a:ext cx="857340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сколько грибов меньше, чем ябло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968560" y="115920"/>
            <a:ext cx="2724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7451640" y="44280"/>
            <a:ext cx="1362240" cy="1762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250920" y="42840"/>
            <a:ext cx="1271520" cy="1657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1692360" y="1484280"/>
            <a:ext cx="1271520" cy="1657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4"/>
          <a:stretch/>
        </p:blipFill>
        <p:spPr>
          <a:xfrm>
            <a:off x="7709040" y="1484280"/>
            <a:ext cx="1361880" cy="1762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5"/>
          <a:stretch/>
        </p:blipFill>
        <p:spPr>
          <a:xfrm>
            <a:off x="6012000" y="187200"/>
            <a:ext cx="1361880" cy="1762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6"/>
          <a:stretch/>
        </p:blipFill>
        <p:spPr>
          <a:xfrm>
            <a:off x="6450120" y="1557360"/>
            <a:ext cx="1361880" cy="17622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"/>
          <p:cNvSpPr/>
          <p:nvPr/>
        </p:nvSpPr>
        <p:spPr>
          <a:xfrm>
            <a:off x="64440" y="3284640"/>
            <a:ext cx="9035280" cy="59652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На сколько мальчиков больше, чем девочек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070080" y="115920"/>
            <a:ext cx="2724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атюль к"/>
          <p:cNvPicPr/>
          <p:nvPr/>
        </p:nvPicPr>
        <p:blipFill>
          <a:blip r:embed="rId1"/>
          <a:stretch/>
        </p:blipFill>
        <p:spPr>
          <a:xfrm>
            <a:off x="-36360" y="404640"/>
            <a:ext cx="3816360" cy="2630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тюль"/>
          <p:cNvPicPr/>
          <p:nvPr/>
        </p:nvPicPr>
        <p:blipFill>
          <a:blip r:embed="rId2"/>
          <a:stretch/>
        </p:blipFill>
        <p:spPr>
          <a:xfrm>
            <a:off x="6227640" y="404640"/>
            <a:ext cx="2459160" cy="2737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1317600" y="3075120"/>
            <a:ext cx="692460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сколько 5 меньше, чем 10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апом"/>
          <p:cNvPicPr/>
          <p:nvPr/>
        </p:nvPicPr>
        <p:blipFill>
          <a:blip r:embed="rId1"/>
          <a:stretch/>
        </p:blipFill>
        <p:spPr>
          <a:xfrm>
            <a:off x="6761160" y="0"/>
            <a:ext cx="2382840" cy="2521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7494840" y="1414440"/>
            <a:ext cx="6044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328920" y="146160"/>
            <a:ext cx="2724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5280" y="2473200"/>
            <a:ext cx="9068760" cy="59652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На сколько огурцов больше, чем помидоров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254160" y="246240"/>
            <a:ext cx="2733480" cy="21747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949680" y="1413000"/>
            <a:ext cx="10281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070080" y="115920"/>
            <a:ext cx="2724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694520" y="1125360"/>
            <a:ext cx="509112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первой полке – 6 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803960" y="2492280"/>
            <a:ext cx="492660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второй полке – 3 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акниги1"/>
          <p:cNvPicPr/>
          <p:nvPr/>
        </p:nvPicPr>
        <p:blipFill>
          <a:blip r:embed="rId1"/>
          <a:stretch/>
        </p:blipFill>
        <p:spPr>
          <a:xfrm>
            <a:off x="108000" y="1989000"/>
            <a:ext cx="1655640" cy="1457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108000" y="44280"/>
            <a:ext cx="1565280" cy="172404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8"/>
          <p:cNvGrpSpPr/>
          <p:nvPr/>
        </p:nvGrpSpPr>
        <p:grpSpPr>
          <a:xfrm>
            <a:off x="6238440" y="1158480"/>
            <a:ext cx="1470960" cy="1991160"/>
            <a:chOff x="6238440" y="1158480"/>
            <a:chExt cx="1470960" cy="1991160"/>
          </a:xfrm>
        </p:grpSpPr>
        <p:sp>
          <p:nvSpPr>
            <p:cNvPr id="86" name="Arc 9"/>
            <p:cNvSpPr/>
            <p:nvPr/>
          </p:nvSpPr>
          <p:spPr>
            <a:xfrm rot="1575000">
              <a:off x="6516360" y="1442520"/>
              <a:ext cx="914400" cy="1471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10"/>
            <p:cNvSpPr/>
            <p:nvPr/>
          </p:nvSpPr>
          <p:spPr>
            <a:xfrm rot="19273800">
              <a:off x="6805080" y="1196640"/>
              <a:ext cx="216000" cy="266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1"/>
            <p:cNvSpPr/>
            <p:nvPr/>
          </p:nvSpPr>
          <p:spPr>
            <a:xfrm flipV="1" rot="1303200">
              <a:off x="6950160" y="2851560"/>
              <a:ext cx="215640" cy="267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12"/>
          <p:cNvSpPr/>
          <p:nvPr/>
        </p:nvSpPr>
        <p:spPr>
          <a:xfrm>
            <a:off x="7512120" y="1708200"/>
            <a:ext cx="152172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? 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328920" y="115920"/>
            <a:ext cx="2724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опрос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250920" y="1362240"/>
            <a:ext cx="2303280" cy="122040"/>
            <a:chOff x="250920" y="1362240"/>
            <a:chExt cx="2303280" cy="122040"/>
          </a:xfrm>
        </p:grpSpPr>
        <p:sp>
          <p:nvSpPr>
            <p:cNvPr id="93" name="Line 5"/>
            <p:cNvSpPr/>
            <p:nvPr/>
          </p:nvSpPr>
          <p:spPr>
            <a:xfrm>
              <a:off x="322200" y="1434960"/>
              <a:ext cx="216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6"/>
            <p:cNvSpPr/>
            <p:nvPr/>
          </p:nvSpPr>
          <p:spPr>
            <a:xfrm>
              <a:off x="250920" y="1362240"/>
              <a:ext cx="144360" cy="122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7"/>
            <p:cNvSpPr/>
            <p:nvPr/>
          </p:nvSpPr>
          <p:spPr>
            <a:xfrm>
              <a:off x="2409840" y="1362240"/>
              <a:ext cx="144360" cy="122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250920" y="2709720"/>
            <a:ext cx="3744720" cy="122400"/>
            <a:chOff x="250920" y="2709720"/>
            <a:chExt cx="3744720" cy="122400"/>
          </a:xfrm>
        </p:grpSpPr>
        <p:sp>
          <p:nvSpPr>
            <p:cNvPr id="97" name="Line 9"/>
            <p:cNvSpPr/>
            <p:nvPr/>
          </p:nvSpPr>
          <p:spPr>
            <a:xfrm>
              <a:off x="322200" y="2781360"/>
              <a:ext cx="360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"/>
            <p:cNvSpPr/>
            <p:nvPr/>
          </p:nvSpPr>
          <p:spPr>
            <a:xfrm>
              <a:off x="250920" y="2709720"/>
              <a:ext cx="144360" cy="122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3851280" y="2709720"/>
              <a:ext cx="144360" cy="122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12"/>
          <p:cNvSpPr/>
          <p:nvPr/>
        </p:nvSpPr>
        <p:spPr>
          <a:xfrm>
            <a:off x="828720" y="692280"/>
            <a:ext cx="1104120" cy="642600"/>
          </a:xfrm>
          <a:prstGeom prst="rect">
            <a:avLst/>
          </a:prstGeom>
          <a:solidFill>
            <a:srgbClr val="d6f38d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828720" y="2060640"/>
            <a:ext cx="1104120" cy="642600"/>
          </a:xfrm>
          <a:prstGeom prst="rect">
            <a:avLst/>
          </a:prstGeom>
          <a:solidFill>
            <a:srgbClr val="d6f38d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4"/>
          <p:cNvGrpSpPr/>
          <p:nvPr/>
        </p:nvGrpSpPr>
        <p:grpSpPr>
          <a:xfrm>
            <a:off x="4438080" y="1014120"/>
            <a:ext cx="1470960" cy="1991160"/>
            <a:chOff x="4438080" y="1014120"/>
            <a:chExt cx="1470960" cy="1991160"/>
          </a:xfrm>
        </p:grpSpPr>
        <p:sp>
          <p:nvSpPr>
            <p:cNvPr id="103" name="Arc 15"/>
            <p:cNvSpPr/>
            <p:nvPr/>
          </p:nvSpPr>
          <p:spPr>
            <a:xfrm rot="1575000">
              <a:off x="4716000" y="1298160"/>
              <a:ext cx="914400" cy="1471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6"/>
            <p:cNvSpPr/>
            <p:nvPr/>
          </p:nvSpPr>
          <p:spPr>
            <a:xfrm rot="19273800">
              <a:off x="5004720" y="1052280"/>
              <a:ext cx="216000" cy="266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7"/>
            <p:cNvSpPr/>
            <p:nvPr/>
          </p:nvSpPr>
          <p:spPr>
            <a:xfrm flipV="1" rot="1303200">
              <a:off x="5149800" y="2707200"/>
              <a:ext cx="215640" cy="267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18"/>
          <p:cNvSpPr/>
          <p:nvPr/>
        </p:nvSpPr>
        <p:spPr>
          <a:xfrm>
            <a:off x="5784840" y="1498680"/>
            <a:ext cx="1738080" cy="642600"/>
          </a:xfrm>
          <a:prstGeom prst="rect">
            <a:avLst/>
          </a:prstGeom>
          <a:solidFill>
            <a:srgbClr val="d6f38d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?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998800" y="146160"/>
            <a:ext cx="2724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6360" y="2066760"/>
            <a:ext cx="253368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сколь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068720" y="2066760"/>
            <a:ext cx="288288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ьше, ч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цыфры с детьми"/>
          <p:cNvPicPr/>
          <p:nvPr/>
        </p:nvPicPr>
        <p:blipFill>
          <a:blip r:embed="rId1"/>
          <a:srcRect l="49902" t="3102" r="28184" b="70022"/>
          <a:stretch/>
        </p:blipFill>
        <p:spPr>
          <a:xfrm>
            <a:off x="6659640" y="974880"/>
            <a:ext cx="2016000" cy="1806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цыфры с детьми"/>
          <p:cNvPicPr/>
          <p:nvPr/>
        </p:nvPicPr>
        <p:blipFill>
          <a:blip r:embed="rId2"/>
          <a:srcRect l="1516" t="67215" r="78086" b="3805"/>
          <a:stretch/>
        </p:blipFill>
        <p:spPr>
          <a:xfrm>
            <a:off x="2124000" y="836640"/>
            <a:ext cx="1943280" cy="20178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8"/>
          <p:cNvSpPr/>
          <p:nvPr/>
        </p:nvSpPr>
        <p:spPr>
          <a:xfrm>
            <a:off x="8534160" y="2066760"/>
            <a:ext cx="43524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998800" y="146160"/>
            <a:ext cx="2724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опрос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6360" y="2066760"/>
            <a:ext cx="253368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сколь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4241520" y="2066760"/>
            <a:ext cx="292104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ньше, ч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8534160" y="2066760"/>
            <a:ext cx="43524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цыфры с детьми"/>
          <p:cNvPicPr/>
          <p:nvPr/>
        </p:nvPicPr>
        <p:blipFill>
          <a:blip r:embed="rId1"/>
          <a:srcRect l="74684" t="3102" r="4917" b="66899"/>
          <a:stretch/>
        </p:blipFill>
        <p:spPr>
          <a:xfrm>
            <a:off x="2411280" y="836640"/>
            <a:ext cx="1943280" cy="2089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цыфры с детьми"/>
          <p:cNvPicPr/>
          <p:nvPr/>
        </p:nvPicPr>
        <p:blipFill>
          <a:blip r:embed="rId2"/>
          <a:srcRect l="74684" t="37237" r="4917" b="32149"/>
          <a:stretch/>
        </p:blipFill>
        <p:spPr>
          <a:xfrm>
            <a:off x="6948360" y="907920"/>
            <a:ext cx="1836720" cy="201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09:49Z</dcterms:created>
  <dc:creator>Люсенька</dc:creator>
  <dc:description/>
  <dc:language>en-US</dc:language>
  <cp:lastModifiedBy>Учитель</cp:lastModifiedBy>
  <dcterms:modified xsi:type="dcterms:W3CDTF">2019-02-19T00:08:02Z</dcterms:modified>
  <cp:revision>18</cp:revision>
  <dc:subject/>
  <dc:title>Слайд 1</dc:title>
</cp:coreProperties>
</file>