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1DF-C881-4348-A241-2924B5DB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38D-9945-467A-917E-23E90A13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75E-9B5A-429E-8FF5-3A2A7A3F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EEB-2994-4621-B897-A451F061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AAE-9AE8-425D-A5F2-4378FD6D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209-C0C8-48FE-8E5F-862FAF7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E50-09AD-477B-9107-98A6F0E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4F5-D334-4049-9FC8-1F3ABB6F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A5B-A19E-464B-8FB8-596F72B5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1C2-8CC0-407B-9B76-41210C8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B6C-464E-4102-991A-038C0640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D43-2452-4B3A-AD17-A50D276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8E18-FDB8-43AF-BB81-81ACF91C7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908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БЕЗУДАРНЫЕ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7885080" y="573408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700680" y="3633840"/>
            <a:ext cx="15210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50920" y="1058760"/>
            <a:ext cx="146844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7236000" y="1127160"/>
            <a:ext cx="14112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250920" y="3836880"/>
            <a:ext cx="152532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…р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…т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с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з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…сн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2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44"/>
          <p:cNvSpPr/>
          <p:nvPr/>
        </p:nvSpPr>
        <p:spPr>
          <a:xfrm>
            <a:off x="716580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8"/>
          <p:cNvSpPr/>
          <p:nvPr/>
        </p:nvSpPr>
        <p:spPr>
          <a:xfrm>
            <a:off x="147492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7" name="WordArt 53"/>
          <p:cNvSpPr txBox="1"/>
          <p:nvPr/>
        </p:nvSpPr>
        <p:spPr>
          <a:xfrm>
            <a:off x="2195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8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9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0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1" name="WordArt 57"/>
          <p:cNvSpPr txBox="1"/>
          <p:nvPr/>
        </p:nvSpPr>
        <p:spPr>
          <a:xfrm>
            <a:off x="2195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2" name="WordArt 58"/>
          <p:cNvSpPr txBox="1"/>
          <p:nvPr/>
        </p:nvSpPr>
        <p:spPr>
          <a:xfrm>
            <a:off x="212580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59"/>
          <p:cNvSpPr txBox="1"/>
          <p:nvPr/>
        </p:nvSpPr>
        <p:spPr>
          <a:xfrm>
            <a:off x="644364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4" name="WordArt 60"/>
          <p:cNvSpPr txBox="1"/>
          <p:nvPr/>
        </p:nvSpPr>
        <p:spPr>
          <a:xfrm>
            <a:off x="219708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5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0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68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77521E-007 L 0.18906 0.00463 E">
                                      <p:cBhvr>
                                        <p:cTn id="846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3628 0.00462 E">
                                      <p:cBhvr>
                                        <p:cTn id="85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125 0.00463 E">
                                      <p:cBhvr>
                                        <p:cTn id="85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786E-006 L -0.2125 -0.00578 E">
                                      <p:cBhvr>
                                        <p:cTn id="86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2812 0.00463 E">
                                      <p:cBhvr>
                                        <p:cTn id="86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049 -0.00578 E">
                                      <p:cBhvr>
                                        <p:cTn id="871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7552 -0.00578 E">
                                      <p:cBhvr>
                                        <p:cTn id="87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91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щ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бес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…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гл…д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…ж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ж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6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9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0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08" name="Picture 68" descr=""/>
          <p:cNvPicPr/>
          <p:nvPr/>
        </p:nvPicPr>
        <p:blipFill>
          <a:blip r:embed="rId1"/>
          <a:stretch/>
        </p:blipFill>
        <p:spPr>
          <a:xfrm>
            <a:off x="-22860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7326 0.00463 E">
                                      <p:cBhvr>
                                        <p:cTn id="956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125 0.00462 E">
                                      <p:cBhvr>
                                        <p:cTn id="9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734E-006 L -0.23611 0.00463 E">
                                      <p:cBhvr>
                                        <p:cTn id="96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1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2812 -0.00601 E">
                                      <p:cBhvr>
                                        <p:cTn id="9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978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5972 -0.00602 E">
                                      <p:cBhvr>
                                        <p:cTn id="98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6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20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д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т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…в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лос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бу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л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1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4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5" name="WordArt 59"/>
          <p:cNvSpPr txBox="1"/>
          <p:nvPr/>
        </p:nvSpPr>
        <p:spPr>
          <a:xfrm>
            <a:off x="219564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54" name="Picture 68" descr=""/>
          <p:cNvPicPr/>
          <p:nvPr/>
        </p:nvPicPr>
        <p:blipFill>
          <a:blip r:embed="rId1"/>
          <a:stretch/>
        </p:blipFill>
        <p:spPr>
          <a:xfrm>
            <a:off x="7524720" y="401004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053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7552 -0.00601 E">
                                      <p:cBhvr>
                                        <p:cTn id="105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05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1267 0.00463 E">
                                      <p:cBhvr>
                                        <p:cTn id="106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9114 0.00462 E">
                                      <p:cBhvr>
                                        <p:cTn id="106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75301E-007 L 0.23646 0.00532 E">
                                      <p:cBhvr>
                                        <p:cTn id="107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0.0044 E">
                                      <p:cBhvr>
                                        <p:cTn id="107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108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083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1086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088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120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12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114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сти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д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…в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ит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стя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00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21285 0.0044 E">
                                      <p:cBhvr>
                                        <p:cTn id="116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5764 -0.00601 E">
                                      <p:cBhvr>
                                        <p:cTn id="1166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7326 -0.00602 E">
                                      <p:cBhvr>
                                        <p:cTn id="1171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17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1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6753 0.00463 E">
                                      <p:cBhvr>
                                        <p:cTn id="118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1475 -0.00602 E">
                                      <p:cBhvr>
                                        <p:cTn id="119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201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217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3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241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0.00463 E">
                                      <p:cBhvr>
                                        <p:cTn id="125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…люх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…тшал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…ро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…ли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…р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8"/>
          <p:cNvSpPr/>
          <p:nvPr/>
        </p:nvSpPr>
        <p:spPr>
          <a:xfrm>
            <a:off x="1476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1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5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6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46" name="Picture 70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3628 0.0044 E">
                                      <p:cBhvr>
                                        <p:cTn id="126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0.00463 E">
                                      <p:cBhvr>
                                        <p:cTn id="127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127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9687 0.00462 E">
                                      <p:cBhvr>
                                        <p:cTn id="1276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278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757 0.00532 E">
                                      <p:cBhvr>
                                        <p:cTn id="128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8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0.00463 E">
                                      <p:cBhvr>
                                        <p:cTn id="1291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0486 -0.00602 E">
                                      <p:cBhvr>
                                        <p:cTn id="129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3628 -0.00578 E">
                                      <p:cBhvr>
                                        <p:cTn id="1301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303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43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351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35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дск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гри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…лбен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скну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…д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2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7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8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9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0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1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6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8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9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1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2" name="Picture 68" descr=""/>
          <p:cNvPicPr/>
          <p:nvPr/>
        </p:nvPicPr>
        <p:blipFill>
          <a:blip r:embed="rId1"/>
          <a:stretch/>
        </p:blipFill>
        <p:spPr>
          <a:xfrm>
            <a:off x="-228600" y="119700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36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2847 -0.00601 E">
                                      <p:cBhvr>
                                        <p:cTn id="137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4392 0.00463 E">
                                      <p:cBhvr>
                                        <p:cTn id="137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378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1381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383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599 0.00532 E">
                                      <p:cBhvr>
                                        <p:cTn id="13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388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6545 -0.00601 E">
                                      <p:cBhvr>
                                        <p:cTn id="139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393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0.00463 E">
                                      <p:cBhvr>
                                        <p:cTn id="1396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8906 -0.00602 E">
                                      <p:cBhvr>
                                        <p:cTn id="140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03" nodeType="clickEffect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125 -0.00578 E">
                                      <p:cBhvr>
                                        <p:cTn id="1406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16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40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45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464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з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л…д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гов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98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1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3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4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5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6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38" name="Picture 72" descr=""/>
          <p:cNvPicPr/>
          <p:nvPr/>
        </p:nvPicPr>
        <p:blipFill>
          <a:blip r:embed="rId1"/>
          <a:stretch/>
        </p:blipFill>
        <p:spPr>
          <a:xfrm>
            <a:off x="752472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473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9114 0.00463 E">
                                      <p:cBhvr>
                                        <p:cTn id="1476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478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2847 -0.00578 E">
                                      <p:cBhvr>
                                        <p:cTn id="1481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2031 0.00463 E">
                                      <p:cBhvr>
                                        <p:cTn id="1486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488" nodeType="clickEffect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91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8333 -0.00601 E">
                                      <p:cBhvr>
                                        <p:cTn id="1496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83 0.00462 E">
                                      <p:cBhvr>
                                        <p:cTn id="150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6788 -0.00578 E">
                                      <p:cBhvr>
                                        <p:cTn id="1506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23628 -0.00578 E">
                                      <p:cBhvr>
                                        <p:cTn id="1511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13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545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53" nodeType="clickEffect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561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6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зат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ш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ж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т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н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к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що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44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44"/>
          <p:cNvSpPr/>
          <p:nvPr/>
        </p:nvSpPr>
        <p:spPr>
          <a:xfrm>
            <a:off x="7164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5"/>
          <p:cNvSpPr/>
          <p:nvPr/>
        </p:nvSpPr>
        <p:spPr>
          <a:xfrm>
            <a:off x="7164360" y="212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6"/>
          <p:cNvSpPr/>
          <p:nvPr/>
        </p:nvSpPr>
        <p:spPr>
          <a:xfrm>
            <a:off x="1476360" y="277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7"/>
          <p:cNvSpPr/>
          <p:nvPr/>
        </p:nvSpPr>
        <p:spPr>
          <a:xfrm>
            <a:off x="147492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8"/>
          <p:cNvSpPr/>
          <p:nvPr/>
        </p:nvSpPr>
        <p:spPr>
          <a:xfrm>
            <a:off x="1476360" y="4071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1476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1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6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8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9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0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2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3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84" name="Picture 68" descr=""/>
          <p:cNvPicPr/>
          <p:nvPr/>
        </p:nvPicPr>
        <p:blipFill>
          <a:blip r:embed="rId1"/>
          <a:stretch/>
        </p:blipFill>
        <p:spPr>
          <a:xfrm>
            <a:off x="-108000" y="4005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16545 -0.00509 E">
                                      <p:cBhvr>
                                        <p:cTn id="1581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2066 0.00555 E">
                                      <p:cBhvr>
                                        <p:cTn id="1586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3611 -0.00509 E">
                                      <p:cBhvr>
                                        <p:cTn id="159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39408E-006 L -0.28351 -0.00417 E">
                                      <p:cBhvr>
                                        <p:cTn id="159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4792E-006 L -0.30694 0.00532 E">
                                      <p:cBhvr>
                                        <p:cTn id="1601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63 L 0.22031 -0.00508 E">
                                      <p:cBhvr>
                                        <p:cTn id="160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1064 L -0.29114 -0.00509 E">
                                      <p:cBhvr>
                                        <p:cTn id="1611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6 L -0.27552 -0.00486 E">
                                      <p:cBhvr>
                                        <p:cTn id="161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2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634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650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66" nodeType="clickEffect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674" nodeType="clickEffect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хонь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п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вес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ку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ё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вив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в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9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49"/>
          <p:cNvSpPr/>
          <p:nvPr/>
        </p:nvSpPr>
        <p:spPr>
          <a:xfrm>
            <a:off x="1476360" y="60278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0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1"/>
          <p:cNvSpPr/>
          <p:nvPr/>
        </p:nvSpPr>
        <p:spPr>
          <a:xfrm>
            <a:off x="1474920" y="53802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5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0" name="Picture 68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683" nodeType="clickEffect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913 -0.00601 E">
                                      <p:cBhvr>
                                        <p:cTn id="1686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688" nodeType="clickEffect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30694 0.00463 E">
                                      <p:cBhvr>
                                        <p:cTn id="169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125 0.00462 E">
                                      <p:cBhvr>
                                        <p:cTn id="1696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1698" nodeType="clickEffect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8906 -0.00509 E">
                                      <p:cBhvr>
                                        <p:cTn id="1701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170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2847 -0.00601 E">
                                      <p:cBhvr>
                                        <p:cTn id="17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08" nodeType="clickEffect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18108 -0.00601 E">
                                      <p:cBhvr>
                                        <p:cTn id="1711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71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0694 0.00462 E">
                                      <p:cBhvr>
                                        <p:cTn id="1716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1718" nodeType="clickEffect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2031 0.00463 E">
                                      <p:cBhvr>
                                        <p:cTn id="1721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739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747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1755" nodeType="clickEffect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63" nodeType="clickEffect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771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1779" nodeType="clickEffect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опа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лю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…р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…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фей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36" name="Rectangle 29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0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1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5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6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7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8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9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0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1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3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4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5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46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47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8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9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50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1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52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WordArt 53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1" name="WordArt 54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2" name="WordArt 55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56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57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58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59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7" name="WordArt 60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61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9" name="WordArt 62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0" name="WordArt 63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64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2" name="WordArt 65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3" name="WordArt 66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4" name="WordArt 67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5" name="WordArt 68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76" name="Picture 71" descr=""/>
          <p:cNvPicPr/>
          <p:nvPr/>
        </p:nvPicPr>
        <p:blipFill>
          <a:blip r:embed="rId1"/>
          <a:stretch/>
        </p:blipFill>
        <p:spPr>
          <a:xfrm>
            <a:off x="-8424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-0.00601 E">
                                      <p:cBhvr>
                                        <p:cTn id="1791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86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-0.00601 E">
                                      <p:cBhvr>
                                        <p:cTn id="1796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906 -0.00602 E">
                                      <p:cBhvr>
                                        <p:cTn id="1801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80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3628 0.0044 E">
                                      <p:cBhvr>
                                        <p:cTn id="1811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22049 -0.00601 E">
                                      <p:cBhvr>
                                        <p:cTn id="1816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1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-0.00578 E">
                                      <p:cBhvr>
                                        <p:cTn id="1826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862"/>
                    </p:tgtEl>
                  </p:cond>
                </p:stCondLst>
                <p:childTnLst>
                  <p:par>
                    <p:cTn id="1836" nodeType="clickEffect" fill="hold">
                      <p:stCondLst>
                        <p:cond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844" nodeType="clickEffect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1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852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0" nodeType="clickEffect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876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884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9440" y="1413000"/>
          <a:ext cx="2950920" cy="5121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вч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п…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м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н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…нь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скуч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л…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3" name="Rectangle 26"/>
          <p:cNvSpPr/>
          <p:nvPr/>
        </p:nvSpPr>
        <p:spPr>
          <a:xfrm>
            <a:off x="1403280" y="206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140328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1403280" y="27115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1403280" y="33577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403280" y="4006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1403280" y="46562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403280" y="530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403280" y="5951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615636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6156360" y="206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6156360" y="2708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6156360" y="3355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156360" y="40053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156360" y="465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6156360" y="530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6156360" y="5948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2"/>
          <p:cNvSpPr/>
          <p:nvPr/>
        </p:nvSpPr>
        <p:spPr>
          <a:xfrm>
            <a:off x="7021440" y="148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702000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2"/>
          <p:cNvSpPr/>
          <p:nvPr/>
        </p:nvSpPr>
        <p:spPr>
          <a:xfrm>
            <a:off x="702144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3"/>
          <p:cNvSpPr/>
          <p:nvPr/>
        </p:nvSpPr>
        <p:spPr>
          <a:xfrm>
            <a:off x="702144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4"/>
          <p:cNvSpPr/>
          <p:nvPr/>
        </p:nvSpPr>
        <p:spPr>
          <a:xfrm>
            <a:off x="702000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5"/>
          <p:cNvSpPr/>
          <p:nvPr/>
        </p:nvSpPr>
        <p:spPr>
          <a:xfrm>
            <a:off x="702144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6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7"/>
          <p:cNvSpPr/>
          <p:nvPr/>
        </p:nvSpPr>
        <p:spPr>
          <a:xfrm>
            <a:off x="154764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9" descr=""/>
          <p:cNvPicPr/>
          <p:nvPr/>
        </p:nvPicPr>
        <p:blipFill>
          <a:blip r:embed="rId1"/>
          <a:stretch/>
        </p:blipFill>
        <p:spPr>
          <a:xfrm>
            <a:off x="7608960" y="1484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0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>
            <a:off x="2195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65"/>
          <p:cNvSpPr txBox="1"/>
          <p:nvPr/>
        </p:nvSpPr>
        <p:spPr>
          <a:xfrm>
            <a:off x="637236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219564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67"/>
          <p:cNvSpPr txBox="1"/>
          <p:nvPr/>
        </p:nvSpPr>
        <p:spPr>
          <a:xfrm>
            <a:off x="637236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19564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637236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19708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637236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74"/>
          <p:cNvSpPr txBox="1"/>
          <p:nvPr/>
        </p:nvSpPr>
        <p:spPr>
          <a:xfrm>
            <a:off x="2197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637236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2195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7"/>
          <p:cNvSpPr txBox="1"/>
          <p:nvPr/>
        </p:nvSpPr>
        <p:spPr>
          <a:xfrm>
            <a:off x="637236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8"/>
          <p:cNvSpPr txBox="1"/>
          <p:nvPr/>
        </p:nvSpPr>
        <p:spPr>
          <a:xfrm>
            <a:off x="219564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79"/>
          <p:cNvSpPr txBox="1"/>
          <p:nvPr/>
        </p:nvSpPr>
        <p:spPr>
          <a:xfrm>
            <a:off x="637236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0"/>
          <p:cNvSpPr txBox="1"/>
          <p:nvPr/>
        </p:nvSpPr>
        <p:spPr>
          <a:xfrm>
            <a:off x="219708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1"/>
          <p:cNvSpPr txBox="1"/>
          <p:nvPr/>
        </p:nvSpPr>
        <p:spPr>
          <a:xfrm>
            <a:off x="637236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2239E-006 L 0.15764 -0.0050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7826E-006 L 0.18125 0.00532 E">
                                      <p:cBhvr>
                                        <p:cTn id="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532 L 0.24236 -0.00532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75301E-007 L 0.16528 -0.00509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4792E-006 L 0.18108 -0.00509 E">
                                      <p:cBhvr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2886E-006 L -0.24392 -0.00508 E">
                                      <p:cBhvr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7299E-006 L -0.28333 -0.00532 E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9769E-007 L 0.22049 -0.00509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р…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рех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ч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стерст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…г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…льча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82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7165800" y="147780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46"/>
          <p:cNvSpPr/>
          <p:nvPr/>
        </p:nvSpPr>
        <p:spPr>
          <a:xfrm>
            <a:off x="147492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47"/>
          <p:cNvSpPr/>
          <p:nvPr/>
        </p:nvSpPr>
        <p:spPr>
          <a:xfrm>
            <a:off x="716436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8"/>
          <p:cNvSpPr/>
          <p:nvPr/>
        </p:nvSpPr>
        <p:spPr>
          <a:xfrm>
            <a:off x="7164360" y="4070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9"/>
          <p:cNvSpPr/>
          <p:nvPr/>
        </p:nvSpPr>
        <p:spPr>
          <a:xfrm>
            <a:off x="7164360" y="601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1"/>
          <p:cNvSpPr/>
          <p:nvPr/>
        </p:nvSpPr>
        <p:spPr>
          <a:xfrm>
            <a:off x="7164360" y="536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7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2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3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4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5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7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9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0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1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2" name="Picture 70" descr=""/>
          <p:cNvPicPr/>
          <p:nvPr/>
        </p:nvPicPr>
        <p:blipFill>
          <a:blip r:embed="rId1"/>
          <a:stretch/>
        </p:blipFill>
        <p:spPr>
          <a:xfrm>
            <a:off x="7524720" y="393696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93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27569 -0.00509 E">
                                      <p:cBhvr>
                                        <p:cTn id="1896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898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1267 -0.00509 E">
                                      <p:cBhvr>
                                        <p:cTn id="1901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903" nodeType="clickEffect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9114 0.00555 E">
                                      <p:cBhvr>
                                        <p:cTn id="1906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908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4792E-006 L 0.18125 -0.00509 E">
                                      <p:cBhvr>
                                        <p:cTn id="1916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2886E-006 L 0.14948 -0.00508 E">
                                      <p:cBhvr>
                                        <p:cTn id="1921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2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923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2192E-006 L 0.25782 -0.00555 E">
                                      <p:cBhvr>
                                        <p:cTn id="1926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1928" nodeType="clickEffect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1758E-006 L 0.21267 -0.00486 E">
                                      <p:cBhvr>
                                        <p:cTn id="1931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1933" nodeType="clickEffect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1941" nodeType="clickEffect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5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965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981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…ре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в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го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…щад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рчи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мер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2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1474920" y="27874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7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9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0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68" name="Picture 68" descr=""/>
          <p:cNvPicPr/>
          <p:nvPr/>
        </p:nvPicPr>
        <p:blipFill>
          <a:blip r:embed="rId1"/>
          <a:stretch/>
        </p:blipFill>
        <p:spPr>
          <a:xfrm>
            <a:off x="-108000" y="141300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1998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0.0044 E">
                                      <p:cBhvr>
                                        <p:cTn id="2001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955"/>
                    </p:tgtEl>
                  </p:cond>
                </p:stCondLst>
                <p:childTnLst>
                  <p:par>
                    <p:cTn id="2003" nodeType="clickEffect" fill="hold">
                      <p:stCondLst>
                        <p:cond evt="onClick">
                          <p:tgtEl>
                            <p:spTgt spid="955"/>
                          </p:tgtEl>
                        </p:cond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7552 0.00463 E">
                                      <p:cBhvr>
                                        <p:cTn id="2006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2008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7552 -0.00602 E">
                                      <p:cBhvr>
                                        <p:cTn id="2011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9687 -0.00509 E">
                                      <p:cBhvr>
                                        <p:cTn id="201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018" nodeType="clickEffect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9687 -0.00601 E">
                                      <p:cBhvr>
                                        <p:cTn id="2021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2023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2026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7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2028" nodeType="clickEffect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5764 -0.00602 E">
                                      <p:cBhvr>
                                        <p:cTn id="203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033" nodeType="clickEffect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203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38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5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2046" nodeType="clickEffect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957"/>
                    </p:tgtEl>
                  </p:cond>
                </p:stCondLst>
                <p:childTnLst>
                  <p:par>
                    <p:cTn id="2054" nodeType="clickEffect" fill="hold">
                      <p:stCondLst>
                        <p:cond evt="onClick">
                          <p:tgtEl>
                            <p:spTgt spid="957"/>
                          </p:tgtEl>
                        </p:cond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1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2062" nodeType="clickEffect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2070" nodeType="clickEffect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2078" nodeType="clickEffect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3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094" nodeType="clickEffect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2843280" y="147960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…л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лз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п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4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7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8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9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0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1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42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43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44"/>
          <p:cNvSpPr/>
          <p:nvPr/>
        </p:nvSpPr>
        <p:spPr>
          <a:xfrm>
            <a:off x="7165800" y="15508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46"/>
          <p:cNvSpPr/>
          <p:nvPr/>
        </p:nvSpPr>
        <p:spPr>
          <a:xfrm>
            <a:off x="7164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48"/>
          <p:cNvSpPr/>
          <p:nvPr/>
        </p:nvSpPr>
        <p:spPr>
          <a:xfrm>
            <a:off x="7164360" y="4143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9"/>
          <p:cNvSpPr/>
          <p:nvPr/>
        </p:nvSpPr>
        <p:spPr>
          <a:xfrm>
            <a:off x="7164360" y="6087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50"/>
          <p:cNvSpPr/>
          <p:nvPr/>
        </p:nvSpPr>
        <p:spPr>
          <a:xfrm>
            <a:off x="1476360" y="4791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51"/>
          <p:cNvSpPr/>
          <p:nvPr/>
        </p:nvSpPr>
        <p:spPr>
          <a:xfrm>
            <a:off x="7164360" y="5440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53"/>
          <p:cNvSpPr txBox="1"/>
          <p:nvPr/>
        </p:nvSpPr>
        <p:spPr>
          <a:xfrm>
            <a:off x="212400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2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57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4" name="WordArt 58"/>
          <p:cNvSpPr txBox="1"/>
          <p:nvPr/>
        </p:nvSpPr>
        <p:spPr>
          <a:xfrm>
            <a:off x="6445080" y="34956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5" name="WordArt 59"/>
          <p:cNvSpPr txBox="1"/>
          <p:nvPr/>
        </p:nvSpPr>
        <p:spPr>
          <a:xfrm>
            <a:off x="2124000" y="34956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6" name="WordArt 60"/>
          <p:cNvSpPr txBox="1"/>
          <p:nvPr/>
        </p:nvSpPr>
        <p:spPr>
          <a:xfrm>
            <a:off x="212400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8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9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1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3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14" name="Picture 68" descr=""/>
          <p:cNvPicPr/>
          <p:nvPr/>
        </p:nvPicPr>
        <p:blipFill>
          <a:blip r:embed="rId1"/>
          <a:stretch/>
        </p:blipFill>
        <p:spPr>
          <a:xfrm>
            <a:off x="7608960" y="76500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2103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451E-006 L 0.22066 0.00532 E">
                                      <p:cBhvr>
                                        <p:cTn id="2106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2108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11" dur="2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113" nodeType="clickEffect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22066 -0.00509 E">
                                      <p:cBhvr>
                                        <p:cTn id="2116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118" nodeType="clickEffect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90379E-006 L -0.2599 0.00602 E">
                                      <p:cBhvr>
                                        <p:cTn id="2121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123" nodeType="clickEffect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5005E-006 L 0.18906 -0.00532 E">
                                      <p:cBhvr>
                                        <p:cTn id="212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7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128" nodeType="clickEffect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1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2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2133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3515E-007 L 0.23628 0.00532 E">
                                      <p:cBhvr>
                                        <p:cTn id="213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7" restart="whenNotActive" nodeType="interactiveSeq" fill="hold">
                <p:stCondLst>
                  <p:cond evt="onClick">
                    <p:tgtEl>
                      <p:spTgt spid="998"/>
                    </p:tgtEl>
                  </p:cond>
                </p:stCondLst>
                <p:childTnLst>
                  <p:par>
                    <p:cTn id="2138" nodeType="clickEffect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1001"/>
                    </p:tgtEl>
                  </p:cond>
                </p:stCondLst>
                <p:childTnLst>
                  <p:par>
                    <p:cTn id="2146" nodeType="clickEffect" fill="hold">
                      <p:stCondLst>
                        <p:cond evt="onClick">
                          <p:tgtEl>
                            <p:spTgt spid="1001"/>
                          </p:tgtEl>
                        </p:cond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2154" nodeType="clickEffect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9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170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7" restart="whenNotActive" nodeType="interactiveSeq" fill="hold">
                <p:stCondLst>
                  <p:cond evt="onClick">
                    <p:tgtEl>
                      <p:spTgt spid="1009"/>
                    </p:tgtEl>
                  </p:cond>
                </p:stCondLst>
                <p:childTnLst>
                  <p:par>
                    <p:cTn id="2178" nodeType="clickEffect" fill="hold">
                      <p:stCondLst>
                        <p:cond evt="onClick">
                          <p:tgtEl>
                            <p:spTgt spid="1009"/>
                          </p:tgtEl>
                        </p:cond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186" nodeType="clickEffect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194" nodeType="clickEffect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202" nodeType="clickEffect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05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рц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чёв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20" name="Rectangle 29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5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7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8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9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0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1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2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3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5"/>
          <p:cNvSpPr/>
          <p:nvPr/>
        </p:nvSpPr>
        <p:spPr>
          <a:xfrm>
            <a:off x="7165800" y="155592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6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7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8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9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50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51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52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WordArt 53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54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55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56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8" name="WordArt 57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58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0" name="WordArt 59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1" name="WordArt 60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61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3" name="WordArt 62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4" name="WordArt 63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5" name="WordArt 64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6" name="WordArt 65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WordArt 66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8" name="WordArt 67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9" name="WordArt 68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60" name="Picture 69" descr=""/>
          <p:cNvPicPr/>
          <p:nvPr/>
        </p:nvPicPr>
        <p:blipFill>
          <a:blip r:embed="rId1"/>
          <a:stretch/>
        </p:blipFill>
        <p:spPr>
          <a:xfrm>
            <a:off x="-84240" y="126828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2208" nodeType="clickEffect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521E-007 L 0.22066 0.00463 E">
                                      <p:cBhvr>
                                        <p:cTn id="2211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2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213" nodeType="clickEffect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216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2218" nodeType="clickEffect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21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2223" nodeType="clickEffect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3629 -0.00509 E">
                                      <p:cBhvr>
                                        <p:cTn id="222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7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2228" nodeType="clickEffect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2847 0.00463 E">
                                      <p:cBhvr>
                                        <p:cTn id="2231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2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2233" nodeType="clickEffect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31475 0.00462 E">
                                      <p:cBhvr>
                                        <p:cTn id="2236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238" nodeType="clickEffect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1267 0.00463 E">
                                      <p:cBhvr>
                                        <p:cTn id="22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2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243" nodeType="clickEffect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8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259" nodeType="clickEffect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267" nodeType="clickEffect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4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2275" nodeType="clickEffect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2283" nodeType="clickEffect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8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299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19687 -0.00578 E">
                                      <p:cBhvr>
                                        <p:cTn id="230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3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304" nodeType="clickEffect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…ч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…вщ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д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…в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…пл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р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6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5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6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7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8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0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3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4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5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6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8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9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0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3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4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5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106" name="Picture 68" descr=""/>
          <p:cNvPicPr/>
          <p:nvPr/>
        </p:nvPicPr>
        <p:blipFill>
          <a:blip r:embed="rId1"/>
          <a:stretch/>
        </p:blipFill>
        <p:spPr>
          <a:xfrm>
            <a:off x="7493040" y="408132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restart="whenNotActive" nodeType="interactiveSeq" fill="hold">
                <p:stCondLst>
                  <p:cond evt="onClick">
                    <p:tgtEl>
                      <p:spTgt spid="1090"/>
                    </p:tgtEl>
                  </p:cond>
                </p:stCondLst>
                <p:childTnLst>
                  <p:par>
                    <p:cTn id="2313" nodeType="clickEffect" fill="hold">
                      <p:stCondLst>
                        <p:cond evt="onClick">
                          <p:tgtEl>
                            <p:spTgt spid="1090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4392 0.00463 E">
                                      <p:cBhvr>
                                        <p:cTn id="2316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7" restart="whenNotActive" nodeType="interactiveSeq" fill="hold">
                <p:stCondLst>
                  <p:cond evt="onClick">
                    <p:tgtEl>
                      <p:spTgt spid="1093"/>
                    </p:tgtEl>
                  </p:cond>
                </p:stCondLst>
                <p:childTnLst>
                  <p:par>
                    <p:cTn id="2318" nodeType="clickEffect" fill="hold">
                      <p:stCondLst>
                        <p:cond evt="onClick">
                          <p:tgtEl>
                            <p:spTgt spid="1093"/>
                          </p:tgtEl>
                        </p:cond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3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3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3108E-006 L 0.22847 0.00463 E">
                                      <p:cBhvr>
                                        <p:cTn id="2326" dur="2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7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328" nodeType="clickEffect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8351 0.00532 E">
                                      <p:cBhvr>
                                        <p:cTn id="2331" dur="2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0486 0.00463 E">
                                      <p:cBhvr>
                                        <p:cTn id="2336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1100"/>
                    </p:tgtEl>
                  </p:cond>
                </p:stCondLst>
                <p:childTnLst>
                  <p:par>
                    <p:cTn id="2338" nodeType="clickEffect" fill="hold">
                      <p:stCondLst>
                        <p:cond evt="onClick">
                          <p:tgtEl>
                            <p:spTgt spid="1100"/>
                          </p:tgtEl>
                        </p:cond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29114 -0.00578 E">
                                      <p:cBhvr>
                                        <p:cTn id="2341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2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343" nodeType="clickEffect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9114 -0.00578 E">
                                      <p:cBhvr>
                                        <p:cTn id="2346" dur="2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7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2348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08233E-006 L -0.28333 -0.00578 E">
                                      <p:cBhvr>
                                        <p:cTn id="2351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2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353" nodeType="clickEffect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1094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1094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1097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1097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385" nodeType="clickEffect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401" nodeType="clickEffect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8" restart="whenNotActive" nodeType="interactiveSeq" fill="hold">
                <p:stCondLst>
                  <p:cond evt="onClick">
                    <p:tgtEl>
                      <p:spTgt spid="1105"/>
                    </p:tgtEl>
                  </p:cond>
                </p:stCondLst>
                <p:childTnLst>
                  <p:par>
                    <p:cTn id="2409" nodeType="clickEffect" fill="hold">
                      <p:stCondLst>
                        <p:cond evt="onClick">
                          <p:tgtEl>
                            <p:spTgt spid="1105"/>
                          </p:tgtEl>
                        </p:cond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987640" y="1479600"/>
          <a:ext cx="3168720" cy="512136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…с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шнё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р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реж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коль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0" name="Rectangle 29"/>
          <p:cNvSpPr/>
          <p:nvPr/>
        </p:nvSpPr>
        <p:spPr>
          <a:xfrm>
            <a:off x="140328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1403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140328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140328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140328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40328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40328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40328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3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5"/>
          <p:cNvSpPr/>
          <p:nvPr/>
        </p:nvSpPr>
        <p:spPr>
          <a:xfrm>
            <a:off x="716436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6"/>
          <p:cNvSpPr/>
          <p:nvPr/>
        </p:nvSpPr>
        <p:spPr>
          <a:xfrm>
            <a:off x="7162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16192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164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9"/>
          <p:cNvSpPr/>
          <p:nvPr/>
        </p:nvSpPr>
        <p:spPr>
          <a:xfrm>
            <a:off x="1547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0"/>
          <p:cNvSpPr/>
          <p:nvPr/>
        </p:nvSpPr>
        <p:spPr>
          <a:xfrm>
            <a:off x="154764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1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2"/>
          <p:cNvSpPr/>
          <p:nvPr/>
        </p:nvSpPr>
        <p:spPr>
          <a:xfrm>
            <a:off x="154764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3"/>
          <p:cNvSpPr txBox="1"/>
          <p:nvPr/>
        </p:nvSpPr>
        <p:spPr>
          <a:xfrm>
            <a:off x="2195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54"/>
          <p:cNvSpPr txBox="1"/>
          <p:nvPr/>
        </p:nvSpPr>
        <p:spPr>
          <a:xfrm>
            <a:off x="651528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5"/>
          <p:cNvSpPr txBox="1"/>
          <p:nvPr/>
        </p:nvSpPr>
        <p:spPr>
          <a:xfrm>
            <a:off x="2195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56"/>
          <p:cNvSpPr txBox="1"/>
          <p:nvPr/>
        </p:nvSpPr>
        <p:spPr>
          <a:xfrm>
            <a:off x="651528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58"/>
          <p:cNvSpPr txBox="1"/>
          <p:nvPr/>
        </p:nvSpPr>
        <p:spPr>
          <a:xfrm>
            <a:off x="651528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59"/>
          <p:cNvSpPr txBox="1"/>
          <p:nvPr/>
        </p:nvSpPr>
        <p:spPr>
          <a:xfrm>
            <a:off x="2197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60"/>
          <p:cNvSpPr txBox="1"/>
          <p:nvPr/>
        </p:nvSpPr>
        <p:spPr>
          <a:xfrm>
            <a:off x="65152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1"/>
          <p:cNvSpPr txBox="1"/>
          <p:nvPr/>
        </p:nvSpPr>
        <p:spPr>
          <a:xfrm>
            <a:off x="65152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2"/>
          <p:cNvSpPr txBox="1"/>
          <p:nvPr/>
        </p:nvSpPr>
        <p:spPr>
          <a:xfrm>
            <a:off x="2195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3"/>
          <p:cNvSpPr txBox="1"/>
          <p:nvPr/>
        </p:nvSpPr>
        <p:spPr>
          <a:xfrm>
            <a:off x="65152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64"/>
          <p:cNvSpPr txBox="1"/>
          <p:nvPr/>
        </p:nvSpPr>
        <p:spPr>
          <a:xfrm>
            <a:off x="21970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5"/>
          <p:cNvSpPr txBox="1"/>
          <p:nvPr/>
        </p:nvSpPr>
        <p:spPr>
          <a:xfrm>
            <a:off x="2195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6"/>
          <p:cNvSpPr txBox="1"/>
          <p:nvPr/>
        </p:nvSpPr>
        <p:spPr>
          <a:xfrm>
            <a:off x="651528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67"/>
          <p:cNvSpPr txBox="1"/>
          <p:nvPr/>
        </p:nvSpPr>
        <p:spPr>
          <a:xfrm>
            <a:off x="21970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8"/>
          <p:cNvSpPr txBox="1"/>
          <p:nvPr/>
        </p:nvSpPr>
        <p:spPr>
          <a:xfrm>
            <a:off x="65152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0" name="Picture 74" descr=""/>
          <p:cNvPicPr/>
          <p:nvPr/>
        </p:nvPicPr>
        <p:blipFill>
          <a:blip r:embed="rId1"/>
          <a:stretch/>
        </p:blipFill>
        <p:spPr>
          <a:xfrm>
            <a:off x="-36360" y="3862440"/>
            <a:ext cx="156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79186E-006 L 0.20486 -0.00509 E">
                                      <p:cBhvr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227E-006 L 0.15764 -0.00508 E">
                                      <p:cBhvr>
                                        <p:cTn id="11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29047E-007 L -0.27535 -0.00509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9417E-006 L 0.21268 -0.00509 E">
                                      <p:cBhvr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2673E-006 L 0.21268 -0.00508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3515E-007 L -0.31476 -0.00509 E"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197E-006 L -0.22032 0.00532 E">
                                      <p:cBhvr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д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р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во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…ёны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…щ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в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п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6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9308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1476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7"/>
          <p:cNvSpPr/>
          <p:nvPr/>
        </p:nvSpPr>
        <p:spPr>
          <a:xfrm>
            <a:off x="709308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9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0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2"/>
          <p:cNvSpPr txBox="1"/>
          <p:nvPr/>
        </p:nvSpPr>
        <p:spPr>
          <a:xfrm>
            <a:off x="212400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53"/>
          <p:cNvSpPr txBox="1"/>
          <p:nvPr/>
        </p:nvSpPr>
        <p:spPr>
          <a:xfrm>
            <a:off x="6443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WordArt 56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72" descr=""/>
          <p:cNvPicPr/>
          <p:nvPr/>
        </p:nvPicPr>
        <p:blipFill>
          <a:blip r:embed="rId1"/>
          <a:stretch/>
        </p:blipFill>
        <p:spPr>
          <a:xfrm>
            <a:off x="749304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9186E-006 L 0.17326 0.00555 E">
                                      <p:cBhvr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5227E-006 L -0.20451 0.00532 E"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14965 0.00532 E">
                                      <p:cBhvr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9417E-006 L 0.20469 0.00532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4392 0.00532 E">
                                      <p:cBhvr>
                                        <p:cTn id="2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26771 0.00532 E">
                                      <p:cBhvr>
                                        <p:cTn id="24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23611 -0.00509 E">
                                      <p:cBhvr>
                                        <p:cTn id="24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19687 -0.00509 E">
                                      <p:cBhvr>
                                        <p:cTn id="25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2749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м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ш…в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н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еч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ка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ст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2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8"/>
          <p:cNvSpPr/>
          <p:nvPr/>
        </p:nvSpPr>
        <p:spPr>
          <a:xfrm>
            <a:off x="709128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0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2" name="Picture 70" descr=""/>
          <p:cNvPicPr/>
          <p:nvPr/>
        </p:nvPicPr>
        <p:blipFill>
          <a:blip r:embed="rId1"/>
          <a:stretch/>
        </p:blipFill>
        <p:spPr>
          <a:xfrm>
            <a:off x="-108000" y="1557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8333 -0.00532 E">
                                      <p:cBhvr>
                                        <p:cTn id="32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26788 0.00532 E">
                                      <p:cBhvr>
                                        <p:cTn id="32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4392 -0.00509 E">
                                      <p:cBhvr>
                                        <p:cTn id="33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5005E-006 L 0.15747 0.00532 E">
                                      <p:cBhvr>
                                        <p:cTn id="3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33055 0.00532 E">
                                      <p:cBhvr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33837 -0.00509 E">
                                      <p:cBhvr>
                                        <p:cTn id="3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197E-006 L -0.29913 0.00532 E">
                                      <p:cBhvr>
                                        <p:cTn id="35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29047E-007 L 0.22066 -0.00509 E">
                                      <p:cBhvr>
                                        <p:cTn id="36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…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ло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…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льш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г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…зд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…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8" name="Rectangle 29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5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6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47492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47492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3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3" name="WordArt 54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4" name="WordArt 55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5" name="WordArt 56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58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59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WordArt 60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WordArt 61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1" name="WordArt 62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WordArt 63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3" name="WordArt 64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65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66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67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68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78" name="Picture 71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3611 -0.00532 E">
                                      <p:cBhvr>
                                        <p:cTn id="42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18125 0.00532 E">
                                      <p:cBhvr>
                                        <p:cTn id="43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29047E-007 L -0.22031 -0.00509 E">
                                      <p:cBhvr>
                                        <p:cTn id="43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9913 0.00532 E">
                                      <p:cBhvr>
                                        <p:cTn id="4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6753 -0.00532 E">
                                      <p:cBhvr>
                                        <p:cTn id="44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27552 0.00532 E">
                                      <p:cBhvr>
                                        <p:cTn id="45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23628 -0.00509 E">
                                      <p:cBhvr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нов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мей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…с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к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…п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227640" y="141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6227640" y="20653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8"/>
          <p:cNvSpPr/>
          <p:nvPr/>
        </p:nvSpPr>
        <p:spPr>
          <a:xfrm>
            <a:off x="6227640" y="271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/>
          <p:cNvSpPr/>
          <p:nvPr/>
        </p:nvSpPr>
        <p:spPr>
          <a:xfrm>
            <a:off x="6227640" y="336060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227640" y="40100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227640" y="465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6227640" y="53053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3"/>
          <p:cNvSpPr/>
          <p:nvPr/>
        </p:nvSpPr>
        <p:spPr>
          <a:xfrm>
            <a:off x="6227640" y="595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7093080" y="1484280"/>
            <a:ext cx="3585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7091280" y="21384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6"/>
          <p:cNvSpPr/>
          <p:nvPr/>
        </p:nvSpPr>
        <p:spPr>
          <a:xfrm>
            <a:off x="1474920" y="278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8"/>
          <p:cNvSpPr/>
          <p:nvPr/>
        </p:nvSpPr>
        <p:spPr>
          <a:xfrm>
            <a:off x="1474920" y="40831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76360" y="47307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709308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4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5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24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14983 0.0044 E">
                                      <p:cBhvr>
                                        <p:cTn id="53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8125 0.00463 E">
                                      <p:cBhvr>
                                        <p:cTn id="536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54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5972 0.00463 E">
                                      <p:cBhvr>
                                        <p:cTn id="54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2146E-006 L -0.24392 -0.00601 E">
                                      <p:cBhvr>
                                        <p:cTn id="55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556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2066 0.00462 E">
                                      <p:cBhvr>
                                        <p:cTn id="56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2847 -0.00578 E">
                                      <p:cBhvr>
                                        <p:cTn id="56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м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…пл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ц…пил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…мн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еш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709308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"/>
          <p:cNvSpPr/>
          <p:nvPr/>
        </p:nvSpPr>
        <p:spPr>
          <a:xfrm>
            <a:off x="709308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0"/>
          <p:cNvSpPr/>
          <p:nvPr/>
        </p:nvSpPr>
        <p:spPr>
          <a:xfrm>
            <a:off x="709308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Picture 68" descr=""/>
          <p:cNvPicPr/>
          <p:nvPr/>
        </p:nvPicPr>
        <p:blipFill>
          <a:blip r:embed="rId1"/>
          <a:stretch/>
        </p:blipFill>
        <p:spPr>
          <a:xfrm>
            <a:off x="7564320" y="3357720"/>
            <a:ext cx="161604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114 0.0044 E">
                                      <p:cBhvr>
                                        <p:cTn id="63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8333 -0.00601 E">
                                      <p:cBhvr>
                                        <p:cTn id="64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944E-006 L 0.18906 -0.00602 E">
                                      <p:cBhvr>
                                        <p:cTn id="64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441 -0.00578 E">
                                      <p:cBhvr>
                                        <p:cTn id="65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-0.00601 E">
                                      <p:cBhvr>
                                        <p:cTn id="65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6753 -0.00602 E">
                                      <p:cBhvr>
                                        <p:cTn id="66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8906 -0.00578 E">
                                      <p:cBhvr>
                                        <p:cTn id="67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пы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б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…голю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…н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…та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бел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…реж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…д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7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5"/>
          <p:cNvSpPr/>
          <p:nvPr/>
        </p:nvSpPr>
        <p:spPr>
          <a:xfrm>
            <a:off x="709308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8"/>
          <p:cNvSpPr/>
          <p:nvPr/>
        </p:nvSpPr>
        <p:spPr>
          <a:xfrm>
            <a:off x="147492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0"/>
          <p:cNvSpPr/>
          <p:nvPr/>
        </p:nvSpPr>
        <p:spPr>
          <a:xfrm>
            <a:off x="147492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1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6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7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8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16" name="Picture 72" descr=""/>
          <p:cNvPicPr/>
          <p:nvPr/>
        </p:nvPicPr>
        <p:blipFill>
          <a:blip r:embed="rId1"/>
          <a:stretch/>
        </p:blipFill>
        <p:spPr>
          <a:xfrm>
            <a:off x="-108000" y="3789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8333 0.0044 E">
                                      <p:cBhvr>
                                        <p:cTn id="74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2066 0.00463 E">
                                      <p:cBhvr>
                                        <p:cTn id="74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8333 0.00462 E">
                                      <p:cBhvr>
                                        <p:cTn id="751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0469 0.00463 E">
                                      <p:cBhvr>
                                        <p:cTn id="75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758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-0.00601 E">
                                      <p:cBhvr>
                                        <p:cTn id="76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771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7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18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12:44Z</dcterms:created>
  <dc:creator>Таня@Денис</dc:creator>
  <dc:description/>
  <dc:language>en-US</dc:language>
  <cp:lastModifiedBy>Учитель</cp:lastModifiedBy>
  <dcterms:modified xsi:type="dcterms:W3CDTF">2019-03-05T01:56:22Z</dcterms:modified>
  <cp:revision>14</cp:revision>
  <dc:subject/>
  <dc:title>Муниципальное общеобразовательное учреждение средняя общеобразовательная школа № 15 город Глазов Удмуртская Республика</dc:title>
</cp:coreProperties>
</file>