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702-771A-43F8-BB54-BB8D0BA5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D45-420A-45A6-86F8-A240938A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DED-C9A4-4C51-AB60-87BCADFC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7F3-6D58-41FE-99BD-B09905B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717-E0CD-42B3-8CDA-DB1FDAAB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F28-0F4E-43B5-B39F-0556C8AC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3B2-8260-490F-8DAF-A79C915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DD6-0EC7-4BBE-BD2C-85907D41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C24-A9C5-4DB4-AF39-71C581F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C2B-F297-4965-AC49-3C09858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CE4-713F-44A0-8894-3BEC3F3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6AF-D600-4B2E-98A9-B6D27DF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87BE-E23C-486B-B9FC-637292D6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Прямой угол. </a:t>
            </a:r>
            <a:br>
              <a:rPr sz="6600"/>
            </a:b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Виды углов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Уг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фигура, образованная двумя лучами, выходящими из одной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Группа 13"/>
          <p:cNvGrpSpPr/>
          <p:nvPr/>
        </p:nvGrpSpPr>
        <p:grpSpPr>
          <a:xfrm>
            <a:off x="2061720" y="3208320"/>
            <a:ext cx="5040000" cy="2729520"/>
            <a:chOff x="2061720" y="3208320"/>
            <a:chExt cx="5040000" cy="2729520"/>
          </a:xfrm>
        </p:grpSpPr>
        <p:grpSp>
          <p:nvGrpSpPr>
            <p:cNvPr id="45" name="Группа 9"/>
            <p:cNvGrpSpPr/>
            <p:nvPr/>
          </p:nvGrpSpPr>
          <p:grpSpPr>
            <a:xfrm>
              <a:off x="2666880" y="3512520"/>
              <a:ext cx="4266720" cy="2286000"/>
              <a:chOff x="2666880" y="3512520"/>
              <a:chExt cx="4266720" cy="2286000"/>
            </a:xfrm>
          </p:grpSpPr>
          <p:sp>
            <p:nvSpPr>
              <p:cNvPr id="46" name="Овал 3"/>
              <p:cNvSpPr/>
              <p:nvPr/>
            </p:nvSpPr>
            <p:spPr>
              <a:xfrm>
                <a:off x="2666880" y="5260680"/>
                <a:ext cx="207720" cy="2696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Прямая соединительная линия 5"/>
              <p:cNvSpPr/>
              <p:nvPr/>
            </p:nvSpPr>
            <p:spPr>
              <a:xfrm flipV="1">
                <a:off x="2843640" y="3512520"/>
                <a:ext cx="2737080" cy="17874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Прямая соединительная линия 6"/>
              <p:cNvSpPr/>
              <p:nvPr/>
            </p:nvSpPr>
            <p:spPr>
              <a:xfrm>
                <a:off x="2843640" y="5490720"/>
                <a:ext cx="4089960" cy="30780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Box 10"/>
            <p:cNvSpPr/>
            <p:nvPr/>
          </p:nvSpPr>
          <p:spPr>
            <a:xfrm>
              <a:off x="5413680" y="32083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80720" y="51127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2061720" y="49604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построить у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5"/>
          <p:cNvSpPr/>
          <p:nvPr/>
        </p:nvSpPr>
        <p:spPr>
          <a:xfrm>
            <a:off x="2571840" y="3957480"/>
            <a:ext cx="207720" cy="2700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 flipV="1">
            <a:off x="2749680" y="2209680"/>
            <a:ext cx="2736720" cy="178776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2748960" y="4187880"/>
            <a:ext cx="4089240" cy="3078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букв можно использовать для обозначения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Содержимое 10"/>
          <p:cNvGrpSpPr/>
          <p:nvPr/>
        </p:nvGrpSpPr>
        <p:grpSpPr>
          <a:xfrm>
            <a:off x="701280" y="1447920"/>
            <a:ext cx="3881880" cy="2196000"/>
            <a:chOff x="701280" y="1447920"/>
            <a:chExt cx="3881880" cy="2196000"/>
          </a:xfrm>
        </p:grpSpPr>
        <p:grpSp>
          <p:nvGrpSpPr>
            <p:cNvPr id="58" name="Группа 9"/>
            <p:cNvGrpSpPr/>
            <p:nvPr/>
          </p:nvGrpSpPr>
          <p:grpSpPr>
            <a:xfrm>
              <a:off x="1357920" y="1693800"/>
              <a:ext cx="3026520" cy="1845720"/>
              <a:chOff x="1357920" y="1693800"/>
              <a:chExt cx="3026520" cy="1845720"/>
            </a:xfrm>
          </p:grpSpPr>
          <p:sp>
            <p:nvSpPr>
              <p:cNvPr id="59" name="Овал 15"/>
              <p:cNvSpPr/>
              <p:nvPr/>
            </p:nvSpPr>
            <p:spPr>
              <a:xfrm>
                <a:off x="1357920" y="310464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Прямая соединительная линия 16"/>
              <p:cNvSpPr/>
              <p:nvPr/>
            </p:nvSpPr>
            <p:spPr>
              <a:xfrm flipV="1">
                <a:off x="1482480" y="1693800"/>
                <a:ext cx="194148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Прямая соединительная линия 17"/>
              <p:cNvSpPr/>
              <p:nvPr/>
            </p:nvSpPr>
            <p:spPr>
              <a:xfrm>
                <a:off x="1482480" y="3290400"/>
                <a:ext cx="290196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12"/>
            <p:cNvSpPr/>
            <p:nvPr/>
          </p:nvSpPr>
          <p:spPr>
            <a:xfrm>
              <a:off x="3200400" y="144792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3"/>
            <p:cNvSpPr/>
            <p:nvPr/>
          </p:nvSpPr>
          <p:spPr>
            <a:xfrm>
              <a:off x="3962160" y="281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2060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4"/>
            <p:cNvSpPr/>
            <p:nvPr/>
          </p:nvSpPr>
          <p:spPr>
            <a:xfrm>
              <a:off x="701280" y="27428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b0f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18"/>
          <p:cNvSpPr/>
          <p:nvPr/>
        </p:nvSpPr>
        <p:spPr>
          <a:xfrm>
            <a:off x="1529280" y="3505320"/>
            <a:ext cx="24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19"/>
          <p:cNvGrpSpPr/>
          <p:nvPr/>
        </p:nvGrpSpPr>
        <p:grpSpPr>
          <a:xfrm>
            <a:off x="5293800" y="3352680"/>
            <a:ext cx="3315960" cy="1747080"/>
            <a:chOff x="5293800" y="3352680"/>
            <a:chExt cx="3315960" cy="1747080"/>
          </a:xfrm>
        </p:grpSpPr>
        <p:grpSp>
          <p:nvGrpSpPr>
            <p:cNvPr id="67" name="Группа 9"/>
            <p:cNvGrpSpPr/>
            <p:nvPr/>
          </p:nvGrpSpPr>
          <p:grpSpPr>
            <a:xfrm>
              <a:off x="5904720" y="3352680"/>
              <a:ext cx="2705040" cy="1654920"/>
              <a:chOff x="5904720" y="3352680"/>
              <a:chExt cx="2705040" cy="1654920"/>
            </a:xfrm>
          </p:grpSpPr>
          <p:sp>
            <p:nvSpPr>
              <p:cNvPr id="68" name="Овал 24"/>
              <p:cNvSpPr/>
              <p:nvPr/>
            </p:nvSpPr>
            <p:spPr>
              <a:xfrm>
                <a:off x="5904720" y="4618440"/>
                <a:ext cx="131760" cy="19368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25"/>
              <p:cNvSpPr/>
              <p:nvPr/>
            </p:nvSpPr>
            <p:spPr>
              <a:xfrm flipV="1">
                <a:off x="6016680" y="3352680"/>
                <a:ext cx="1735560" cy="12945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26"/>
              <p:cNvSpPr/>
              <p:nvPr/>
            </p:nvSpPr>
            <p:spPr>
              <a:xfrm>
                <a:off x="6016680" y="4783680"/>
                <a:ext cx="2593080" cy="2239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23"/>
            <p:cNvSpPr/>
            <p:nvPr/>
          </p:nvSpPr>
          <p:spPr>
            <a:xfrm>
              <a:off x="5293800" y="4274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8000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27"/>
          <p:cNvSpPr/>
          <p:nvPr/>
        </p:nvSpPr>
        <p:spPr>
          <a:xfrm>
            <a:off x="6408720" y="5019840"/>
            <a:ext cx="143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овите вершину угла и его 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Содержимое 10"/>
          <p:cNvGrpSpPr/>
          <p:nvPr/>
        </p:nvGrpSpPr>
        <p:grpSpPr>
          <a:xfrm>
            <a:off x="2214000" y="1600200"/>
            <a:ext cx="3973320" cy="2196000"/>
            <a:chOff x="2214000" y="1600200"/>
            <a:chExt cx="3973320" cy="2196000"/>
          </a:xfrm>
        </p:grpSpPr>
        <p:grpSp>
          <p:nvGrpSpPr>
            <p:cNvPr id="75" name="Группа 9"/>
            <p:cNvGrpSpPr/>
            <p:nvPr/>
          </p:nvGrpSpPr>
          <p:grpSpPr>
            <a:xfrm>
              <a:off x="2869920" y="1846080"/>
              <a:ext cx="3027600" cy="1846080"/>
              <a:chOff x="2869920" y="1846080"/>
              <a:chExt cx="3027600" cy="1846080"/>
            </a:xfrm>
          </p:grpSpPr>
          <p:sp>
            <p:nvSpPr>
              <p:cNvPr id="76" name="Овал 9"/>
              <p:cNvSpPr/>
              <p:nvPr/>
            </p:nvSpPr>
            <p:spPr>
              <a:xfrm>
                <a:off x="2869920" y="3257280"/>
                <a:ext cx="147600" cy="21744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10"/>
              <p:cNvSpPr/>
              <p:nvPr/>
            </p:nvSpPr>
            <p:spPr>
              <a:xfrm flipV="1">
                <a:off x="2995200" y="1846080"/>
                <a:ext cx="1941840" cy="14428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ая соединительная линия 11"/>
              <p:cNvSpPr/>
              <p:nvPr/>
            </p:nvSpPr>
            <p:spPr>
              <a:xfrm>
                <a:off x="2995200" y="3443040"/>
                <a:ext cx="2902320" cy="24912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12"/>
            <p:cNvSpPr/>
            <p:nvPr/>
          </p:nvSpPr>
          <p:spPr>
            <a:xfrm>
              <a:off x="4804200" y="16002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3"/>
            <p:cNvSpPr/>
            <p:nvPr/>
          </p:nvSpPr>
          <p:spPr>
            <a:xfrm>
              <a:off x="5566320" y="297108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4"/>
            <p:cNvSpPr/>
            <p:nvPr/>
          </p:nvSpPr>
          <p:spPr>
            <a:xfrm>
              <a:off x="2214000" y="289512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cc"/>
                  </a:solidFill>
                  <a:latin typeface="Arial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2"/>
          <p:cNvSpPr/>
          <p:nvPr/>
        </p:nvSpPr>
        <p:spPr>
          <a:xfrm>
            <a:off x="2362320" y="4267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вершина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752480" y="4916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А, О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стороны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А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Стороны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лучи, которые образуют уго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ершина угла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– это точка, из которой выходят луч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Виды уг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1860840" y="1371600"/>
            <a:ext cx="2402640" cy="2197440"/>
            <a:chOff x="1860840" y="1371600"/>
            <a:chExt cx="2402640" cy="2197440"/>
          </a:xfrm>
        </p:grpSpPr>
        <p:sp>
          <p:nvSpPr>
            <p:cNvPr id="87" name="Прямая соединительная линия 5"/>
            <p:cNvSpPr/>
            <p:nvPr/>
          </p:nvSpPr>
          <p:spPr>
            <a:xfrm>
              <a:off x="2134080" y="1371600"/>
              <a:ext cx="0" cy="175320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6"/>
            <p:cNvSpPr/>
            <p:nvPr/>
          </p:nvSpPr>
          <p:spPr>
            <a:xfrm flipH="1">
              <a:off x="2134080" y="3124800"/>
              <a:ext cx="1676160" cy="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1860840" y="3048480"/>
              <a:ext cx="24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ям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1"/>
          <p:cNvGrpSpPr/>
          <p:nvPr/>
        </p:nvGrpSpPr>
        <p:grpSpPr>
          <a:xfrm>
            <a:off x="5873040" y="1676520"/>
            <a:ext cx="2393640" cy="1663920"/>
            <a:chOff x="5873040" y="1676520"/>
            <a:chExt cx="2393640" cy="1663920"/>
          </a:xfrm>
        </p:grpSpPr>
        <p:sp>
          <p:nvSpPr>
            <p:cNvPr id="91" name="Прямая соединительная линия 12"/>
            <p:cNvSpPr/>
            <p:nvPr/>
          </p:nvSpPr>
          <p:spPr>
            <a:xfrm flipH="1">
              <a:off x="6176520" y="1676520"/>
              <a:ext cx="1371240" cy="121968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13"/>
            <p:cNvSpPr/>
            <p:nvPr/>
          </p:nvSpPr>
          <p:spPr>
            <a:xfrm flipH="1">
              <a:off x="6176880" y="2896200"/>
              <a:ext cx="1676160" cy="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4"/>
            <p:cNvSpPr/>
            <p:nvPr/>
          </p:nvSpPr>
          <p:spPr>
            <a:xfrm>
              <a:off x="5873040" y="2819880"/>
              <a:ext cx="23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тр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16"/>
          <p:cNvGrpSpPr/>
          <p:nvPr/>
        </p:nvGrpSpPr>
        <p:grpSpPr>
          <a:xfrm>
            <a:off x="1447920" y="3962520"/>
            <a:ext cx="2808360" cy="1740240"/>
            <a:chOff x="1447920" y="3962520"/>
            <a:chExt cx="2808360" cy="1740240"/>
          </a:xfrm>
        </p:grpSpPr>
        <p:sp>
          <p:nvSpPr>
            <p:cNvPr id="95" name="Прямая соединительная линия 17"/>
            <p:cNvSpPr/>
            <p:nvPr/>
          </p:nvSpPr>
          <p:spPr>
            <a:xfrm>
              <a:off x="1447920" y="3962520"/>
              <a:ext cx="914400" cy="130608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18"/>
            <p:cNvSpPr/>
            <p:nvPr/>
          </p:nvSpPr>
          <p:spPr>
            <a:xfrm flipH="1">
              <a:off x="2362320" y="5268600"/>
              <a:ext cx="1676160" cy="0"/>
            </a:xfrm>
            <a:prstGeom prst="line">
              <a:avLst/>
            </a:prstGeom>
            <a:ln w="507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2167560" y="5182200"/>
              <a:ext cx="20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уп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0"/>
          <p:cNvGrpSpPr/>
          <p:nvPr/>
        </p:nvGrpSpPr>
        <p:grpSpPr>
          <a:xfrm>
            <a:off x="5119200" y="4886280"/>
            <a:ext cx="3399480" cy="749160"/>
            <a:chOff x="5119200" y="4886280"/>
            <a:chExt cx="3399480" cy="749160"/>
          </a:xfrm>
        </p:grpSpPr>
        <p:sp>
          <p:nvSpPr>
            <p:cNvPr id="99" name="Прямая соединительная линия 22"/>
            <p:cNvSpPr/>
            <p:nvPr/>
          </p:nvSpPr>
          <p:spPr>
            <a:xfrm>
              <a:off x="54846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23"/>
            <p:cNvSpPr/>
            <p:nvPr/>
          </p:nvSpPr>
          <p:spPr>
            <a:xfrm flipH="1">
              <a:off x="6856200" y="4962240"/>
              <a:ext cx="12193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4"/>
            <p:cNvSpPr/>
            <p:nvPr/>
          </p:nvSpPr>
          <p:spPr>
            <a:xfrm>
              <a:off x="5119200" y="5114880"/>
              <a:ext cx="33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вернут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Овал 27"/>
            <p:cNvSpPr/>
            <p:nvPr/>
          </p:nvSpPr>
          <p:spPr>
            <a:xfrm>
              <a:off x="6703920" y="4886280"/>
              <a:ext cx="152280" cy="1522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4:04:07Z</dcterms:created>
  <dc:creator>Катя</dc:creator>
  <dc:description/>
  <dc:language>en-US</dc:language>
  <cp:lastModifiedBy>Катя</cp:lastModifiedBy>
  <dcterms:modified xsi:type="dcterms:W3CDTF">2012-07-18T14:04:57Z</dcterms:modified>
  <cp:revision>1</cp:revision>
  <dc:subject/>
  <dc:title>Угол.  Прямой угол.  Виды угл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