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9FB-0401-4CBE-B708-4EB1C453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B1F-A70F-4F79-8185-5854CF23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971-5007-42C5-8EBA-BE5483DD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482-3B2E-4B75-A2E6-6A484792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EA6-5545-4DDE-BB93-8DEA9930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84E-F3C2-467D-AEB2-AB77945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D13-3162-42F7-AF06-F0E62C9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63A-1698-4F12-BAE7-B2BBCB79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F83-01EB-44CD-A71A-0DD439B7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BA9-B8D8-4DF7-B42C-E0506B9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AB8-A86F-42F4-8FD4-4309DFF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1D0-24B9-49CA-9791-DC8161A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674-9E22-4B26-9BAE-DFCF536E4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«В гостях у Мойдодыра»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2 клас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мащёва Ольг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ОУ СОШ №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.Южно-Сахалин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зубы"/>
          <p:cNvPicPr/>
          <p:nvPr/>
        </p:nvPicPr>
        <p:blipFill>
          <a:blip r:embed="rId2"/>
          <a:srcRect l="51289" t="65755" r="0" b="0"/>
          <a:stretch/>
        </p:blipFill>
        <p:spPr>
          <a:xfrm>
            <a:off x="304920" y="30492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7621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ожно грызть зубами грецкие орех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1600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полоскать зубы после 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3520" y="2514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чистить зубы 2 раза в д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66680" y="3733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143000" y="3505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е ходи к зубному вр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219320" y="43434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до есть много конф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8229600" y="6019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Слава\Рабочий стол\зубастики\1005119b.jpg"/>
          <p:cNvPicPr/>
          <p:nvPr/>
        </p:nvPicPr>
        <p:blipFill>
          <a:blip r:embed="rId2"/>
          <a:stretch/>
        </p:blipFill>
        <p:spPr>
          <a:xfrm rot="20704200">
            <a:off x="2963520" y="573120"/>
            <a:ext cx="341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981080" y="2971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очите руки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2320" y="685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зьмите м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5105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с обеи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1752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мыливайте руки между пальц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4038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ощите руки чистой во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848720" y="60199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3794"/>
                </a:moveTo>
                <a:lnTo>
                  <a:pt x="27062" y="10800"/>
                </a:lnTo>
                <a:lnTo>
                  <a:pt x="130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9_Kenny G.mp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7 L 0 0.15306 E">
                                      <p:cBhvr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9.82659E-007 L 3.33333E-006 -0.33526 E">
                                      <p:cBhvr>
                                        <p:cTn id="15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6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-3.2948E-006 L 0.02847 0.17526 E">
                                      <p:cBhvr>
                                        <p:cTn id="16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7775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ножницы2"/>
          <p:cNvPicPr/>
          <p:nvPr/>
        </p:nvPicPr>
        <p:blipFill>
          <a:blip r:embed="rId2"/>
          <a:stretch/>
        </p:blipFill>
        <p:spPr>
          <a:xfrm>
            <a:off x="1752480" y="914400"/>
            <a:ext cx="5486400" cy="4022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78487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3794" y="5957"/>
                </a:moveTo>
                <a:lnTo>
                  <a:pt x="17806" y="12963"/>
                </a:lnTo>
                <a:lnTo>
                  <a:pt x="3794" y="1997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05. Track 5.mp3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818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F:\зубастики\IMGP1795.jpg"/>
          <p:cNvPicPr/>
          <p:nvPr/>
        </p:nvPicPr>
        <p:blipFill>
          <a:blip r:embed="rId2"/>
          <a:stretch/>
        </p:blipFill>
        <p:spPr>
          <a:xfrm>
            <a:off x="2133720" y="762120"/>
            <a:ext cx="502920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7772400" y="58672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. Track 11.mp3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6059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дерев расч"/>
          <p:cNvPicPr/>
          <p:nvPr/>
        </p:nvPicPr>
        <p:blipFill>
          <a:blip r:embed="rId2"/>
          <a:stretch/>
        </p:blipFill>
        <p:spPr>
          <a:xfrm>
            <a:off x="1447920" y="1066680"/>
            <a:ext cx="6476760" cy="3915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7724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мойдод и зеркало"/>
          <p:cNvPicPr/>
          <p:nvPr/>
        </p:nvPicPr>
        <p:blipFill>
          <a:blip r:embed="rId2"/>
          <a:stretch/>
        </p:blipFill>
        <p:spPr>
          <a:xfrm>
            <a:off x="685800" y="914400"/>
            <a:ext cx="7391520" cy="49658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815328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omana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84582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Слава\Рабочий стол\зубастики\37664296.jpg"/>
          <p:cNvPicPr/>
          <p:nvPr/>
        </p:nvPicPr>
        <p:blipFill>
          <a:blip r:embed="rId2"/>
          <a:srcRect l="0" t="0" r="0" b="3893"/>
          <a:stretch/>
        </p:blipFill>
        <p:spPr>
          <a:xfrm>
            <a:off x="2819520" y="3581280"/>
            <a:ext cx="3047760" cy="29289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1219320" y="609480"/>
            <a:ext cx="739116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мок Мойдод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2971800" y="304920"/>
            <a:ext cx="2676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-2057400" y="2073240"/>
            <a:ext cx="899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95280" y="2971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9092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ойдодыр улыб"/>
          <p:cNvPicPr/>
          <p:nvPr/>
        </p:nvPicPr>
        <p:blipFill>
          <a:blip r:embed="rId2"/>
          <a:stretch/>
        </p:blipFill>
        <p:spPr>
          <a:xfrm>
            <a:off x="4648320" y="2209680"/>
            <a:ext cx="398916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 rot="20624400">
            <a:off x="407520" y="736200"/>
            <a:ext cx="59770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33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доды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33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ле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rId2" action="ppaction://hlinksldjump"/>
          </p:cNvPr>
          <p:cNvSpPr/>
          <p:nvPr/>
        </p:nvSpPr>
        <p:spPr>
          <a:xfrm>
            <a:off x="6477120" y="3429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18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52" h="21600">
                <a:moveTo>
                  <a:pt x="12981" y="14281"/>
                </a:moveTo>
                <a:lnTo>
                  <a:pt x="12981" y="12323"/>
                </a:lnTo>
                <a:cubicBezTo>
                  <a:pt x="12981" y="11496"/>
                  <a:pt x="13312" y="10800"/>
                  <a:pt x="13913" y="10800"/>
                </a:cubicBezTo>
                <a:cubicBezTo>
                  <a:pt x="15044" y="10800"/>
                  <a:pt x="15941" y="9434"/>
                  <a:pt x="15941" y="7849"/>
                </a:cubicBezTo>
                <a:cubicBezTo>
                  <a:pt x="15941" y="5534"/>
                  <a:pt x="14087" y="3794"/>
                  <a:pt x="11876" y="3794"/>
                </a:cubicBezTo>
                <a:cubicBezTo>
                  <a:pt x="9665" y="3794"/>
                  <a:pt x="7994" y="5534"/>
                  <a:pt x="7994" y="7849"/>
                </a:cubicBezTo>
                <a:lnTo>
                  <a:pt x="9848" y="7849"/>
                </a:lnTo>
                <a:cubicBezTo>
                  <a:pt x="9848" y="6709"/>
                  <a:pt x="10771" y="5821"/>
                  <a:pt x="11876" y="5821"/>
                </a:cubicBezTo>
                <a:cubicBezTo>
                  <a:pt x="12981" y="5821"/>
                  <a:pt x="13913" y="6709"/>
                  <a:pt x="13913" y="7849"/>
                </a:cubicBezTo>
                <a:cubicBezTo>
                  <a:pt x="13913" y="8589"/>
                  <a:pt x="13443" y="9320"/>
                  <a:pt x="12981" y="9320"/>
                </a:cubicBezTo>
                <a:cubicBezTo>
                  <a:pt x="11876" y="9320"/>
                  <a:pt x="10771" y="10800"/>
                  <a:pt x="10771" y="12323"/>
                </a:cubicBezTo>
                <a:lnTo>
                  <a:pt x="1077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3" action="ppaction://hlinksldjump"/>
          </p:cNvPr>
          <p:cNvSpPr/>
          <p:nvPr/>
        </p:nvSpPr>
        <p:spPr>
          <a:xfrm>
            <a:off x="6781680" y="19810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4" action="ppaction://hlinksldjump"/>
          </p:cNvPr>
          <p:cNvSpPr/>
          <p:nvPr/>
        </p:nvSpPr>
        <p:spPr>
          <a:xfrm>
            <a:off x="4724280" y="1752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14" h="21600">
                <a:moveTo>
                  <a:pt x="14062" y="14281"/>
                </a:moveTo>
                <a:lnTo>
                  <a:pt x="14062" y="12323"/>
                </a:lnTo>
                <a:cubicBezTo>
                  <a:pt x="14062" y="11496"/>
                  <a:pt x="14393" y="10800"/>
                  <a:pt x="14994" y="10800"/>
                </a:cubicBezTo>
                <a:cubicBezTo>
                  <a:pt x="16125" y="10800"/>
                  <a:pt x="17022" y="9434"/>
                  <a:pt x="17022" y="7849"/>
                </a:cubicBezTo>
                <a:cubicBezTo>
                  <a:pt x="17022" y="5534"/>
                  <a:pt x="15168" y="3794"/>
                  <a:pt x="12957" y="3794"/>
                </a:cubicBezTo>
                <a:cubicBezTo>
                  <a:pt x="10746" y="3794"/>
                  <a:pt x="9075" y="5534"/>
                  <a:pt x="9075" y="7849"/>
                </a:cubicBezTo>
                <a:lnTo>
                  <a:pt x="10929" y="7849"/>
                </a:lnTo>
                <a:cubicBezTo>
                  <a:pt x="10929" y="6709"/>
                  <a:pt x="11852" y="5821"/>
                  <a:pt x="12957" y="5821"/>
                </a:cubicBezTo>
                <a:cubicBezTo>
                  <a:pt x="14062" y="5821"/>
                  <a:pt x="14994" y="6709"/>
                  <a:pt x="14994" y="7849"/>
                </a:cubicBezTo>
                <a:cubicBezTo>
                  <a:pt x="14994" y="8589"/>
                  <a:pt x="14524" y="9320"/>
                  <a:pt x="14062" y="9320"/>
                </a:cubicBezTo>
                <a:cubicBezTo>
                  <a:pt x="12957" y="9320"/>
                  <a:pt x="11852" y="10800"/>
                  <a:pt x="11852" y="12323"/>
                </a:cubicBezTo>
                <a:lnTo>
                  <a:pt x="1185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2666880" y="6858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9710" h="21600">
                <a:moveTo>
                  <a:pt x="15960" y="14281"/>
                </a:moveTo>
                <a:lnTo>
                  <a:pt x="15960" y="12323"/>
                </a:lnTo>
                <a:cubicBezTo>
                  <a:pt x="15960" y="11496"/>
                  <a:pt x="16291" y="10800"/>
                  <a:pt x="16891" y="10800"/>
                </a:cubicBezTo>
                <a:cubicBezTo>
                  <a:pt x="18023" y="10800"/>
                  <a:pt x="18919" y="9434"/>
                  <a:pt x="18919" y="7849"/>
                </a:cubicBezTo>
                <a:cubicBezTo>
                  <a:pt x="18919" y="5534"/>
                  <a:pt x="17066" y="3794"/>
                  <a:pt x="14855" y="3794"/>
                </a:cubicBezTo>
                <a:cubicBezTo>
                  <a:pt x="12644" y="3794"/>
                  <a:pt x="10973" y="5534"/>
                  <a:pt x="10973" y="7849"/>
                </a:cubicBezTo>
                <a:lnTo>
                  <a:pt x="12827" y="7849"/>
                </a:lnTo>
                <a:cubicBezTo>
                  <a:pt x="12827" y="6709"/>
                  <a:pt x="13749" y="5821"/>
                  <a:pt x="14855" y="5821"/>
                </a:cubicBezTo>
                <a:cubicBezTo>
                  <a:pt x="15960" y="5821"/>
                  <a:pt x="16891" y="6709"/>
                  <a:pt x="16891" y="7849"/>
                </a:cubicBezTo>
                <a:cubicBezTo>
                  <a:pt x="16891" y="8589"/>
                  <a:pt x="16421" y="9320"/>
                  <a:pt x="15960" y="9320"/>
                </a:cubicBezTo>
                <a:cubicBezTo>
                  <a:pt x="14855" y="9320"/>
                  <a:pt x="13749" y="10800"/>
                  <a:pt x="13749" y="12323"/>
                </a:cubicBezTo>
                <a:lnTo>
                  <a:pt x="1374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1219320" y="19051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1" h="21600">
                <a:moveTo>
                  <a:pt x="13101" y="14281"/>
                </a:moveTo>
                <a:lnTo>
                  <a:pt x="13101" y="12323"/>
                </a:lnTo>
                <a:cubicBezTo>
                  <a:pt x="13101" y="11496"/>
                  <a:pt x="13432" y="10800"/>
                  <a:pt x="14032" y="10800"/>
                </a:cubicBezTo>
                <a:cubicBezTo>
                  <a:pt x="15164" y="10800"/>
                  <a:pt x="16060" y="9434"/>
                  <a:pt x="16060" y="7849"/>
                </a:cubicBezTo>
                <a:cubicBezTo>
                  <a:pt x="16060" y="5534"/>
                  <a:pt x="14206" y="3794"/>
                  <a:pt x="11996" y="3794"/>
                </a:cubicBezTo>
                <a:cubicBezTo>
                  <a:pt x="9785" y="3794"/>
                  <a:pt x="8114" y="5534"/>
                  <a:pt x="8114" y="7849"/>
                </a:cubicBezTo>
                <a:lnTo>
                  <a:pt x="9968" y="7849"/>
                </a:lnTo>
                <a:cubicBezTo>
                  <a:pt x="9968" y="6709"/>
                  <a:pt x="10890" y="5821"/>
                  <a:pt x="11996" y="5821"/>
                </a:cubicBezTo>
                <a:cubicBezTo>
                  <a:pt x="13101" y="5821"/>
                  <a:pt x="14032" y="6709"/>
                  <a:pt x="14032" y="7849"/>
                </a:cubicBezTo>
                <a:cubicBezTo>
                  <a:pt x="14032" y="8589"/>
                  <a:pt x="13562" y="9320"/>
                  <a:pt x="13101" y="9320"/>
                </a:cubicBezTo>
                <a:cubicBezTo>
                  <a:pt x="11996" y="9320"/>
                  <a:pt x="10890" y="10800"/>
                  <a:pt x="10890" y="12323"/>
                </a:cubicBezTo>
                <a:lnTo>
                  <a:pt x="10890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1600200" y="32767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V="1">
            <a:off x="5410080" y="434340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057040" y="1371600"/>
            <a:ext cx="685800" cy="8380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 flipV="1">
            <a:off x="3581280" y="1143000"/>
            <a:ext cx="1067040" cy="9907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 flipV="1">
            <a:off x="5638680" y="2209680"/>
            <a:ext cx="990720" cy="763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V="1">
            <a:off x="7315200" y="2742840"/>
            <a:ext cx="0" cy="6094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600200" y="2743200"/>
            <a:ext cx="533520" cy="4572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V="1">
            <a:off x="2514600" y="3352680"/>
            <a:ext cx="1447920" cy="533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4419720" y="3352680"/>
            <a:ext cx="457200" cy="1143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3733920" y="2819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21" descr=""/>
          <p:cNvPicPr/>
          <p:nvPr/>
        </p:nvPicPr>
        <p:blipFill>
          <a:blip r:embed="rId5"/>
          <a:stretch/>
        </p:blipFill>
        <p:spPr>
          <a:xfrm>
            <a:off x="2962440" y="4059360"/>
            <a:ext cx="3139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зуб щетка2"/>
          <p:cNvPicPr/>
          <p:nvPr/>
        </p:nvPicPr>
        <p:blipFill>
          <a:blip r:embed="rId2"/>
          <a:stretch/>
        </p:blipFill>
        <p:spPr>
          <a:xfrm>
            <a:off x="2362320" y="609480"/>
            <a:ext cx="4465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зубы"/>
          <p:cNvPicPr/>
          <p:nvPr/>
        </p:nvPicPr>
        <p:blipFill>
          <a:blip r:embed="rId2"/>
          <a:srcRect l="0" t="0" r="52143" b="66746"/>
          <a:stretch/>
        </p:blipFill>
        <p:spPr>
          <a:xfrm>
            <a:off x="533520" y="762120"/>
            <a:ext cx="8001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зубы"/>
          <p:cNvPicPr/>
          <p:nvPr/>
        </p:nvPicPr>
        <p:blipFill>
          <a:blip r:embed="rId2"/>
          <a:srcRect l="51289" t="0" r="0" b="69064"/>
          <a:stretch/>
        </p:blipFill>
        <p:spPr>
          <a:xfrm>
            <a:off x="457200" y="762120"/>
            <a:ext cx="83059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зубы"/>
          <p:cNvPicPr/>
          <p:nvPr/>
        </p:nvPicPr>
        <p:blipFill>
          <a:blip r:embed="rId2"/>
          <a:srcRect l="0" t="30945" r="52302" b="34254"/>
          <a:stretch/>
        </p:blipFill>
        <p:spPr>
          <a:xfrm>
            <a:off x="60948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зубы"/>
          <p:cNvPicPr/>
          <p:nvPr/>
        </p:nvPicPr>
        <p:blipFill>
          <a:blip r:embed="rId2"/>
          <a:srcRect l="51289" t="30945" r="0" b="34254"/>
          <a:stretch/>
        </p:blipFill>
        <p:spPr>
          <a:xfrm>
            <a:off x="304920" y="609480"/>
            <a:ext cx="84582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зубы"/>
          <p:cNvPicPr/>
          <p:nvPr/>
        </p:nvPicPr>
        <p:blipFill>
          <a:blip r:embed="rId2"/>
          <a:srcRect l="-718" t="65755" r="55560" b="0"/>
          <a:stretch/>
        </p:blipFill>
        <p:spPr>
          <a:xfrm>
            <a:off x="304920" y="457200"/>
            <a:ext cx="84582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9-03-05T02:07:0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