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.jpeg" ContentType="image/jpeg"/>
  <Override PartName="/ppt/media/image25.jpeg" ContentType="image/jpeg"/>
  <Override PartName="/ppt/media/image22.gif" ContentType="image/gif"/>
  <Override PartName="/ppt/media/image14.png" ContentType="image/png"/>
  <Override PartName="/ppt/media/image21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AC11-CA20-4400-B3FB-74AD0CADAE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0D4C-3764-4D5B-89F8-C3FAE7DF22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99C-1CE1-4894-8432-46A4DF97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9C4-4707-4363-9292-67724D16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83E-84FB-4A2D-B8C2-A5C9673A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3F3-D95D-4B7F-BC8B-99912ACC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948-8E39-4A29-802B-6F024191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F0F-6EE8-43D5-B82B-DE835BDE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892-93AA-4A99-9D91-60913994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413-1462-4BAF-BA93-E97DA7DF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1A0-B4B9-4793-AE39-6BF03002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1FB-CE18-461D-AF9F-703D46FD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D6A-1C14-49E7-9E54-FA597EBB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676-1122-4869-9721-F3995D92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025E-B616-4E77-994D-469B4EADD409}" type="slidenum">
              <a:rPr b="0" lang="ru-RU" sz="1200" spc="-1" strike="noStrike">
                <a:solidFill>
                  <a:srgbClr val="8dae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55400" y="385920"/>
            <a:ext cx="667548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95a74"/>
                </a:solidFill>
                <a:latin typeface="Times New Roman"/>
                <a:ea typeface="Times New Roman"/>
              </a:rPr>
              <a:t>Исследовательская работа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240" y="1371240"/>
            <a:ext cx="7497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лияние сквернословия на здоровье человека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тере Милана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4 класс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3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Южно-Сахалинск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г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" name="Picture 7" descr="smailik-298x300"/>
          <p:cNvPicPr/>
          <p:nvPr/>
        </p:nvPicPr>
        <p:blipFill>
          <a:blip r:embed="rId1"/>
          <a:stretch/>
        </p:blipFill>
        <p:spPr>
          <a:xfrm>
            <a:off x="2362320" y="3276720"/>
            <a:ext cx="3066840" cy="30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http://www.vokrugsveta.ru/img/ann/news/main/2009/02/24/5993.jpg"/>
          <p:cNvPicPr/>
          <p:nvPr/>
        </p:nvPicPr>
        <p:blipFill>
          <a:blip r:embed="rId1"/>
          <a:stretch/>
        </p:blipFill>
        <p:spPr>
          <a:xfrm>
            <a:off x="1295280" y="152280"/>
            <a:ext cx="1981440" cy="2438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4114800" y="313920"/>
            <a:ext cx="47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юди, которые регулярно бранятся,  живут меньше  чем те, кто не сквернословит…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биологиче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Б.Беля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группа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feaa15ca3c8fe9cee03e8d77d0179880"/>
          <p:cNvPicPr/>
          <p:nvPr/>
        </p:nvPicPr>
        <p:blipFill>
          <a:blip r:embed="rId2"/>
          <a:stretch/>
        </p:blipFill>
        <p:spPr>
          <a:xfrm>
            <a:off x="2743200" y="2743200"/>
            <a:ext cx="541008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18960" y="-360"/>
            <a:ext cx="74991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42"/>
          <p:cNvPicPr/>
          <p:nvPr/>
        </p:nvPicPr>
        <p:blipFill>
          <a:blip r:embed="rId1"/>
          <a:stretch/>
        </p:blipFill>
        <p:spPr>
          <a:xfrm>
            <a:off x="7010280" y="-68580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1371600" y="2286000"/>
            <a:ext cx="1600200" cy="403848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754920 h 4038480"/>
              <a:gd name="textAreaBottom" fmla="*/ 268632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77" stAng="-5400000" swAng="-5400000"/>
                <a:lnTo>
                  <a:pt x="0" y="10329"/>
                </a:lnTo>
                <a:arcTo wR="21600" hR="8077" stAng="10800000" swAng="-3207613"/>
                <a:lnTo>
                  <a:pt x="15832" y="21307"/>
                </a:lnTo>
                <a:lnTo>
                  <a:pt x="21600" y="17280"/>
                </a:lnTo>
                <a:lnTo>
                  <a:pt x="15832" y="12667"/>
                </a:lnTo>
                <a:lnTo>
                  <a:pt x="15832" y="15861"/>
                </a:lnTo>
                <a:arcTo wR="21600" hR="8077" stAng="7592387" swAng="3026804"/>
                <a:lnTo>
                  <a:pt x="211" y="9203"/>
                </a:lnTo>
                <a:arcTo wR="21600" hR="8077" stAng="-10619191" swAng="5219191"/>
                <a:close/>
              </a:path>
              <a:path fill="darkenLess" w="21600" h="21600">
                <a:moveTo>
                  <a:pt x="21600" y="0"/>
                </a:moveTo>
                <a:arcTo wR="21600" hR="8077" stAng="-5400000" swAng="-5400000"/>
                <a:lnTo>
                  <a:pt x="0" y="8077"/>
                </a:lnTo>
                <a:arcTo wR="21600" hR="8077" stAng="10800000" swAng="-180809"/>
                <a:lnTo>
                  <a:pt x="211" y="9203"/>
                </a:lnTo>
                <a:arcTo wR="21600" hR="8077" stAng="-10619191" swAng="5219191"/>
                <a:close/>
              </a:path>
            </a:pathLst>
          </a:cu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7086600" y="2133720"/>
            <a:ext cx="1676520" cy="411480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762480 h 4114800"/>
              <a:gd name="textAreaBottom" fmla="*/ 271224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08" stAng="-5400000" swAng="5400000"/>
                <a:lnTo>
                  <a:pt x="21600" y="10234"/>
                </a:lnTo>
                <a:arcTo wR="21600" hR="8008" stAng="0" swAng="2781562"/>
                <a:lnTo>
                  <a:pt x="7200" y="21142"/>
                </a:lnTo>
                <a:lnTo>
                  <a:pt x="0" y="17129"/>
                </a:lnTo>
                <a:lnTo>
                  <a:pt x="7200" y="12200"/>
                </a:lnTo>
                <a:lnTo>
                  <a:pt x="7200" y="15558"/>
                </a:lnTo>
                <a:arcTo wR="21600" hR="8008" stAng="2781562" swAng="-2602847"/>
                <a:lnTo>
                  <a:pt x="21390" y="9121"/>
                </a:lnTo>
                <a:arcTo wR="21600" hR="8008" stAng="-178714" swAng="-5221286"/>
                <a:close/>
              </a:path>
              <a:path fill="darkenLess" w="21600" h="21600">
                <a:moveTo>
                  <a:pt x="0" y="0"/>
                </a:moveTo>
                <a:arcTo wR="21600" hR="8008" stAng="-5400000" swAng="5400000"/>
                <a:lnTo>
                  <a:pt x="21600" y="10234"/>
                </a:lnTo>
                <a:arcTo wR="21600" hR="8008" stAng="0" swAng="-178714"/>
                <a:lnTo>
                  <a:pt x="21390" y="9121"/>
                </a:lnTo>
                <a:arcTo wR="21600" hR="8008" stAng="-178714" swAng="-5221286"/>
                <a:close/>
              </a:path>
            </a:pathLst>
          </a:cu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048120" y="685800"/>
            <a:ext cx="3962160" cy="1981080"/>
          </a:xfrm>
          <a:prstGeom prst="flowChartPunchedTap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верносло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нормальная лекс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анная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3276720" y="4419720"/>
            <a:ext cx="3429000" cy="2209680"/>
          </a:xfrm>
          <a:prstGeom prst="flowChartPunchedTap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uchitel-uchenik"/>
          <p:cNvPicPr/>
          <p:nvPr/>
        </p:nvPicPr>
        <p:blipFill>
          <a:blip r:embed="rId2"/>
          <a:stretch/>
        </p:blipFill>
        <p:spPr>
          <a:xfrm>
            <a:off x="990720" y="0"/>
            <a:ext cx="274320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443680" y="30492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157a"/>
                </a:solidFill>
                <a:latin typeface="Arial"/>
              </a:rPr>
              <a:t>Исследовательски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Users\user\Desktop\DSC00089.JPG"/>
          <p:cNvPicPr/>
          <p:nvPr/>
        </p:nvPicPr>
        <p:blipFill>
          <a:blip r:embed="rId1"/>
          <a:stretch/>
        </p:blipFill>
        <p:spPr>
          <a:xfrm>
            <a:off x="5486400" y="914400"/>
            <a:ext cx="3352680" cy="2157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user\Desktop\4 класс\S8004351.JPG"/>
          <p:cNvPicPr/>
          <p:nvPr/>
        </p:nvPicPr>
        <p:blipFill>
          <a:blip r:embed="rId2"/>
          <a:stretch/>
        </p:blipFill>
        <p:spPr>
          <a:xfrm>
            <a:off x="1143000" y="914400"/>
            <a:ext cx="205740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Users\user\Desktop\4 класс\S8004353.JPG"/>
          <p:cNvPicPr/>
          <p:nvPr/>
        </p:nvPicPr>
        <p:blipFill>
          <a:blip r:embed="rId3"/>
          <a:stretch/>
        </p:blipFill>
        <p:spPr>
          <a:xfrm>
            <a:off x="3200400" y="91440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C:\Users\user\Desktop\4 класс\S8004355.JPG"/>
          <p:cNvPicPr/>
          <p:nvPr/>
        </p:nvPicPr>
        <p:blipFill>
          <a:blip r:embed="rId4"/>
          <a:stretch/>
        </p:blipFill>
        <p:spPr>
          <a:xfrm>
            <a:off x="1066680" y="3962520"/>
            <a:ext cx="2362320" cy="219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C:\Users\user\Desktop\4 класс\S8004354.JPG"/>
          <p:cNvPicPr/>
          <p:nvPr/>
        </p:nvPicPr>
        <p:blipFill>
          <a:blip r:embed="rId5"/>
          <a:stretch/>
        </p:blipFill>
        <p:spPr>
          <a:xfrm>
            <a:off x="3276720" y="3962520"/>
            <a:ext cx="2361960" cy="2209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a_glas_of_water_sas"/>
          <p:cNvPicPr/>
          <p:nvPr/>
        </p:nvPicPr>
        <p:blipFill>
          <a:blip r:embed="rId6"/>
          <a:stretch/>
        </p:blipFill>
        <p:spPr>
          <a:xfrm>
            <a:off x="5562720" y="3886200"/>
            <a:ext cx="41893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219320" y="138240"/>
            <a:ext cx="7619760" cy="66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Сквернословие в мо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ты думаешь, почему человек в своей речи употребляет бранные слова, ругатель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 часто ты используешь в своей речи бранн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Если ты используешь в своей речи бранные слова (мат, ругательства), то объясн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к ты думаешь, как влияют на твое здоровье бранн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Если бы ты знал, что бранные слова плохо влияют на твое здоровье, ты бы перестал употреблять их в своей 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Хочешь ли ты, чтобы твои будущие дети в своей речи использовали бранн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ак ты думаешь, что нужно сделать, чтобы люди (дети) не употребляли бранных с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Лента лицом вниз 5"/>
          <p:cNvSpPr/>
          <p:nvPr/>
        </p:nvSpPr>
        <p:spPr>
          <a:xfrm>
            <a:off x="990720" y="152280"/>
            <a:ext cx="8153280" cy="99072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26316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ь стр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Лента лицом вниз 6"/>
          <p:cNvSpPr/>
          <p:nvPr/>
        </p:nvSpPr>
        <p:spPr>
          <a:xfrm>
            <a:off x="990720" y="1143000"/>
            <a:ext cx="8153280" cy="114300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30384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еть, оскорбить собесед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Лента лицом вниз 7"/>
          <p:cNvSpPr/>
          <p:nvPr/>
        </p:nvSpPr>
        <p:spPr>
          <a:xfrm>
            <a:off x="990720" y="2286000"/>
            <a:ext cx="8153280" cy="114300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30384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нословие </a:t>
            </a:r>
            <a:r>
              <a:rPr b="0" lang="ru-RU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отрицательн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ет на здоровье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Лента лицом вниз 8"/>
          <p:cNvSpPr/>
          <p:nvPr/>
        </p:nvSpPr>
        <p:spPr>
          <a:xfrm>
            <a:off x="990720" y="3429000"/>
            <a:ext cx="8153280" cy="114300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30384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нословие </a:t>
            </a:r>
            <a:r>
              <a:rPr b="0" lang="ru-RU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положительн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ет на здоровье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Лента лицом вниз 9"/>
          <p:cNvSpPr/>
          <p:nvPr/>
        </p:nvSpPr>
        <p:spPr>
          <a:xfrm>
            <a:off x="990720" y="4572000"/>
            <a:ext cx="8153280" cy="121932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32400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Желание отказаться от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отребления в своей речи </a:t>
            </a:r>
            <a:r>
              <a:rPr b="0" lang="ru-RU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бранн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Лента лицом вниз 10"/>
          <p:cNvSpPr/>
          <p:nvPr/>
        </p:nvSpPr>
        <p:spPr>
          <a:xfrm>
            <a:off x="990720" y="5791320"/>
            <a:ext cx="8153280" cy="106668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28332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Будущее поколение – без сквернослов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72314"/>
                </a:solidFill>
                <a:latin typeface="Times New Roman"/>
              </a:rPr>
              <a:t>Выводы исследования: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ти часто слышат бранную речь, а некоторые произносят её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лословие может привести к вырождению нации в целом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коле, семье, СМИ нужно уделять больше внимания проблеме сквернословия в стране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6EsQkvtQOC-preview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293544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1447920" y="1066680"/>
            <a:ext cx="6553080" cy="5791320"/>
          </a:xfrm>
          <a:prstGeom prst="sun">
            <a:avLst>
              <a:gd name="adj" fmla="val 25000"/>
            </a:avLst>
          </a:prstGeom>
          <a:solidFill>
            <a:srgbClr val="f3fa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1371600" y="45720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513240" y="2886120"/>
            <a:ext cx="26128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арайтес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ы бран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звучали в присутствии и ближайшем окружении ребёнка с самого его р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676520" y="10666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756215467"/>
          <p:cNvPicPr/>
          <p:nvPr/>
        </p:nvPicPr>
        <p:blipFill>
          <a:blip r:embed="rId1"/>
          <a:stretch/>
        </p:blipFill>
        <p:spPr>
          <a:xfrm>
            <a:off x="5810400" y="3676680"/>
            <a:ext cx="3333600" cy="3181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48"/>
          <p:cNvPicPr/>
          <p:nvPr/>
        </p:nvPicPr>
        <p:blipFill>
          <a:blip r:embed="rId2"/>
          <a:stretch/>
        </p:blipFill>
        <p:spPr>
          <a:xfrm>
            <a:off x="1295280" y="3352680"/>
            <a:ext cx="3699000" cy="32292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1219320" y="1447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ьная выноска 5"/>
          <p:cNvSpPr/>
          <p:nvPr/>
        </p:nvSpPr>
        <p:spPr>
          <a:xfrm>
            <a:off x="4343400" y="152280"/>
            <a:ext cx="4648320" cy="3657600"/>
          </a:xfrm>
          <a:prstGeom prst="wedgeEllipseCallout">
            <a:avLst>
              <a:gd name="adj1" fmla="val -49013"/>
              <a:gd name="adj2" fmla="val 98592"/>
            </a:avLst>
          </a:prstGeom>
          <a:gradFill rotWithShape="0">
            <a:gsLst>
              <a:gs pos="0">
                <a:srgbClr val="bcff95"/>
              </a:gs>
              <a:gs pos="100000">
                <a:srgbClr val="ecffe1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рогие сверстн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бы глаза наши были красивыми – они должны излучать добро, а чтобы губы были красивыми – говорите добрые слова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1676520" y="76212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1b96900ef40a678ea475e42162580bed"/>
          <p:cNvPicPr/>
          <p:nvPr/>
        </p:nvPicPr>
        <p:blipFill>
          <a:blip r:embed="rId1"/>
          <a:stretch/>
        </p:blipFill>
        <p:spPr>
          <a:xfrm>
            <a:off x="4800600" y="3781440"/>
            <a:ext cx="4154400" cy="2924280"/>
          </a:xfrm>
          <a:prstGeom prst="rect">
            <a:avLst/>
          </a:prstGeom>
          <a:ln w="0">
            <a:noFill/>
          </a:ln>
        </p:spPr>
      </p:pic>
      <p:sp>
        <p:nvSpPr>
          <p:cNvPr id="145" name="Блок-схема: несколько документов 4"/>
          <p:cNvSpPr/>
          <p:nvPr/>
        </p:nvSpPr>
        <p:spPr>
          <a:xfrm>
            <a:off x="4724280" y="304920"/>
            <a:ext cx="4038840" cy="4038480"/>
          </a:xfrm>
          <a:prstGeom prst="flowChartMultidocument">
            <a:avLst/>
          </a:prstGeom>
          <a:gradFill rotWithShape="0">
            <a:gsLst>
              <a:gs pos="0">
                <a:srgbClr val="bcff95"/>
              </a:gs>
              <a:gs pos="100000">
                <a:srgbClr val="ecffe1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800600" y="990720"/>
          <a:ext cx="3276720" cy="259056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259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луйст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ите своих учеников объяснять своё состояние словами, а не выражать  его ругательств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15" descr="untitled"/>
          <p:cNvPicPr/>
          <p:nvPr/>
        </p:nvPicPr>
        <p:blipFill>
          <a:blip r:embed="rId2"/>
          <a:stretch/>
        </p:blipFill>
        <p:spPr>
          <a:xfrm>
            <a:off x="1155600" y="1905120"/>
            <a:ext cx="34448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блестящие сердечки"/>
          <p:cNvPicPr/>
          <p:nvPr/>
        </p:nvPicPr>
        <p:blipFill>
          <a:blip r:embed="rId1"/>
          <a:stretch/>
        </p:blipFill>
        <p:spPr>
          <a:xfrm>
            <a:off x="228600" y="0"/>
            <a:ext cx="9296280" cy="6172200"/>
          </a:xfrm>
          <a:prstGeom prst="rect">
            <a:avLst/>
          </a:prstGeom>
          <a:ln w="0">
            <a:noFill/>
          </a:ln>
        </p:spPr>
      </p:pic>
      <p:sp>
        <p:nvSpPr>
          <p:cNvPr id="149" name="Двойная стрелка влево/вправо 2"/>
          <p:cNvSpPr/>
          <p:nvPr/>
        </p:nvSpPr>
        <p:spPr>
          <a:xfrm>
            <a:off x="3048120" y="1600200"/>
            <a:ext cx="3809880" cy="1981080"/>
          </a:xfrm>
          <a:prstGeom prst="left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унять злословие, не обращай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Двойная стрелка влево/вправо 3"/>
          <p:cNvSpPr/>
          <p:nvPr/>
        </p:nvSpPr>
        <p:spPr>
          <a:xfrm>
            <a:off x="2666880" y="3352680"/>
            <a:ext cx="4492800" cy="1600200"/>
          </a:xfrm>
          <a:prstGeom prst="left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е слово леч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лое калеч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Двойная стрелка влево/вправо 4"/>
          <p:cNvSpPr/>
          <p:nvPr/>
        </p:nvSpPr>
        <p:spPr>
          <a:xfrm>
            <a:off x="2514600" y="5105520"/>
            <a:ext cx="4876920" cy="1600200"/>
          </a:xfrm>
          <a:prstGeom prst="left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лословь, чтоб не просить прощенья у совести сво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1219320" y="228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ты от всей душ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квернословие </a:t>
            </a: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– «речь, наполненная неприличными выражениями, непристойными словами, брань»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47560" y="15235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х!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ые языки страшнее пистолета!»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 Грибо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ктуальность</a:t>
            </a: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: Проблема сквернословия становится острой среди детей начальной школы.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34960" y="17521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нословие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сквернословия на здоровье челове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лияние сквернословия на здоровье челове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дачи исследования: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литературные и информационные источники по данному вопросу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разные проявления сквернослов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отрицательное влияние сквернословия на здоровье челове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исследовательский опыт и анкетирование обучающихся 4 классов школ Томаринского района на тему «Сквернословие в моей жизни»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результаты анкетиров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34960" y="304920"/>
            <a:ext cx="7499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и анализ литературных и информационных источников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й опыт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нословие оказывает негативное влияние на здоровье челове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438280" y="228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886200" y="1219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1143000" y="1295280"/>
            <a:ext cx="2362320" cy="1295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ивычное – лю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 невысоким уровн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3657600" y="1295280"/>
            <a:ext cx="2438280" cy="1295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Аффекти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эмоциональная реа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ловека на ситу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6248520" y="1295280"/>
            <a:ext cx="2666880" cy="1295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Намеренный  вызов общ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0"/>
          <p:cNvSpPr/>
          <p:nvPr/>
        </p:nvSpPr>
        <p:spPr>
          <a:xfrm>
            <a:off x="2514600" y="228600"/>
            <a:ext cx="5105520" cy="76212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носло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14"/>
          <p:cNvCxnSpPr/>
          <p:nvPr/>
        </p:nvCxnSpPr>
        <p:spPr>
          <a:xfrm flipH="1">
            <a:off x="3123360" y="989640"/>
            <a:ext cx="1143720" cy="2293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68" name="Прямая со стрелкой 16"/>
          <p:cNvCxnSpPr/>
          <p:nvPr/>
        </p:nvCxnSpPr>
        <p:spPr>
          <a:xfrm flipH="1">
            <a:off x="4874400" y="1068120"/>
            <a:ext cx="3960" cy="15300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69" name="Прямая со стрелкой 18"/>
          <p:cNvCxnSpPr/>
          <p:nvPr/>
        </p:nvCxnSpPr>
        <p:spPr>
          <a:xfrm>
            <a:off x="5638680" y="990360"/>
            <a:ext cx="1372320" cy="2293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sp>
        <p:nvSpPr>
          <p:cNvPr id="70" name="Прямоугольник 19"/>
          <p:cNvSpPr/>
          <p:nvPr/>
        </p:nvSpPr>
        <p:spPr>
          <a:xfrm flipH="1" flipV="1" rot="10800000">
            <a:off x="1446840" y="3505320"/>
            <a:ext cx="1981080" cy="9144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0"/>
          <p:cNvSpPr/>
          <p:nvPr/>
        </p:nvSpPr>
        <p:spPr>
          <a:xfrm flipH="1" flipV="1" rot="10800000">
            <a:off x="3808800" y="3505320"/>
            <a:ext cx="2133720" cy="9144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перамент, поведение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1"/>
          <p:cNvSpPr/>
          <p:nvPr/>
        </p:nvSpPr>
        <p:spPr>
          <a:xfrm>
            <a:off x="6477120" y="3505320"/>
            <a:ext cx="2286000" cy="9144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Индивидуальное воспитан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23"/>
          <p:cNvCxnSpPr/>
          <p:nvPr/>
        </p:nvCxnSpPr>
        <p:spPr>
          <a:xfrm flipH="1">
            <a:off x="2285640" y="2668680"/>
            <a:ext cx="2160" cy="6847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74" name="Прямая со стрелкой 26"/>
          <p:cNvCxnSpPr/>
          <p:nvPr/>
        </p:nvCxnSpPr>
        <p:spPr>
          <a:xfrm flipH="1">
            <a:off x="4798800" y="2668680"/>
            <a:ext cx="3600" cy="76248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75" name="Прямая со стрелкой 28"/>
          <p:cNvCxnSpPr/>
          <p:nvPr/>
        </p:nvCxnSpPr>
        <p:spPr>
          <a:xfrm flipH="1">
            <a:off x="7619760" y="2666520"/>
            <a:ext cx="2160" cy="68508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sp>
        <p:nvSpPr>
          <p:cNvPr id="76" name="Прямоугольник 30"/>
          <p:cNvSpPr/>
          <p:nvPr/>
        </p:nvSpPr>
        <p:spPr>
          <a:xfrm>
            <a:off x="1219320" y="5105520"/>
            <a:ext cx="2361960" cy="12952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ультурный вакуум, царящий в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1"/>
          <p:cNvSpPr/>
          <p:nvPr/>
        </p:nvSpPr>
        <p:spPr>
          <a:xfrm>
            <a:off x="3733920" y="5105520"/>
            <a:ext cx="2361960" cy="12952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нутренний взрыв эмо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2"/>
          <p:cNvSpPr/>
          <p:nvPr/>
        </p:nvSpPr>
        <p:spPr>
          <a:xfrm>
            <a:off x="6248520" y="5105520"/>
            <a:ext cx="2361960" cy="12952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зрушить общепринятые правила при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38"/>
          <p:cNvCxnSpPr/>
          <p:nvPr/>
        </p:nvCxnSpPr>
        <p:spPr>
          <a:xfrm flipH="1">
            <a:off x="2284200" y="4420800"/>
            <a:ext cx="3600" cy="6865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80" name="Прямая со стрелкой 44"/>
          <p:cNvCxnSpPr/>
          <p:nvPr/>
        </p:nvCxnSpPr>
        <p:spPr>
          <a:xfrm flipH="1">
            <a:off x="4722120" y="4420800"/>
            <a:ext cx="3960" cy="6865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81" name="Прямая со стрелкой 48"/>
          <p:cNvCxnSpPr>
            <a:stCxn id="72" idx="2"/>
          </p:cNvCxnSpPr>
          <p:nvPr/>
        </p:nvCxnSpPr>
        <p:spPr>
          <a:xfrm flipH="1">
            <a:off x="7617600" y="4420800"/>
            <a:ext cx="3960" cy="6865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124080" y="533520"/>
            <a:ext cx="5791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износимые слова оказ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ое влияние на структуру воды, а   значит – на здоровье человек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ский исследовател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асару Эмо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1172673554_kinder_photoshop_001"/>
          <p:cNvPicPr/>
          <p:nvPr/>
        </p:nvPicPr>
        <p:blipFill>
          <a:blip r:embed="rId1"/>
          <a:stretch/>
        </p:blipFill>
        <p:spPr>
          <a:xfrm>
            <a:off x="5486400" y="2895480"/>
            <a:ext cx="3510000" cy="373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1283079910_bb8ca49f7556"/>
          <p:cNvPicPr/>
          <p:nvPr/>
        </p:nvPicPr>
        <p:blipFill>
          <a:blip r:embed="rId2"/>
          <a:stretch/>
        </p:blipFill>
        <p:spPr>
          <a:xfrm>
            <a:off x="1143000" y="2895480"/>
            <a:ext cx="3733920" cy="3810240"/>
          </a:xfrm>
          <a:prstGeom prst="rect">
            <a:avLst/>
          </a:prstGeom>
          <a:ln w="0">
            <a:noFill/>
          </a:ln>
        </p:spPr>
      </p:pic>
      <p:sp>
        <p:nvSpPr>
          <p:cNvPr id="85" name="6-конечная звезда 4"/>
          <p:cNvSpPr/>
          <p:nvPr/>
        </p:nvSpPr>
        <p:spPr>
          <a:xfrm>
            <a:off x="3809880" y="5029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ятно 2 5"/>
          <p:cNvSpPr/>
          <p:nvPr/>
        </p:nvSpPr>
        <p:spPr>
          <a:xfrm>
            <a:off x="7696080" y="5410080"/>
            <a:ext cx="1219320" cy="1143000"/>
          </a:xfrm>
          <a:prstGeom prst="irregularSeal2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ANd9GcQRkEySPMncAnP75bj6tUDYaBC4gIcEefcm7mJ9CniDCy-QjK6PYxRbmkzfmw"/>
          <p:cNvPicPr/>
          <p:nvPr/>
        </p:nvPicPr>
        <p:blipFill>
          <a:blip r:embed="rId3"/>
          <a:stretch/>
        </p:blipFill>
        <p:spPr>
          <a:xfrm>
            <a:off x="2286000" y="914400"/>
            <a:ext cx="1068480" cy="167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dremoto"/>
          <p:cNvPicPr/>
          <p:nvPr/>
        </p:nvPicPr>
        <p:blipFill>
          <a:blip r:embed="rId4"/>
          <a:stretch/>
        </p:blipFill>
        <p:spPr>
          <a:xfrm>
            <a:off x="1295280" y="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Выноска-облако 1"/>
          <p:cNvSpPr/>
          <p:nvPr/>
        </p:nvSpPr>
        <p:spPr>
          <a:xfrm>
            <a:off x="1066680" y="0"/>
            <a:ext cx="8077320" cy="2743200"/>
          </a:xfrm>
          <a:prstGeom prst="cloudCallout">
            <a:avLst>
              <a:gd name="adj1" fmla="val -18828"/>
              <a:gd name="adj2" fmla="val 62500"/>
            </a:avLst>
          </a:prstGeom>
          <a:solidFill>
            <a:srgbClr val="96e1f8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нормативная лексика очень активно воздействует на организм человека, со временем губит всё живо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льский учё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надий Чеу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Выноска-облако 2"/>
          <p:cNvSpPr/>
          <p:nvPr/>
        </p:nvSpPr>
        <p:spPr>
          <a:xfrm rot="246000">
            <a:off x="1661760" y="3690720"/>
            <a:ext cx="3106800" cy="1855800"/>
          </a:xfrm>
          <a:prstGeom prst="cloudCallout">
            <a:avLst>
              <a:gd name="adj1" fmla="val -2828"/>
              <a:gd name="adj2" fmla="val 23041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ит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Выноска-облако 3"/>
          <p:cNvSpPr/>
          <p:nvPr/>
        </p:nvSpPr>
        <p:spPr>
          <a:xfrm rot="287400">
            <a:off x="5573880" y="3687480"/>
            <a:ext cx="3073320" cy="1816200"/>
          </a:xfrm>
          <a:prstGeom prst="cloudCallout">
            <a:avLst>
              <a:gd name="adj1" fmla="val -1421"/>
              <a:gd name="adj2" fmla="val 15509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нн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ьная выноска 4"/>
          <p:cNvSpPr/>
          <p:nvPr/>
        </p:nvSpPr>
        <p:spPr>
          <a:xfrm rot="18236400">
            <a:off x="1951560" y="2760840"/>
            <a:ext cx="399960" cy="325440"/>
          </a:xfrm>
          <a:prstGeom prst="wedgeEllipseCallout">
            <a:avLst>
              <a:gd name="adj1" fmla="val 93842"/>
              <a:gd name="adj2" fmla="val -3023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ьная выноска 5"/>
          <p:cNvSpPr/>
          <p:nvPr/>
        </p:nvSpPr>
        <p:spPr>
          <a:xfrm rot="15706200">
            <a:off x="5955480" y="3307680"/>
            <a:ext cx="411120" cy="225360"/>
          </a:xfrm>
          <a:prstGeom prst="wedgeEllipseCallout">
            <a:avLst>
              <a:gd name="adj1" fmla="val 68226"/>
              <a:gd name="adj2" fmla="val 5703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ьная выноска 6"/>
          <p:cNvSpPr/>
          <p:nvPr/>
        </p:nvSpPr>
        <p:spPr>
          <a:xfrm rot="15123600">
            <a:off x="7079400" y="2902320"/>
            <a:ext cx="347760" cy="238320"/>
          </a:xfrm>
          <a:prstGeom prst="wedgeEllipseCallout">
            <a:avLst>
              <a:gd name="adj1" fmla="val 99555"/>
              <a:gd name="adj2" fmla="val -23194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ьная выноска 7"/>
          <p:cNvSpPr/>
          <p:nvPr/>
        </p:nvSpPr>
        <p:spPr>
          <a:xfrm rot="16906800">
            <a:off x="4086000" y="6051600"/>
            <a:ext cx="511200" cy="355320"/>
          </a:xfrm>
          <a:prstGeom prst="wedgeEllipseCallout">
            <a:avLst>
              <a:gd name="adj1" fmla="val 84467"/>
              <a:gd name="adj2" fmla="val 3874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ьная выноска 8"/>
          <p:cNvSpPr/>
          <p:nvPr/>
        </p:nvSpPr>
        <p:spPr>
          <a:xfrm rot="16906800">
            <a:off x="1875960" y="5898600"/>
            <a:ext cx="511200" cy="355680"/>
          </a:xfrm>
          <a:prstGeom prst="wedgeEllipseCallout">
            <a:avLst>
              <a:gd name="adj1" fmla="val 84467"/>
              <a:gd name="adj2" fmla="val 3874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ьная выноска 9"/>
          <p:cNvSpPr/>
          <p:nvPr/>
        </p:nvSpPr>
        <p:spPr>
          <a:xfrm rot="15706200">
            <a:off x="4583880" y="3079080"/>
            <a:ext cx="411120" cy="225360"/>
          </a:xfrm>
          <a:prstGeom prst="wedgeEllipseCallout">
            <a:avLst>
              <a:gd name="adj1" fmla="val 68226"/>
              <a:gd name="adj2" fmla="val 5703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ьная выноска 10"/>
          <p:cNvSpPr/>
          <p:nvPr/>
        </p:nvSpPr>
        <p:spPr>
          <a:xfrm rot="14970000">
            <a:off x="8556120" y="2360160"/>
            <a:ext cx="371520" cy="304920"/>
          </a:xfrm>
          <a:prstGeom prst="wedgeEllipseCallout">
            <a:avLst>
              <a:gd name="adj1" fmla="val 106189"/>
              <a:gd name="adj2" fmla="val -26726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ьная выноска 11"/>
          <p:cNvSpPr/>
          <p:nvPr/>
        </p:nvSpPr>
        <p:spPr>
          <a:xfrm rot="16906800">
            <a:off x="5990760" y="5974920"/>
            <a:ext cx="511200" cy="355680"/>
          </a:xfrm>
          <a:prstGeom prst="wedgeEllipseCallout">
            <a:avLst>
              <a:gd name="adj1" fmla="val 84467"/>
              <a:gd name="adj2" fmla="val 3874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ьная выноска 12"/>
          <p:cNvSpPr/>
          <p:nvPr/>
        </p:nvSpPr>
        <p:spPr>
          <a:xfrm rot="15379200">
            <a:off x="8521560" y="5979960"/>
            <a:ext cx="698400" cy="393480"/>
          </a:xfrm>
          <a:prstGeom prst="wedgeEllipseCallout">
            <a:avLst>
              <a:gd name="adj1" fmla="val 88319"/>
              <a:gd name="adj2" fmla="val -14055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5" descr="ANd9GcRGvZn_7Q-XobBePX4UGNt2gUNRaP9WN_SmSj8GFzerxcK01GnsMw"/>
          <p:cNvPicPr/>
          <p:nvPr/>
        </p:nvPicPr>
        <p:blipFill>
          <a:blip r:embed="rId1"/>
          <a:stretch/>
        </p:blipFill>
        <p:spPr>
          <a:xfrm>
            <a:off x="990720" y="0"/>
            <a:ext cx="152388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971800" y="228600"/>
            <a:ext cx="61722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вернословие оказывает необратимое влияние на генетический аппарат человека, приводя к серьёзным наследственным нарушения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к П.П.Гаряч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105520" y="289548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00032782_n1"/>
          <p:cNvPicPr/>
          <p:nvPr/>
        </p:nvPicPr>
        <p:blipFill>
          <a:blip r:embed="rId1"/>
          <a:stretch/>
        </p:blipFill>
        <p:spPr>
          <a:xfrm>
            <a:off x="1600200" y="2286000"/>
            <a:ext cx="3162240" cy="4226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587237765"/>
          <p:cNvPicPr/>
          <p:nvPr/>
        </p:nvPicPr>
        <p:blipFill>
          <a:blip r:embed="rId2"/>
          <a:stretch/>
        </p:blipFill>
        <p:spPr>
          <a:xfrm>
            <a:off x="5029200" y="2590920"/>
            <a:ext cx="3838680" cy="388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garyaev_cam"/>
          <p:cNvPicPr/>
          <p:nvPr/>
        </p:nvPicPr>
        <p:blipFill>
          <a:blip r:embed="rId3"/>
          <a:stretch/>
        </p:blipFill>
        <p:spPr>
          <a:xfrm>
            <a:off x="1066680" y="15228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1:29:10Z</dcterms:created>
  <dc:creator>Татьяна Ивановна</dc:creator>
  <dc:description/>
  <dc:language>en-US</dc:language>
  <cp:lastModifiedBy>dom</cp:lastModifiedBy>
  <dcterms:modified xsi:type="dcterms:W3CDTF">2019-03-15T12:16:54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