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6.jpeg" ContentType="image/jpeg"/>
  <Override PartName="/ppt/media/image4.gif" ContentType="image/gif"/>
  <Override PartName="/ppt/media/image1.jpeg" ContentType="image/jpeg"/>
  <Override PartName="/ppt/media/image26.gif" ContentType="image/gif"/>
  <Override PartName="/ppt/media/image20.jpeg" ContentType="image/jpeg"/>
  <Override PartName="/ppt/media/image15.jpeg" ContentType="image/jpeg"/>
  <Override PartName="/ppt/media/image2.jpeg" ContentType="image/jpeg"/>
  <Override PartName="/ppt/media/image25.jpeg" ContentType="image/jpeg"/>
  <Override PartName="/ppt/media/image22.gif" ContentType="image/gif"/>
  <Override PartName="/ppt/media/image14.png" ContentType="image/png"/>
  <Override PartName="/ppt/media/image21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2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F805-7182-4966-B4CC-2969E9B485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2BF2-9A79-480E-A219-F8EB6D13B5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AE9F-6758-4529-BCC8-E1639DCF4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D3C9-1510-4978-BEDC-E3661DB1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07B6-E2E6-4638-9DC3-5621F962D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1968-43D8-443B-8DC9-1D5873ECE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1402-0BD6-473B-9A3C-74431FCB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B7D1-2BD1-4D44-BA18-79F84BE2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4BB1-8142-4CD3-8D18-AB4851EA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1268-8DF6-407E-AE0B-7A1E65D4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0044-1DE3-45C3-AAD6-8183EF6E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8D3E-F310-4BCC-9000-B7CC2C1E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5CCD-4541-4CC1-8D59-586BECD5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EF2C-C554-44EB-826C-71A2D5EE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A1DF-01E9-49AA-81A5-CE5EA7052F31}" type="slidenum">
              <a:rPr b="0" lang="ru-RU" sz="1200" spc="-1" strike="noStrike">
                <a:solidFill>
                  <a:srgbClr val="8dae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55400" y="385920"/>
            <a:ext cx="667548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95a74"/>
                </a:solidFill>
                <a:latin typeface="Times New Roman"/>
                <a:ea typeface="Times New Roman"/>
              </a:rPr>
              <a:t>Исследовательская работа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371240" y="1371240"/>
            <a:ext cx="7497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лияние сквернословия на здоровье человека»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тере Милана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а 4 класса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СОШ № 31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Южно-Сахалинск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6г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2" name="Picture 7" descr="smailik-298x300"/>
          <p:cNvPicPr/>
          <p:nvPr/>
        </p:nvPicPr>
        <p:blipFill>
          <a:blip r:embed="rId1"/>
          <a:stretch/>
        </p:blipFill>
        <p:spPr>
          <a:xfrm>
            <a:off x="2362320" y="3276720"/>
            <a:ext cx="3066840" cy="308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http://www.vokrugsveta.ru/img/ann/news/main/2009/02/24/5993.jpg"/>
          <p:cNvPicPr/>
          <p:nvPr/>
        </p:nvPicPr>
        <p:blipFill>
          <a:blip r:embed="rId1"/>
          <a:stretch/>
        </p:blipFill>
        <p:spPr>
          <a:xfrm>
            <a:off x="1295280" y="152280"/>
            <a:ext cx="1981440" cy="24386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"/>
          <p:cNvSpPr/>
          <p:nvPr/>
        </p:nvSpPr>
        <p:spPr>
          <a:xfrm>
            <a:off x="4114800" y="313920"/>
            <a:ext cx="47242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юди, которые регулярно бранятся,  живут меньше  чем те, кто не сквернословит…!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биологических на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Б.Беля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 группа учё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feaa15ca3c8fe9cee03e8d77d0179880"/>
          <p:cNvPicPr/>
          <p:nvPr/>
        </p:nvPicPr>
        <p:blipFill>
          <a:blip r:embed="rId2"/>
          <a:stretch/>
        </p:blipFill>
        <p:spPr>
          <a:xfrm>
            <a:off x="2743200" y="2743200"/>
            <a:ext cx="5410080" cy="39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218960" y="-360"/>
            <a:ext cx="749916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42"/>
          <p:cNvPicPr/>
          <p:nvPr/>
        </p:nvPicPr>
        <p:blipFill>
          <a:blip r:embed="rId1"/>
          <a:stretch/>
        </p:blipFill>
        <p:spPr>
          <a:xfrm>
            <a:off x="7010280" y="-685800"/>
            <a:ext cx="2133720" cy="251460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5"/>
          <p:cNvSpPr/>
          <p:nvPr/>
        </p:nvSpPr>
        <p:spPr>
          <a:xfrm>
            <a:off x="1371600" y="2286000"/>
            <a:ext cx="1600200" cy="403848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754920 h 4038480"/>
              <a:gd name="textAreaBottom" fmla="*/ 268632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077" stAng="-5400000" swAng="-5400000"/>
                <a:lnTo>
                  <a:pt x="0" y="10329"/>
                </a:lnTo>
                <a:arcTo wR="21600" hR="8077" stAng="10800000" swAng="-3207613"/>
                <a:lnTo>
                  <a:pt x="15832" y="21307"/>
                </a:lnTo>
                <a:lnTo>
                  <a:pt x="21600" y="17280"/>
                </a:lnTo>
                <a:lnTo>
                  <a:pt x="15832" y="12667"/>
                </a:lnTo>
                <a:lnTo>
                  <a:pt x="15832" y="15861"/>
                </a:lnTo>
                <a:arcTo wR="21600" hR="8077" stAng="7592387" swAng="3026804"/>
                <a:lnTo>
                  <a:pt x="211" y="9203"/>
                </a:lnTo>
                <a:arcTo wR="21600" hR="8077" stAng="-10619191" swAng="5219191"/>
                <a:close/>
              </a:path>
              <a:path fill="darkenLess" w="21600" h="21600">
                <a:moveTo>
                  <a:pt x="21600" y="0"/>
                </a:moveTo>
                <a:arcTo wR="21600" hR="8077" stAng="-5400000" swAng="-5400000"/>
                <a:lnTo>
                  <a:pt x="0" y="8077"/>
                </a:lnTo>
                <a:arcTo wR="21600" hR="8077" stAng="10800000" swAng="-180809"/>
                <a:lnTo>
                  <a:pt x="211" y="9203"/>
                </a:lnTo>
                <a:arcTo wR="21600" hR="8077" stAng="-10619191" swAng="5219191"/>
                <a:close/>
              </a:path>
            </a:pathLst>
          </a:cu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7086600" y="2133720"/>
            <a:ext cx="1676520" cy="4114800"/>
          </a:xfrm>
          <a:custGeom>
            <a:avLst/>
            <a:gdLst>
              <a:gd name="textAreaLeft" fmla="*/ 224640 w 1676520"/>
              <a:gd name="textAreaRight" fmla="*/ 1451880 w 1676520"/>
              <a:gd name="textAreaTop" fmla="*/ 762480 h 4114800"/>
              <a:gd name="textAreaBottom" fmla="*/ 271224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008" stAng="-5400000" swAng="5400000"/>
                <a:lnTo>
                  <a:pt x="21600" y="10234"/>
                </a:lnTo>
                <a:arcTo wR="21600" hR="8008" stAng="0" swAng="2781562"/>
                <a:lnTo>
                  <a:pt x="7200" y="21142"/>
                </a:lnTo>
                <a:lnTo>
                  <a:pt x="0" y="17129"/>
                </a:lnTo>
                <a:lnTo>
                  <a:pt x="7200" y="12200"/>
                </a:lnTo>
                <a:lnTo>
                  <a:pt x="7200" y="15558"/>
                </a:lnTo>
                <a:arcTo wR="21600" hR="8008" stAng="2781562" swAng="-2602847"/>
                <a:lnTo>
                  <a:pt x="21390" y="9121"/>
                </a:lnTo>
                <a:arcTo wR="21600" hR="8008" stAng="-178714" swAng="-5221286"/>
                <a:close/>
              </a:path>
              <a:path fill="darkenLess" w="21600" h="21600">
                <a:moveTo>
                  <a:pt x="0" y="0"/>
                </a:moveTo>
                <a:arcTo wR="21600" hR="8008" stAng="-5400000" swAng="5400000"/>
                <a:lnTo>
                  <a:pt x="21600" y="10234"/>
                </a:lnTo>
                <a:arcTo wR="21600" hR="8008" stAng="0" swAng="-178714"/>
                <a:lnTo>
                  <a:pt x="21390" y="9121"/>
                </a:lnTo>
                <a:arcTo wR="21600" hR="8008" stAng="-178714" swAng="-5221286"/>
                <a:close/>
              </a:path>
            </a:pathLst>
          </a:cu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3048120" y="685800"/>
            <a:ext cx="3962160" cy="1981080"/>
          </a:xfrm>
          <a:prstGeom prst="flowChartPunchedTape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вернослов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нормальная лекс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ранная реч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3276720" y="4419720"/>
            <a:ext cx="3429000" cy="2209680"/>
          </a:xfrm>
          <a:prstGeom prst="flowChartPunchedTape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доров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0" descr="uchitel-uchenik"/>
          <p:cNvPicPr/>
          <p:nvPr/>
        </p:nvPicPr>
        <p:blipFill>
          <a:blip r:embed="rId2"/>
          <a:stretch/>
        </p:blipFill>
        <p:spPr>
          <a:xfrm>
            <a:off x="990720" y="0"/>
            <a:ext cx="2743200" cy="22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2443680" y="304920"/>
            <a:ext cx="55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157a"/>
                </a:solidFill>
                <a:latin typeface="Arial"/>
              </a:rPr>
              <a:t>Исследовательский опы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C:\Users\user\Desktop\DSC00089.JPG"/>
          <p:cNvPicPr/>
          <p:nvPr/>
        </p:nvPicPr>
        <p:blipFill>
          <a:blip r:embed="rId1"/>
          <a:stretch/>
        </p:blipFill>
        <p:spPr>
          <a:xfrm>
            <a:off x="5486400" y="914400"/>
            <a:ext cx="3352680" cy="2157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C:\Users\user\Desktop\4 класс\S8004351.JPG"/>
          <p:cNvPicPr/>
          <p:nvPr/>
        </p:nvPicPr>
        <p:blipFill>
          <a:blip r:embed="rId2"/>
          <a:stretch/>
        </p:blipFill>
        <p:spPr>
          <a:xfrm>
            <a:off x="1143000" y="914400"/>
            <a:ext cx="2057400" cy="2209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C:\Users\user\Desktop\4 класс\S8004353.JPG"/>
          <p:cNvPicPr/>
          <p:nvPr/>
        </p:nvPicPr>
        <p:blipFill>
          <a:blip r:embed="rId3"/>
          <a:stretch/>
        </p:blipFill>
        <p:spPr>
          <a:xfrm>
            <a:off x="3200400" y="914400"/>
            <a:ext cx="2286000" cy="2209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C:\Users\user\Desktop\4 класс\S8004355.JPG"/>
          <p:cNvPicPr/>
          <p:nvPr/>
        </p:nvPicPr>
        <p:blipFill>
          <a:blip r:embed="rId4"/>
          <a:stretch/>
        </p:blipFill>
        <p:spPr>
          <a:xfrm>
            <a:off x="1066680" y="3962520"/>
            <a:ext cx="2362320" cy="2190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C:\Users\user\Desktop\4 класс\S8004354.JPG"/>
          <p:cNvPicPr/>
          <p:nvPr/>
        </p:nvPicPr>
        <p:blipFill>
          <a:blip r:embed="rId5"/>
          <a:stretch/>
        </p:blipFill>
        <p:spPr>
          <a:xfrm>
            <a:off x="3276720" y="3962520"/>
            <a:ext cx="2361960" cy="2209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a_glas_of_water_sas"/>
          <p:cNvPicPr/>
          <p:nvPr/>
        </p:nvPicPr>
        <p:blipFill>
          <a:blip r:embed="rId6"/>
          <a:stretch/>
        </p:blipFill>
        <p:spPr>
          <a:xfrm>
            <a:off x="5562720" y="3886200"/>
            <a:ext cx="418932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219320" y="138240"/>
            <a:ext cx="7619760" cy="66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Сквернословие в мое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ак ты думаешь, почему человек в своей речи употребляет бранные слова, ругатель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Как часто ты используешь в своей речи бранные сло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Если ты используешь в своей речи бранные слова (мат, ругательства), то объясни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Как ты думаешь, как влияют на твое здоровье бранные сло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Если бы ты знал, что бранные слова плохо влияют на твое здоровье, ты бы перестал употреблять их в своей реч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Хочешь ли ты, чтобы твои будущие дети в своей речи использовали бранные сло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Как ты думаешь, что нужно сделать, чтобы люди (дети) не употребляли бранных сл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Лента лицом вниз 5"/>
          <p:cNvSpPr/>
          <p:nvPr/>
        </p:nvSpPr>
        <p:spPr>
          <a:xfrm>
            <a:off x="990720" y="152280"/>
            <a:ext cx="8153280" cy="990720"/>
          </a:xfrm>
          <a:custGeom>
            <a:avLst/>
            <a:gdLst>
              <a:gd name="textAreaLeft" fmla="*/ 2038320 w 8153280"/>
              <a:gd name="textAreaRight" fmla="*/ 6114960 w 8153280"/>
              <a:gd name="textAreaTop" fmla="*/ 26316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1435" stAng="16200000" swAng="5400000"/>
                <a:lnTo>
                  <a:pt x="8100" y="5741"/>
                </a:lnTo>
                <a:lnTo>
                  <a:pt x="13500" y="5741"/>
                </a:lnTo>
                <a:lnTo>
                  <a:pt x="13500" y="1435"/>
                </a:lnTo>
                <a:arcTo wR="675" hR="1435" stAng="10800000" swAng="5400000"/>
                <a:lnTo>
                  <a:pt x="21600" y="0"/>
                </a:lnTo>
                <a:lnTo>
                  <a:pt x="18900" y="7930"/>
                </a:lnTo>
                <a:lnTo>
                  <a:pt x="21600" y="15859"/>
                </a:lnTo>
                <a:lnTo>
                  <a:pt x="16200" y="15859"/>
                </a:lnTo>
                <a:lnTo>
                  <a:pt x="16200" y="20165"/>
                </a:lnTo>
                <a:arcTo wR="675" hR="1435" stAng="0" swAng="5400000"/>
                <a:lnTo>
                  <a:pt x="6075" y="21600"/>
                </a:lnTo>
                <a:arcTo wR="675" hR="1435" stAng="5400000" swAng="5400000"/>
                <a:lnTo>
                  <a:pt x="5400" y="15859"/>
                </a:lnTo>
                <a:lnTo>
                  <a:pt x="0" y="15859"/>
                </a:lnTo>
                <a:lnTo>
                  <a:pt x="2700" y="7930"/>
                </a:lnTo>
                <a:close/>
              </a:path>
              <a:path fill="none" w="21600" h="21600">
                <a:moveTo>
                  <a:pt x="8100" y="1435"/>
                </a:moveTo>
                <a:arcTo wR="675" hR="1435" stAng="0" swAng="5400000"/>
                <a:lnTo>
                  <a:pt x="6075" y="2871"/>
                </a:lnTo>
                <a:arcTo wR="675" hR="1435" stAng="16200000" swAng="-5400000"/>
                <a:arcTo wR="675" hR="1435" stAng="10800000" swAng="-5400000"/>
                <a:lnTo>
                  <a:pt x="8100" y="5741"/>
                </a:lnTo>
              </a:path>
              <a:path fill="none" w="21600" h="21600">
                <a:moveTo>
                  <a:pt x="13500" y="1435"/>
                </a:moveTo>
                <a:arcTo wR="675" hR="1435" stAng="10800000" swAng="-5400000"/>
                <a:lnTo>
                  <a:pt x="15525" y="2871"/>
                </a:lnTo>
                <a:arcTo wR="675" hR="1435" stAng="16200000" swAng="5400000"/>
                <a:arcTo wR="675" hR="1435" stAng="0" swAng="5400000"/>
                <a:lnTo>
                  <a:pt x="13500" y="5741"/>
                </a:lnTo>
              </a:path>
              <a:path fill="none" w="21600" h="21600">
                <a:moveTo>
                  <a:pt x="5400" y="4306"/>
                </a:moveTo>
                <a:lnTo>
                  <a:pt x="5400" y="15859"/>
                </a:lnTo>
              </a:path>
              <a:path fill="none" w="21600" h="21600">
                <a:moveTo>
                  <a:pt x="16200" y="4306"/>
                </a:moveTo>
                <a:lnTo>
                  <a:pt x="16200" y="15859"/>
                </a:lnTo>
              </a:path>
            </a:pathLst>
          </a:custGeom>
          <a:solidFill>
            <a:srgbClr val="f3fa94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ять стр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Лента лицом вниз 6"/>
          <p:cNvSpPr/>
          <p:nvPr/>
        </p:nvSpPr>
        <p:spPr>
          <a:xfrm>
            <a:off x="990720" y="1143000"/>
            <a:ext cx="8153280" cy="1143000"/>
          </a:xfrm>
          <a:custGeom>
            <a:avLst/>
            <a:gdLst>
              <a:gd name="textAreaLeft" fmla="*/ 2038320 w 8153280"/>
              <a:gd name="textAreaRight" fmla="*/ 6114960 w 8153280"/>
              <a:gd name="textAreaTop" fmla="*/ 30384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1435" stAng="16200000" swAng="5400000"/>
                <a:lnTo>
                  <a:pt x="8100" y="5741"/>
                </a:lnTo>
                <a:lnTo>
                  <a:pt x="13500" y="5741"/>
                </a:lnTo>
                <a:lnTo>
                  <a:pt x="13500" y="1435"/>
                </a:lnTo>
                <a:arcTo wR="675" hR="1435" stAng="10800000" swAng="5400000"/>
                <a:lnTo>
                  <a:pt x="21600" y="0"/>
                </a:lnTo>
                <a:lnTo>
                  <a:pt x="18900" y="7930"/>
                </a:lnTo>
                <a:lnTo>
                  <a:pt x="21600" y="15859"/>
                </a:lnTo>
                <a:lnTo>
                  <a:pt x="16200" y="15859"/>
                </a:lnTo>
                <a:lnTo>
                  <a:pt x="16200" y="20165"/>
                </a:lnTo>
                <a:arcTo wR="675" hR="1435" stAng="0" swAng="5400000"/>
                <a:lnTo>
                  <a:pt x="6075" y="21600"/>
                </a:lnTo>
                <a:arcTo wR="675" hR="1435" stAng="5400000" swAng="5400000"/>
                <a:lnTo>
                  <a:pt x="5400" y="15859"/>
                </a:lnTo>
                <a:lnTo>
                  <a:pt x="0" y="15859"/>
                </a:lnTo>
                <a:lnTo>
                  <a:pt x="2700" y="7930"/>
                </a:lnTo>
                <a:close/>
              </a:path>
              <a:path fill="none" w="21600" h="21600">
                <a:moveTo>
                  <a:pt x="8100" y="1435"/>
                </a:moveTo>
                <a:arcTo wR="675" hR="1435" stAng="0" swAng="5400000"/>
                <a:lnTo>
                  <a:pt x="6075" y="2871"/>
                </a:lnTo>
                <a:arcTo wR="675" hR="1435" stAng="16200000" swAng="-5400000"/>
                <a:arcTo wR="675" hR="1435" stAng="10800000" swAng="-5400000"/>
                <a:lnTo>
                  <a:pt x="8100" y="5741"/>
                </a:lnTo>
              </a:path>
              <a:path fill="none" w="21600" h="21600">
                <a:moveTo>
                  <a:pt x="13500" y="1435"/>
                </a:moveTo>
                <a:arcTo wR="675" hR="1435" stAng="10800000" swAng="-5400000"/>
                <a:lnTo>
                  <a:pt x="15525" y="2871"/>
                </a:lnTo>
                <a:arcTo wR="675" hR="1435" stAng="16200000" swAng="5400000"/>
                <a:arcTo wR="675" hR="1435" stAng="0" swAng="5400000"/>
                <a:lnTo>
                  <a:pt x="13500" y="5741"/>
                </a:lnTo>
              </a:path>
              <a:path fill="none" w="21600" h="21600">
                <a:moveTo>
                  <a:pt x="5400" y="4306"/>
                </a:moveTo>
                <a:lnTo>
                  <a:pt x="5400" y="15859"/>
                </a:lnTo>
              </a:path>
              <a:path fill="none" w="21600" h="21600">
                <a:moveTo>
                  <a:pt x="16200" y="4306"/>
                </a:moveTo>
                <a:lnTo>
                  <a:pt x="16200" y="15859"/>
                </a:lnTo>
              </a:path>
            </a:pathLst>
          </a:custGeom>
          <a:solidFill>
            <a:srgbClr val="f3fa94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деть, оскорбить собесед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Лента лицом вниз 7"/>
          <p:cNvSpPr/>
          <p:nvPr/>
        </p:nvSpPr>
        <p:spPr>
          <a:xfrm>
            <a:off x="990720" y="2286000"/>
            <a:ext cx="8153280" cy="1143000"/>
          </a:xfrm>
          <a:custGeom>
            <a:avLst/>
            <a:gdLst>
              <a:gd name="textAreaLeft" fmla="*/ 2038320 w 8153280"/>
              <a:gd name="textAreaRight" fmla="*/ 6114960 w 8153280"/>
              <a:gd name="textAreaTop" fmla="*/ 30384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1435" stAng="16200000" swAng="5400000"/>
                <a:lnTo>
                  <a:pt x="8100" y="5741"/>
                </a:lnTo>
                <a:lnTo>
                  <a:pt x="13500" y="5741"/>
                </a:lnTo>
                <a:lnTo>
                  <a:pt x="13500" y="1435"/>
                </a:lnTo>
                <a:arcTo wR="675" hR="1435" stAng="10800000" swAng="5400000"/>
                <a:lnTo>
                  <a:pt x="21600" y="0"/>
                </a:lnTo>
                <a:lnTo>
                  <a:pt x="18900" y="7930"/>
                </a:lnTo>
                <a:lnTo>
                  <a:pt x="21600" y="15859"/>
                </a:lnTo>
                <a:lnTo>
                  <a:pt x="16200" y="15859"/>
                </a:lnTo>
                <a:lnTo>
                  <a:pt x="16200" y="20165"/>
                </a:lnTo>
                <a:arcTo wR="675" hR="1435" stAng="0" swAng="5400000"/>
                <a:lnTo>
                  <a:pt x="6075" y="21600"/>
                </a:lnTo>
                <a:arcTo wR="675" hR="1435" stAng="5400000" swAng="5400000"/>
                <a:lnTo>
                  <a:pt x="5400" y="15859"/>
                </a:lnTo>
                <a:lnTo>
                  <a:pt x="0" y="15859"/>
                </a:lnTo>
                <a:lnTo>
                  <a:pt x="2700" y="7930"/>
                </a:lnTo>
                <a:close/>
              </a:path>
              <a:path fill="none" w="21600" h="21600">
                <a:moveTo>
                  <a:pt x="8100" y="1435"/>
                </a:moveTo>
                <a:arcTo wR="675" hR="1435" stAng="0" swAng="5400000"/>
                <a:lnTo>
                  <a:pt x="6075" y="2871"/>
                </a:lnTo>
                <a:arcTo wR="675" hR="1435" stAng="16200000" swAng="-5400000"/>
                <a:arcTo wR="675" hR="1435" stAng="10800000" swAng="-5400000"/>
                <a:lnTo>
                  <a:pt x="8100" y="5741"/>
                </a:lnTo>
              </a:path>
              <a:path fill="none" w="21600" h="21600">
                <a:moveTo>
                  <a:pt x="13500" y="1435"/>
                </a:moveTo>
                <a:arcTo wR="675" hR="1435" stAng="10800000" swAng="-5400000"/>
                <a:lnTo>
                  <a:pt x="15525" y="2871"/>
                </a:lnTo>
                <a:arcTo wR="675" hR="1435" stAng="16200000" swAng="5400000"/>
                <a:arcTo wR="675" hR="1435" stAng="0" swAng="5400000"/>
                <a:lnTo>
                  <a:pt x="13500" y="5741"/>
                </a:lnTo>
              </a:path>
              <a:path fill="none" w="21600" h="21600">
                <a:moveTo>
                  <a:pt x="5400" y="4306"/>
                </a:moveTo>
                <a:lnTo>
                  <a:pt x="5400" y="15859"/>
                </a:lnTo>
              </a:path>
              <a:path fill="none" w="21600" h="21600">
                <a:moveTo>
                  <a:pt x="16200" y="4306"/>
                </a:moveTo>
                <a:lnTo>
                  <a:pt x="16200" y="15859"/>
                </a:lnTo>
              </a:path>
            </a:pathLst>
          </a:custGeom>
          <a:solidFill>
            <a:srgbClr val="f3fa94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вернословие </a:t>
            </a:r>
            <a:r>
              <a:rPr b="0" lang="ru-RU" sz="2000" spc="-1" strike="noStrike" u="sng">
                <a:solidFill>
                  <a:srgbClr val="ea157a"/>
                </a:solidFill>
                <a:uFillTx/>
                <a:latin typeface="Times New Roman"/>
                <a:ea typeface="Times New Roman"/>
              </a:rPr>
              <a:t>отрицательно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ет на здоровье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Лента лицом вниз 8"/>
          <p:cNvSpPr/>
          <p:nvPr/>
        </p:nvSpPr>
        <p:spPr>
          <a:xfrm>
            <a:off x="990720" y="3429000"/>
            <a:ext cx="8153280" cy="1143000"/>
          </a:xfrm>
          <a:custGeom>
            <a:avLst/>
            <a:gdLst>
              <a:gd name="textAreaLeft" fmla="*/ 2038320 w 8153280"/>
              <a:gd name="textAreaRight" fmla="*/ 6114960 w 8153280"/>
              <a:gd name="textAreaTop" fmla="*/ 30384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1435" stAng="16200000" swAng="5400000"/>
                <a:lnTo>
                  <a:pt x="8100" y="5741"/>
                </a:lnTo>
                <a:lnTo>
                  <a:pt x="13500" y="5741"/>
                </a:lnTo>
                <a:lnTo>
                  <a:pt x="13500" y="1435"/>
                </a:lnTo>
                <a:arcTo wR="675" hR="1435" stAng="10800000" swAng="5400000"/>
                <a:lnTo>
                  <a:pt x="21600" y="0"/>
                </a:lnTo>
                <a:lnTo>
                  <a:pt x="18900" y="7930"/>
                </a:lnTo>
                <a:lnTo>
                  <a:pt x="21600" y="15859"/>
                </a:lnTo>
                <a:lnTo>
                  <a:pt x="16200" y="15859"/>
                </a:lnTo>
                <a:lnTo>
                  <a:pt x="16200" y="20165"/>
                </a:lnTo>
                <a:arcTo wR="675" hR="1435" stAng="0" swAng="5400000"/>
                <a:lnTo>
                  <a:pt x="6075" y="21600"/>
                </a:lnTo>
                <a:arcTo wR="675" hR="1435" stAng="5400000" swAng="5400000"/>
                <a:lnTo>
                  <a:pt x="5400" y="15859"/>
                </a:lnTo>
                <a:lnTo>
                  <a:pt x="0" y="15859"/>
                </a:lnTo>
                <a:lnTo>
                  <a:pt x="2700" y="7930"/>
                </a:lnTo>
                <a:close/>
              </a:path>
              <a:path fill="none" w="21600" h="21600">
                <a:moveTo>
                  <a:pt x="8100" y="1435"/>
                </a:moveTo>
                <a:arcTo wR="675" hR="1435" stAng="0" swAng="5400000"/>
                <a:lnTo>
                  <a:pt x="6075" y="2871"/>
                </a:lnTo>
                <a:arcTo wR="675" hR="1435" stAng="16200000" swAng="-5400000"/>
                <a:arcTo wR="675" hR="1435" stAng="10800000" swAng="-5400000"/>
                <a:lnTo>
                  <a:pt x="8100" y="5741"/>
                </a:lnTo>
              </a:path>
              <a:path fill="none" w="21600" h="21600">
                <a:moveTo>
                  <a:pt x="13500" y="1435"/>
                </a:moveTo>
                <a:arcTo wR="675" hR="1435" stAng="10800000" swAng="-5400000"/>
                <a:lnTo>
                  <a:pt x="15525" y="2871"/>
                </a:lnTo>
                <a:arcTo wR="675" hR="1435" stAng="16200000" swAng="5400000"/>
                <a:arcTo wR="675" hR="1435" stAng="0" swAng="5400000"/>
                <a:lnTo>
                  <a:pt x="13500" y="5741"/>
                </a:lnTo>
              </a:path>
              <a:path fill="none" w="21600" h="21600">
                <a:moveTo>
                  <a:pt x="5400" y="4306"/>
                </a:moveTo>
                <a:lnTo>
                  <a:pt x="5400" y="15859"/>
                </a:lnTo>
              </a:path>
              <a:path fill="none" w="21600" h="21600">
                <a:moveTo>
                  <a:pt x="16200" y="4306"/>
                </a:moveTo>
                <a:lnTo>
                  <a:pt x="16200" y="15859"/>
                </a:lnTo>
              </a:path>
            </a:pathLst>
          </a:custGeom>
          <a:solidFill>
            <a:srgbClr val="f3fa94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вернословие </a:t>
            </a:r>
            <a:r>
              <a:rPr b="0" lang="ru-RU" sz="2000" spc="-1" strike="noStrike" u="sng">
                <a:solidFill>
                  <a:srgbClr val="ea157a"/>
                </a:solidFill>
                <a:uFillTx/>
                <a:latin typeface="Times New Roman"/>
                <a:ea typeface="Times New Roman"/>
              </a:rPr>
              <a:t>положительно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ет на здоровье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Лента лицом вниз 9"/>
          <p:cNvSpPr/>
          <p:nvPr/>
        </p:nvSpPr>
        <p:spPr>
          <a:xfrm>
            <a:off x="990720" y="4572000"/>
            <a:ext cx="8153280" cy="1219320"/>
          </a:xfrm>
          <a:custGeom>
            <a:avLst/>
            <a:gdLst>
              <a:gd name="textAreaLeft" fmla="*/ 2038320 w 8153280"/>
              <a:gd name="textAreaRight" fmla="*/ 6114960 w 8153280"/>
              <a:gd name="textAreaTop" fmla="*/ 32400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1435" stAng="16200000" swAng="5400000"/>
                <a:lnTo>
                  <a:pt x="8100" y="5741"/>
                </a:lnTo>
                <a:lnTo>
                  <a:pt x="13500" y="5741"/>
                </a:lnTo>
                <a:lnTo>
                  <a:pt x="13500" y="1435"/>
                </a:lnTo>
                <a:arcTo wR="675" hR="1435" stAng="10800000" swAng="5400000"/>
                <a:lnTo>
                  <a:pt x="21600" y="0"/>
                </a:lnTo>
                <a:lnTo>
                  <a:pt x="18900" y="7930"/>
                </a:lnTo>
                <a:lnTo>
                  <a:pt x="21600" y="15859"/>
                </a:lnTo>
                <a:lnTo>
                  <a:pt x="16200" y="15859"/>
                </a:lnTo>
                <a:lnTo>
                  <a:pt x="16200" y="20165"/>
                </a:lnTo>
                <a:arcTo wR="675" hR="1435" stAng="0" swAng="5400000"/>
                <a:lnTo>
                  <a:pt x="6075" y="21600"/>
                </a:lnTo>
                <a:arcTo wR="675" hR="1435" stAng="5400000" swAng="5400000"/>
                <a:lnTo>
                  <a:pt x="5400" y="15859"/>
                </a:lnTo>
                <a:lnTo>
                  <a:pt x="0" y="15859"/>
                </a:lnTo>
                <a:lnTo>
                  <a:pt x="2700" y="7930"/>
                </a:lnTo>
                <a:close/>
              </a:path>
              <a:path fill="none" w="21600" h="21600">
                <a:moveTo>
                  <a:pt x="8100" y="1435"/>
                </a:moveTo>
                <a:arcTo wR="675" hR="1435" stAng="0" swAng="5400000"/>
                <a:lnTo>
                  <a:pt x="6075" y="2871"/>
                </a:lnTo>
                <a:arcTo wR="675" hR="1435" stAng="16200000" swAng="-5400000"/>
                <a:arcTo wR="675" hR="1435" stAng="10800000" swAng="-5400000"/>
                <a:lnTo>
                  <a:pt x="8100" y="5741"/>
                </a:lnTo>
              </a:path>
              <a:path fill="none" w="21600" h="21600">
                <a:moveTo>
                  <a:pt x="13500" y="1435"/>
                </a:moveTo>
                <a:arcTo wR="675" hR="1435" stAng="10800000" swAng="-5400000"/>
                <a:lnTo>
                  <a:pt x="15525" y="2871"/>
                </a:lnTo>
                <a:arcTo wR="675" hR="1435" stAng="16200000" swAng="5400000"/>
                <a:arcTo wR="675" hR="1435" stAng="0" swAng="5400000"/>
                <a:lnTo>
                  <a:pt x="13500" y="5741"/>
                </a:lnTo>
              </a:path>
              <a:path fill="none" w="21600" h="21600">
                <a:moveTo>
                  <a:pt x="5400" y="4306"/>
                </a:moveTo>
                <a:lnTo>
                  <a:pt x="5400" y="15859"/>
                </a:lnTo>
              </a:path>
              <a:path fill="none" w="21600" h="21600">
                <a:moveTo>
                  <a:pt x="16200" y="4306"/>
                </a:moveTo>
                <a:lnTo>
                  <a:pt x="16200" y="15859"/>
                </a:lnTo>
              </a:path>
            </a:pathLst>
          </a:custGeom>
          <a:solidFill>
            <a:srgbClr val="f3fa94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a157a"/>
                </a:solidFill>
                <a:uFillTx/>
                <a:latin typeface="Times New Roman"/>
                <a:ea typeface="Times New Roman"/>
              </a:rPr>
              <a:t>Желание отказаться от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потребления в своей речи </a:t>
            </a:r>
            <a:r>
              <a:rPr b="0" lang="ru-RU" sz="2000" spc="-1" strike="noStrike" u="sng">
                <a:solidFill>
                  <a:srgbClr val="ea157a"/>
                </a:solidFill>
                <a:uFillTx/>
                <a:latin typeface="Times New Roman"/>
                <a:ea typeface="Times New Roman"/>
              </a:rPr>
              <a:t>бранных 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Лента лицом вниз 10"/>
          <p:cNvSpPr/>
          <p:nvPr/>
        </p:nvSpPr>
        <p:spPr>
          <a:xfrm>
            <a:off x="990720" y="5791320"/>
            <a:ext cx="8153280" cy="1066680"/>
          </a:xfrm>
          <a:custGeom>
            <a:avLst/>
            <a:gdLst>
              <a:gd name="textAreaLeft" fmla="*/ 2038320 w 8153280"/>
              <a:gd name="textAreaRight" fmla="*/ 6114960 w 8153280"/>
              <a:gd name="textAreaTop" fmla="*/ 28332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1435" stAng="16200000" swAng="5400000"/>
                <a:lnTo>
                  <a:pt x="8100" y="5741"/>
                </a:lnTo>
                <a:lnTo>
                  <a:pt x="13500" y="5741"/>
                </a:lnTo>
                <a:lnTo>
                  <a:pt x="13500" y="1435"/>
                </a:lnTo>
                <a:arcTo wR="675" hR="1435" stAng="10800000" swAng="5400000"/>
                <a:lnTo>
                  <a:pt x="21600" y="0"/>
                </a:lnTo>
                <a:lnTo>
                  <a:pt x="18900" y="7930"/>
                </a:lnTo>
                <a:lnTo>
                  <a:pt x="21600" y="15859"/>
                </a:lnTo>
                <a:lnTo>
                  <a:pt x="16200" y="15859"/>
                </a:lnTo>
                <a:lnTo>
                  <a:pt x="16200" y="20165"/>
                </a:lnTo>
                <a:arcTo wR="675" hR="1435" stAng="0" swAng="5400000"/>
                <a:lnTo>
                  <a:pt x="6075" y="21600"/>
                </a:lnTo>
                <a:arcTo wR="675" hR="1435" stAng="5400000" swAng="5400000"/>
                <a:lnTo>
                  <a:pt x="5400" y="15859"/>
                </a:lnTo>
                <a:lnTo>
                  <a:pt x="0" y="15859"/>
                </a:lnTo>
                <a:lnTo>
                  <a:pt x="2700" y="7930"/>
                </a:lnTo>
                <a:close/>
              </a:path>
              <a:path fill="none" w="21600" h="21600">
                <a:moveTo>
                  <a:pt x="8100" y="1435"/>
                </a:moveTo>
                <a:arcTo wR="675" hR="1435" stAng="0" swAng="5400000"/>
                <a:lnTo>
                  <a:pt x="6075" y="2871"/>
                </a:lnTo>
                <a:arcTo wR="675" hR="1435" stAng="16200000" swAng="-5400000"/>
                <a:arcTo wR="675" hR="1435" stAng="10800000" swAng="-5400000"/>
                <a:lnTo>
                  <a:pt x="8100" y="5741"/>
                </a:lnTo>
              </a:path>
              <a:path fill="none" w="21600" h="21600">
                <a:moveTo>
                  <a:pt x="13500" y="1435"/>
                </a:moveTo>
                <a:arcTo wR="675" hR="1435" stAng="10800000" swAng="-5400000"/>
                <a:lnTo>
                  <a:pt x="15525" y="2871"/>
                </a:lnTo>
                <a:arcTo wR="675" hR="1435" stAng="16200000" swAng="5400000"/>
                <a:arcTo wR="675" hR="1435" stAng="0" swAng="5400000"/>
                <a:lnTo>
                  <a:pt x="13500" y="5741"/>
                </a:lnTo>
              </a:path>
              <a:path fill="none" w="21600" h="21600">
                <a:moveTo>
                  <a:pt x="5400" y="4306"/>
                </a:moveTo>
                <a:lnTo>
                  <a:pt x="5400" y="15859"/>
                </a:lnTo>
              </a:path>
              <a:path fill="none" w="21600" h="21600">
                <a:moveTo>
                  <a:pt x="16200" y="4306"/>
                </a:moveTo>
                <a:lnTo>
                  <a:pt x="16200" y="15859"/>
                </a:lnTo>
              </a:path>
            </a:pathLst>
          </a:custGeom>
          <a:solidFill>
            <a:srgbClr val="f3fa94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a157a"/>
                </a:solidFill>
                <a:uFillTx/>
                <a:latin typeface="Times New Roman"/>
                <a:ea typeface="Times New Roman"/>
              </a:rPr>
              <a:t>Будущее поколение – без сквернослови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572314"/>
                </a:solidFill>
                <a:latin typeface="Times New Roman"/>
              </a:rPr>
              <a:t>Выводы исследования: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ети часто слышат бранную речь, а некоторые произносят её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лословие может привести к вырождению нации в целом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Школе, семье, СМИ нужно уделять больше внимания проблеме сквернословия в стране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6EsQkvtQOC-preview"/>
          <p:cNvPicPr/>
          <p:nvPr/>
        </p:nvPicPr>
        <p:blipFill>
          <a:blip r:embed="rId1"/>
          <a:stretch/>
        </p:blipFill>
        <p:spPr>
          <a:xfrm>
            <a:off x="5791320" y="0"/>
            <a:ext cx="3352680" cy="293544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8"/>
          <p:cNvSpPr/>
          <p:nvPr/>
        </p:nvSpPr>
        <p:spPr>
          <a:xfrm>
            <a:off x="1447920" y="1066680"/>
            <a:ext cx="6553080" cy="5791320"/>
          </a:xfrm>
          <a:prstGeom prst="sun">
            <a:avLst>
              <a:gd name="adj" fmla="val 25000"/>
            </a:avLst>
          </a:prstGeom>
          <a:solidFill>
            <a:srgbClr val="f3fa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"/>
          <p:cNvSpPr/>
          <p:nvPr/>
        </p:nvSpPr>
        <p:spPr>
          <a:xfrm>
            <a:off x="1371600" y="457200"/>
            <a:ext cx="35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я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3513240" y="2886120"/>
            <a:ext cx="2612880" cy="20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тарайтес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бы бранные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звучали в присутствии и ближайшем окружении ребёнка с самого его ро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1676520" y="106668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т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756215467"/>
          <p:cNvPicPr/>
          <p:nvPr/>
        </p:nvPicPr>
        <p:blipFill>
          <a:blip r:embed="rId1"/>
          <a:stretch/>
        </p:blipFill>
        <p:spPr>
          <a:xfrm>
            <a:off x="5810400" y="3676680"/>
            <a:ext cx="3333600" cy="3181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48"/>
          <p:cNvPicPr/>
          <p:nvPr/>
        </p:nvPicPr>
        <p:blipFill>
          <a:blip r:embed="rId2"/>
          <a:stretch/>
        </p:blipFill>
        <p:spPr>
          <a:xfrm>
            <a:off x="1295280" y="3352680"/>
            <a:ext cx="3699000" cy="32292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4"/>
          <p:cNvSpPr/>
          <p:nvPr/>
        </p:nvSpPr>
        <p:spPr>
          <a:xfrm>
            <a:off x="1219320" y="14479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ьная выноска 5"/>
          <p:cNvSpPr/>
          <p:nvPr/>
        </p:nvSpPr>
        <p:spPr>
          <a:xfrm>
            <a:off x="4343400" y="152280"/>
            <a:ext cx="4648320" cy="3657600"/>
          </a:xfrm>
          <a:prstGeom prst="wedgeEllipseCallout">
            <a:avLst>
              <a:gd name="adj1" fmla="val -49013"/>
              <a:gd name="adj2" fmla="val 98592"/>
            </a:avLst>
          </a:prstGeom>
          <a:gradFill rotWithShape="0">
            <a:gsLst>
              <a:gs pos="0">
                <a:srgbClr val="bcff95"/>
              </a:gs>
              <a:gs pos="100000">
                <a:srgbClr val="ecffe1"/>
              </a:gs>
            </a:gsLst>
            <a:lin ang="16200000"/>
          </a:gradFill>
          <a:ln w="9360">
            <a:solidFill>
              <a:srgbClr val="7cd03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рогие сверстни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бы глаза наши были красивыми – они должны излучать добро, а чтобы губы были красивыми – говорите добрые слова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1"/>
          <p:cNvSpPr/>
          <p:nvPr/>
        </p:nvSpPr>
        <p:spPr>
          <a:xfrm>
            <a:off x="1676520" y="762120"/>
            <a:ext cx="23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1b96900ef40a678ea475e42162580bed"/>
          <p:cNvPicPr/>
          <p:nvPr/>
        </p:nvPicPr>
        <p:blipFill>
          <a:blip r:embed="rId1"/>
          <a:stretch/>
        </p:blipFill>
        <p:spPr>
          <a:xfrm>
            <a:off x="4800600" y="3781440"/>
            <a:ext cx="4154400" cy="2924280"/>
          </a:xfrm>
          <a:prstGeom prst="rect">
            <a:avLst/>
          </a:prstGeom>
          <a:ln w="0">
            <a:noFill/>
          </a:ln>
        </p:spPr>
      </p:pic>
      <p:sp>
        <p:nvSpPr>
          <p:cNvPr id="145" name="Блок-схема: несколько документов 4"/>
          <p:cNvSpPr/>
          <p:nvPr/>
        </p:nvSpPr>
        <p:spPr>
          <a:xfrm>
            <a:off x="4724280" y="304920"/>
            <a:ext cx="4038840" cy="4038480"/>
          </a:xfrm>
          <a:prstGeom prst="flowChartMultidocument">
            <a:avLst/>
          </a:prstGeom>
          <a:gradFill rotWithShape="0">
            <a:gsLst>
              <a:gs pos="0">
                <a:srgbClr val="bcff95"/>
              </a:gs>
              <a:gs pos="100000">
                <a:srgbClr val="ecffe1"/>
              </a:gs>
            </a:gsLst>
            <a:lin ang="16200000"/>
          </a:gradFill>
          <a:ln w="9360">
            <a:solidFill>
              <a:srgbClr val="7cd03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800600" y="990720"/>
          <a:ext cx="3276720" cy="2590560"/>
        </p:xfrm>
        <a:graphic>
          <a:graphicData uri="http://schemas.openxmlformats.org/drawingml/2006/table">
            <a:tbl>
              <a:tblPr/>
              <a:tblGrid>
                <a:gridCol w="3276720"/>
              </a:tblGrid>
              <a:tr h="2590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жалуйст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ите своих учеников объяснять своё состояние словами, а не выражать  его ругательство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7" name="Picture 15" descr="untitled"/>
          <p:cNvPicPr/>
          <p:nvPr/>
        </p:nvPicPr>
        <p:blipFill>
          <a:blip r:embed="rId2"/>
          <a:stretch/>
        </p:blipFill>
        <p:spPr>
          <a:xfrm>
            <a:off x="1155600" y="1905120"/>
            <a:ext cx="344484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блестящие сердечки"/>
          <p:cNvPicPr/>
          <p:nvPr/>
        </p:nvPicPr>
        <p:blipFill>
          <a:blip r:embed="rId1"/>
          <a:stretch/>
        </p:blipFill>
        <p:spPr>
          <a:xfrm>
            <a:off x="228600" y="0"/>
            <a:ext cx="9296280" cy="6172200"/>
          </a:xfrm>
          <a:prstGeom prst="rect">
            <a:avLst/>
          </a:prstGeom>
          <a:ln w="0">
            <a:noFill/>
          </a:ln>
        </p:spPr>
      </p:pic>
      <p:sp>
        <p:nvSpPr>
          <p:cNvPr id="149" name="Двойная стрелка влево/вправо 2"/>
          <p:cNvSpPr/>
          <p:nvPr/>
        </p:nvSpPr>
        <p:spPr>
          <a:xfrm>
            <a:off x="3048120" y="1600200"/>
            <a:ext cx="3809880" cy="1981080"/>
          </a:xfrm>
          <a:prstGeom prst="leftRightArrow">
            <a:avLst>
              <a:gd name="adj1" fmla="val 50000"/>
              <a:gd name="adj2" fmla="val 50001"/>
            </a:avLst>
          </a:prstGeom>
          <a:gradFill rotWithShape="0">
            <a:gsLst>
              <a:gs pos="0">
                <a:srgbClr val="ffe379"/>
              </a:gs>
              <a:gs pos="100000">
                <a:srgbClr val="fff6d8"/>
              </a:gs>
            </a:gsLst>
            <a:lin ang="16200000"/>
          </a:gradFill>
          <a:ln w="9360">
            <a:solidFill>
              <a:srgbClr val="feb60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унять злословие, не обращай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Двойная стрелка влево/вправо 3"/>
          <p:cNvSpPr/>
          <p:nvPr/>
        </p:nvSpPr>
        <p:spPr>
          <a:xfrm>
            <a:off x="2666880" y="3352680"/>
            <a:ext cx="4492800" cy="1600200"/>
          </a:xfrm>
          <a:prstGeom prst="left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ffe379"/>
              </a:gs>
              <a:gs pos="100000">
                <a:srgbClr val="fff6d8"/>
              </a:gs>
            </a:gsLst>
            <a:lin ang="16200000"/>
          </a:gradFill>
          <a:ln w="9360">
            <a:solidFill>
              <a:srgbClr val="feb60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е слово лечи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злое калечи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Двойная стрелка влево/вправо 4"/>
          <p:cNvSpPr/>
          <p:nvPr/>
        </p:nvSpPr>
        <p:spPr>
          <a:xfrm>
            <a:off x="2514600" y="5105520"/>
            <a:ext cx="4876920" cy="1600200"/>
          </a:xfrm>
          <a:prstGeom prst="left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ffe379"/>
              </a:gs>
              <a:gs pos="100000">
                <a:srgbClr val="fff6d8"/>
              </a:gs>
            </a:gsLst>
            <a:lin ang="16200000"/>
          </a:gradFill>
          <a:ln w="9360">
            <a:solidFill>
              <a:srgbClr val="feb60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лословь, чтоб не просить прощенья у совести свое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5"/>
          <p:cNvSpPr/>
          <p:nvPr/>
        </p:nvSpPr>
        <p:spPr>
          <a:xfrm>
            <a:off x="1219320" y="228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веты от всей душ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квернословие </a:t>
            </a:r>
            <a:r>
              <a:rPr b="0" lang="ru-RU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– «речь, наполненная неприличными выражениями, непристойными словами, брань»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447560" y="152352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х!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ые языки страшнее пистолета!»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С. Грибо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Актуальность</a:t>
            </a:r>
            <a:r>
              <a:rPr b="0" lang="ru-RU" sz="4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: Проблема сквернословия становится острой среди детей начальной школы.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434960" y="17521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вернословие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сквернословия на здоровье человека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влияние сквернословия на здоровье человека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Задачи исследования: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литературные и информационные источники по данному вопросу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ть разные проявления сквернословия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рыть отрицательное влияние сквернословия на здоровье человек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исследовательский опыт и анкетирование обучающихся 4 классов школ Томаринского района на тему «Сквернословие в моей жизни»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 результаты анкетирования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434960" y="304920"/>
            <a:ext cx="7499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сследования: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и анализ литературных и информационных источников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ий опыт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вернословие оказывает негативное влияние на здоровье человека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2438280" y="2286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3886200" y="12193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5"/>
          <p:cNvSpPr/>
          <p:nvPr/>
        </p:nvSpPr>
        <p:spPr>
          <a:xfrm>
            <a:off x="1143000" y="1295280"/>
            <a:ext cx="2362320" cy="129564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ривычное – люд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с невысоким уровн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7"/>
          <p:cNvSpPr/>
          <p:nvPr/>
        </p:nvSpPr>
        <p:spPr>
          <a:xfrm>
            <a:off x="3657600" y="1295280"/>
            <a:ext cx="2438280" cy="129564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Аффективное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эмоциональная реа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ловека на ситуац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9"/>
          <p:cNvSpPr/>
          <p:nvPr/>
        </p:nvSpPr>
        <p:spPr>
          <a:xfrm>
            <a:off x="6248520" y="1295280"/>
            <a:ext cx="2666880" cy="129564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Намеренный  вызов обще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0"/>
          <p:cNvSpPr/>
          <p:nvPr/>
        </p:nvSpPr>
        <p:spPr>
          <a:xfrm>
            <a:off x="2514600" y="228600"/>
            <a:ext cx="5105520" cy="76212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вернослов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Прямая со стрелкой 14"/>
          <p:cNvCxnSpPr/>
          <p:nvPr/>
        </p:nvCxnSpPr>
        <p:spPr>
          <a:xfrm flipH="1">
            <a:off x="3123360" y="989640"/>
            <a:ext cx="1143720" cy="229320"/>
          </a:xfrm>
          <a:prstGeom prst="straightConnector1">
            <a:avLst/>
          </a:prstGeom>
          <a:ln w="25560">
            <a:solidFill>
              <a:srgbClr val="feb80a"/>
            </a:solidFill>
            <a:miter/>
            <a:tailEnd len="med" type="arrow" w="med"/>
          </a:ln>
        </p:spPr>
      </p:cxnSp>
      <p:cxnSp>
        <p:nvCxnSpPr>
          <p:cNvPr id="68" name="Прямая со стрелкой 16"/>
          <p:cNvCxnSpPr/>
          <p:nvPr/>
        </p:nvCxnSpPr>
        <p:spPr>
          <a:xfrm flipH="1">
            <a:off x="4874400" y="1068120"/>
            <a:ext cx="3960" cy="153000"/>
          </a:xfrm>
          <a:prstGeom prst="straightConnector1">
            <a:avLst/>
          </a:prstGeom>
          <a:ln w="25560">
            <a:solidFill>
              <a:srgbClr val="feb80a"/>
            </a:solidFill>
            <a:miter/>
            <a:tailEnd len="med" type="arrow" w="med"/>
          </a:ln>
        </p:spPr>
      </p:cxnSp>
      <p:cxnSp>
        <p:nvCxnSpPr>
          <p:cNvPr id="69" name="Прямая со стрелкой 18"/>
          <p:cNvCxnSpPr/>
          <p:nvPr/>
        </p:nvCxnSpPr>
        <p:spPr>
          <a:xfrm>
            <a:off x="5638680" y="990360"/>
            <a:ext cx="1372320" cy="229320"/>
          </a:xfrm>
          <a:prstGeom prst="straightConnector1">
            <a:avLst/>
          </a:prstGeom>
          <a:ln w="25560">
            <a:solidFill>
              <a:srgbClr val="feb80a"/>
            </a:solidFill>
            <a:miter/>
            <a:tailEnd len="med" type="arrow" w="med"/>
          </a:ln>
        </p:spPr>
      </p:cxnSp>
      <p:sp>
        <p:nvSpPr>
          <p:cNvPr id="70" name="Прямоугольник 19"/>
          <p:cNvSpPr/>
          <p:nvPr/>
        </p:nvSpPr>
        <p:spPr>
          <a:xfrm flipH="1" flipV="1" rot="10800000">
            <a:off x="1446840" y="3505320"/>
            <a:ext cx="1981080" cy="91440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Сем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0"/>
          <p:cNvSpPr/>
          <p:nvPr/>
        </p:nvSpPr>
        <p:spPr>
          <a:xfrm flipH="1" flipV="1" rot="10800000">
            <a:off x="3808800" y="3505320"/>
            <a:ext cx="2133720" cy="91440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Темперамент, поведение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1"/>
          <p:cNvSpPr/>
          <p:nvPr/>
        </p:nvSpPr>
        <p:spPr>
          <a:xfrm>
            <a:off x="6477120" y="3505320"/>
            <a:ext cx="2286000" cy="91440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Индивидуальное воспитани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Прямая со стрелкой 23"/>
          <p:cNvCxnSpPr/>
          <p:nvPr/>
        </p:nvCxnSpPr>
        <p:spPr>
          <a:xfrm flipH="1">
            <a:off x="2285640" y="2668680"/>
            <a:ext cx="2160" cy="684720"/>
          </a:xfrm>
          <a:prstGeom prst="straightConnector1">
            <a:avLst/>
          </a:prstGeom>
          <a:ln w="25560">
            <a:solidFill>
              <a:srgbClr val="feb80a"/>
            </a:solidFill>
            <a:miter/>
            <a:tailEnd len="med" type="arrow" w="med"/>
          </a:ln>
        </p:spPr>
      </p:cxnSp>
      <p:cxnSp>
        <p:nvCxnSpPr>
          <p:cNvPr id="74" name="Прямая со стрелкой 26"/>
          <p:cNvCxnSpPr/>
          <p:nvPr/>
        </p:nvCxnSpPr>
        <p:spPr>
          <a:xfrm flipH="1">
            <a:off x="4798800" y="2668680"/>
            <a:ext cx="3600" cy="762480"/>
          </a:xfrm>
          <a:prstGeom prst="straightConnector1">
            <a:avLst/>
          </a:prstGeom>
          <a:ln w="25560">
            <a:solidFill>
              <a:srgbClr val="feb80a"/>
            </a:solidFill>
            <a:miter/>
            <a:tailEnd len="med" type="arrow" w="med"/>
          </a:ln>
        </p:spPr>
      </p:cxnSp>
      <p:cxnSp>
        <p:nvCxnSpPr>
          <p:cNvPr id="75" name="Прямая со стрелкой 28"/>
          <p:cNvCxnSpPr/>
          <p:nvPr/>
        </p:nvCxnSpPr>
        <p:spPr>
          <a:xfrm flipH="1">
            <a:off x="7619760" y="2666520"/>
            <a:ext cx="2160" cy="685080"/>
          </a:xfrm>
          <a:prstGeom prst="straightConnector1">
            <a:avLst/>
          </a:prstGeom>
          <a:ln w="25560">
            <a:solidFill>
              <a:srgbClr val="feb80a"/>
            </a:solidFill>
            <a:miter/>
            <a:tailEnd len="med" type="arrow" w="med"/>
          </a:ln>
        </p:spPr>
      </p:cxnSp>
      <p:sp>
        <p:nvSpPr>
          <p:cNvPr id="76" name="Прямоугольник 30"/>
          <p:cNvSpPr/>
          <p:nvPr/>
        </p:nvSpPr>
        <p:spPr>
          <a:xfrm>
            <a:off x="1219320" y="5105520"/>
            <a:ext cx="2361960" cy="129528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ричи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культурный вакуум, царящий в сем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31"/>
          <p:cNvSpPr/>
          <p:nvPr/>
        </p:nvSpPr>
        <p:spPr>
          <a:xfrm>
            <a:off x="3733920" y="5105520"/>
            <a:ext cx="2361960" cy="129528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ричи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внутренний взрыв эмо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32"/>
          <p:cNvSpPr/>
          <p:nvPr/>
        </p:nvSpPr>
        <p:spPr>
          <a:xfrm>
            <a:off x="6248520" y="5105520"/>
            <a:ext cx="2361960" cy="129528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ричи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разрушить общепринятые правила прилич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Прямая со стрелкой 38"/>
          <p:cNvCxnSpPr/>
          <p:nvPr/>
        </p:nvCxnSpPr>
        <p:spPr>
          <a:xfrm flipH="1">
            <a:off x="2284200" y="4420800"/>
            <a:ext cx="3600" cy="686520"/>
          </a:xfrm>
          <a:prstGeom prst="straightConnector1">
            <a:avLst/>
          </a:prstGeom>
          <a:ln w="25560">
            <a:solidFill>
              <a:srgbClr val="feb80a"/>
            </a:solidFill>
            <a:miter/>
            <a:tailEnd len="med" type="arrow" w="med"/>
          </a:ln>
        </p:spPr>
      </p:cxnSp>
      <p:cxnSp>
        <p:nvCxnSpPr>
          <p:cNvPr id="80" name="Прямая со стрелкой 44"/>
          <p:cNvCxnSpPr/>
          <p:nvPr/>
        </p:nvCxnSpPr>
        <p:spPr>
          <a:xfrm flipH="1">
            <a:off x="4722120" y="4420800"/>
            <a:ext cx="3960" cy="686520"/>
          </a:xfrm>
          <a:prstGeom prst="straightConnector1">
            <a:avLst/>
          </a:prstGeom>
          <a:ln w="25560">
            <a:solidFill>
              <a:srgbClr val="feb80a"/>
            </a:solidFill>
            <a:miter/>
            <a:tailEnd len="med" type="arrow" w="med"/>
          </a:ln>
        </p:spPr>
      </p:cxnSp>
      <p:cxnSp>
        <p:nvCxnSpPr>
          <p:cNvPr id="81" name="Прямая со стрелкой 48"/>
          <p:cNvCxnSpPr>
            <a:stCxn id="72" idx="2"/>
          </p:cNvCxnSpPr>
          <p:nvPr/>
        </p:nvCxnSpPr>
        <p:spPr>
          <a:xfrm flipH="1">
            <a:off x="7617600" y="4420800"/>
            <a:ext cx="3960" cy="686520"/>
          </a:xfrm>
          <a:prstGeom prst="straightConnector1">
            <a:avLst/>
          </a:prstGeom>
          <a:ln w="25560">
            <a:solidFill>
              <a:srgbClr val="feb80a"/>
            </a:solidFill>
            <a:miter/>
            <a:tailEnd len="med" type="arrow" w="med"/>
          </a:ln>
        </p:spPr>
      </p:cxnSp>
    </p:spTree>
  </p:cSld>
  <p:transition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3124080" y="533520"/>
            <a:ext cx="57913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оизносимые слова оказыв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ивное влияние на структуру воды, а   значит – на здоровье человека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понский исследовател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асару Эмо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1172673554_kinder_photoshop_001"/>
          <p:cNvPicPr/>
          <p:nvPr/>
        </p:nvPicPr>
        <p:blipFill>
          <a:blip r:embed="rId1"/>
          <a:stretch/>
        </p:blipFill>
        <p:spPr>
          <a:xfrm>
            <a:off x="5486400" y="2895480"/>
            <a:ext cx="3510000" cy="3733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1283079910_bb8ca49f7556"/>
          <p:cNvPicPr/>
          <p:nvPr/>
        </p:nvPicPr>
        <p:blipFill>
          <a:blip r:embed="rId2"/>
          <a:stretch/>
        </p:blipFill>
        <p:spPr>
          <a:xfrm>
            <a:off x="1143000" y="2895480"/>
            <a:ext cx="3733920" cy="3810240"/>
          </a:xfrm>
          <a:prstGeom prst="rect">
            <a:avLst/>
          </a:prstGeom>
          <a:ln w="0">
            <a:noFill/>
          </a:ln>
        </p:spPr>
      </p:pic>
      <p:sp>
        <p:nvSpPr>
          <p:cNvPr id="85" name="6-конечная звезда 4"/>
          <p:cNvSpPr/>
          <p:nvPr/>
        </p:nvSpPr>
        <p:spPr>
          <a:xfrm>
            <a:off x="3809880" y="50292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ятно 2 5"/>
          <p:cNvSpPr/>
          <p:nvPr/>
        </p:nvSpPr>
        <p:spPr>
          <a:xfrm>
            <a:off x="7696080" y="5410080"/>
            <a:ext cx="1219320" cy="1143000"/>
          </a:xfrm>
          <a:prstGeom prst="irregularSeal2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ANd9GcQRkEySPMncAnP75bj6tUDYaBC4gIcEefcm7mJ9CniDCy-QjK6PYxRbmkzfmw"/>
          <p:cNvPicPr/>
          <p:nvPr/>
        </p:nvPicPr>
        <p:blipFill>
          <a:blip r:embed="rId3"/>
          <a:stretch/>
        </p:blipFill>
        <p:spPr>
          <a:xfrm>
            <a:off x="2286000" y="914400"/>
            <a:ext cx="1068480" cy="1676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dremoto"/>
          <p:cNvPicPr/>
          <p:nvPr/>
        </p:nvPicPr>
        <p:blipFill>
          <a:blip r:embed="rId4"/>
          <a:stretch/>
        </p:blipFill>
        <p:spPr>
          <a:xfrm>
            <a:off x="1295280" y="0"/>
            <a:ext cx="12193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Выноска-облако 1"/>
          <p:cNvSpPr/>
          <p:nvPr/>
        </p:nvSpPr>
        <p:spPr>
          <a:xfrm>
            <a:off x="1066680" y="0"/>
            <a:ext cx="8077320" cy="2743200"/>
          </a:xfrm>
          <a:prstGeom prst="cloudCallout">
            <a:avLst>
              <a:gd name="adj1" fmla="val -18828"/>
              <a:gd name="adj2" fmla="val 62500"/>
            </a:avLst>
          </a:prstGeom>
          <a:solidFill>
            <a:srgbClr val="96e1f8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нормативная лексика очень активно воздействует на организм человека, со временем губит всё живо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льский учё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надий Чеу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Выноска-облако 2"/>
          <p:cNvSpPr/>
          <p:nvPr/>
        </p:nvSpPr>
        <p:spPr>
          <a:xfrm rot="246000">
            <a:off x="1661760" y="3690720"/>
            <a:ext cx="3106800" cy="1855800"/>
          </a:xfrm>
          <a:prstGeom prst="cloudCallout">
            <a:avLst>
              <a:gd name="adj1" fmla="val -2828"/>
              <a:gd name="adj2" fmla="val 23041"/>
            </a:avLst>
          </a:prstGeom>
          <a:solidFill>
            <a:srgbClr val="96e1f8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ит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Выноска-облако 3"/>
          <p:cNvSpPr/>
          <p:nvPr/>
        </p:nvSpPr>
        <p:spPr>
          <a:xfrm rot="287400">
            <a:off x="5573880" y="3687480"/>
            <a:ext cx="3073320" cy="1816200"/>
          </a:xfrm>
          <a:prstGeom prst="cloudCallout">
            <a:avLst>
              <a:gd name="adj1" fmla="val -1421"/>
              <a:gd name="adj2" fmla="val 15509"/>
            </a:avLst>
          </a:prstGeom>
          <a:solidFill>
            <a:srgbClr val="96e1f8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нные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ьная выноска 4"/>
          <p:cNvSpPr/>
          <p:nvPr/>
        </p:nvSpPr>
        <p:spPr>
          <a:xfrm rot="18236400">
            <a:off x="1951560" y="2760840"/>
            <a:ext cx="399960" cy="325440"/>
          </a:xfrm>
          <a:prstGeom prst="wedgeEllipseCallout">
            <a:avLst>
              <a:gd name="adj1" fmla="val 93842"/>
              <a:gd name="adj2" fmla="val -3023"/>
            </a:avLst>
          </a:prstGeom>
          <a:solidFill>
            <a:srgbClr val="96e1f8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ьная выноска 5"/>
          <p:cNvSpPr/>
          <p:nvPr/>
        </p:nvSpPr>
        <p:spPr>
          <a:xfrm rot="15706200">
            <a:off x="5955480" y="3307680"/>
            <a:ext cx="411120" cy="225360"/>
          </a:xfrm>
          <a:prstGeom prst="wedgeEllipseCallout">
            <a:avLst>
              <a:gd name="adj1" fmla="val 68226"/>
              <a:gd name="adj2" fmla="val 5703"/>
            </a:avLst>
          </a:prstGeom>
          <a:solidFill>
            <a:srgbClr val="96e1f8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ьная выноска 6"/>
          <p:cNvSpPr/>
          <p:nvPr/>
        </p:nvSpPr>
        <p:spPr>
          <a:xfrm rot="15123600">
            <a:off x="7079400" y="2902320"/>
            <a:ext cx="347760" cy="238320"/>
          </a:xfrm>
          <a:prstGeom prst="wedgeEllipseCallout">
            <a:avLst>
              <a:gd name="adj1" fmla="val 99555"/>
              <a:gd name="adj2" fmla="val -23194"/>
            </a:avLst>
          </a:prstGeom>
          <a:solidFill>
            <a:srgbClr val="96e1f8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ьная выноска 7"/>
          <p:cNvSpPr/>
          <p:nvPr/>
        </p:nvSpPr>
        <p:spPr>
          <a:xfrm rot="16906800">
            <a:off x="4086000" y="6051600"/>
            <a:ext cx="511200" cy="355320"/>
          </a:xfrm>
          <a:prstGeom prst="wedgeEllipseCallout">
            <a:avLst>
              <a:gd name="adj1" fmla="val 84467"/>
              <a:gd name="adj2" fmla="val 3874"/>
            </a:avLst>
          </a:prstGeom>
          <a:solidFill>
            <a:srgbClr val="96e1f8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ьная выноска 8"/>
          <p:cNvSpPr/>
          <p:nvPr/>
        </p:nvSpPr>
        <p:spPr>
          <a:xfrm rot="16906800">
            <a:off x="1875960" y="5898600"/>
            <a:ext cx="511200" cy="355680"/>
          </a:xfrm>
          <a:prstGeom prst="wedgeEllipseCallout">
            <a:avLst>
              <a:gd name="adj1" fmla="val 84467"/>
              <a:gd name="adj2" fmla="val 3874"/>
            </a:avLst>
          </a:prstGeom>
          <a:solidFill>
            <a:srgbClr val="96e1f8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ьная выноска 9"/>
          <p:cNvSpPr/>
          <p:nvPr/>
        </p:nvSpPr>
        <p:spPr>
          <a:xfrm rot="15706200">
            <a:off x="4583880" y="3079080"/>
            <a:ext cx="411120" cy="225360"/>
          </a:xfrm>
          <a:prstGeom prst="wedgeEllipseCallout">
            <a:avLst>
              <a:gd name="adj1" fmla="val 68226"/>
              <a:gd name="adj2" fmla="val 5703"/>
            </a:avLst>
          </a:prstGeom>
          <a:solidFill>
            <a:srgbClr val="96e1f8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ьная выноска 10"/>
          <p:cNvSpPr/>
          <p:nvPr/>
        </p:nvSpPr>
        <p:spPr>
          <a:xfrm rot="14970000">
            <a:off x="8556120" y="2360160"/>
            <a:ext cx="371520" cy="304920"/>
          </a:xfrm>
          <a:prstGeom prst="wedgeEllipseCallout">
            <a:avLst>
              <a:gd name="adj1" fmla="val 106189"/>
              <a:gd name="adj2" fmla="val -26726"/>
            </a:avLst>
          </a:prstGeom>
          <a:solidFill>
            <a:srgbClr val="96e1f8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ьная выноска 11"/>
          <p:cNvSpPr/>
          <p:nvPr/>
        </p:nvSpPr>
        <p:spPr>
          <a:xfrm rot="16906800">
            <a:off x="5990760" y="5974920"/>
            <a:ext cx="511200" cy="355680"/>
          </a:xfrm>
          <a:prstGeom prst="wedgeEllipseCallout">
            <a:avLst>
              <a:gd name="adj1" fmla="val 84467"/>
              <a:gd name="adj2" fmla="val 3874"/>
            </a:avLst>
          </a:prstGeom>
          <a:solidFill>
            <a:srgbClr val="96e1f8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ьная выноска 12"/>
          <p:cNvSpPr/>
          <p:nvPr/>
        </p:nvSpPr>
        <p:spPr>
          <a:xfrm rot="15379200">
            <a:off x="8521560" y="5979960"/>
            <a:ext cx="698400" cy="393480"/>
          </a:xfrm>
          <a:prstGeom prst="wedgeEllipseCallout">
            <a:avLst>
              <a:gd name="adj1" fmla="val 88319"/>
              <a:gd name="adj2" fmla="val -14055"/>
            </a:avLst>
          </a:prstGeom>
          <a:solidFill>
            <a:srgbClr val="96e1f8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5" descr="ANd9GcRGvZn_7Q-XobBePX4UGNt2gUNRaP9WN_SmSj8GFzerxcK01GnsMw"/>
          <p:cNvPicPr/>
          <p:nvPr/>
        </p:nvPicPr>
        <p:blipFill>
          <a:blip r:embed="rId1"/>
          <a:stretch/>
        </p:blipFill>
        <p:spPr>
          <a:xfrm>
            <a:off x="990720" y="0"/>
            <a:ext cx="1523880" cy="101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2971800" y="228600"/>
            <a:ext cx="61722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квернословие оказывает необратимое влияние на генетический аппарат человека, приводя к серьёзным наследственным нарушениям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тик П.П.Гаряч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5105520" y="289548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00032782_n1"/>
          <p:cNvPicPr/>
          <p:nvPr/>
        </p:nvPicPr>
        <p:blipFill>
          <a:blip r:embed="rId1"/>
          <a:stretch/>
        </p:blipFill>
        <p:spPr>
          <a:xfrm>
            <a:off x="1600200" y="2286000"/>
            <a:ext cx="3162240" cy="4226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587237765"/>
          <p:cNvPicPr/>
          <p:nvPr/>
        </p:nvPicPr>
        <p:blipFill>
          <a:blip r:embed="rId2"/>
          <a:stretch/>
        </p:blipFill>
        <p:spPr>
          <a:xfrm>
            <a:off x="5029200" y="2590920"/>
            <a:ext cx="3838680" cy="3886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garyaev_cam"/>
          <p:cNvPicPr/>
          <p:nvPr/>
        </p:nvPicPr>
        <p:blipFill>
          <a:blip r:embed="rId3"/>
          <a:stretch/>
        </p:blipFill>
        <p:spPr>
          <a:xfrm>
            <a:off x="1066680" y="152280"/>
            <a:ext cx="21337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11:29:10Z</dcterms:created>
  <dc:creator>Татьяна Ивановна</dc:creator>
  <dc:description/>
  <dc:language>en-US</dc:language>
  <cp:lastModifiedBy>dom</cp:lastModifiedBy>
  <dcterms:modified xsi:type="dcterms:W3CDTF">2019-03-15T12:16:54Z</dcterms:modified>
  <cp:revision>8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