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AEE3-2693-4C06-9419-AF69E03C83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4DC-5346-4930-8036-69CDB10CFA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403-69BC-42A3-A98E-EB84CF5F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CBD-9112-4575-919B-76A5C037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23A-CC13-4855-8EC4-5B63A63B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7F8-166A-422C-A5C4-0979FAE7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E35-330F-4F52-B594-3298326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F26-2CA6-4634-AEE8-1BED22F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549-0A0F-46CC-94D4-493693F8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3EF-588C-40DB-A5CB-DC09110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DDC-2432-4429-8D65-80DC2FDD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6EF-3A52-4888-A0EA-60FC15EB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25A-41D0-40B5-972F-B122D0A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20E-9B7B-4F59-A447-BDF9FD6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E5E-5C65-4C8C-B049-EAB55D9605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ого сопровождения и индивидуальной работы с детьми с ОВЗ в условиях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ссовой обще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7758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4267080" y="1447920"/>
            <a:ext cx="304920" cy="1338120"/>
          </a:xfrm>
          <a:prstGeom prst="downArrow">
            <a:avLst>
              <a:gd name="adj1" fmla="val 50000"/>
              <a:gd name="adj2" fmla="val 6820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 flipH="1" rot="10800000">
            <a:off x="754380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 rot="10800000">
            <a:off x="85716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162240" y="4724280"/>
            <a:ext cx="312444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аксимально и эффективно амплифицировать (присваивать) образовательные воздействия соци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458040" y="4724280"/>
            <a:ext cx="251460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стигать адекватной своим возможностям социальной и профессиональной адаптации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500720" y="3714840"/>
            <a:ext cx="380880" cy="928440"/>
          </a:xfrm>
          <a:prstGeom prst="downArrow">
            <a:avLst>
              <a:gd name="adj1" fmla="val 50000"/>
              <a:gd name="adj2" fmla="val 7194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7500960" y="3714840"/>
            <a:ext cx="380880" cy="928440"/>
          </a:xfrm>
          <a:prstGeom prst="downArrow">
            <a:avLst>
              <a:gd name="adj1" fmla="val 50000"/>
              <a:gd name="adj2" fmla="val 74279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1360" y="4724280"/>
            <a:ext cx="281952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любой ребенок сможет максимально раскрыть свои потенциальные возможности в личностном и познавательном пл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285920" y="3714840"/>
            <a:ext cx="380880" cy="928440"/>
          </a:xfrm>
          <a:prstGeom prst="downArrow">
            <a:avLst>
              <a:gd name="adj1" fmla="val 50000"/>
              <a:gd name="adj2" fmla="val 81265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554120" y="177840"/>
            <a:ext cx="6077160" cy="1238760"/>
          </a:xfrm>
          <a:custGeom>
            <a:avLst/>
            <a:gdLst>
              <a:gd name="textAreaLeft" fmla="*/ 145800 w 6077160"/>
              <a:gd name="textAreaRight" fmla="*/ 5931360 w 6077160"/>
              <a:gd name="textAreaTop" fmla="*/ 145800 h 1238760"/>
              <a:gd name="textAreaBottom" fmla="*/ 1092960 h 1238760"/>
            </a:gdLst>
            <a:ahLst/>
            <a:rect l="textAreaLeft" t="textAreaTop" r="textAreaRight" b="textAreaBottom"/>
            <a:pathLst>
              <a:path w="1059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2342" y="21600"/>
                </a:lnTo>
                <a:arcTo wR="3600" hR="3600" stAng="10800000" swAng="5400000"/>
                <a:lnTo>
                  <a:pt x="10594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омплексное психолого-медико-педагогическое сопровождение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2786040"/>
            <a:ext cx="8610480" cy="1381680"/>
            <a:chOff x="214200" y="2786040"/>
            <a:chExt cx="8610480" cy="1381680"/>
          </a:xfrm>
        </p:grpSpPr>
        <p:sp>
          <p:nvSpPr>
            <p:cNvPr id="61" name="AutoShape 16"/>
            <p:cNvSpPr/>
            <p:nvPr/>
          </p:nvSpPr>
          <p:spPr>
            <a:xfrm>
              <a:off x="214200" y="2786040"/>
              <a:ext cx="8610480" cy="928080"/>
            </a:xfrm>
            <a:custGeom>
              <a:avLst/>
              <a:gdLst>
                <a:gd name="textAreaLeft" fmla="*/ 109080 w 8610480"/>
                <a:gd name="textAreaRight" fmla="*/ 8501400 w 8610480"/>
                <a:gd name="textAreaTop" fmla="*/ 109080 h 928080"/>
                <a:gd name="textAreaBottom" fmla="*/ 819000 h 928080"/>
              </a:gdLst>
              <a:ahLst/>
              <a:rect l="textAreaLeft" t="textAreaTop" r="textAreaRight" b="textAreaBottom"/>
              <a:pathLst>
                <a:path w="20033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96730" y="21600"/>
                  </a:lnTo>
                  <a:arcTo wR="3600" hR="3600" stAng="10800000" swAng="5400000"/>
                  <a:lnTo>
                    <a:pt x="20033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373680" y="2786040"/>
              <a:ext cx="8187480" cy="138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редполагает такую организацию развития, обучения и воспитания детей всех категорий,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в рамках которо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373680" y="3340440"/>
              <a:ext cx="81874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907838522"/>
          <p:cNvPicPr/>
          <p:nvPr/>
        </p:nvPicPr>
        <p:blipFill>
          <a:blip r:embed="rId1"/>
          <a:stretch/>
        </p:blipFill>
        <p:spPr>
          <a:xfrm>
            <a:off x="533520" y="304920"/>
            <a:ext cx="2286000" cy="22860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65" name="Text Box 3"/>
          <p:cNvSpPr/>
          <p:nvPr/>
        </p:nvSpPr>
        <p:spPr>
          <a:xfrm>
            <a:off x="76212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66760" y="2819520"/>
            <a:ext cx="8610480" cy="1373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Narrow"/>
              </a:rPr>
              <a:t>Поддержание силами всех специалистов - участников (субъектов) образовательного процесса равновесной ситуации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140360" y="380880"/>
            <a:ext cx="4470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Цель и общая задача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 </a:t>
            </a: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сопровождения: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82760" y="4218120"/>
            <a:ext cx="30477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реальными возможностями ребенка по присвоению образовательных воз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013280" y="4218120"/>
            <a:ext cx="46479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и объемом, динамическими показателями этих образовательных воздействий со стороны педагогов, родителей, других субъектов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психолого-медико-педагогического консилиума образовательной организации (ПМПк О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50012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и технологий сопровождения (в том числе режимные моменты оказания помощи, необходимость проведения организационных мероприятий способствующих адаптации включенного ребенка в образовательном учреждении и т.п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намическая оценка эффективности мероприят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менение образовательной траектории ребенка в ОУ, при необходимости направление на повторное ПМПК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деление детей, не проходивших ПМПК и не имеющих статуса «включенный», но нуждающихся  в специализированных условиях и помощи различных специалист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ординация взаимодействия специалистов по оказанию дополнительной специализированной помощи дет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консилиумной дея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арительн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т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ршающ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консилиум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ешаемы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психолого-медико-педагогического сопровождения детей с ОВ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работка согласованных решений по определению образовательного коррекционно-развивающего маршрута и дополнительных программ развивающей, коррекционной  и абилитационной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намическая оценка состояния ребенка и коррекция ранее намеченной програм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 принятии необходимых экстренных мер по выявившимся обстоятельств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направления  ранее проводимой коррекционно-развивающей работы в изменившейся ситуации или в случае ее неэффектив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 в рамках деятельности данного ОУ, либо иного типа учебного заведения (повторное прохождение ПМПК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1:41:52Z</dcterms:created>
  <dc:creator>Сологуб</dc:creator>
  <dc:description/>
  <dc:language>en-US</dc:language>
  <cp:lastModifiedBy>Айсулу</cp:lastModifiedBy>
  <dcterms:modified xsi:type="dcterms:W3CDTF">2017-11-17T19:48:50Z</dcterms:modified>
  <cp:revision>201</cp:revision>
  <dc:subject/>
  <dc:title>Презентация PowerPoint</dc:title>
</cp:coreProperties>
</file>