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4DA9-AAF2-461A-9BF7-CDB73EED88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34AA-6692-45DF-B85C-B92A9B25A6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9480-E124-4763-AC83-CA0E65B4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618A-7C3C-4DD7-A0C9-424C372C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7737-B71B-4356-97F3-6DC5FCAD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CAE1-C72D-4EAC-AD0F-1EEFF9E9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64AC-6F12-4C4F-974B-18B9D9A1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979C-2A78-40F3-95C3-C7DB504E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5321-4458-4F8A-850D-ACB45719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74F2-1EEE-48E4-BD82-3BAA7E41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DA5D-7CDE-4F34-B337-C6E1A2FC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ECD1-83F9-413F-B417-4A66B8DA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B4DF-189A-4694-98CB-B4C8111F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C3E2-5A20-4FDF-A481-96D02D25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C2A5-8A21-4351-BE79-CE9540B458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50000">
              <a:srgbClr val="a6cb81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31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РГАНИЗАЦИ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сихолого-педагогического сопровождения и индивидуальной работы с детьми с ОВЗ в условиях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ссовой общеобразовательной организ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285800"/>
            <a:ext cx="775800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56b13"/>
            </a:gs>
            <a:gs pos="50000">
              <a:srgbClr val="a6cb81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3"/>
          <p:cNvSpPr/>
          <p:nvPr/>
        </p:nvSpPr>
        <p:spPr>
          <a:xfrm>
            <a:off x="4267080" y="1447920"/>
            <a:ext cx="304920" cy="1338120"/>
          </a:xfrm>
          <a:prstGeom prst="downArrow">
            <a:avLst>
              <a:gd name="adj1" fmla="val 50000"/>
              <a:gd name="adj2" fmla="val 68203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 flipH="1" rot="10800000">
            <a:off x="7543800" y="762120"/>
            <a:ext cx="743040" cy="2023920"/>
          </a:xfrm>
          <a:custGeom>
            <a:avLst/>
            <a:gdLst>
              <a:gd name="textAreaLeft" fmla="*/ 0 w 743040"/>
              <a:gd name="textAreaRight" fmla="*/ 588240 w 743040"/>
              <a:gd name="textAreaTop" fmla="*/ 1739880 h 2023920"/>
              <a:gd name="textAreaBottom" fmla="*/ 2024280 h 2023920"/>
            </a:gdLst>
            <a:ahLst/>
            <a:rect l="textAreaLeft" t="textAreaTop" r="textAreaRight" b="textAreaBottom"/>
            <a:pathLst>
              <a:path w="21600" h="21600">
                <a:moveTo>
                  <a:pt x="15900" y="0"/>
                </a:moveTo>
                <a:lnTo>
                  <a:pt x="10200" y="5794"/>
                </a:lnTo>
                <a:lnTo>
                  <a:pt x="14700" y="5794"/>
                </a:lnTo>
                <a:lnTo>
                  <a:pt x="14700" y="18568"/>
                </a:lnTo>
                <a:lnTo>
                  <a:pt x="0" y="18568"/>
                </a:lnTo>
                <a:lnTo>
                  <a:pt x="0" y="21600"/>
                </a:lnTo>
                <a:lnTo>
                  <a:pt x="17100" y="21600"/>
                </a:lnTo>
                <a:lnTo>
                  <a:pt x="17100" y="5794"/>
                </a:lnTo>
                <a:lnTo>
                  <a:pt x="21600" y="5794"/>
                </a:lnTo>
                <a:lnTo>
                  <a:pt x="15900" y="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5"/>
          <p:cNvSpPr/>
          <p:nvPr/>
        </p:nvSpPr>
        <p:spPr>
          <a:xfrm rot="10800000">
            <a:off x="857160" y="762120"/>
            <a:ext cx="743040" cy="2023920"/>
          </a:xfrm>
          <a:custGeom>
            <a:avLst/>
            <a:gdLst>
              <a:gd name="textAreaLeft" fmla="*/ 0 w 743040"/>
              <a:gd name="textAreaRight" fmla="*/ 588240 w 743040"/>
              <a:gd name="textAreaTop" fmla="*/ 1739880 h 2023920"/>
              <a:gd name="textAreaBottom" fmla="*/ 2024280 h 2023920"/>
            </a:gdLst>
            <a:ahLst/>
            <a:rect l="textAreaLeft" t="textAreaTop" r="textAreaRight" b="textAreaBottom"/>
            <a:pathLst>
              <a:path w="21600" h="21600">
                <a:moveTo>
                  <a:pt x="15900" y="0"/>
                </a:moveTo>
                <a:lnTo>
                  <a:pt x="10200" y="5794"/>
                </a:lnTo>
                <a:lnTo>
                  <a:pt x="14700" y="5794"/>
                </a:lnTo>
                <a:lnTo>
                  <a:pt x="14700" y="18568"/>
                </a:lnTo>
                <a:lnTo>
                  <a:pt x="0" y="18568"/>
                </a:lnTo>
                <a:lnTo>
                  <a:pt x="0" y="21600"/>
                </a:lnTo>
                <a:lnTo>
                  <a:pt x="17100" y="21600"/>
                </a:lnTo>
                <a:lnTo>
                  <a:pt x="17100" y="5794"/>
                </a:lnTo>
                <a:lnTo>
                  <a:pt x="21600" y="5794"/>
                </a:lnTo>
                <a:lnTo>
                  <a:pt x="15900" y="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162240" y="4724280"/>
            <a:ext cx="3124440" cy="1923480"/>
          </a:xfrm>
          <a:prstGeom prst="rect">
            <a:avLst/>
          </a:prstGeom>
          <a:solidFill>
            <a:srgbClr val="fff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максимально и эффективно амплифицировать (присваивать) образовательные воздействия социу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458040" y="4724280"/>
            <a:ext cx="2514600" cy="1923480"/>
          </a:xfrm>
          <a:prstGeom prst="rect">
            <a:avLst/>
          </a:prstGeom>
          <a:solidFill>
            <a:srgbClr val="fff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достигать адекватной своим возможностям социальной и профессиональной адаптации в обществ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500720" y="3714840"/>
            <a:ext cx="380880" cy="928440"/>
          </a:xfrm>
          <a:prstGeom prst="downArrow">
            <a:avLst>
              <a:gd name="adj1" fmla="val 50000"/>
              <a:gd name="adj2" fmla="val 71943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7500960" y="3714840"/>
            <a:ext cx="380880" cy="928440"/>
          </a:xfrm>
          <a:prstGeom prst="downArrow">
            <a:avLst>
              <a:gd name="adj1" fmla="val 50000"/>
              <a:gd name="adj2" fmla="val 74279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71360" y="4724280"/>
            <a:ext cx="2819520" cy="1923480"/>
          </a:xfrm>
          <a:prstGeom prst="rect">
            <a:avLst/>
          </a:prstGeom>
          <a:solidFill>
            <a:srgbClr val="fff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любой ребенок сможет максимально раскрыть свои потенциальные возможности в личностном и познавательном пла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1285920" y="3714840"/>
            <a:ext cx="380880" cy="928440"/>
          </a:xfrm>
          <a:prstGeom prst="downArrow">
            <a:avLst>
              <a:gd name="adj1" fmla="val 50000"/>
              <a:gd name="adj2" fmla="val 81265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1554120" y="177840"/>
            <a:ext cx="6077160" cy="1238760"/>
          </a:xfrm>
          <a:custGeom>
            <a:avLst/>
            <a:gdLst>
              <a:gd name="textAreaLeft" fmla="*/ 145800 w 6077160"/>
              <a:gd name="textAreaRight" fmla="*/ 5931360 w 6077160"/>
              <a:gd name="textAreaTop" fmla="*/ 145800 h 1238760"/>
              <a:gd name="textAreaBottom" fmla="*/ 1092960 h 1238760"/>
            </a:gdLst>
            <a:ahLst/>
            <a:rect l="textAreaLeft" t="textAreaTop" r="textAreaRight" b="textAreaBottom"/>
            <a:pathLst>
              <a:path w="10594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2342" y="21600"/>
                </a:lnTo>
                <a:arcTo wR="3600" hR="3600" stAng="10800000" swAng="5400000"/>
                <a:lnTo>
                  <a:pt x="10594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Комплексное психолого-медико-педагогическое сопровождение дет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Group 15"/>
          <p:cNvGrpSpPr/>
          <p:nvPr/>
        </p:nvGrpSpPr>
        <p:grpSpPr>
          <a:xfrm>
            <a:off x="214200" y="2786040"/>
            <a:ext cx="8610480" cy="1381680"/>
            <a:chOff x="214200" y="2786040"/>
            <a:chExt cx="8610480" cy="1381680"/>
          </a:xfrm>
        </p:grpSpPr>
        <p:sp>
          <p:nvSpPr>
            <p:cNvPr id="61" name="AutoShape 16"/>
            <p:cNvSpPr/>
            <p:nvPr/>
          </p:nvSpPr>
          <p:spPr>
            <a:xfrm>
              <a:off x="214200" y="2786040"/>
              <a:ext cx="8610480" cy="928080"/>
            </a:xfrm>
            <a:custGeom>
              <a:avLst/>
              <a:gdLst>
                <a:gd name="textAreaLeft" fmla="*/ 109080 w 8610480"/>
                <a:gd name="textAreaRight" fmla="*/ 8501400 w 8610480"/>
                <a:gd name="textAreaTop" fmla="*/ 109080 h 928080"/>
                <a:gd name="textAreaBottom" fmla="*/ 819000 h 928080"/>
              </a:gdLst>
              <a:ahLst/>
              <a:rect l="textAreaLeft" t="textAreaTop" r="textAreaRight" b="textAreaBottom"/>
              <a:pathLst>
                <a:path w="20033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96730" y="21600"/>
                  </a:lnTo>
                  <a:arcTo wR="3600" hR="3600" stAng="10800000" swAng="5400000"/>
                  <a:lnTo>
                    <a:pt x="200330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17"/>
            <p:cNvSpPr/>
            <p:nvPr/>
          </p:nvSpPr>
          <p:spPr>
            <a:xfrm>
              <a:off x="373680" y="2786040"/>
              <a:ext cx="8187480" cy="1381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предполагает такую организацию развития, обучения и воспитания детей всех категорий,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в рамках которой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18"/>
            <p:cNvSpPr/>
            <p:nvPr/>
          </p:nvSpPr>
          <p:spPr>
            <a:xfrm>
              <a:off x="373680" y="3340440"/>
              <a:ext cx="818748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56b13"/>
            </a:gs>
            <a:gs pos="50000">
              <a:srgbClr val="a6cb81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907838522"/>
          <p:cNvPicPr/>
          <p:nvPr/>
        </p:nvPicPr>
        <p:blipFill>
          <a:blip r:embed="rId1"/>
          <a:stretch/>
        </p:blipFill>
        <p:spPr>
          <a:xfrm>
            <a:off x="533520" y="304920"/>
            <a:ext cx="2286000" cy="228600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  <p:sp>
        <p:nvSpPr>
          <p:cNvPr id="65" name="Text Box 3"/>
          <p:cNvSpPr/>
          <p:nvPr/>
        </p:nvSpPr>
        <p:spPr>
          <a:xfrm>
            <a:off x="762120" y="5335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66760" y="2819520"/>
            <a:ext cx="8610480" cy="13737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 Narrow"/>
              </a:rPr>
              <a:t>Поддержание силами всех специалистов - участников (субъектов) образовательного процесса равновесной ситуации межд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4140360" y="380880"/>
            <a:ext cx="44701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maze"/>
              </a:rPr>
              <a:t>Цель и общая задача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maze"/>
              <a:ea typeface="Amaz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maze"/>
              </a:rPr>
              <a:t> </a:t>
            </a: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maze"/>
              </a:rPr>
              <a:t>сопровождения: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maze"/>
              <a:ea typeface="Amaze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482760" y="4218120"/>
            <a:ext cx="3047760" cy="2592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реальными возможностями ребенка по присвоению образовательных воздейст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4013280" y="4218120"/>
            <a:ext cx="4647960" cy="2592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и объемом, динамическими показателями этих образовательных воздействий со стороны педагогов, родителей, других субъектов образовательного процес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3" presetSubtype="52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23" presetSubtype="52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a241"/>
            </a:gs>
            <a:gs pos="50000">
              <a:srgbClr val="66ff66"/>
            </a:gs>
            <a:gs pos="100000">
              <a:srgbClr val="41a24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чи деятельности психолого-медико-педагогического консилиума образовательной организации (ПМПк ОО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2920" y="1500120"/>
            <a:ext cx="8858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точнение стратегии и определение тактики и технологий сопровождения (в том числе режимные моменты оказания помощи, необходимость проведения организационных мероприятий способствующих адаптации включенного ребенка в образовательном учреждении и т.п.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инамическая оценка эффективности мероприятий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менение образовательной траектории ребенка в ОУ, при необходимости направление на повторное ПМПК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ыделение детей, не проходивших ПМПК и не имеющих статуса «включенный», но нуждающихся  в специализированных условиях и помощи различных специалистов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ординация взаимодействия специалистов по оказанию дополнительной специализированной помощи детя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a241"/>
            </a:gs>
            <a:gs pos="50000">
              <a:srgbClr val="66ff66"/>
            </a:gs>
            <a:gs pos="100000">
              <a:srgbClr val="41a24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8000" y="115560"/>
            <a:ext cx="89280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апы консилиумной деятельно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варительный этап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из актуальных ресурсов специалистов ОУ, анализ рекомендаций и условий включения ребенка , в том числе анализ документов и определение последовательности «прохождения» специалист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ый этап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следование ребенка профильными специалистами (в том числе и психологом). Составление индивидуальных заключений всеми специалистами консилиум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торой этап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легиальное обсуждение специалистами полученных результатов обследования. Координация и согласованность взаимодействия специалистов. Определение тактики сопровождения ребенка в инклюзивном пространстве О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етий этап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ализация решений консилиума ОУ силами специалистов ОУ (внеурочная коррекционно-развивающая работа, включение абилитационной помощи в процесс обучения и воспитания и т.п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вершающий этап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намическое/итоговое обследование ребенка (оценка состояния ребенка после окончания цикла сопровождения, учебного года, ступени образования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a241"/>
            </a:gs>
            <a:gs pos="50000">
              <a:srgbClr val="66ff66"/>
            </a:gs>
            <a:gs pos="100000">
              <a:srgbClr val="41a24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ды консилиумной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решаемые зада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5280" y="126792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ОВЫЙ КОНСИЛИ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точнение стратегии и определение тактики психолого-медико-педагогического сопровождения детей с ОВЗ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работка согласованных решений по определению образовательного коррекционно-развивающего маршрута и дополнительных программ развивающей, коррекционной  и абилитационной работ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намическая оценка состояния ребенка и коррекция ранее намеченной програм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шение вопроса об изменении образовательного маршру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НЕПЛАНОВЫЙ КОНСИЛИ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шение вопроса о принятии необходимых экстренных мер по выявившимся обстоятельства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менение направления  ранее проводимой коррекционно-развивающей работы в изменившейся ситуации или в случае ее неэффективно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шение вопроса об изменении образовательного маршрута в рамках деятельности данного ОУ, либо иного типа учебного заведения (повторное прохождение ПМПК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1:41:52Z</dcterms:created>
  <dc:creator>Сологуб</dc:creator>
  <dc:description/>
  <dc:language>en-US</dc:language>
  <cp:lastModifiedBy>Айсулу</cp:lastModifiedBy>
  <dcterms:modified xsi:type="dcterms:W3CDTF">2017-11-17T19:48:50Z</dcterms:modified>
  <cp:revision>201</cp:revision>
  <dc:subject/>
  <dc:title>Презентация PowerPoint</dc:title>
</cp:coreProperties>
</file>