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55D7-A2A3-491F-908D-58232BF463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2AEB-090E-4E63-A96A-106881CEBE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A43-BE41-4CA5-A5CF-8C2B50D7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DC5-8191-442E-9A53-93917C7C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1B1-3054-4B07-8D54-4F5265AF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1C6-9382-4276-B3F0-F501B0A3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D31-B1F0-4BC2-B75E-A832B0C8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CFA-EB2C-46E2-84F7-647DF898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7A5-7BA7-486C-8511-D7B05849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143-9F2E-4CE4-8855-6BE7207F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10B-04EF-4527-941E-4B424F7B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841-50DE-49E2-9EF3-CEE02FAF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A8B-E4FF-46D8-BAF6-663B0693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BBC-B695-465A-B11D-9FC773B5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BED6-0CFA-4D97-8DC7-28302A31C2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a6cb81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сихолого-педагогического сопровождения и индивидуальной работы с детьми с ОВЗ в условиях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ссовой общеобразовательной организ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85800"/>
            <a:ext cx="7758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50000">
              <a:srgbClr val="a6cb81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3"/>
          <p:cNvSpPr/>
          <p:nvPr/>
        </p:nvSpPr>
        <p:spPr>
          <a:xfrm>
            <a:off x="4267080" y="1447920"/>
            <a:ext cx="304920" cy="1338120"/>
          </a:xfrm>
          <a:prstGeom prst="downArrow">
            <a:avLst>
              <a:gd name="adj1" fmla="val 50000"/>
              <a:gd name="adj2" fmla="val 68203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 flipH="1" rot="10800000">
            <a:off x="7543800" y="762120"/>
            <a:ext cx="743040" cy="2023920"/>
          </a:xfrm>
          <a:custGeom>
            <a:avLst/>
            <a:gdLst>
              <a:gd name="textAreaLeft" fmla="*/ 0 w 743040"/>
              <a:gd name="textAreaRight" fmla="*/ 588240 w 743040"/>
              <a:gd name="textAreaTop" fmla="*/ 1739880 h 2023920"/>
              <a:gd name="textAreaBottom" fmla="*/ 2024280 h 2023920"/>
            </a:gdLst>
            <a:ahLst/>
            <a:rect l="textAreaLeft" t="textAreaTop" r="textAreaRight" b="textAreaBottom"/>
            <a:pathLst>
              <a:path w="21600" h="21600">
                <a:moveTo>
                  <a:pt x="15900" y="0"/>
                </a:moveTo>
                <a:lnTo>
                  <a:pt x="10200" y="5794"/>
                </a:lnTo>
                <a:lnTo>
                  <a:pt x="14700" y="5794"/>
                </a:lnTo>
                <a:lnTo>
                  <a:pt x="14700" y="18568"/>
                </a:lnTo>
                <a:lnTo>
                  <a:pt x="0" y="18568"/>
                </a:lnTo>
                <a:lnTo>
                  <a:pt x="0" y="21600"/>
                </a:lnTo>
                <a:lnTo>
                  <a:pt x="17100" y="21600"/>
                </a:lnTo>
                <a:lnTo>
                  <a:pt x="17100" y="5794"/>
                </a:lnTo>
                <a:lnTo>
                  <a:pt x="21600" y="5794"/>
                </a:lnTo>
                <a:lnTo>
                  <a:pt x="15900" y="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 rot="10800000">
            <a:off x="857160" y="762120"/>
            <a:ext cx="743040" cy="2023920"/>
          </a:xfrm>
          <a:custGeom>
            <a:avLst/>
            <a:gdLst>
              <a:gd name="textAreaLeft" fmla="*/ 0 w 743040"/>
              <a:gd name="textAreaRight" fmla="*/ 588240 w 743040"/>
              <a:gd name="textAreaTop" fmla="*/ 1739880 h 2023920"/>
              <a:gd name="textAreaBottom" fmla="*/ 2024280 h 2023920"/>
            </a:gdLst>
            <a:ahLst/>
            <a:rect l="textAreaLeft" t="textAreaTop" r="textAreaRight" b="textAreaBottom"/>
            <a:pathLst>
              <a:path w="21600" h="21600">
                <a:moveTo>
                  <a:pt x="15900" y="0"/>
                </a:moveTo>
                <a:lnTo>
                  <a:pt x="10200" y="5794"/>
                </a:lnTo>
                <a:lnTo>
                  <a:pt x="14700" y="5794"/>
                </a:lnTo>
                <a:lnTo>
                  <a:pt x="14700" y="18568"/>
                </a:lnTo>
                <a:lnTo>
                  <a:pt x="0" y="18568"/>
                </a:lnTo>
                <a:lnTo>
                  <a:pt x="0" y="21600"/>
                </a:lnTo>
                <a:lnTo>
                  <a:pt x="17100" y="21600"/>
                </a:lnTo>
                <a:lnTo>
                  <a:pt x="17100" y="5794"/>
                </a:lnTo>
                <a:lnTo>
                  <a:pt x="21600" y="5794"/>
                </a:lnTo>
                <a:lnTo>
                  <a:pt x="15900" y="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162240" y="4724280"/>
            <a:ext cx="3124440" cy="1923480"/>
          </a:xfrm>
          <a:prstGeom prst="rect">
            <a:avLst/>
          </a:prstGeom>
          <a:solidFill>
            <a:srgbClr val="f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аксимально и эффективно амплифицировать (присваивать) образовательные воздействия социу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458040" y="4724280"/>
            <a:ext cx="2514600" cy="1923480"/>
          </a:xfrm>
          <a:prstGeom prst="rect">
            <a:avLst/>
          </a:prstGeom>
          <a:solidFill>
            <a:srgbClr val="f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остигать адекватной своим возможностям социальной и профессиональной адаптации в общест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500720" y="3714840"/>
            <a:ext cx="380880" cy="928440"/>
          </a:xfrm>
          <a:prstGeom prst="downArrow">
            <a:avLst>
              <a:gd name="adj1" fmla="val 50000"/>
              <a:gd name="adj2" fmla="val 71943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7500960" y="3714840"/>
            <a:ext cx="380880" cy="928440"/>
          </a:xfrm>
          <a:prstGeom prst="downArrow">
            <a:avLst>
              <a:gd name="adj1" fmla="val 50000"/>
              <a:gd name="adj2" fmla="val 74279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1360" y="4724280"/>
            <a:ext cx="2819520" cy="1923480"/>
          </a:xfrm>
          <a:prstGeom prst="rect">
            <a:avLst/>
          </a:prstGeom>
          <a:solidFill>
            <a:srgbClr val="f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любой ребенок сможет максимально раскрыть свои потенциальные возможности в личностном и познавательном пл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285920" y="3714840"/>
            <a:ext cx="380880" cy="928440"/>
          </a:xfrm>
          <a:prstGeom prst="downArrow">
            <a:avLst>
              <a:gd name="adj1" fmla="val 50000"/>
              <a:gd name="adj2" fmla="val 81265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1554120" y="177840"/>
            <a:ext cx="6077160" cy="1238760"/>
          </a:xfrm>
          <a:custGeom>
            <a:avLst/>
            <a:gdLst>
              <a:gd name="textAreaLeft" fmla="*/ 145800 w 6077160"/>
              <a:gd name="textAreaRight" fmla="*/ 5931360 w 6077160"/>
              <a:gd name="textAreaTop" fmla="*/ 145800 h 1238760"/>
              <a:gd name="textAreaBottom" fmla="*/ 1092960 h 1238760"/>
            </a:gdLst>
            <a:ahLst/>
            <a:rect l="textAreaLeft" t="textAreaTop" r="textAreaRight" b="textAreaBottom"/>
            <a:pathLst>
              <a:path w="1059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2342" y="21600"/>
                </a:lnTo>
                <a:arcTo wR="3600" hR="3600" stAng="10800000" swAng="5400000"/>
                <a:lnTo>
                  <a:pt x="10594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омплексное психолого-медико-педагогическое сопровождение дет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214200" y="2786040"/>
            <a:ext cx="8610480" cy="1381680"/>
            <a:chOff x="214200" y="2786040"/>
            <a:chExt cx="8610480" cy="1381680"/>
          </a:xfrm>
        </p:grpSpPr>
        <p:sp>
          <p:nvSpPr>
            <p:cNvPr id="61" name="AutoShape 16"/>
            <p:cNvSpPr/>
            <p:nvPr/>
          </p:nvSpPr>
          <p:spPr>
            <a:xfrm>
              <a:off x="214200" y="2786040"/>
              <a:ext cx="8610480" cy="928080"/>
            </a:xfrm>
            <a:custGeom>
              <a:avLst/>
              <a:gdLst>
                <a:gd name="textAreaLeft" fmla="*/ 109080 w 8610480"/>
                <a:gd name="textAreaRight" fmla="*/ 8501400 w 8610480"/>
                <a:gd name="textAreaTop" fmla="*/ 109080 h 928080"/>
                <a:gd name="textAreaBottom" fmla="*/ 819000 h 928080"/>
              </a:gdLst>
              <a:ahLst/>
              <a:rect l="textAreaLeft" t="textAreaTop" r="textAreaRight" b="textAreaBottom"/>
              <a:pathLst>
                <a:path w="20033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96730" y="21600"/>
                  </a:lnTo>
                  <a:arcTo wR="3600" hR="3600" stAng="10800000" swAng="5400000"/>
                  <a:lnTo>
                    <a:pt x="200330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17"/>
            <p:cNvSpPr/>
            <p:nvPr/>
          </p:nvSpPr>
          <p:spPr>
            <a:xfrm>
              <a:off x="373680" y="2786040"/>
              <a:ext cx="8187480" cy="1381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предполагает такую организацию развития, обучения и воспитания детей всех категорий,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в рамках которо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8"/>
            <p:cNvSpPr/>
            <p:nvPr/>
          </p:nvSpPr>
          <p:spPr>
            <a:xfrm>
              <a:off x="373680" y="3340440"/>
              <a:ext cx="81874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50000">
              <a:srgbClr val="a6cb81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907838522"/>
          <p:cNvPicPr/>
          <p:nvPr/>
        </p:nvPicPr>
        <p:blipFill>
          <a:blip r:embed="rId1"/>
          <a:stretch/>
        </p:blipFill>
        <p:spPr>
          <a:xfrm>
            <a:off x="533520" y="304920"/>
            <a:ext cx="2286000" cy="228600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sp>
        <p:nvSpPr>
          <p:cNvPr id="65" name="Text Box 3"/>
          <p:cNvSpPr/>
          <p:nvPr/>
        </p:nvSpPr>
        <p:spPr>
          <a:xfrm>
            <a:off x="762120" y="5335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66760" y="2819520"/>
            <a:ext cx="8610480" cy="13737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Narrow"/>
              </a:rPr>
              <a:t>Поддержание силами всех специалистов - участников (субъектов) образовательного процесса равновесной ситуации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140360" y="380880"/>
            <a:ext cx="44701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maze"/>
              </a:rPr>
              <a:t>Цель и общая задача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maze"/>
              <a:ea typeface="Amaz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maze"/>
              </a:rPr>
              <a:t> </a:t>
            </a: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maze"/>
              </a:rPr>
              <a:t>сопровождения: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maze"/>
              <a:ea typeface="Amaze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482760" y="4218120"/>
            <a:ext cx="3047760" cy="25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реальными возможностями ребенка по присвоению образовательных воз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4013280" y="4218120"/>
            <a:ext cx="4647960" cy="25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и объемом, динамическими показателями этих образовательных воздействий со стороны педагогов, родителей, других субъектов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a241"/>
            </a:gs>
            <a:gs pos="50000">
              <a:srgbClr val="66ff66"/>
            </a:gs>
            <a:gs pos="100000">
              <a:srgbClr val="41a24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 деятельности психолого-медико-педагогического консилиума образовательной организации (ПМПк О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920" y="150012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точнение стратегии и определение тактики и технологий сопровождения (в том числе режимные моменты оказания помощи, необходимость проведения организационных мероприятий способствующих адаптации включенного ребенка в образовательном учреждении и т.п.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намическая оценка эффективности мероприят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менение образовательной траектории ребенка в ОУ, при необходимости направление на повторное ПМПК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деление детей, не проходивших ПМПК и не имеющих статуса «включенный», но нуждающихся  в специализированных условиях и помощи различных специалистов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ординация взаимодействия специалистов по оказанию дополнительной специализированной помощи дет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a241"/>
            </a:gs>
            <a:gs pos="50000">
              <a:srgbClr val="66ff66"/>
            </a:gs>
            <a:gs pos="100000">
              <a:srgbClr val="41a24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пы консилиумной деятель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варительны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актуальных ресурсов специалистов ОУ, анализ рекомендаций и условий включения ребенка , в том числе анализ документов и определение последовательности «прохождения» специалис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ледование ребенка профильными специалистами (в том числе и психологом). Составление индивидуальных заключений всеми специалистами консилиу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о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гиальное обсуждение специалистами полученных результатов обследования. Координация и согласованность взаимодействия специалистов. Определение тактики сопровождения ребенка в инклюзивном пространстве О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ети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изация решений консилиума ОУ силами специалистов ОУ (внеурочная коррекционно-развивающая работа, включение абилитационной помощи в процесс обучения и воспитания и т.п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ршающи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намическое/итоговое обследование ребенка (оценка состояния ребенка после окончания цикла сопровождения, учебного года, ступени образова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a241"/>
            </a:gs>
            <a:gs pos="50000">
              <a:srgbClr val="66ff66"/>
            </a:gs>
            <a:gs pos="100000">
              <a:srgbClr val="41a24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консилиум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решаемые за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26792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ОВЫЙ КОНСИЛИ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очнение стратегии и определение тактики психолого-медико-педагогического сопровождения детей с ОВЗ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работка согласованных решений по определению образовательного коррекционно-развивающего маршрута и дополнительных программ развивающей, коррекционной  и абилитационной рабо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намическая оценка состояния ребенка и коррекция ранее намеченной програм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вопроса об изменении образовательного маршру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ПЛАНОВЫЙ КОНСИЛИ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вопроса о принятии необходимых экстренных мер по выявившимся обстоятельства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ение направления  ранее проводимой коррекционно-развивающей работы в изменившейся ситуации или в случае ее неэффектив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вопроса об изменении образовательного маршрута в рамках деятельности данного ОУ, либо иного типа учебного заведения (повторное прохождение ПМПК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1:41:52Z</dcterms:created>
  <dc:creator>Сологуб</dc:creator>
  <dc:description/>
  <dc:language>en-US</dc:language>
  <cp:lastModifiedBy>Айсулу</cp:lastModifiedBy>
  <dcterms:modified xsi:type="dcterms:W3CDTF">2017-11-17T19:48:50Z</dcterms:modified>
  <cp:revision>201</cp:revision>
  <dc:subject/>
  <dc:title>Презентация PowerPoint</dc:title>
</cp:coreProperties>
</file>