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B85-1E7C-440A-8FAC-D40F72A1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0AA-D902-4D32-B11C-36989DA0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20C-34AB-4D06-ACDF-2B5EAACF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DAF-7DD1-4C4C-B556-F0C42136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D0BF-57BC-4EFC-9827-1EB46347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983-BDFB-4373-A30E-6A1BD78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DE06-1167-411E-8197-325D79A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5533-EC39-400C-BCD6-BC75C1D2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A73-E123-4E14-808B-E589008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DDE-6D41-4B3D-830E-81F6CD9B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74B-F35D-4781-8D74-EF7D49C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BE6-4AAC-428C-8F27-CF4D0D4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B98B-EE97-45A6-9CA1-3E75CD2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195B-94F6-43A3-BEEB-A889831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D495-FC4B-4ED7-A648-4D91E39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E84-0600-4C00-AD49-06972A3E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9A5-7223-42B6-9AEA-69568C09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B5BB-4902-4FA2-A0F7-301813C2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B1A8-AC95-4AA0-9420-3792B2F4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6CB4-8C1C-48DB-B08F-81A6E36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BDBC-1133-4A94-A84A-F11BEBA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2C63-CFB3-408D-9342-6F3A80CC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29F-5F64-47A5-80F8-4215122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C7BF-0C9F-4225-9389-2C81D0A3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87BD-6FC2-49CA-BC06-D58A584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9B13-AEE2-4B36-9E0F-1BA11EF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9716-5199-4F81-9537-348E34D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CFAB-C46C-4AC9-9F3C-21548D8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06E4-51BB-4D06-A81C-AF481B2D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54014-779F-4C9B-B7DC-BEDF2D64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AC0A-EE16-4EEB-91A7-5375F533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78C0-8B53-40FE-834F-67D85BFB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C040-6D3D-4642-BC25-E37BCF94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997-1B04-412C-BB55-4CC6D18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EBC7-035D-470A-94C4-E617E9A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84E7-1797-417E-8CF3-A72E3F4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6D648-1251-4D16-BF88-0F35E79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BF81-5566-4AD0-B2A8-C673DA0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87F7-5943-4FA1-9A4E-3188D86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CEB1-26E8-443D-89A6-0212A1D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47DA-DE17-4120-81A4-FE595B5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63D3-60BB-4572-B7A2-5D508800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46FB-A8C1-41E0-85EC-6006DAEF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E80-0CC5-4D01-98FE-2DC26EC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3BF-935E-4E04-BDBA-CEF8C17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C3E-028C-4039-9404-BE4E4330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507-37FE-434D-B2E9-59F4D1A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F03-6AC7-4F6B-8D93-524320D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B51B-5573-4EA6-BF80-0ACF916900F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0B8-42C0-450A-A9D4-925619ADED7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990-BCEE-462E-8DF3-F1BD5DBF951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977C-513D-48B9-B735-3F75EF42310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332000" y="430632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амоуправление в 6 Б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ребенком необходимо общаться  как с равным, отказаться от  действий с позиции силы, относится к нему, как к человеку, который имеет право на  самостоятельность и уважение. Терпение и снисходительность к ребенку –  главное  средство в воспит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Школа\Desktop\6 б класс\чуруктар\IMG_20181110_083634.jpg"/>
          <p:cNvPicPr/>
          <p:nvPr/>
        </p:nvPicPr>
        <p:blipFill>
          <a:blip r:embed="rId1"/>
          <a:stretch/>
        </p:blipFill>
        <p:spPr>
          <a:xfrm>
            <a:off x="1204920" y="260280"/>
            <a:ext cx="66261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24000" y="13924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Принципы жизнедеятельности классного коллекти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ознай себя – это интере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Сотвори себя – это необходим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Утверди себя – это возмож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рояви себя – это реа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324000" y="115920"/>
            <a:ext cx="84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УПРАВЛЕНИЕ</a:t>
            </a:r>
            <a:endParaRPr b="0" lang="en-US" sz="1800" spc="1" strike="noStrike">
              <a:ln w="381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C:\Users\Школа\Desktop\6 б класс\чуруктар\IMG_20181003_155439.jpg"/>
          <p:cNvPicPr/>
          <p:nvPr/>
        </p:nvPicPr>
        <p:blipFill>
          <a:blip r:embed="rId1"/>
          <a:stretch/>
        </p:blipFill>
        <p:spPr>
          <a:xfrm>
            <a:off x="324000" y="7920"/>
            <a:ext cx="33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Школа\Desktop\6 б класс\чуруктар\1535779231569.jpg"/>
          <p:cNvPicPr/>
          <p:nvPr/>
        </p:nvPicPr>
        <p:blipFill>
          <a:blip r:embed="rId2"/>
          <a:stretch/>
        </p:blipFill>
        <p:spPr>
          <a:xfrm>
            <a:off x="421164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Школа\Desktop\6 б класс\чуруктар\1536132496003.jpg"/>
          <p:cNvPicPr/>
          <p:nvPr/>
        </p:nvPicPr>
        <p:blipFill>
          <a:blip r:embed="rId3"/>
          <a:stretch/>
        </p:blipFill>
        <p:spPr>
          <a:xfrm>
            <a:off x="111240" y="2486160"/>
            <a:ext cx="3809880" cy="252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Школа\Desktop\6 б класс\чуруктар\IMG_20181227_121329.jpg"/>
          <p:cNvPicPr/>
          <p:nvPr/>
        </p:nvPicPr>
        <p:blipFill>
          <a:blip r:embed="rId4"/>
          <a:stretch/>
        </p:blipFill>
        <p:spPr>
          <a:xfrm>
            <a:off x="5148360" y="2486160"/>
            <a:ext cx="3544920" cy="252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Школа\Desktop\Шупту чуве\5 в класс\Класс чуруктары\IMG_20171212_141048.jpg"/>
          <p:cNvPicPr/>
          <p:nvPr/>
        </p:nvPicPr>
        <p:blipFill>
          <a:blip r:embed="rId5"/>
          <a:stretch/>
        </p:blipFill>
        <p:spPr>
          <a:xfrm>
            <a:off x="2546280" y="4508640"/>
            <a:ext cx="3560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9:39:29Z</dcterms:created>
  <dc:creator>Связной</dc:creator>
  <dc:description/>
  <dc:language>en-US</dc:language>
  <cp:lastModifiedBy>Школа</cp:lastModifiedBy>
  <dcterms:modified xsi:type="dcterms:W3CDTF">2019-03-17T05:44:52Z</dcterms:modified>
  <cp:revision>15</cp:revision>
  <dc:subject/>
  <dc:title>Слайд 1</dc:title>
</cp:coreProperties>
</file>