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50D-88E8-4536-B4E9-0A8FC650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3C5-6505-41FB-9810-BB556B6A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AC5-AAEF-465F-A1F5-A0D0D0E7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A97-971D-4CD7-9909-1EC9A661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84CE-738F-44AA-AFFB-F35F5483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3485-4F84-4388-807D-F0025DEC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11D4-08D5-4403-A71A-2BE71705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3741-5F89-4A1A-A017-2144B8D2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F2DB-9502-4D23-88BA-96414C97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BDB5-58C4-4AA3-9534-398D238C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D232-16FB-4552-8B97-2B0835CE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B20-0F05-4D67-824F-6C56E1E5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E2C2-CBD6-47B3-B3CB-ECABD119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D2A9-319D-4DF2-BA62-21C95B13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5670-6E70-4411-B07D-53F74667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7C12-E43B-4799-8667-71589C0B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FBE9-0F87-4296-B99E-1BCCDBFA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30AF-4DD3-42A0-A1C3-AC729937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605A4-5E34-4256-8E43-18C439CB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7D0C0-DC05-4EB7-9AEB-2154B9C3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6F8D-4033-4DB8-BEC2-10BB1273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0894-2A14-48A4-9906-F3109650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C22-3755-4EBB-B745-443B9727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5A865-2A39-4B4C-8926-2801ADD5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86B87-8E3B-4D83-9A02-D1CD97C9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DE5FC-FF7E-4648-86D1-0B112B10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AA1D-B473-4486-89DF-C198800C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66CF-18BA-49C1-B25B-95B63F93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89BF7-52F8-4C15-B2CA-85AF200F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4781E-3C1A-4B36-9916-222A070F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D82EA-7137-45ED-9D5C-DD609FDA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0592F-E9ED-42A7-96B5-D9D110DA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34495-0803-41BE-9F80-8AE05023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685-29B7-41DE-93DA-042F4580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AB4D0-8ED7-4328-AAC2-3C99E764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A6037-656F-4968-BC72-EA7731E3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6D351-7483-43B3-9B62-F4110B77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5C406-E391-42E2-9CF6-E5391C8A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5C036-9C9D-420F-84C4-EBFC0C03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6DF8E-86C1-4E5C-8A75-5D2D4960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82191-93B1-4D32-9F88-FEB3C713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A16D4-0DB0-40E9-B793-567FF076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6D688-399C-4A9A-A4B3-CFA891AC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0F9-ADAE-46EF-B6AF-F6227415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481-6A06-47B1-8DF5-A48C79A7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869-C3CB-4439-8479-C8549A03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EA7-681B-4907-821C-1AB865BE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09C-83A8-43B0-99CB-06A93B35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FE0A-C475-4538-84AF-B9E0EA8A4E3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03B5-6AFC-4899-A145-0D344AE10FA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B352-EA59-4028-811B-5F3F7ABB163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904E-9AA6-4CA7-805E-212975543C5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332000" y="4306320"/>
            <a:ext cx="68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амоуправление в 6 Б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 ребенком необходимо общаться  как с равным, отказаться от  действий с позиции силы, относится к нему, как к человеку, который имеет право на  самостоятельность и уважение. Терпение и снисходительность к ребенку –  главное  средство в воспита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C:\Users\Школа\Desktop\6 б класс\чуруктар\IMG_20181110_083634.jpg"/>
          <p:cNvPicPr/>
          <p:nvPr/>
        </p:nvPicPr>
        <p:blipFill>
          <a:blip r:embed="rId1"/>
          <a:stretch/>
        </p:blipFill>
        <p:spPr>
          <a:xfrm>
            <a:off x="1204920" y="260280"/>
            <a:ext cx="66261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24000" y="13924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Принципы жизнедеятельности классного коллекти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Познай себя – это интерес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Сотвори себя – это необходим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Утверди себя – это возмож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Прояви себя – это реаль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3"/>
          <p:cNvSpPr txBox="1"/>
          <p:nvPr/>
        </p:nvSpPr>
        <p:spPr>
          <a:xfrm>
            <a:off x="324000" y="115920"/>
            <a:ext cx="84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АМОУПРАВЛЕНИЕ</a:t>
            </a:r>
            <a:endParaRPr b="0" lang="en-US" sz="1800" spc="1" strike="noStrike">
              <a:ln w="381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C:\Users\Школа\Desktop\6 б класс\чуруктар\IMG_20181003_155439.jpg"/>
          <p:cNvPicPr/>
          <p:nvPr/>
        </p:nvPicPr>
        <p:blipFill>
          <a:blip r:embed="rId1"/>
          <a:stretch/>
        </p:blipFill>
        <p:spPr>
          <a:xfrm>
            <a:off x="324000" y="7920"/>
            <a:ext cx="3384360" cy="280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Школа\Desktop\6 б класс\чуруктар\1535779231569.jpg"/>
          <p:cNvPicPr/>
          <p:nvPr/>
        </p:nvPicPr>
        <p:blipFill>
          <a:blip r:embed="rId2"/>
          <a:stretch/>
        </p:blipFill>
        <p:spPr>
          <a:xfrm>
            <a:off x="4211640" y="189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Школа\Desktop\6 б класс\чуруктар\1536132496003.jpg"/>
          <p:cNvPicPr/>
          <p:nvPr/>
        </p:nvPicPr>
        <p:blipFill>
          <a:blip r:embed="rId3"/>
          <a:stretch/>
        </p:blipFill>
        <p:spPr>
          <a:xfrm>
            <a:off x="111240" y="2486160"/>
            <a:ext cx="3809880" cy="252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Users\Школа\Desktop\6 б класс\чуруктар\IMG_20181227_121329.jpg"/>
          <p:cNvPicPr/>
          <p:nvPr/>
        </p:nvPicPr>
        <p:blipFill>
          <a:blip r:embed="rId4"/>
          <a:stretch/>
        </p:blipFill>
        <p:spPr>
          <a:xfrm>
            <a:off x="5148360" y="2486160"/>
            <a:ext cx="3544920" cy="252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:\Users\Школа\Desktop\Шупту чуве\5 в класс\Класс чуруктары\IMG_20171212_141048.jpg"/>
          <p:cNvPicPr/>
          <p:nvPr/>
        </p:nvPicPr>
        <p:blipFill>
          <a:blip r:embed="rId5"/>
          <a:stretch/>
        </p:blipFill>
        <p:spPr>
          <a:xfrm>
            <a:off x="2546280" y="4508640"/>
            <a:ext cx="35607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9:39:29Z</dcterms:created>
  <dc:creator>Связной</dc:creator>
  <dc:description/>
  <dc:language>en-US</dc:language>
  <cp:lastModifiedBy>Школа</cp:lastModifiedBy>
  <dcterms:modified xsi:type="dcterms:W3CDTF">2019-03-17T05:44:52Z</dcterms:modified>
  <cp:revision>15</cp:revision>
  <dc:subject/>
  <dc:title>Слайд 1</dc:title>
</cp:coreProperties>
</file>