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5B8-486C-4F89-A49D-E5E5C107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764-0470-4A44-B977-231C533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FF0-6F58-4F5F-81C0-6972C9B2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950-AA09-4221-A05C-30829FD1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6BC1-0943-4BB2-B444-6C056A6B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C5A9-4587-4FA7-8868-C7A4B3F0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404B-E336-42CB-ADC7-E511B119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63DB-8D38-40ED-ABE8-6BA02A56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8AC3-F8A7-46F8-8DBD-98644BAD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BB67-4184-4851-B749-C7C488EA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C01D-9E7D-4D3B-A529-1D18F24C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235-A773-40D7-AC29-09FD5A7E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4D62-FE68-410A-A062-E6D040E0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4C58-92A4-46E8-9E63-C55E092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F9B8-61CC-4AEC-B563-0FA79DF3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74BE-889E-42B8-9B2B-484BE925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610E-AA62-46A0-B312-DE1766D8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B2CB-BF55-4921-8141-73890A1A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DBBD-1BBB-45B2-8DD5-A3D82BA1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F614-CB50-4530-8A81-FA46584B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7D86-0E31-4B29-AEA5-B455AAE8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951D-7212-4727-A5A6-24506450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2608-75B3-4F0D-9924-7CB64483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1928-A751-4F16-AD10-D4EA5BF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9537-FEFF-4926-B128-BB3A9D1D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7FCF-5DD3-4E3D-8E99-9A4E0D24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30BD-A4A9-4458-8FD4-1618E78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A778-9151-459A-B2E9-FA5A0E56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15019-3A7F-4C44-9C78-8F1E5CD8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7AA4D-5BBC-43EF-9A69-BEF51EB0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23AB-9D05-4F25-A7E5-D7AB9407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92496-90CF-47DF-85FE-0CE1D9A2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3599-B7F7-4299-8DD1-FC671A2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2B0-0B38-4B0B-8FDE-0556A83E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087AE-C4AE-438F-9F17-1E1B30B2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C0D5-9E4E-4607-BB11-16C0C6C3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BF80-B8A3-43C8-8E0D-6F42C288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0FF4-D07B-48E0-A94E-C0F699CE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0055F-9C65-4784-B782-20FC42F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CBF3B-B1E0-477E-B588-771001D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DCBE-9F47-4689-894E-BD0E2D8E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7033-226F-44A0-AB31-362C7EC0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DD155-59B5-40BE-88C1-93A0BC27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B29-2F27-4986-B5B9-77BE4E6D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8B3-3A43-49E7-BCA5-C2E4277A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5DB-874F-4F89-AB30-A2EEF6C4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765-1AD0-4306-9900-F4E0F3A9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853-5ADB-4F94-A91C-68B6657D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5B1B-69E6-4FEE-B4EE-8523D90A779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9DCA-F1CF-44CB-A95E-E2FF97349EA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6689-10F4-4D5B-8728-9D26EFE1472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0D1E-B356-40E5-8E9E-BD48C0A0567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332000" y="4306320"/>
            <a:ext cx="68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амоуправление в 6 Б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 ребенком необходимо общаться  как с равным, отказаться от  действий с позиции силы, относится к нему, как к человеку, который имеет право на  самостоятельность и уважение. Терпение и снисходительность к ребенку –  главное  средство в воспит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Users\Школа\Desktop\6 б класс\чуруктар\IMG_20181110_083634.jpg"/>
          <p:cNvPicPr/>
          <p:nvPr/>
        </p:nvPicPr>
        <p:blipFill>
          <a:blip r:embed="rId1"/>
          <a:stretch/>
        </p:blipFill>
        <p:spPr>
          <a:xfrm>
            <a:off x="1204920" y="260280"/>
            <a:ext cx="66261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24000" y="13924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Принципы жизнедеятельности классного коллекти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ознай себя – это интерес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Сотвори себя – это необходим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Утверди себя – это возмож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рояви себя – это реа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324000" y="115920"/>
            <a:ext cx="84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ОУПРАВЛЕНИЕ</a:t>
            </a:r>
            <a:endParaRPr b="0" lang="en-US" sz="1800" spc="1" strike="noStrike">
              <a:ln w="381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C:\Users\Школа\Desktop\6 б класс\чуруктар\IMG_20181003_155439.jpg"/>
          <p:cNvPicPr/>
          <p:nvPr/>
        </p:nvPicPr>
        <p:blipFill>
          <a:blip r:embed="rId1"/>
          <a:stretch/>
        </p:blipFill>
        <p:spPr>
          <a:xfrm>
            <a:off x="324000" y="7920"/>
            <a:ext cx="33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Школа\Desktop\6 б класс\чуруктар\1535779231569.jpg"/>
          <p:cNvPicPr/>
          <p:nvPr/>
        </p:nvPicPr>
        <p:blipFill>
          <a:blip r:embed="rId2"/>
          <a:stretch/>
        </p:blipFill>
        <p:spPr>
          <a:xfrm>
            <a:off x="4211640" y="189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Школа\Desktop\6 б класс\чуруктар\1536132496003.jpg"/>
          <p:cNvPicPr/>
          <p:nvPr/>
        </p:nvPicPr>
        <p:blipFill>
          <a:blip r:embed="rId3"/>
          <a:stretch/>
        </p:blipFill>
        <p:spPr>
          <a:xfrm>
            <a:off x="111240" y="2486160"/>
            <a:ext cx="3809880" cy="252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Users\Школа\Desktop\6 б класс\чуруктар\IMG_20181227_121329.jpg"/>
          <p:cNvPicPr/>
          <p:nvPr/>
        </p:nvPicPr>
        <p:blipFill>
          <a:blip r:embed="rId4"/>
          <a:stretch/>
        </p:blipFill>
        <p:spPr>
          <a:xfrm>
            <a:off x="5148360" y="2486160"/>
            <a:ext cx="3544920" cy="252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Users\Школа\Desktop\Шупту чуве\5 в класс\Класс чуруктары\IMG_20171212_141048.jpg"/>
          <p:cNvPicPr/>
          <p:nvPr/>
        </p:nvPicPr>
        <p:blipFill>
          <a:blip r:embed="rId5"/>
          <a:stretch/>
        </p:blipFill>
        <p:spPr>
          <a:xfrm>
            <a:off x="2546280" y="4508640"/>
            <a:ext cx="35607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9:39:29Z</dcterms:created>
  <dc:creator>Связной</dc:creator>
  <dc:description/>
  <dc:language>en-US</dc:language>
  <cp:lastModifiedBy>Школа</cp:lastModifiedBy>
  <dcterms:modified xsi:type="dcterms:W3CDTF">2019-03-17T05:44:52Z</dcterms:modified>
  <cp:revision>15</cp:revision>
  <dc:subject/>
  <dc:title>Слайд 1</dc:title>
</cp:coreProperties>
</file>