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DF2-0C5E-4569-A830-424CBA67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CFA-9208-44D1-A94C-D5E1B17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A78-E4BB-4E66-9989-A8AE4900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FCE-E8D9-45EC-AB47-3CC184C8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B6A-8D0F-4998-8DDC-F9D1CE13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F3E-5860-4BEC-9ED9-63F11D8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BB8-AE7B-41ED-8866-63AB7D6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5E8-AEBF-4265-A143-A49DBFC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B3C-DBF1-41B2-83B4-226CCF2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BE9-C352-45E0-99B0-36E68F8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46A-E7CD-47D4-B3AF-62D742D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06E-1158-4AE8-ACF5-FEFDD9FF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0426-4DA8-4A86-878C-0F19B6878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лковый словарь С.И. Ожег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9800" y="169992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1) Семья – это группа живущих вместе близких родствен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2) Семья – это объединение людей, сплоченных общими интере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uklbt.ru/assets/images/%D1%81%D0%B5%D0%BC%D1%8C%D1%8F%20%D0%BA%D0%B0%D1%80%D1%82%D0%B8%D0%BD%D0%BA%D0%B0.gif"/>
          <p:cNvPicPr/>
          <p:nvPr/>
        </p:nvPicPr>
        <p:blipFill>
          <a:blip r:embed="rId1"/>
          <a:stretch/>
        </p:blipFill>
        <p:spPr>
          <a:xfrm>
            <a:off x="4716360" y="2276640"/>
            <a:ext cx="38102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Для создания счастливой семьи необходимо: 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ношения строить на любви и прощени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ть каждого члена семьи таким, какой он ес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деть ценность супруга, ребен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ботиться друг о друг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вать психологический климат в семь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ти на компромисс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меть промолчат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 всему относиться с юмором; поддерживать друг друг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ажать интересы друг друг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вать традиции семьи; проводить время всей семьей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ть  в доме уют и комф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Семья и семейные ц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радиционные семейные ц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нно их пытаются привить молодым их бабушки, о них можно услышать с экрана телевизора, о них говорят в церкви и т. д. Вера, верность, любовь, брак, уважение, святость материнства, продолжение рода – это далеко не полный, но основной список семейных цен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s://st.fl.ru/users/goodesigner/upload/f_4f5b250dec54d.jpg"/>
          <p:cNvPicPr/>
          <p:nvPr/>
        </p:nvPicPr>
        <p:blipFill>
          <a:blip r:embed="rId1"/>
          <a:stretch/>
        </p:blipFill>
        <p:spPr>
          <a:xfrm>
            <a:off x="6012000" y="3141720"/>
            <a:ext cx="28321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Calibri"/>
              </a:rPr>
              <a:t>Семья и семейные ц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овременные семейные ценности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изменении и развитии общества и его взглядов появляются современные семейные ценности. Их можно условно разделить на ценности родителей и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s://encrypted-tbn1.gstatic.com/images?q=tbn:ANd9GcTZOao7toU3YBlUEu1R7-aCyzvbOCnzpaSrN9oxIi6Il7fJsAmr"/>
          <p:cNvPicPr/>
          <p:nvPr/>
        </p:nvPicPr>
        <p:blipFill>
          <a:blip r:embed="rId1"/>
          <a:stretch/>
        </p:blipFill>
        <p:spPr>
          <a:xfrm>
            <a:off x="2266920" y="3429000"/>
            <a:ext cx="5192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– это объединение людей, которых связывают между собой не только родственные отношения, но и любовь, взаимоуважение, готовность и желание помочь и поддержать друг друга в любой ситуации. Семья – это очень важное и ответственное  дело  каждого челове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5" descr="ANd9GcRAAVMRgvZ9G4qLZa5RrTArutIgBOtGbrEHmhu_ULa5GNn3pBTlqw"/>
          <p:cNvPicPr/>
          <p:nvPr/>
        </p:nvPicPr>
        <p:blipFill>
          <a:blip r:embed="rId1"/>
          <a:stretch/>
        </p:blipFill>
        <p:spPr>
          <a:xfrm>
            <a:off x="3851280" y="3538440"/>
            <a:ext cx="4608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мы хотим  иметь Счастливый Мир на Земле, а для этого надо чтобы все семьи нашей планеты были здоровыми, крепкими и счастливыми. Так как каждая семья растит и воспитывает новое поколение Земля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4k6zbzzRRaI"/>
          <p:cNvPicPr/>
          <p:nvPr/>
        </p:nvPicPr>
        <p:blipFill>
          <a:blip r:embed="rId1"/>
          <a:stretch/>
        </p:blipFill>
        <p:spPr>
          <a:xfrm>
            <a:off x="4643280" y="3573360"/>
            <a:ext cx="3241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765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В праве под семьёй понимается «законный социальный институт, находящийся под защитой государств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6" descr="http://img.rufox.ru/files/big2/629812.jpg"/>
          <p:cNvPicPr/>
          <p:nvPr/>
        </p:nvPicPr>
        <p:blipFill>
          <a:blip r:embed="rId1"/>
          <a:stretch/>
        </p:blipFill>
        <p:spPr>
          <a:xfrm>
            <a:off x="3635280" y="2492280"/>
            <a:ext cx="4870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0440" y="90756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оциология рассматривает семью как «группу людей, связанных прямыми родственными отношениями, взрослые члены которой принимают на себя обязательства по уходу за детьм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https://encrypted-tbn2.gstatic.com/images?q=tbn:ANd9GcSbR1VZ8LEkxTD_KIc0Fc5GJGL7TRpdIGFNziRp2ziSsG-18Igm"/>
          <p:cNvPicPr/>
          <p:nvPr/>
        </p:nvPicPr>
        <p:blipFill>
          <a:blip r:embed="rId1"/>
          <a:stretch/>
        </p:blipFill>
        <p:spPr>
          <a:xfrm>
            <a:off x="2771640" y="2997360"/>
            <a:ext cx="3529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А что такое «счастливая семья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2720" y="1412640"/>
            <a:ext cx="807408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Сатир здоровыми считала семьи, в которы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каждый член воспринимается как равный друг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доверие, честность и открытость являются существенны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внутрисемейное общение является конгруэнт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лены поддерживают друг дру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аждый член несёт свою часть ответственности за семью в це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00000"/>
                </a:solidFill>
                <a:latin typeface="Calibri"/>
              </a:rPr>
              <a:t>члены принимают особенности и уникальность каждого из них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http://900igr.net/datai/okruzhajuschij-mir/Deti-mira/0004-005-Moja-semja.png"/>
          <p:cNvPicPr/>
          <p:nvPr/>
        </p:nvPicPr>
        <p:blipFill>
          <a:blip r:embed="rId1"/>
          <a:stretch/>
        </p:blipFill>
        <p:spPr>
          <a:xfrm>
            <a:off x="4572000" y="3782880"/>
            <a:ext cx="381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. М. Ковалевский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ериодизация развития семьи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Индивидуальная сем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рактерным для индивидуальной семьи является то, что она представляет собой сою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заключённый по добровольному соглашени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члены её тесно связаны между собо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в ней соблюдаются взаимные права и обяза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что отношения между мужем и женой стремятся к известной степени равен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о вся семейная группа подчинена контролю государства и его судебной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46c0a"/>
                </a:solidFill>
                <a:latin typeface="Calibri"/>
              </a:rPr>
              <a:t>Что такое счасть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частье — состояние человека, которое соответствует наибольшей внутренней удовлетворённости условиями своего бытия, полноте и осмысленности жизни, осуществлению своего человеческого назна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duymovochka5.ucoz.ru/kartinki/semejnye_cennosti.jpg"/>
          <p:cNvPicPr/>
          <p:nvPr/>
        </p:nvPicPr>
        <p:blipFill>
          <a:blip r:embed="rId1"/>
          <a:stretch/>
        </p:blipFill>
        <p:spPr>
          <a:xfrm>
            <a:off x="5003640" y="3213000"/>
            <a:ext cx="36561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Формула счаст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84360" y="11278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часть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глубокое удовлетворение жизнь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аксимум положительных эмоц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минимум негативных эмо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1.bp.blogspot.com/-5LiYdLF2SX4/T1Uk-prWyOI/AAAAAAAABRQ/20tqRxYO5xU/s1600/%D1%81%D0%B5%D0%BC%D1%8C%D1%8F.jpg"/>
          <p:cNvPicPr/>
          <p:nvPr/>
        </p:nvPicPr>
        <p:blipFill>
          <a:blip r:embed="rId1"/>
          <a:stretch/>
        </p:blipFill>
        <p:spPr>
          <a:xfrm>
            <a:off x="2916360" y="2565360"/>
            <a:ext cx="3311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онятия «счастье»  и «счастливая семь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 нашем исследовании гимназисты разных возрастов (25%) понятия «счастье»  и «счастливая семья» связывают с богатством, достатком, «папа должен много зарабатывать», «родители должны покупать дорогие игрушки, телефоны и компьютеры». А вот опрошенные люди старших поколений счастье не связывают напрямую с богатством и день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Счастливая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Calibri"/>
              </a:rPr>
              <a:t>семья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 - </a:t>
            </a: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мечта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любого</a:t>
            </a: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4040"/>
                </a:solidFill>
                <a:latin typeface="Calibri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cbs-angarsk.ru/social/sites/default/files/users/irina.admin/60296325_092e8e84da6c3f84e291936d7d4f72a4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53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4:17:30Z</dcterms:created>
  <dc:creator>User</dc:creator>
  <dc:description/>
  <dc:language>en-US</dc:language>
  <cp:lastModifiedBy>RePack by SPecialiST</cp:lastModifiedBy>
  <dcterms:modified xsi:type="dcterms:W3CDTF">2017-10-27T04:22:38Z</dcterms:modified>
  <cp:revision>82</cp:revision>
  <dc:subject/>
  <dc:title>Дмитрий Сергеевич Лихачев</dc:title>
</cp:coreProperties>
</file>