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DC5-1159-45F9-B5CA-11F23617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D8E-E226-43DB-B228-78A97F67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627-43B1-4F66-9FE0-E5409C65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AF3-FB58-49ED-8625-7689C50D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17B-E41F-4AB7-9807-948D89DE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9BF-339A-49C8-97C4-36BBF873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F16-C8E6-45E0-A3FE-18F00C8C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4BD-0EA9-4335-95C6-44C93EF0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69D-F980-4C3B-B52C-DA53FCD8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F67-3E0B-46C7-A163-63C80064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946-65DB-45C4-9022-D7472489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93C-92D1-4E7C-806A-F00888B7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FC14-9762-42C4-AF78-B927485D80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лковый словарь С.И. Ожег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9800" y="169992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1) Семья – это группа живущих вместе близких родствен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2) Семья – это объединение людей, сплоченных общими интерес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www.uklbt.ru/assets/images/%D1%81%D0%B5%D0%BC%D1%8C%D1%8F%20%D0%BA%D0%B0%D1%80%D1%82%D0%B8%D0%BD%D0%BA%D0%B0.gif"/>
          <p:cNvPicPr/>
          <p:nvPr/>
        </p:nvPicPr>
        <p:blipFill>
          <a:blip r:embed="rId1"/>
          <a:stretch/>
        </p:blipFill>
        <p:spPr>
          <a:xfrm>
            <a:off x="4716360" y="2276640"/>
            <a:ext cx="38102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Для создания счастливой семьи необходимо: 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ношения строить на любви и прощени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ть каждого члена семьи таким, какой он есть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деть ценность супруга, ребенк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ботиться друг о друге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вать психологический климат в семье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ти на компромисс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меть промолчать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 всему относиться с юмором; поддерживать друг друг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ажать интересы друг друг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вать традиции семьи; проводить время всей семьей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ть  в доме уют и комфо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Calibri"/>
              </a:rPr>
              <a:t>Семья и семейные ц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119700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Традиционные семейные цен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нно их пытаются привить молодым их бабушки, о них можно услышать с экрана телевизора, о них говорят в церкви и т. д. Вера, верность, любовь, брак, уважение, святость материнства, продолжение рода – это далеко не полный, но основной список семейных ценнос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s://st.fl.ru/users/goodesigner/upload/f_4f5b250dec54d.jpg"/>
          <p:cNvPicPr/>
          <p:nvPr/>
        </p:nvPicPr>
        <p:blipFill>
          <a:blip r:embed="rId1"/>
          <a:stretch/>
        </p:blipFill>
        <p:spPr>
          <a:xfrm>
            <a:off x="6012000" y="3141720"/>
            <a:ext cx="28321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Calibri"/>
              </a:rPr>
              <a:t>Семья и семейные ц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овременные семейные ценности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изменении и развитии общества и его взглядов появляются современные семейные ценности. Их можно условно разделить на ценности родителей и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s://encrypted-tbn1.gstatic.com/images?q=tbn:ANd9GcTZOao7toU3YBlUEu1R7-aCyzvbOCnzpaSrN9oxIi6Il7fJsAmr"/>
          <p:cNvPicPr/>
          <p:nvPr/>
        </p:nvPicPr>
        <p:blipFill>
          <a:blip r:embed="rId1"/>
          <a:stretch/>
        </p:blipFill>
        <p:spPr>
          <a:xfrm>
            <a:off x="2266920" y="3429000"/>
            <a:ext cx="5192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07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мья– это объединение людей, которых связывают между собой не только родственные отношения, но и любовь, взаимоуважение, готовность и желание помочь и поддержать друг друга в любой ситуации. Семья – это очень важное и ответственное  дело  каждого человек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5" descr="ANd9GcRAAVMRgvZ9G4qLZa5RrTArutIgBOtGbrEHmhu_ULa5GNn3pBTlqw"/>
          <p:cNvPicPr/>
          <p:nvPr/>
        </p:nvPicPr>
        <p:blipFill>
          <a:blip r:embed="rId1"/>
          <a:stretch/>
        </p:blipFill>
        <p:spPr>
          <a:xfrm>
            <a:off x="3851280" y="3538440"/>
            <a:ext cx="460836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147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мы хотим  иметь Счастливый Мир на Земле, а для этого надо чтобы все семьи нашей планеты были здоровыми, крепкими и счастливыми. Так как каждая семья растит и воспитывает новое поколение Земля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4k6zbzzRRaI"/>
          <p:cNvPicPr/>
          <p:nvPr/>
        </p:nvPicPr>
        <p:blipFill>
          <a:blip r:embed="rId1"/>
          <a:stretch/>
        </p:blipFill>
        <p:spPr>
          <a:xfrm>
            <a:off x="4643280" y="3573360"/>
            <a:ext cx="3241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765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В праве под семьёй понимается «законный социальный институт, находящийся под защитой государства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6" descr="http://img.rufox.ru/files/big2/629812.jpg"/>
          <p:cNvPicPr/>
          <p:nvPr/>
        </p:nvPicPr>
        <p:blipFill>
          <a:blip r:embed="rId1"/>
          <a:stretch/>
        </p:blipFill>
        <p:spPr>
          <a:xfrm>
            <a:off x="3635280" y="2492280"/>
            <a:ext cx="48704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0440" y="907560"/>
            <a:ext cx="8229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оциология рассматривает семью как «группу людей, связанных прямыми родственными отношениями, взрослые члены которой принимают на себя обязательства по уходу за детьми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https://encrypted-tbn2.gstatic.com/images?q=tbn:ANd9GcSbR1VZ8LEkxTD_KIc0Fc5GJGL7TRpdIGFNziRp2ziSsG-18Igm"/>
          <p:cNvPicPr/>
          <p:nvPr/>
        </p:nvPicPr>
        <p:blipFill>
          <a:blip r:embed="rId1"/>
          <a:stretch/>
        </p:blipFill>
        <p:spPr>
          <a:xfrm>
            <a:off x="2771640" y="2997360"/>
            <a:ext cx="3529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А что такое «счастливая семья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917640" y="617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12720" y="1412640"/>
            <a:ext cx="807408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. Сатир здоровыми считала семьи, в которы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каждый член воспринимается как равный други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9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00000"/>
                </a:solidFill>
                <a:latin typeface="Calibri"/>
              </a:rPr>
              <a:t>доверие, честность и открытость являются существенны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внутрисемейное общение является конгруэнтны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лены поддерживают друг друг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каждый член несёт свою часть ответственности за семью в цел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9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00000"/>
                </a:solidFill>
                <a:latin typeface="Calibri"/>
              </a:rPr>
              <a:t>члены принимают особенности и уникальность каждого из них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6" descr="http://900igr.net/datai/okruzhajuschij-mir/Deti-mira/0004-005-Moja-semja.png"/>
          <p:cNvPicPr/>
          <p:nvPr/>
        </p:nvPicPr>
        <p:blipFill>
          <a:blip r:embed="rId1"/>
          <a:stretch/>
        </p:blipFill>
        <p:spPr>
          <a:xfrm>
            <a:off x="4572000" y="3782880"/>
            <a:ext cx="38163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М. М. Ковалевский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ериодизация развития семьи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Индивидуальная семь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арактерным для индивидуальной семьи является то, что она представляет собой сою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заключённый по добровольному соглашени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что члены её тесно связаны между собо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что в ней соблюдаются взаимные права и обязан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что отношения между мужем и женой стремятся к известной степени равенст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что вся семейная группа подчинена контролю государства и его судебной в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46c0a"/>
                </a:solidFill>
                <a:latin typeface="Calibri"/>
              </a:rPr>
              <a:t>Что такое счасть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52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частье — состояние человека, которое соответствует наибольшей внутренней удовлетворённости условиями своего бытия, полноте и осмысленности жизни, осуществлению своего человеческого назнач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duymovochka5.ucoz.ru/kartinki/semejnye_cennosti.jpg"/>
          <p:cNvPicPr/>
          <p:nvPr/>
        </p:nvPicPr>
        <p:blipFill>
          <a:blip r:embed="rId1"/>
          <a:stretch/>
        </p:blipFill>
        <p:spPr>
          <a:xfrm>
            <a:off x="5003640" y="3213000"/>
            <a:ext cx="36561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6c0a"/>
                </a:solidFill>
                <a:latin typeface="Calibri"/>
              </a:rPr>
              <a:t>Формула счаст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684360" y="1127880"/>
            <a:ext cx="74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часть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глубокое удовлетворение жизнью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аксимум положительных эмоци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ru-RU" sz="2800" spc="-1" strike="noStrike">
                <a:solidFill>
                  <a:srgbClr val="984807"/>
                </a:solidFill>
                <a:latin typeface="Arial"/>
              </a:rPr>
              <a:t>минимум негативных эмо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1.bp.blogspot.com/-5LiYdLF2SX4/T1Uk-prWyOI/AAAAAAAABRQ/20tqRxYO5xU/s1600/%D1%81%D0%B5%D0%BC%D1%8C%D1%8F.jpg"/>
          <p:cNvPicPr/>
          <p:nvPr/>
        </p:nvPicPr>
        <p:blipFill>
          <a:blip r:embed="rId1"/>
          <a:stretch/>
        </p:blipFill>
        <p:spPr>
          <a:xfrm>
            <a:off x="2916360" y="2565360"/>
            <a:ext cx="33112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понятия «счастье»  и «счастливая семья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 нашем исследовании гимназисты разных возрастов (25%) понятия «счастье»  и «счастливая семья» связывают с богатством, достатком, «папа должен много зарабатывать», «родители должны покупать дорогие игрушки, телефоны и компьютеры». А вот опрошенные люди старших поколений счастье не связывают напрямую с богатством и деньг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Счастливая</a:t>
            </a: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8000"/>
                </a:solidFill>
                <a:latin typeface="Calibri"/>
              </a:rPr>
              <a:t>семья</a:t>
            </a: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  - </a:t>
            </a: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мечта</a:t>
            </a: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e46c0a"/>
                </a:solidFill>
                <a:latin typeface="Calibri"/>
              </a:rPr>
              <a:t>любого</a:t>
            </a: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ff4040"/>
                </a:solidFill>
                <a:latin typeface="Calibri"/>
              </a:rPr>
              <a:t>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http://cbs-angarsk.ru/social/sites/default/files/users/irina.admin/60296325_092e8e84da6c3f84e291936d7d4f72a4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53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4:17:30Z</dcterms:created>
  <dc:creator>User</dc:creator>
  <dc:description/>
  <dc:language>en-US</dc:language>
  <cp:lastModifiedBy>RePack by SPecialiST</cp:lastModifiedBy>
  <dcterms:modified xsi:type="dcterms:W3CDTF">2017-10-27T04:22:38Z</dcterms:modified>
  <cp:revision>82</cp:revision>
  <dc:subject/>
  <dc:title>Дмитрий Сергеевич Лихачев</dc:title>
</cp:coreProperties>
</file>