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C86-92BE-4AA0-BB75-3DFB61CA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434-F472-4524-90FB-25B0D4B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470-4550-439E-B414-A67F712E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987-2792-4802-A47F-82778FD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8F11-D26C-4E8E-854B-F352CCF6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E37-C4F8-4FA2-BF09-08844970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D1DC-3F1B-4639-BC7E-2C53755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A46-2CAA-428E-996C-AFB0EB66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45CF-BBA0-44A8-B849-5A6B8B5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315F-107F-4260-90C0-C0DEA53F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A68-56E2-405F-B6C7-218886E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3E7-7866-4CC0-8279-5C5EF1B5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4CD-5F8E-4486-9A2C-1144892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D09-8839-4772-8F0B-17A1FFB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5E6-DF67-44A6-BBCE-95E0AA3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77F-03DD-4BFF-9F80-3AB7890E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1A4E-937B-4091-8296-323348C6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98-B102-4DE1-98A2-66829CD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5F4-4694-48E7-8062-D890222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E0E-82E6-4D65-980A-E310949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EB2-D2CF-49EF-A5DA-FCBEF92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080-F2CA-482B-844E-7654DD2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8A2-D5B9-4D14-A79E-5D31B50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78E-8019-40CD-9FB5-702E577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F0C-57EE-4B4A-9BED-E80B88A6E3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FEBD-0064-4BB1-914D-9700FD7D631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Алгоритм решения уравнений и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форма запис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38102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– А =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9047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              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=      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      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438280"/>
            <a:ext cx="2514600" cy="15264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cubicBezTo>
                  <a:pt x="276" y="48"/>
                  <a:pt x="552" y="0"/>
                  <a:pt x="816" y="0"/>
                </a:cubicBezTo>
                <a:cubicBezTo>
                  <a:pt x="1080" y="0"/>
                  <a:pt x="1456" y="80"/>
                  <a:pt x="158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590920"/>
            <a:ext cx="571680" cy="75960"/>
          </a:xfrm>
          <a:custGeom>
            <a:avLst/>
            <a:gdLst/>
            <a:ahLst/>
            <a:rect l="l" t="t" r="r" b="b"/>
            <a:pathLst>
              <a:path w="360" h="48">
                <a:moveTo>
                  <a:pt x="0" y="0"/>
                </a:moveTo>
                <a:cubicBezTo>
                  <a:pt x="68" y="24"/>
                  <a:pt x="136" y="48"/>
                  <a:pt x="192" y="48"/>
                </a:cubicBezTo>
                <a:cubicBezTo>
                  <a:pt x="248" y="48"/>
                  <a:pt x="312" y="0"/>
                  <a:pt x="336" y="0"/>
                </a:cubicBezTo>
                <a:cubicBezTo>
                  <a:pt x="360" y="0"/>
                  <a:pt x="348" y="24"/>
                  <a:pt x="336" y="4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590920"/>
            <a:ext cx="190476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236" y="48"/>
                  <a:pt x="472" y="96"/>
                  <a:pt x="672" y="96"/>
                </a:cubicBezTo>
                <a:cubicBezTo>
                  <a:pt x="872" y="96"/>
                  <a:pt x="1112" y="16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809880"/>
            <a:ext cx="2514600" cy="15264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cubicBezTo>
                  <a:pt x="300" y="48"/>
                  <a:pt x="600" y="0"/>
                  <a:pt x="864" y="0"/>
                </a:cubicBezTo>
                <a:cubicBezTo>
                  <a:pt x="1128" y="0"/>
                  <a:pt x="1464" y="80"/>
                  <a:pt x="158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962520"/>
            <a:ext cx="609480" cy="7596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88" y="24"/>
                  <a:pt x="176" y="48"/>
                  <a:pt x="240" y="48"/>
                </a:cubicBezTo>
                <a:cubicBezTo>
                  <a:pt x="304" y="48"/>
                  <a:pt x="360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962520"/>
            <a:ext cx="19051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212" y="48"/>
                  <a:pt x="424" y="96"/>
                  <a:pt x="624" y="96"/>
                </a:cubicBezTo>
                <a:cubicBezTo>
                  <a:pt x="824" y="96"/>
                  <a:pt x="1104" y="16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429000"/>
            <a:ext cx="38124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334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53341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579132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57913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57913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60958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609588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60958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 + Х =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К =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Р = 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17400"/>
            <a:ext cx="8334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 + Х =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К =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Р = К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                              Х                                    Х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Р         Х                           К        Р                  Р          К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Р –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К +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Р + К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19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96252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96"/>
                </a:moveTo>
                <a:cubicBezTo>
                  <a:pt x="180" y="48"/>
                  <a:pt x="360" y="0"/>
                  <a:pt x="528" y="0"/>
                </a:cubicBezTo>
                <a:cubicBezTo>
                  <a:pt x="696" y="0"/>
                  <a:pt x="928" y="80"/>
                  <a:pt x="1008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11480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0"/>
                </a:moveTo>
                <a:cubicBezTo>
                  <a:pt x="72" y="48"/>
                  <a:pt x="144" y="96"/>
                  <a:pt x="192" y="96"/>
                </a:cubicBezTo>
                <a:cubicBezTo>
                  <a:pt x="240" y="96"/>
                  <a:pt x="272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14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32" y="48"/>
                  <a:pt x="264" y="96"/>
                  <a:pt x="384" y="96"/>
                </a:cubicBezTo>
                <a:cubicBezTo>
                  <a:pt x="504" y="96"/>
                  <a:pt x="664" y="1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96252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96"/>
                </a:moveTo>
                <a:cubicBezTo>
                  <a:pt x="180" y="48"/>
                  <a:pt x="360" y="0"/>
                  <a:pt x="528" y="0"/>
                </a:cubicBezTo>
                <a:cubicBezTo>
                  <a:pt x="696" y="0"/>
                  <a:pt x="928" y="80"/>
                  <a:pt x="1008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4114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80" y="48"/>
                  <a:pt x="360" y="96"/>
                  <a:pt x="480" y="96"/>
                </a:cubicBezTo>
                <a:cubicBezTo>
                  <a:pt x="600" y="96"/>
                  <a:pt x="680" y="1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114800"/>
            <a:ext cx="457200" cy="7632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0"/>
                </a:moveTo>
                <a:cubicBezTo>
                  <a:pt x="48" y="24"/>
                  <a:pt x="96" y="48"/>
                  <a:pt x="144" y="48"/>
                </a:cubicBezTo>
                <a:cubicBezTo>
                  <a:pt x="192" y="48"/>
                  <a:pt x="264" y="8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962520"/>
            <a:ext cx="1752480" cy="152280"/>
          </a:xfrm>
          <a:custGeom>
            <a:avLst/>
            <a:gdLst/>
            <a:ahLst/>
            <a:rect l="l" t="t" r="r" b="b"/>
            <a:pathLst>
              <a:path w="1104" h="96">
                <a:moveTo>
                  <a:pt x="0" y="96"/>
                </a:moveTo>
                <a:cubicBezTo>
                  <a:pt x="196" y="48"/>
                  <a:pt x="392" y="0"/>
                  <a:pt x="576" y="0"/>
                </a:cubicBezTo>
                <a:cubicBezTo>
                  <a:pt x="760" y="0"/>
                  <a:pt x="1016" y="80"/>
                  <a:pt x="110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02200"/>
            <a:ext cx="482400" cy="164880"/>
          </a:xfrm>
          <a:custGeom>
            <a:avLst/>
            <a:gdLst/>
            <a:ahLst/>
            <a:rect l="l" t="t" r="r" b="b"/>
            <a:pathLst>
              <a:path w="304" h="104">
                <a:moveTo>
                  <a:pt x="0" y="8"/>
                </a:moveTo>
                <a:cubicBezTo>
                  <a:pt x="72" y="56"/>
                  <a:pt x="144" y="104"/>
                  <a:pt x="192" y="104"/>
                </a:cubicBezTo>
                <a:cubicBezTo>
                  <a:pt x="240" y="104"/>
                  <a:pt x="272" y="16"/>
                  <a:pt x="288" y="8"/>
                </a:cubicBezTo>
                <a:cubicBezTo>
                  <a:pt x="304" y="0"/>
                  <a:pt x="296" y="28"/>
                  <a:pt x="288" y="5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114800"/>
            <a:ext cx="129528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0" y="0"/>
                </a:moveTo>
                <a:cubicBezTo>
                  <a:pt x="124" y="48"/>
                  <a:pt x="248" y="96"/>
                  <a:pt x="384" y="96"/>
                </a:cubicBezTo>
                <a:cubicBezTo>
                  <a:pt x="520" y="96"/>
                  <a:pt x="744" y="16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505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419720"/>
            <a:ext cx="38088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419720"/>
            <a:ext cx="38124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Алгоритм решения уравнений и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форма запис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– А =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             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              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 -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=     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     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590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581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2438280"/>
            <a:ext cx="2133360" cy="15264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96"/>
                </a:moveTo>
                <a:cubicBezTo>
                  <a:pt x="224" y="48"/>
                  <a:pt x="448" y="0"/>
                  <a:pt x="672" y="0"/>
                </a:cubicBezTo>
                <a:cubicBezTo>
                  <a:pt x="896" y="0"/>
                  <a:pt x="1232" y="80"/>
                  <a:pt x="134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2590920"/>
            <a:ext cx="685800" cy="7596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84" y="24"/>
                  <a:pt x="168" y="48"/>
                  <a:pt x="240" y="48"/>
                </a:cubicBezTo>
                <a:cubicBezTo>
                  <a:pt x="312" y="48"/>
                  <a:pt x="40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1447560" cy="152280"/>
          </a:xfrm>
          <a:custGeom>
            <a:avLst/>
            <a:gdLst/>
            <a:ahLst/>
            <a:rect l="l" t="t" r="r" b="b"/>
            <a:pathLst>
              <a:path w="912" h="96">
                <a:moveTo>
                  <a:pt x="0" y="0"/>
                </a:moveTo>
                <a:cubicBezTo>
                  <a:pt x="164" y="48"/>
                  <a:pt x="328" y="96"/>
                  <a:pt x="480" y="96"/>
                </a:cubicBezTo>
                <a:cubicBezTo>
                  <a:pt x="632" y="96"/>
                  <a:pt x="840" y="16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3429000"/>
            <a:ext cx="2209680" cy="152280"/>
          </a:xfrm>
          <a:custGeom>
            <a:avLst/>
            <a:gdLst/>
            <a:ahLst/>
            <a:rect l="l" t="t" r="r" b="b"/>
            <a:pathLst>
              <a:path w="1392" h="96">
                <a:moveTo>
                  <a:pt x="0" y="96"/>
                </a:moveTo>
                <a:cubicBezTo>
                  <a:pt x="244" y="48"/>
                  <a:pt x="488" y="0"/>
                  <a:pt x="720" y="0"/>
                </a:cubicBezTo>
                <a:cubicBezTo>
                  <a:pt x="952" y="0"/>
                  <a:pt x="1280" y="80"/>
                  <a:pt x="1392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581280"/>
            <a:ext cx="685800" cy="7632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84" y="24"/>
                  <a:pt x="168" y="48"/>
                  <a:pt x="240" y="48"/>
                </a:cubicBezTo>
                <a:cubicBezTo>
                  <a:pt x="312" y="48"/>
                  <a:pt x="40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5812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160" y="48"/>
                  <a:pt x="320" y="96"/>
                  <a:pt x="480" y="96"/>
                </a:cubicBezTo>
                <a:cubicBezTo>
                  <a:pt x="640" y="96"/>
                  <a:pt x="880" y="16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3124080"/>
            <a:ext cx="30456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37339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37339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36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724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47242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510552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05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5105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548640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01T17:08:43Z</dcterms:modified>
  <cp:revision>3</cp:revision>
  <dc:subject/>
  <dc:title>PowerPoint Presentation</dc:title>
</cp:coreProperties>
</file>