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FCB-10E7-4048-91AA-1850C5FB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5D4-C51A-4C00-AA4A-79D6C5E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764-3970-46CC-83BA-7A6DC53B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937-2B87-4ED0-981E-CC89E299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FABA-D255-4B10-A193-FBA27EC6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A5F7-3494-4ED3-A5B4-8EE2B461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272F-71F8-4327-9EF9-513C0E9E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6575-5F99-426D-B915-418C5F79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006-19ED-4982-8743-6483CB2D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34C9-BC46-4DF1-B054-7656065E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9185-E34C-4D95-B2E0-250A26F6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FB8-5A92-4763-BBCA-50BA2369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A5A9-4AEA-4DC9-8FBD-C7A9874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6B66-045E-4B18-9368-3BDB0F4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0148-9C7D-412C-824E-EF7DD545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8373-A018-4C5C-8814-3E99F928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1E4-DCA8-4A57-BF9A-A11D1D7C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364-FFBB-45C4-A3F7-E7AA4EF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C93-33CE-479E-91CF-CF2C3747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DDE-4D53-4C29-86FA-A06BEAB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387-D47D-40CE-A588-34572E0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232-DB1C-4766-9CA1-50AD100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440-9BC2-4287-A429-D187D88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753-F8DD-435F-8E5B-1F82D12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20A9-6DA6-4C46-A941-8CC77D324AE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144B-EA97-4E14-8056-C0084FE392A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Алгоритм решения уравнений и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форма запис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38102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– А =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= А +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90476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               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=      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      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438280"/>
            <a:ext cx="2514600" cy="15264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cubicBezTo>
                  <a:pt x="276" y="48"/>
                  <a:pt x="552" y="0"/>
                  <a:pt x="816" y="0"/>
                </a:cubicBezTo>
                <a:cubicBezTo>
                  <a:pt x="1080" y="0"/>
                  <a:pt x="1456" y="80"/>
                  <a:pt x="158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590920"/>
            <a:ext cx="571680" cy="75960"/>
          </a:xfrm>
          <a:custGeom>
            <a:avLst/>
            <a:gdLst/>
            <a:ahLst/>
            <a:rect l="l" t="t" r="r" b="b"/>
            <a:pathLst>
              <a:path w="360" h="48">
                <a:moveTo>
                  <a:pt x="0" y="0"/>
                </a:moveTo>
                <a:cubicBezTo>
                  <a:pt x="68" y="24"/>
                  <a:pt x="136" y="48"/>
                  <a:pt x="192" y="48"/>
                </a:cubicBezTo>
                <a:cubicBezTo>
                  <a:pt x="248" y="48"/>
                  <a:pt x="312" y="0"/>
                  <a:pt x="336" y="0"/>
                </a:cubicBezTo>
                <a:cubicBezTo>
                  <a:pt x="360" y="0"/>
                  <a:pt x="348" y="24"/>
                  <a:pt x="336" y="4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590920"/>
            <a:ext cx="190476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0"/>
                </a:moveTo>
                <a:cubicBezTo>
                  <a:pt x="236" y="48"/>
                  <a:pt x="472" y="96"/>
                  <a:pt x="672" y="96"/>
                </a:cubicBezTo>
                <a:cubicBezTo>
                  <a:pt x="872" y="96"/>
                  <a:pt x="1112" y="16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809880"/>
            <a:ext cx="2514600" cy="15264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cubicBezTo>
                  <a:pt x="300" y="48"/>
                  <a:pt x="600" y="0"/>
                  <a:pt x="864" y="0"/>
                </a:cubicBezTo>
                <a:cubicBezTo>
                  <a:pt x="1128" y="0"/>
                  <a:pt x="1464" y="80"/>
                  <a:pt x="158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962520"/>
            <a:ext cx="609480" cy="7596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88" y="24"/>
                  <a:pt x="176" y="48"/>
                  <a:pt x="240" y="48"/>
                </a:cubicBezTo>
                <a:cubicBezTo>
                  <a:pt x="304" y="48"/>
                  <a:pt x="360" y="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962520"/>
            <a:ext cx="190512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0"/>
                </a:moveTo>
                <a:cubicBezTo>
                  <a:pt x="212" y="48"/>
                  <a:pt x="424" y="96"/>
                  <a:pt x="624" y="96"/>
                </a:cubicBezTo>
                <a:cubicBezTo>
                  <a:pt x="824" y="96"/>
                  <a:pt x="1104" y="16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429000"/>
            <a:ext cx="38124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267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267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334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53341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579132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57913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57913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60958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609588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60958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 + Х =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К =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Р = К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17400"/>
            <a:ext cx="83343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 + Х =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К =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Р = К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                              Х                                    Х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Р         Х                           К        Р                  Р          К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Р –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К +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Р + К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19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96252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0" y="96"/>
                </a:moveTo>
                <a:cubicBezTo>
                  <a:pt x="180" y="48"/>
                  <a:pt x="360" y="0"/>
                  <a:pt x="528" y="0"/>
                </a:cubicBezTo>
                <a:cubicBezTo>
                  <a:pt x="696" y="0"/>
                  <a:pt x="928" y="80"/>
                  <a:pt x="1008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114800"/>
            <a:ext cx="457200" cy="152280"/>
          </a:xfrm>
          <a:custGeom>
            <a:avLst/>
            <a:gdLst/>
            <a:ahLst/>
            <a:rect l="l" t="t" r="r" b="b"/>
            <a:pathLst>
              <a:path w="288" h="96">
                <a:moveTo>
                  <a:pt x="0" y="0"/>
                </a:moveTo>
                <a:cubicBezTo>
                  <a:pt x="72" y="48"/>
                  <a:pt x="144" y="96"/>
                  <a:pt x="192" y="96"/>
                </a:cubicBezTo>
                <a:cubicBezTo>
                  <a:pt x="240" y="96"/>
                  <a:pt x="272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1148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cubicBezTo>
                  <a:pt x="132" y="48"/>
                  <a:pt x="264" y="96"/>
                  <a:pt x="384" y="96"/>
                </a:cubicBezTo>
                <a:cubicBezTo>
                  <a:pt x="504" y="96"/>
                  <a:pt x="664" y="1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96252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0" y="96"/>
                </a:moveTo>
                <a:cubicBezTo>
                  <a:pt x="180" y="48"/>
                  <a:pt x="360" y="0"/>
                  <a:pt x="528" y="0"/>
                </a:cubicBezTo>
                <a:cubicBezTo>
                  <a:pt x="696" y="0"/>
                  <a:pt x="928" y="80"/>
                  <a:pt x="1008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41148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cubicBezTo>
                  <a:pt x="180" y="48"/>
                  <a:pt x="360" y="96"/>
                  <a:pt x="480" y="96"/>
                </a:cubicBezTo>
                <a:cubicBezTo>
                  <a:pt x="600" y="96"/>
                  <a:pt x="680" y="1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4114800"/>
            <a:ext cx="457200" cy="7632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0"/>
                </a:moveTo>
                <a:cubicBezTo>
                  <a:pt x="48" y="24"/>
                  <a:pt x="96" y="48"/>
                  <a:pt x="144" y="48"/>
                </a:cubicBezTo>
                <a:cubicBezTo>
                  <a:pt x="192" y="48"/>
                  <a:pt x="264" y="8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962520"/>
            <a:ext cx="1752480" cy="152280"/>
          </a:xfrm>
          <a:custGeom>
            <a:avLst/>
            <a:gdLst/>
            <a:ahLst/>
            <a:rect l="l" t="t" r="r" b="b"/>
            <a:pathLst>
              <a:path w="1104" h="96">
                <a:moveTo>
                  <a:pt x="0" y="96"/>
                </a:moveTo>
                <a:cubicBezTo>
                  <a:pt x="196" y="48"/>
                  <a:pt x="392" y="0"/>
                  <a:pt x="576" y="0"/>
                </a:cubicBezTo>
                <a:cubicBezTo>
                  <a:pt x="760" y="0"/>
                  <a:pt x="1016" y="80"/>
                  <a:pt x="110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02200"/>
            <a:ext cx="482400" cy="164880"/>
          </a:xfrm>
          <a:custGeom>
            <a:avLst/>
            <a:gdLst/>
            <a:ahLst/>
            <a:rect l="l" t="t" r="r" b="b"/>
            <a:pathLst>
              <a:path w="304" h="104">
                <a:moveTo>
                  <a:pt x="0" y="8"/>
                </a:moveTo>
                <a:cubicBezTo>
                  <a:pt x="72" y="56"/>
                  <a:pt x="144" y="104"/>
                  <a:pt x="192" y="104"/>
                </a:cubicBezTo>
                <a:cubicBezTo>
                  <a:pt x="240" y="104"/>
                  <a:pt x="272" y="16"/>
                  <a:pt x="288" y="8"/>
                </a:cubicBezTo>
                <a:cubicBezTo>
                  <a:pt x="304" y="0"/>
                  <a:pt x="296" y="28"/>
                  <a:pt x="288" y="5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114800"/>
            <a:ext cx="129528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0" y="0"/>
                </a:moveTo>
                <a:cubicBezTo>
                  <a:pt x="124" y="48"/>
                  <a:pt x="248" y="96"/>
                  <a:pt x="384" y="96"/>
                </a:cubicBezTo>
                <a:cubicBezTo>
                  <a:pt x="520" y="96"/>
                  <a:pt x="744" y="16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5053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4419720"/>
            <a:ext cx="38088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419720"/>
            <a:ext cx="38124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Алгоритм решения уравнений и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форма запис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– А =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= А +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             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              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 -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=     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     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25909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581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2438280"/>
            <a:ext cx="2133360" cy="15264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0" y="96"/>
                </a:moveTo>
                <a:cubicBezTo>
                  <a:pt x="224" y="48"/>
                  <a:pt x="448" y="0"/>
                  <a:pt x="672" y="0"/>
                </a:cubicBezTo>
                <a:cubicBezTo>
                  <a:pt x="896" y="0"/>
                  <a:pt x="1232" y="80"/>
                  <a:pt x="134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2590920"/>
            <a:ext cx="685800" cy="7596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84" y="24"/>
                  <a:pt x="168" y="48"/>
                  <a:pt x="240" y="48"/>
                </a:cubicBezTo>
                <a:cubicBezTo>
                  <a:pt x="312" y="48"/>
                  <a:pt x="400" y="8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1447560" cy="152280"/>
          </a:xfrm>
          <a:custGeom>
            <a:avLst/>
            <a:gdLst/>
            <a:ahLst/>
            <a:rect l="l" t="t" r="r" b="b"/>
            <a:pathLst>
              <a:path w="912" h="96">
                <a:moveTo>
                  <a:pt x="0" y="0"/>
                </a:moveTo>
                <a:cubicBezTo>
                  <a:pt x="164" y="48"/>
                  <a:pt x="328" y="96"/>
                  <a:pt x="480" y="96"/>
                </a:cubicBezTo>
                <a:cubicBezTo>
                  <a:pt x="632" y="96"/>
                  <a:pt x="840" y="16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3429000"/>
            <a:ext cx="2209680" cy="152280"/>
          </a:xfrm>
          <a:custGeom>
            <a:avLst/>
            <a:gdLst/>
            <a:ahLst/>
            <a:rect l="l" t="t" r="r" b="b"/>
            <a:pathLst>
              <a:path w="1392" h="96">
                <a:moveTo>
                  <a:pt x="0" y="96"/>
                </a:moveTo>
                <a:cubicBezTo>
                  <a:pt x="244" y="48"/>
                  <a:pt x="488" y="0"/>
                  <a:pt x="720" y="0"/>
                </a:cubicBezTo>
                <a:cubicBezTo>
                  <a:pt x="952" y="0"/>
                  <a:pt x="1280" y="80"/>
                  <a:pt x="1392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581280"/>
            <a:ext cx="685800" cy="7632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84" y="24"/>
                  <a:pt x="168" y="48"/>
                  <a:pt x="240" y="48"/>
                </a:cubicBezTo>
                <a:cubicBezTo>
                  <a:pt x="312" y="48"/>
                  <a:pt x="400" y="8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5812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160" y="48"/>
                  <a:pt x="320" y="96"/>
                  <a:pt x="480" y="96"/>
                </a:cubicBezTo>
                <a:cubicBezTo>
                  <a:pt x="640" y="96"/>
                  <a:pt x="880" y="16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3124080"/>
            <a:ext cx="30456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37339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37339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6236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724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47242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510552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05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5105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548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548640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548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01T17:08:43Z</dcterms:modified>
  <cp:revision>3</cp:revision>
  <dc:subject/>
  <dc:title>PowerPoint Presentation</dc:title>
</cp:coreProperties>
</file>