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940-6A22-441D-B2DB-00FF42AD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DC0-6735-4AE7-984F-928328A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48E-AC47-4B1B-967E-4FFE7338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F0E-2A49-4D13-9DA3-586CFC66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CD53-BFCF-4F17-B1D4-D55A4745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5B0A-1910-4579-9E29-4350C41F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121E-AC2B-4DFB-A212-C51A899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22DF-132B-406B-AC3F-96F5C77D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9CE4-938F-4C52-8EA2-CD15BDF7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619D-BD45-47A8-95C2-7FDA4B4B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09F8-9169-4F30-AA3B-CE706BB5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E66-8315-4091-A177-51FEEA14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B9F3-9F80-4D9B-BBD9-EE702FB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9013-3F71-4EB7-8AEA-B005144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CCD8-90A1-4475-82D6-936AA837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5796-417C-499F-9332-8FED63D7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F5CA-A1CA-48AF-9F8E-BDCC3EE8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76B-9552-4F54-A173-AA5638DB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5E8-871F-4D4C-936E-66BE9218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665-8659-4C48-810A-8D912DF0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DEF-303F-4D30-AC3E-2D17255C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5BA-CF1E-4B85-BA2E-EF5D44F4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94A-1EBB-49CE-B056-57D45ACE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AA6-2E92-4496-AE80-9C67913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CBBE-D4BD-4217-A9E3-346DFFF4A3B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1E99-E225-4598-83C2-FAE3489926A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Алгоритм решения уравнений и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форма запис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38102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– А =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= А +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90476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               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=      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      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438280"/>
            <a:ext cx="2514600" cy="15264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cubicBezTo>
                  <a:pt x="276" y="48"/>
                  <a:pt x="552" y="0"/>
                  <a:pt x="816" y="0"/>
                </a:cubicBezTo>
                <a:cubicBezTo>
                  <a:pt x="1080" y="0"/>
                  <a:pt x="1456" y="80"/>
                  <a:pt x="158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590920"/>
            <a:ext cx="571680" cy="75960"/>
          </a:xfrm>
          <a:custGeom>
            <a:avLst/>
            <a:gdLst/>
            <a:ahLst/>
            <a:rect l="l" t="t" r="r" b="b"/>
            <a:pathLst>
              <a:path w="360" h="48">
                <a:moveTo>
                  <a:pt x="0" y="0"/>
                </a:moveTo>
                <a:cubicBezTo>
                  <a:pt x="68" y="24"/>
                  <a:pt x="136" y="48"/>
                  <a:pt x="192" y="48"/>
                </a:cubicBezTo>
                <a:cubicBezTo>
                  <a:pt x="248" y="48"/>
                  <a:pt x="312" y="0"/>
                  <a:pt x="336" y="0"/>
                </a:cubicBezTo>
                <a:cubicBezTo>
                  <a:pt x="360" y="0"/>
                  <a:pt x="348" y="24"/>
                  <a:pt x="336" y="4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590920"/>
            <a:ext cx="190476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0"/>
                </a:moveTo>
                <a:cubicBezTo>
                  <a:pt x="236" y="48"/>
                  <a:pt x="472" y="96"/>
                  <a:pt x="672" y="96"/>
                </a:cubicBezTo>
                <a:cubicBezTo>
                  <a:pt x="872" y="96"/>
                  <a:pt x="1112" y="16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809880"/>
            <a:ext cx="2514600" cy="152640"/>
          </a:xfrm>
          <a:custGeom>
            <a:avLst/>
            <a:gdLst/>
            <a:ahLst/>
            <a:rect l="l" t="t" r="r" b="b"/>
            <a:pathLst>
              <a:path w="1584" h="96">
                <a:moveTo>
                  <a:pt x="0" y="96"/>
                </a:moveTo>
                <a:cubicBezTo>
                  <a:pt x="300" y="48"/>
                  <a:pt x="600" y="0"/>
                  <a:pt x="864" y="0"/>
                </a:cubicBezTo>
                <a:cubicBezTo>
                  <a:pt x="1128" y="0"/>
                  <a:pt x="1464" y="80"/>
                  <a:pt x="158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962520"/>
            <a:ext cx="609480" cy="7596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88" y="24"/>
                  <a:pt x="176" y="48"/>
                  <a:pt x="240" y="48"/>
                </a:cubicBezTo>
                <a:cubicBezTo>
                  <a:pt x="304" y="48"/>
                  <a:pt x="360" y="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962520"/>
            <a:ext cx="1905120" cy="15228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0"/>
                </a:moveTo>
                <a:cubicBezTo>
                  <a:pt x="212" y="48"/>
                  <a:pt x="424" y="96"/>
                  <a:pt x="624" y="96"/>
                </a:cubicBezTo>
                <a:cubicBezTo>
                  <a:pt x="824" y="96"/>
                  <a:pt x="1104" y="16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429000"/>
            <a:ext cx="38124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267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267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334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53341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579132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57913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57913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60958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609588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60958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 + Х =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К =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Р = К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17400"/>
            <a:ext cx="83343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 + Х =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К =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– Р = К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                              Х                                    Х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Р         Х                           К        Р                  Р          К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Р – 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К + 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 = Р + К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19320" y="3962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96252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0" y="96"/>
                </a:moveTo>
                <a:cubicBezTo>
                  <a:pt x="180" y="48"/>
                  <a:pt x="360" y="0"/>
                  <a:pt x="528" y="0"/>
                </a:cubicBezTo>
                <a:cubicBezTo>
                  <a:pt x="696" y="0"/>
                  <a:pt x="928" y="80"/>
                  <a:pt x="1008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114800"/>
            <a:ext cx="457200" cy="152280"/>
          </a:xfrm>
          <a:custGeom>
            <a:avLst/>
            <a:gdLst/>
            <a:ahLst/>
            <a:rect l="l" t="t" r="r" b="b"/>
            <a:pathLst>
              <a:path w="288" h="96">
                <a:moveTo>
                  <a:pt x="0" y="0"/>
                </a:moveTo>
                <a:cubicBezTo>
                  <a:pt x="72" y="48"/>
                  <a:pt x="144" y="96"/>
                  <a:pt x="192" y="96"/>
                </a:cubicBezTo>
                <a:cubicBezTo>
                  <a:pt x="240" y="96"/>
                  <a:pt x="272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1148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cubicBezTo>
                  <a:pt x="132" y="48"/>
                  <a:pt x="264" y="96"/>
                  <a:pt x="384" y="96"/>
                </a:cubicBezTo>
                <a:cubicBezTo>
                  <a:pt x="504" y="96"/>
                  <a:pt x="664" y="1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962520"/>
            <a:ext cx="1600200" cy="152280"/>
          </a:xfrm>
          <a:custGeom>
            <a:avLst/>
            <a:gdLst/>
            <a:ahLst/>
            <a:rect l="l" t="t" r="r" b="b"/>
            <a:pathLst>
              <a:path w="1008" h="96">
                <a:moveTo>
                  <a:pt x="0" y="96"/>
                </a:moveTo>
                <a:cubicBezTo>
                  <a:pt x="180" y="48"/>
                  <a:pt x="360" y="0"/>
                  <a:pt x="528" y="0"/>
                </a:cubicBezTo>
                <a:cubicBezTo>
                  <a:pt x="696" y="0"/>
                  <a:pt x="928" y="80"/>
                  <a:pt x="1008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41148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cubicBezTo>
                  <a:pt x="180" y="48"/>
                  <a:pt x="360" y="96"/>
                  <a:pt x="480" y="96"/>
                </a:cubicBezTo>
                <a:cubicBezTo>
                  <a:pt x="600" y="96"/>
                  <a:pt x="680" y="1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4114800"/>
            <a:ext cx="457200" cy="76320"/>
          </a:xfrm>
          <a:custGeom>
            <a:avLst/>
            <a:gdLst/>
            <a:ahLst/>
            <a:rect l="l" t="t" r="r" b="b"/>
            <a:pathLst>
              <a:path w="288" h="48">
                <a:moveTo>
                  <a:pt x="0" y="0"/>
                </a:moveTo>
                <a:cubicBezTo>
                  <a:pt x="48" y="24"/>
                  <a:pt x="96" y="48"/>
                  <a:pt x="144" y="48"/>
                </a:cubicBezTo>
                <a:cubicBezTo>
                  <a:pt x="192" y="48"/>
                  <a:pt x="264" y="8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962520"/>
            <a:ext cx="1752480" cy="152280"/>
          </a:xfrm>
          <a:custGeom>
            <a:avLst/>
            <a:gdLst/>
            <a:ahLst/>
            <a:rect l="l" t="t" r="r" b="b"/>
            <a:pathLst>
              <a:path w="1104" h="96">
                <a:moveTo>
                  <a:pt x="0" y="96"/>
                </a:moveTo>
                <a:cubicBezTo>
                  <a:pt x="196" y="48"/>
                  <a:pt x="392" y="0"/>
                  <a:pt x="576" y="0"/>
                </a:cubicBezTo>
                <a:cubicBezTo>
                  <a:pt x="760" y="0"/>
                  <a:pt x="1016" y="80"/>
                  <a:pt x="110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02200"/>
            <a:ext cx="482400" cy="164880"/>
          </a:xfrm>
          <a:custGeom>
            <a:avLst/>
            <a:gdLst/>
            <a:ahLst/>
            <a:rect l="l" t="t" r="r" b="b"/>
            <a:pathLst>
              <a:path w="304" h="104">
                <a:moveTo>
                  <a:pt x="0" y="8"/>
                </a:moveTo>
                <a:cubicBezTo>
                  <a:pt x="72" y="56"/>
                  <a:pt x="144" y="104"/>
                  <a:pt x="192" y="104"/>
                </a:cubicBezTo>
                <a:cubicBezTo>
                  <a:pt x="240" y="104"/>
                  <a:pt x="272" y="16"/>
                  <a:pt x="288" y="8"/>
                </a:cubicBezTo>
                <a:cubicBezTo>
                  <a:pt x="304" y="0"/>
                  <a:pt x="296" y="28"/>
                  <a:pt x="288" y="5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4114800"/>
            <a:ext cx="129528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0" y="0"/>
                </a:moveTo>
                <a:cubicBezTo>
                  <a:pt x="124" y="48"/>
                  <a:pt x="248" y="96"/>
                  <a:pt x="384" y="96"/>
                </a:cubicBezTo>
                <a:cubicBezTo>
                  <a:pt x="520" y="96"/>
                  <a:pt x="744" y="16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5053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4419720"/>
            <a:ext cx="38088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419720"/>
            <a:ext cx="38124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4419720"/>
            <a:ext cx="30492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Алгоритм решения уравнений и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форма запис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– А =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 = А +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             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              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 -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=     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     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25909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581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2438280"/>
            <a:ext cx="2133360" cy="15264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0" y="96"/>
                </a:moveTo>
                <a:cubicBezTo>
                  <a:pt x="224" y="48"/>
                  <a:pt x="448" y="0"/>
                  <a:pt x="672" y="0"/>
                </a:cubicBezTo>
                <a:cubicBezTo>
                  <a:pt x="896" y="0"/>
                  <a:pt x="1232" y="80"/>
                  <a:pt x="1344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2590920"/>
            <a:ext cx="685800" cy="7596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84" y="24"/>
                  <a:pt x="168" y="48"/>
                  <a:pt x="240" y="48"/>
                </a:cubicBezTo>
                <a:cubicBezTo>
                  <a:pt x="312" y="48"/>
                  <a:pt x="400" y="8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1447560" cy="152280"/>
          </a:xfrm>
          <a:custGeom>
            <a:avLst/>
            <a:gdLst/>
            <a:ahLst/>
            <a:rect l="l" t="t" r="r" b="b"/>
            <a:pathLst>
              <a:path w="912" h="96">
                <a:moveTo>
                  <a:pt x="0" y="0"/>
                </a:moveTo>
                <a:cubicBezTo>
                  <a:pt x="164" y="48"/>
                  <a:pt x="328" y="96"/>
                  <a:pt x="480" y="96"/>
                </a:cubicBezTo>
                <a:cubicBezTo>
                  <a:pt x="632" y="96"/>
                  <a:pt x="840" y="16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3429000"/>
            <a:ext cx="2209680" cy="152280"/>
          </a:xfrm>
          <a:custGeom>
            <a:avLst/>
            <a:gdLst/>
            <a:ahLst/>
            <a:rect l="l" t="t" r="r" b="b"/>
            <a:pathLst>
              <a:path w="1392" h="96">
                <a:moveTo>
                  <a:pt x="0" y="96"/>
                </a:moveTo>
                <a:cubicBezTo>
                  <a:pt x="244" y="48"/>
                  <a:pt x="488" y="0"/>
                  <a:pt x="720" y="0"/>
                </a:cubicBezTo>
                <a:cubicBezTo>
                  <a:pt x="952" y="0"/>
                  <a:pt x="1280" y="80"/>
                  <a:pt x="1392" y="96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3581280"/>
            <a:ext cx="685800" cy="76320"/>
          </a:xfrm>
          <a:custGeom>
            <a:avLst/>
            <a:gdLst/>
            <a:ahLst/>
            <a:rect l="l" t="t" r="r" b="b"/>
            <a:pathLst>
              <a:path w="432" h="48">
                <a:moveTo>
                  <a:pt x="0" y="0"/>
                </a:moveTo>
                <a:cubicBezTo>
                  <a:pt x="84" y="24"/>
                  <a:pt x="168" y="48"/>
                  <a:pt x="240" y="48"/>
                </a:cubicBezTo>
                <a:cubicBezTo>
                  <a:pt x="312" y="48"/>
                  <a:pt x="400" y="8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5812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160" y="48"/>
                  <a:pt x="320" y="96"/>
                  <a:pt x="480" y="96"/>
                </a:cubicBezTo>
                <a:cubicBezTo>
                  <a:pt x="640" y="96"/>
                  <a:pt x="880" y="16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3124080"/>
            <a:ext cx="30456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37339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37339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56236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724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47242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510552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05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5105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548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5486400"/>
            <a:ext cx="228600" cy="22860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548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01T17:08:43Z</dcterms:modified>
  <cp:revision>3</cp:revision>
  <dc:subject/>
  <dc:title>PowerPoint Presentation</dc:title>
</cp:coreProperties>
</file>