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DA0-6349-434C-90C9-0BB92CB4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8F9-9DE3-4264-BA50-C048BDD1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816-365F-4BAA-87AE-46F2F04B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F22-D034-48BA-B5C0-A7A71098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CAF-9E68-4C3C-AFEB-47E14B8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465-9E33-4D5C-98F6-2045F99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D96-3415-42E6-8992-76014E7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957-5E22-443B-8B53-FFEA6CC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D16-3ABD-4C7F-9224-83A6E72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51E-E1C6-4449-A7C5-4D1ECAF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15B-5579-40B8-8756-254FAE8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B59-32CE-462B-A991-B1260DD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0D0-64BB-4E19-8A3C-6E8E78490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2987640" y="573408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16000" y="1484280"/>
            <a:ext cx="5030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ест по русскому языку «Безударные глас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втор: Баринова Ю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М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Н_З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_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482436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468360" y="6093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1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300720" y="6165720"/>
            <a:ext cx="2286000" cy="54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57200" y="274680"/>
            <a:ext cx="598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_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2"/>
          <p:cNvSpPr/>
          <p:nvPr/>
        </p:nvSpPr>
        <p:spPr>
          <a:xfrm>
            <a:off x="385128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3"/>
          <p:cNvSpPr/>
          <p:nvPr/>
        </p:nvSpPr>
        <p:spPr>
          <a:xfrm>
            <a:off x="3851280" y="213372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1116000" y="2133720"/>
            <a:ext cx="2000160" cy="565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1116000" y="141300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97964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3"/>
          <p:cNvSpPr/>
          <p:nvPr/>
        </p:nvSpPr>
        <p:spPr>
          <a:xfrm>
            <a:off x="111600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2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3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_Р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4"/>
          <p:cNvSpPr/>
          <p:nvPr/>
        </p:nvSpPr>
        <p:spPr>
          <a:xfrm>
            <a:off x="3851280" y="2133720"/>
            <a:ext cx="200016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5"/>
          <p:cNvSpPr/>
          <p:nvPr/>
        </p:nvSpPr>
        <p:spPr>
          <a:xfrm>
            <a:off x="1116000" y="213372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6"/>
          <p:cNvSpPr/>
          <p:nvPr/>
        </p:nvSpPr>
        <p:spPr>
          <a:xfrm>
            <a:off x="3851280" y="2933640"/>
            <a:ext cx="2000160" cy="495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05092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74" name="Скругленный прямоугольник 3"/>
          <p:cNvSpPr/>
          <p:nvPr/>
        </p:nvSpPr>
        <p:spPr>
          <a:xfrm>
            <a:off x="1116000" y="148428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11600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5"/>
          <p:cNvSpPr/>
          <p:nvPr/>
        </p:nvSpPr>
        <p:spPr>
          <a:xfrm>
            <a:off x="1116000" y="2935440"/>
            <a:ext cx="2000160" cy="493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6"/>
          <p:cNvSpPr/>
          <p:nvPr/>
        </p:nvSpPr>
        <p:spPr>
          <a:xfrm>
            <a:off x="3851280" y="2924280"/>
            <a:ext cx="20001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0"/>
          <p:cNvSpPr/>
          <p:nvPr/>
        </p:nvSpPr>
        <p:spPr>
          <a:xfrm>
            <a:off x="514836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195640" y="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_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_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Ч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З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3"/>
          <p:cNvSpPr/>
          <p:nvPr/>
        </p:nvSpPr>
        <p:spPr>
          <a:xfrm>
            <a:off x="1116000" y="1413000"/>
            <a:ext cx="208764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3635280" y="14130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_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1116000" y="285444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_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3635280" y="213372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1116000" y="213372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6"/>
          <p:cNvSpPr/>
          <p:nvPr/>
        </p:nvSpPr>
        <p:spPr>
          <a:xfrm>
            <a:off x="3635280" y="28656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В_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2:41Z</dcterms:modified>
  <cp:revision>746</cp:revision>
  <dc:subject/>
  <dc:title>Слайд 1</dc:title>
</cp:coreProperties>
</file>