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5FD-8CE0-4EA0-975F-911AFC1B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3F2-621E-487E-BF61-86541A9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1DE-8D88-4223-9770-3D51E10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292-44F4-48D4-B06F-EEF87731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A95-3D20-4CA7-8FD9-880D7F5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D0F-A2C0-4D20-BF87-A58FEE40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14A-6F80-4A74-8ACE-FBC3FD4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DF0-E189-4B2A-821D-D8920440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F75-7B30-4D05-A11E-DC41C664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F68-2A03-4395-85A1-E6C7DF0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299-1EB7-4E83-8430-8D25718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E8D-9BFE-4C07-9566-FE418AE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197-F2A7-4B70-9925-75E0D0E2C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595600" y="2643120"/>
            <a:ext cx="3952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ударные глас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рне сло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 Баринова Ю.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8840" cy="1390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576600" y="1776240"/>
            <a:ext cx="2724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_Ж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07356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Выноска-облако 8"/>
          <p:cNvGrpSpPr/>
          <p:nvPr/>
        </p:nvGrpSpPr>
        <p:grpSpPr>
          <a:xfrm>
            <a:off x="2779560" y="1560600"/>
            <a:ext cx="3810240" cy="1390680"/>
            <a:chOff x="2779560" y="1560600"/>
            <a:chExt cx="3810240" cy="1390680"/>
          </a:xfrm>
        </p:grpSpPr>
        <p:pic>
          <p:nvPicPr>
            <p:cNvPr id="12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79560" y="1560600"/>
              <a:ext cx="3810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639960" y="1776240"/>
              <a:ext cx="221940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ХР_БРЕ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0" descr="image1.jpg"/>
          <p:cNvPicPr/>
          <p:nvPr/>
        </p:nvPicPr>
        <p:blipFill>
          <a:blip r:embed="rId3"/>
          <a:stretch/>
        </p:blipFill>
        <p:spPr>
          <a:xfrm>
            <a:off x="5435640" y="3068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86872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3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_ХУЧ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4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К_ЛЮЧ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image1.jpg"/>
          <p:cNvPicPr/>
          <p:nvPr/>
        </p:nvPicPr>
        <p:blipFill>
          <a:blip r:embed="rId3"/>
          <a:stretch/>
        </p:blipFill>
        <p:spPr>
          <a:xfrm>
            <a:off x="572436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144160" y="37861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157800" y="3860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Выноска-облако 8"/>
          <p:cNvGrpSpPr/>
          <p:nvPr/>
        </p:nvGrpSpPr>
        <p:grpSpPr>
          <a:xfrm>
            <a:off x="2786040" y="1560600"/>
            <a:ext cx="3870360" cy="1390680"/>
            <a:chOff x="2786040" y="1560600"/>
            <a:chExt cx="3870360" cy="1390680"/>
          </a:xfrm>
        </p:grpSpPr>
        <p:pic>
          <p:nvPicPr>
            <p:cNvPr id="14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8703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56160" y="1776240"/>
              <a:ext cx="22604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РЕВЬ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Рисунок 9" descr="image1.jpg"/>
          <p:cNvPicPr/>
          <p:nvPr/>
        </p:nvPicPr>
        <p:blipFill>
          <a:blip r:embed="rId5"/>
          <a:stretch/>
        </p:blipFill>
        <p:spPr>
          <a:xfrm>
            <a:off x="3635280" y="407664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3996720" y="472428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Выноска-облако 8"/>
          <p:cNvGrpSpPr/>
          <p:nvPr/>
        </p:nvGrpSpPr>
        <p:grpSpPr>
          <a:xfrm>
            <a:off x="2786040" y="1560600"/>
            <a:ext cx="4157640" cy="1390680"/>
            <a:chOff x="2786040" y="1560600"/>
            <a:chExt cx="4157640" cy="1390680"/>
          </a:xfrm>
        </p:grpSpPr>
        <p:pic>
          <p:nvPicPr>
            <p:cNvPr id="159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4157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20960" y="1776240"/>
              <a:ext cx="2430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ОХВ_Л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600192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67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ГОЛ_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image1.jpg"/>
          <p:cNvPicPr/>
          <p:nvPr/>
        </p:nvPicPr>
        <p:blipFill>
          <a:blip r:embed="rId3"/>
          <a:stretch/>
        </p:blipFill>
        <p:spPr>
          <a:xfrm>
            <a:off x="5580000" y="299736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14488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1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Выноска-облако 8"/>
          <p:cNvGrpSpPr/>
          <p:nvPr/>
        </p:nvGrpSpPr>
        <p:grpSpPr>
          <a:xfrm>
            <a:off x="2786040" y="1560600"/>
            <a:ext cx="3943440" cy="1390680"/>
            <a:chOff x="2786040" y="1560600"/>
            <a:chExt cx="3943440" cy="1390680"/>
          </a:xfrm>
        </p:grpSpPr>
        <p:pic>
          <p:nvPicPr>
            <p:cNvPr id="17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9434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673440" y="1776240"/>
              <a:ext cx="230364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ЗЕРК_Л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image1.jpg"/>
          <p:cNvPicPr/>
          <p:nvPr/>
        </p:nvPicPr>
        <p:blipFill>
          <a:blip r:embed="rId2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287800" y="37861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144840" y="38577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Выноска-облако 8"/>
          <p:cNvGrpSpPr/>
          <p:nvPr/>
        </p:nvGrpSpPr>
        <p:grpSpPr>
          <a:xfrm>
            <a:off x="2792520" y="1560600"/>
            <a:ext cx="4224240" cy="1390680"/>
            <a:chOff x="2792520" y="1560600"/>
            <a:chExt cx="4224240" cy="1390680"/>
          </a:xfrm>
        </p:grpSpPr>
        <p:pic>
          <p:nvPicPr>
            <p:cNvPr id="18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92520" y="1560600"/>
              <a:ext cx="4224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736800" y="1776240"/>
              <a:ext cx="247176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БРОТ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Выноска-облако 8"/>
          <p:cNvGrpSpPr/>
          <p:nvPr/>
        </p:nvGrpSpPr>
        <p:grpSpPr>
          <a:xfrm>
            <a:off x="2798640" y="1560600"/>
            <a:ext cx="4724640" cy="1390680"/>
            <a:chOff x="2798640" y="1560600"/>
            <a:chExt cx="4724640" cy="1390680"/>
          </a:xfrm>
        </p:grpSpPr>
        <p:pic>
          <p:nvPicPr>
            <p:cNvPr id="19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98640" y="1560600"/>
              <a:ext cx="47246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851280" y="1776240"/>
              <a:ext cx="27655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ШНЁВЫ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2071800"/>
            <a:ext cx="435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2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5600" y="4285800"/>
            <a:ext cx="47149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3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4714920" y="5357880"/>
            <a:ext cx="22860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2286000" y="5357880"/>
            <a:ext cx="228600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20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_НУ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485440" y="386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285800" y="4941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Выноска-облако 8"/>
          <p:cNvGrpSpPr/>
          <p:nvPr/>
        </p:nvGrpSpPr>
        <p:grpSpPr>
          <a:xfrm>
            <a:off x="2786040" y="1560600"/>
            <a:ext cx="4091040" cy="1390680"/>
            <a:chOff x="2786040" y="1560600"/>
            <a:chExt cx="4091040" cy="1390680"/>
          </a:xfrm>
        </p:grpSpPr>
        <p:pic>
          <p:nvPicPr>
            <p:cNvPr id="213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40910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705120" y="1776240"/>
              <a:ext cx="23878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В_З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_ТВ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_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292428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image1.jpg"/>
          <p:cNvPicPr/>
          <p:nvPr/>
        </p:nvPicPr>
        <p:blipFill>
          <a:blip r:embed="rId3"/>
          <a:stretch/>
        </p:blipFill>
        <p:spPr>
          <a:xfrm>
            <a:off x="2195640" y="299736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5869080" y="3645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77308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65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ТР_В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image1.jpg"/>
          <p:cNvPicPr/>
          <p:nvPr/>
        </p:nvPicPr>
        <p:blipFill>
          <a:blip r:embed="rId2"/>
          <a:stretch/>
        </p:blipFill>
        <p:spPr>
          <a:xfrm>
            <a:off x="2411280" y="314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image1.jpg"/>
          <p:cNvPicPr/>
          <p:nvPr/>
        </p:nvPicPr>
        <p:blipFill>
          <a:blip r:embed="rId3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918160" y="3860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086160" y="3860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73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Т_ЛБ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image1.jpg"/>
          <p:cNvPicPr/>
          <p:nvPr/>
        </p:nvPicPr>
        <p:blipFill>
          <a:blip r:embed="rId2"/>
          <a:stretch/>
        </p:blipFill>
        <p:spPr>
          <a:xfrm>
            <a:off x="2556000" y="30686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141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061080" y="371628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41800" y="3789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81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Л_Н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image1.jpg"/>
          <p:cNvPicPr/>
          <p:nvPr/>
        </p:nvPicPr>
        <p:blipFill>
          <a:blip r:embed="rId3"/>
          <a:stretch/>
        </p:blipFill>
        <p:spPr>
          <a:xfrm>
            <a:off x="5364000" y="32846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image1.jpg"/>
          <p:cNvPicPr/>
          <p:nvPr/>
        </p:nvPicPr>
        <p:blipFill>
          <a:blip r:embed="rId4"/>
          <a:stretch/>
        </p:blipFill>
        <p:spPr>
          <a:xfrm>
            <a:off x="1979640" y="3284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941800" y="39337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Выноска-облако 8" descr=""/>
          <p:cNvPicPr/>
          <p:nvPr/>
        </p:nvPicPr>
        <p:blipFill>
          <a:blip r:embed="rId5"/>
          <a:stretch/>
        </p:blipFill>
        <p:spPr>
          <a:xfrm>
            <a:off x="2786040" y="1560600"/>
            <a:ext cx="4665600" cy="1363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3576600" y="1776240"/>
            <a:ext cx="3011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М_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image1.jpg"/>
          <p:cNvPicPr/>
          <p:nvPr/>
        </p:nvPicPr>
        <p:blipFill>
          <a:blip r:embed="rId2"/>
          <a:stretch/>
        </p:blipFill>
        <p:spPr>
          <a:xfrm>
            <a:off x="5364000" y="3357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image1.jpg"/>
          <p:cNvPicPr/>
          <p:nvPr/>
        </p:nvPicPr>
        <p:blipFill>
          <a:blip r:embed="rId3"/>
          <a:stretch/>
        </p:blipFill>
        <p:spPr>
          <a:xfrm>
            <a:off x="2340000" y="335772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5797080" y="4076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45080" y="40766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98" name="Выноска-облако 8" descr=""/>
            <p:cNvPicPr/>
            <p:nvPr/>
          </p:nvPicPr>
          <p:blipFill>
            <a:blip r:embed="rId4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Д_ЖД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6" descr="tom_i_djeri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image1.jpg"/>
          <p:cNvPicPr/>
          <p:nvPr/>
        </p:nvPicPr>
        <p:blipFill>
          <a:blip r:embed="rId2"/>
          <a:stretch/>
        </p:blipFill>
        <p:spPr>
          <a:xfrm>
            <a:off x="3780000" y="414972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image1.jpg"/>
          <p:cNvPicPr/>
          <p:nvPr/>
        </p:nvPicPr>
        <p:blipFill>
          <a:blip r:embed="rId3"/>
          <a:stretch/>
        </p:blipFill>
        <p:spPr>
          <a:xfrm>
            <a:off x="1908000" y="3213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image1.jpg"/>
          <p:cNvPicPr/>
          <p:nvPr/>
        </p:nvPicPr>
        <p:blipFill>
          <a:blip r:embed="rId4"/>
          <a:stretch/>
        </p:blipFill>
        <p:spPr>
          <a:xfrm>
            <a:off x="5572080" y="31431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212720" y="486900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485440" y="39337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002280" y="38577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ыноска-облако 8"/>
          <p:cNvGrpSpPr/>
          <p:nvPr/>
        </p:nvGrpSpPr>
        <p:grpSpPr>
          <a:xfrm>
            <a:off x="2786040" y="1560600"/>
            <a:ext cx="3517920" cy="1390680"/>
            <a:chOff x="2786040" y="1560600"/>
            <a:chExt cx="3517920" cy="1390680"/>
          </a:xfrm>
        </p:grpSpPr>
        <p:pic>
          <p:nvPicPr>
            <p:cNvPr id="108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2786040" y="1560600"/>
              <a:ext cx="35179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576600" y="1776240"/>
              <a:ext cx="205272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С_ЛА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1:27Z</dcterms:modified>
  <cp:revision>745</cp:revision>
  <dc:subject/>
  <dc:title>Слайд 1</dc:title>
</cp:coreProperties>
</file>