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35A-4153-44CC-991D-239D9E50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567-2F98-4042-899D-8003F05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872-2B35-4B10-91DD-6A570399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D25-6C88-4598-974B-A93E37E8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604-756F-49C9-A7E2-C6A35C70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B06-F4D0-406F-8389-906942A1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EB7-6378-4558-9DDD-17612D1C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49F-4F99-444E-A79E-CF8C66A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5A7-CA25-492C-A38E-5983A6E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D5E-0795-4A23-90FA-DA7622D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1B5-B5D4-4343-8E2F-D5FAF03D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359-F644-4007-AE54-BB2042F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8107-A61F-4931-A5E9-587CF5DD40AA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Arial"/>
              </a:rPr>
              <a:t>Красная книга Нижегородской области</a:t>
            </a:r>
            <a:br>
              <a:rPr sz="7200"/>
            </a:br>
            <a:r>
              <a:rPr b="0" lang="ru-RU" sz="1800" spc="-1" strike="noStrike">
                <a:solidFill>
                  <a:srgbClr val="4f261e"/>
                </a:solidFill>
                <a:latin typeface="Arial"/>
              </a:rPr>
              <a:t>автор: Баринова Ю.М.</a:t>
            </a:r>
            <a:br>
              <a:rPr sz="1800"/>
            </a:br>
            <a:r>
              <a:rPr b="0" lang="ru-RU" sz="1800" spc="-1" strike="noStrike">
                <a:solidFill>
                  <a:srgbClr val="4f261e"/>
                </a:solidFill>
                <a:latin typeface="Arial"/>
              </a:rPr>
              <a:t>МБОУ «Лицей № 165»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43" name="Picture 3" descr="gerb_nn"/>
          <p:cNvPicPr/>
          <p:nvPr/>
        </p:nvPicPr>
        <p:blipFill>
          <a:blip r:embed="rId1"/>
          <a:stretch/>
        </p:blipFill>
        <p:spPr>
          <a:xfrm>
            <a:off x="3571920" y="435780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44" name="19-polj_moria_-_v_mire_zhivotnyh.mp3" descr=""/>
          <p:cNvPicPr/>
          <p:nvPr/>
        </p:nvPicPr>
        <p:blipFill>
          <a:blip r:embed="rId2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хухоль русска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0" y="1267920"/>
            <a:ext cx="482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 природе обитает преимущественно под водой, охотясь на донную живность, ведь на земле у них нет против хищников ни единого шанса: выхухоли слишком медлительны, к тому же практически слепы. Едят они очень много, а потому всеядны – в зимний период способны питаться и растительными кормами. Главная особенность выхухоли в том, что она является редким реликтовым видом, предположительно жившим еще в доисторические времена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66" name="Содержимое 5" descr="http://progorodnn.ru/userfiles/images/image-10-2014/muskrat2.jpg"/>
          <p:cNvPicPr/>
          <p:nvPr/>
        </p:nvPicPr>
        <p:blipFill>
          <a:blip r:embed="rId1"/>
          <a:stretch/>
        </p:blipFill>
        <p:spPr>
          <a:xfrm>
            <a:off x="179280" y="260280"/>
            <a:ext cx="4176720" cy="3025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http://u0.s.progorodnn.ru/userfiles/picitem/img-20141023123058-961.jpg"/>
          <p:cNvPicPr/>
          <p:nvPr/>
        </p:nvPicPr>
        <p:blipFill>
          <a:blip r:embed="rId2"/>
          <a:stretch/>
        </p:blipFill>
        <p:spPr>
          <a:xfrm>
            <a:off x="179280" y="3379680"/>
            <a:ext cx="4176720" cy="34545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5" descr="http://progorodnn.ru/userfiles/images/image-10-2014/muskrat2.jpg"/>
          <p:cNvPicPr/>
          <p:nvPr/>
        </p:nvPicPr>
        <p:blipFill>
          <a:blip r:embed="rId3"/>
          <a:stretch/>
        </p:blipFill>
        <p:spPr>
          <a:xfrm>
            <a:off x="179280" y="353880"/>
            <a:ext cx="4176720" cy="302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урый уша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26792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Летучая мышь средних размеров: длина тела от 41 до 55 мм, предплечья — от 35 до 43 мм. Мех длинный, на спине золотисто-коричневый или рыжеватый. Крылья очень широкие. Уши очень длинные (31—43 мм), задний край уха с поперечными склад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Охотится в сумерках, в лесу. Питается насекомы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1" name="Picture 4" descr="2S"/>
          <p:cNvPicPr/>
          <p:nvPr/>
        </p:nvPicPr>
        <p:blipFill>
          <a:blip r:embed="rId1"/>
          <a:stretch/>
        </p:blipFill>
        <p:spPr>
          <a:xfrm>
            <a:off x="108000" y="836640"/>
            <a:ext cx="475128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дры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643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70—90 см, хвоста — 40—50 см, вес 6—10 кг. Голова относительно небольшая, плавно переходит в длинную толстую шею. Ушные раковины малы, едва выступают из меха. Уши и ноздри снабжены особыми  клапанами, закрывающими их при погружении в воду. Хвост сильный, толстый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Обитает в реках, богатых рыбой. Реже селится в озёрах и прудах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4" name="Picture 4" descr="6"/>
          <p:cNvPicPr/>
          <p:nvPr/>
        </p:nvPicPr>
        <p:blipFill>
          <a:blip r:embed="rId1"/>
          <a:stretch/>
        </p:blipFill>
        <p:spPr>
          <a:xfrm>
            <a:off x="179280" y="765000"/>
            <a:ext cx="46087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решниковая сон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1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взрослых зверьков не превышает 90 мм, длина хвоста — 70 мм, вес тела — 30 г. Окраска однотонная, желтовато-рыжая, на груди и животе большие светлые пятна. Хвост густо опушен по всей длине, на конце — слабо развитая кисточка. Глаза темные, выпуклые, хорошо выделяются на рыжем фоне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пособна удерживаться на самых тонких ветках. Летом делает гнездо, которое напоминает травяной шар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7" name="Picture 8" descr="https://encrypted-tbn3.gstatic.com/images?q=tbn:ANd9GcTzIgnAnnW_yZyzuEsi_gg2coLcQvMeWmxBWBF8ZhHXFzZ4u8v7"/>
          <p:cNvPicPr/>
          <p:nvPr/>
        </p:nvPicPr>
        <p:blipFill>
          <a:blip r:embed="rId1"/>
          <a:stretch/>
        </p:blipFill>
        <p:spPr>
          <a:xfrm>
            <a:off x="214200" y="1143000"/>
            <a:ext cx="4318200" cy="28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http://www.zoosite.com.ua/img/poroda/486/486_5.jpg"/>
          <p:cNvPicPr/>
          <p:nvPr/>
        </p:nvPicPr>
        <p:blipFill>
          <a:blip r:embed="rId2"/>
          <a:stretch/>
        </p:blipFill>
        <p:spPr>
          <a:xfrm>
            <a:off x="246240" y="3986280"/>
            <a:ext cx="4286160" cy="28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Рысь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196640"/>
            <a:ext cx="46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ая кошка с длинными сильными ногами. Длина тела 82—105 см, вес 10—15 кг (максимально до 32 кг). Мех густой, пушистый, пепельно-серого, слегка голубоватого, палево-серого или рыжеватого цвета, обычно с размытыми темными пятнами на спине, боках и лапах. Уши короткие, треугольные, заканчиваются черными кисточ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Хорошо плавает, отлично лазает по деревьям и скалам. Главный кормовой объект зайцы-беляки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1" name="Picture 4" descr="10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0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Картинки по запросу красная книга нижегородской области фото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337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Птицы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4" name="V_mire_jivotnih_-_original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Чёрный аис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341360"/>
            <a:ext cx="38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птица (размах крыльев более полутора метров). Окраска контрастная: верх черный с зеленоватым отливом, брюхо белое. Клюв, ноги и кольцо вокруг глаз красные. У молодых птиц клюв черный, ноги зеленоватые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7" name="Picture 4" descr="Черный аист"/>
          <p:cNvPicPr/>
          <p:nvPr/>
        </p:nvPicPr>
        <p:blipFill>
          <a:blip r:embed="rId1"/>
          <a:stretch/>
        </p:blipFill>
        <p:spPr>
          <a:xfrm>
            <a:off x="900000" y="2349360"/>
            <a:ext cx="3543480" cy="2363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progorodnn.ru/userfiles/images/image-10-2014/083d722b357c.jpg"/>
          <p:cNvPicPr/>
          <p:nvPr/>
        </p:nvPicPr>
        <p:blipFill>
          <a:blip r:embed="rId2"/>
          <a:stretch/>
        </p:blipFill>
        <p:spPr>
          <a:xfrm>
            <a:off x="285840" y="1285920"/>
            <a:ext cx="464328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ебедь клику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53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Снежно-белое оперение очень пышное, густое, с большим количеством нежного пуха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олучил своё название за громкие трубные звуки «ганг-го». селятся на больших озёрах, в зарослях камыша. Лебединые пары соединяются на много лет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1" name="Picture 4" descr="Лебедь кликун"/>
          <p:cNvPicPr/>
          <p:nvPr/>
        </p:nvPicPr>
        <p:blipFill>
          <a:blip r:embed="rId1"/>
          <a:stretch/>
        </p:blipFill>
        <p:spPr>
          <a:xfrm>
            <a:off x="-9360" y="765000"/>
            <a:ext cx="4365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ерку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0360" y="1125000"/>
            <a:ext cx="439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ый орел, длина тела которого достигает 1 м, размах крыльев около 2 м. Окраска бурая, почти однотонная, у молодых птиц со светлыми пестринами. Добычей могут быть мелкие грызуны типа сурков, сусликов. Не брезгует скунсами, любит лакомиться зайцами и черепаха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Не боится нападать и на крупных животных, правда, чаще всего ослабленных болезнью – оленей, серн, косуль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4" name="Picture 4" descr="Беркут"/>
          <p:cNvPicPr/>
          <p:nvPr/>
        </p:nvPicPr>
        <p:blipFill>
          <a:blip r:embed="rId1"/>
          <a:stretch/>
        </p:blipFill>
        <p:spPr>
          <a:xfrm>
            <a:off x="117360" y="115920"/>
            <a:ext cx="4140360" cy="3098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http://progorodnn.ru/userfiles/images/image-10-2014/aigle_royal_aquila_chrysaetos_142715420.jpg"/>
          <p:cNvPicPr/>
          <p:nvPr/>
        </p:nvPicPr>
        <p:blipFill>
          <a:blip r:embed="rId2"/>
          <a:stretch/>
        </p:blipFill>
        <p:spPr>
          <a:xfrm>
            <a:off x="142920" y="3214800"/>
            <a:ext cx="428472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Змееяд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720" y="1268280"/>
            <a:ext cx="485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хищная птица, достигающая в длину 70 см, размах крыльев 160—190 см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Охотится на гадюк. Кроме ядовитых пресмыкающихся крачун питается также полевками, ящерицами, лягушками, небольшими грызунами и птичками. Его ярко-желтые глаза настолько зоркие, что могут увидеть добычу на расстоянии нескольких сот метров! Кладка 1-2 яйца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8" name="Picture 4" descr="Змееяд"/>
          <p:cNvPicPr/>
          <p:nvPr/>
        </p:nvPicPr>
        <p:blipFill>
          <a:blip r:embed="rId1"/>
          <a:stretch/>
        </p:blipFill>
        <p:spPr>
          <a:xfrm>
            <a:off x="108000" y="981000"/>
            <a:ext cx="414000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План работы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история Красной книги.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Красная книга Нижегородской област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страницы Красной книги.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одяной погоныш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3280" y="1628280"/>
            <a:ext cx="3683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Небольшая птица размером со скворца. Длина тела 18—20 см.. Населяет влажные луга и болота. Прячется в траве. Плавает неохотно. В случае опасности может нырять в воду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1" name="Picture 6" descr="http://atmhunt.ru/wp-content/uploads/2013/04/ohota-na-pogonysha.jpg"/>
          <p:cNvPicPr/>
          <p:nvPr/>
        </p:nvPicPr>
        <p:blipFill>
          <a:blip r:embed="rId1"/>
          <a:stretch/>
        </p:blipFill>
        <p:spPr>
          <a:xfrm>
            <a:off x="142920" y="1285920"/>
            <a:ext cx="5076720" cy="509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ила поведения на природ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а природе не следует ничего ломать, рвать просто так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Заботливо относиться к деревьям и кустарникам, которые растут на склонах, они укрепляют почву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Заботливо относиться к живым существам леса, все они приносят пользу. В природе нет ничего лишнего и ненужного!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Во время собирания ягод и плодов не повреждать деревья и кусты, не срывать недозрелых плодов и ягод.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Собирать грибы, осторожно срезать ножом, чтобы не повредить грибницу.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сбивать несъедобные грибы, они нужны жителям леса: белочкам, ежикам, птичкам.  Даже мухоморы нужны деревьям, они питают корни деревьев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Правильно собирать лекарственные растения, оставляя корни в земле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 algn="just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загрязнять озер, речек, не бросать в них камни, мусор и остатки пищи. Не разрушать источников и колодцев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разрушать муравейники, муравьи – санитары леса. Помните: вы пришли в гости к природе. Не делайте ничего такого, что считали бы неприличным делать в гостях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Garamond"/>
              </a:rPr>
              <a:t>Меры охраны</a:t>
            </a:r>
            <a:endParaRPr b="0" lang="en-US" sz="7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Создать особо охраняемые территори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Запрет добыч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ропаганда охраны вида среди населения, особенно с охотниками 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Ввести запрет на использование сетей на гнездовых водоёмах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1"/>
          <p:cNvPicPr/>
          <p:nvPr/>
        </p:nvPicPr>
        <p:blipFill>
          <a:blip r:embed="rId1"/>
          <a:stretch/>
        </p:blipFill>
        <p:spPr>
          <a:xfrm>
            <a:off x="1116000" y="1801800"/>
            <a:ext cx="7056360" cy="3714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рода - матушка, человек – сын природы. Мать надо любить, беречь и подчиняться её закона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аждый живой организм имеет право на существовани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5" descr="http://progorodnn.ru/userfiles/images/image-10-2014/muskrat2.jpg"/>
          <p:cNvPicPr/>
          <p:nvPr/>
        </p:nvPicPr>
        <p:blipFill>
          <a:blip r:embed="rId1"/>
          <a:stretch/>
        </p:blipFill>
        <p:spPr>
          <a:xfrm>
            <a:off x="395280" y="189000"/>
            <a:ext cx="3816360" cy="285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2S"/>
          <p:cNvPicPr/>
          <p:nvPr/>
        </p:nvPicPr>
        <p:blipFill>
          <a:blip r:embed="rId2"/>
          <a:stretch/>
        </p:blipFill>
        <p:spPr>
          <a:xfrm>
            <a:off x="5110200" y="322200"/>
            <a:ext cx="3889440" cy="272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6"/>
          <p:cNvPicPr/>
          <p:nvPr/>
        </p:nvPicPr>
        <p:blipFill>
          <a:blip r:embed="rId3"/>
          <a:stretch/>
        </p:blipFill>
        <p:spPr>
          <a:xfrm>
            <a:off x="395280" y="3371760"/>
            <a:ext cx="3816360" cy="3411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Картинки по запросу красная книга нижегородской области фото"/>
          <p:cNvPicPr/>
          <p:nvPr/>
        </p:nvPicPr>
        <p:blipFill>
          <a:blip r:embed="rId4"/>
          <a:stretch/>
        </p:blipFill>
        <p:spPr>
          <a:xfrm>
            <a:off x="5076720" y="3371760"/>
            <a:ext cx="4037040" cy="338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s://encrypted-tbn3.gstatic.com/images?q=tbn:ANd9GcTzIgnAnnW_yZyzuEsi_gg2coLcQvMeWmxBWBF8ZhHXFzZ4u8v7"/>
          <p:cNvPicPr/>
          <p:nvPr/>
        </p:nvPicPr>
        <p:blipFill>
          <a:blip r:embed="rId5"/>
          <a:stretch/>
        </p:blipFill>
        <p:spPr>
          <a:xfrm>
            <a:off x="2333520" y="2198520"/>
            <a:ext cx="38847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http://progorodnn.ru/userfiles/images/image-10-2014/083d722b357c.jpg"/>
          <p:cNvPicPr/>
          <p:nvPr/>
        </p:nvPicPr>
        <p:blipFill>
          <a:blip r:embed="rId1"/>
          <a:stretch/>
        </p:blipFill>
        <p:spPr>
          <a:xfrm>
            <a:off x="108000" y="0"/>
            <a:ext cx="395928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Лебедь кликун"/>
          <p:cNvPicPr/>
          <p:nvPr/>
        </p:nvPicPr>
        <p:blipFill>
          <a:blip r:embed="rId2"/>
          <a:stretch/>
        </p:blipFill>
        <p:spPr>
          <a:xfrm>
            <a:off x="5508720" y="0"/>
            <a:ext cx="363996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ркут"/>
          <p:cNvPicPr/>
          <p:nvPr/>
        </p:nvPicPr>
        <p:blipFill>
          <a:blip r:embed="rId3"/>
          <a:stretch/>
        </p:blipFill>
        <p:spPr>
          <a:xfrm>
            <a:off x="108000" y="3357720"/>
            <a:ext cx="453528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Змееяд"/>
          <p:cNvPicPr/>
          <p:nvPr/>
        </p:nvPicPr>
        <p:blipFill>
          <a:blip r:embed="rId4"/>
          <a:stretch/>
        </p:blipFill>
        <p:spPr>
          <a:xfrm>
            <a:off x="3443400" y="1413000"/>
            <a:ext cx="297180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atmhunt.ru/wp-content/uploads/2013/04/ohota-na-pogonysha.jpg"/>
          <p:cNvPicPr/>
          <p:nvPr/>
        </p:nvPicPr>
        <p:blipFill>
          <a:blip r:embed="rId5"/>
          <a:stretch/>
        </p:blipFill>
        <p:spPr>
          <a:xfrm>
            <a:off x="5057640" y="3500280"/>
            <a:ext cx="3962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Babochka"/>
          <p:cNvPicPr/>
          <p:nvPr/>
        </p:nvPicPr>
        <p:blipFill>
          <a:blip r:embed="rId1"/>
          <a:stretch/>
        </p:blipFill>
        <p:spPr>
          <a:xfrm>
            <a:off x="0" y="0"/>
            <a:ext cx="3166920" cy="229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47920" y="571320"/>
            <a:ext cx="7238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 книг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– список и описания редких и находящихся под угрозой исчезновения животных, растений, грибов и лишайников. Красный цвет сигнал запрета, понятый людьми всего мира. 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4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у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по предложению  П. Скотта, 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Международный союз охраны природы  (МСОП) 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проявил инициативу по спасению исчезающих видов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advTm="15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071960" y="1295280"/>
            <a:ext cx="450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Первая красная книга в 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России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увидела свет 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78 году.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В неё были занесены 62 вида млекопитающих, 63 вида птиц, 21 вид рептилий, 8 амфибий , 444 вида растений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1d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50" name="Picture 4" descr="click?url=http%3A%2F%2Fwww"/>
          <p:cNvPicPr/>
          <p:nvPr/>
        </p:nvPicPr>
        <p:blipFill>
          <a:blip r:embed="rId1"/>
          <a:stretch/>
        </p:blipFill>
        <p:spPr>
          <a:xfrm>
            <a:off x="642960" y="1000080"/>
            <a:ext cx="346248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Дата 4"/>
          <p:cNvSpPr/>
          <p:nvPr/>
        </p:nvSpPr>
        <p:spPr>
          <a:xfrm>
            <a:off x="1447920" y="6245280"/>
            <a:ext cx="190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расная книга </a:t>
            </a:r>
            <a:r>
              <a:rPr b="1" lang="ru-RU" sz="4000" spc="-1" strike="noStrike">
                <a:solidFill>
                  <a:srgbClr val="002060"/>
                </a:solidFill>
                <a:latin typeface="Garamond"/>
              </a:rPr>
              <a:t>Нижегородской области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3938760"/>
            <a:ext cx="80755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28 мая 2004 года</a:t>
            </a:r>
            <a:r>
              <a:rPr b="1" i="1" lang="ru-RU" sz="2800" spc="-1" strike="noStrike">
                <a:solidFill>
                  <a:srgbClr val="4f261e"/>
                </a:solidFill>
                <a:latin typeface="Arial"/>
              </a:rPr>
              <a:t> в 14-00 Большом зале областной администрации при поддержке Комитета охраны природы и управления природопользованием Нижегородской области состоялась презентация 1 тома Красной книги Нижегородской области.</a:t>
            </a:r>
            <a:r>
              <a:rPr b="1" lang="ru-RU" sz="2800" spc="-1" strike="noStrike">
                <a:solidFill>
                  <a:srgbClr val="4f26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54" name="Содержимое 8" descr="8.jpg"/>
          <p:cNvPicPr/>
          <p:nvPr/>
        </p:nvPicPr>
        <p:blipFill>
          <a:blip r:embed="rId1"/>
          <a:stretch/>
        </p:blipFill>
        <p:spPr>
          <a:xfrm>
            <a:off x="5500800" y="157176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KKNN.jpg"/>
          <p:cNvPicPr/>
          <p:nvPr/>
        </p:nvPicPr>
        <p:blipFill>
          <a:blip r:embed="rId2"/>
          <a:stretch/>
        </p:blipFill>
        <p:spPr>
          <a:xfrm>
            <a:off x="2214720" y="1571760"/>
            <a:ext cx="19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ХРАНЯЕМЫЕ  ЖИВОТНЫ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1197000"/>
          <a:ext cx="7704360" cy="540072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истематические группы живот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Число видов, занесенных в Красную книгу Нижегородской обла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лекопитающ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тиц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емноводные и пресмыкающие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ыбы и круглорот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секом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ругие беспозвоно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50"/>
                </a:solidFill>
                <a:latin typeface="Garamond"/>
              </a:rPr>
              <a:t>Причины исчезновения видов растений и животных:</a:t>
            </a:r>
            <a:endParaRPr b="0" lang="en-US" sz="3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9320" y="1484280"/>
            <a:ext cx="893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их практическая ценность для насел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2205000"/>
            <a:ext cx="8078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распашка и освоение целины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14200" y="3214800"/>
            <a:ext cx="794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сбор для массовых  коллекционных пособ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042920" y="1125360"/>
            <a:ext cx="741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4491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ы Красной книги </a:t>
            </a:r>
            <a:endParaRPr b="1" lang="en-US" sz="1800" spc="1" strike="noStrike">
              <a:ln w="0">
                <a:noFill/>
              </a:ln>
              <a:solidFill>
                <a:srgbClr val="54491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4491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жегородской области</a:t>
            </a:r>
            <a:endParaRPr b="1" lang="en-US" sz="1800" spc="1" strike="noStrike">
              <a:ln w="0">
                <a:noFill/>
              </a:ln>
              <a:solidFill>
                <a:srgbClr val="54491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Млекопитающие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55:10Z</dcterms:created>
  <dc:creator>2</dc:creator>
  <dc:description/>
  <cp:keywords/>
  <dc:language>en-US</dc:language>
  <cp:lastModifiedBy>viktor</cp:lastModifiedBy>
  <dcterms:modified xsi:type="dcterms:W3CDTF">2019-03-18T07:44:49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