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D35-2A6A-4C0F-A9AE-54A33391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E17-FCB0-433A-9E50-4A69E033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9E6-908D-43EF-A7CF-9C793A72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EE5-81BF-4001-9449-CD27E61F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5C4-5E50-421F-B3D2-2F0695F0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FB2-8355-470A-A181-BF72EC0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749-E462-43D8-B2CF-D2ED88E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56E-AB97-4833-A868-6C72FD9C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3CD-39F5-427D-AFD9-369C36D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FC2-B05E-4DEE-84D5-4D8F2F2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F78-AB3A-443F-9F91-1A92554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C8B-141F-4CDE-B4B9-DDEE960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576-295A-4830-AE25-8D0120AEC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Monotype Corsiva"/>
              </a:rPr>
              <a:t>Русский язык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663300"/>
                </a:solidFill>
                <a:latin typeface="Monotype Corsiva"/>
              </a:rPr>
              <a:t>Тема урока: Определение спряжения глагола.</a:t>
            </a:r>
            <a:br>
              <a:rPr sz="6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Автор: Баринова Ю.М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..т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акива…т – 3л.мн.ч. поддакивают - (1) – поддакива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р…т – 3л.мн.ч. спорят - (2) - спор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666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666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2767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666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5410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5410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791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10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20574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6668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76960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7696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81532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6960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6934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69343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53341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53341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5334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53341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Маленький мальчишка в сером армячишке по дворам шныря…т, крохи собир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вет…т, сверка…т, всех согре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Кто всю ночь по крыше бьет да постукива…т, и бормоч…т, и поет, убаюки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Сторож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коло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плат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иск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сгруз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брызг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прос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боле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т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ч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опр.ф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на –и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–и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21337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133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35812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86200" y="12193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4572000" y="990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257800" y="990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57200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5105160" y="1676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4343400" y="1981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123720" y="32767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5334120" y="3276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24382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934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3623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85800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Когда друг прос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– не существу…т «завтра».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Кто люб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науки, тот не зна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скук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3"/>
          <p:cNvSpPr/>
          <p:nvPr/>
        </p:nvSpPr>
        <p:spPr>
          <a:xfrm>
            <a:off x="167652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 спр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99072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9907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6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3124080" y="1143000"/>
            <a:ext cx="838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0"/>
          <p:cNvSpPr/>
          <p:nvPr/>
        </p:nvSpPr>
        <p:spPr>
          <a:xfrm flipV="1">
            <a:off x="3962520" y="1142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1"/>
          <p:cNvSpPr/>
          <p:nvPr/>
        </p:nvSpPr>
        <p:spPr>
          <a:xfrm flipH="1">
            <a:off x="4343400" y="1143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2"/>
          <p:cNvSpPr/>
          <p:nvPr/>
        </p:nvSpPr>
        <p:spPr>
          <a:xfrm>
            <a:off x="3962520" y="1447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3"/>
          <p:cNvSpPr/>
          <p:nvPr/>
        </p:nvSpPr>
        <p:spPr>
          <a:xfrm flipH="1">
            <a:off x="434304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4"/>
          <p:cNvSpPr/>
          <p:nvPr/>
        </p:nvSpPr>
        <p:spPr>
          <a:xfrm flipH="1">
            <a:off x="2590920" y="2057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3505320" y="20574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2286000" y="3886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69343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..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…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1 спр. ? 2 спр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304812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04812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34290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048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342900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0481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304812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1911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04812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1911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30481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30481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3886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0481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V="1">
            <a:off x="3048120" y="2590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481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9625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350532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3048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30481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30481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40384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0"/>
          <p:cNvSpPr/>
          <p:nvPr/>
        </p:nvSpPr>
        <p:spPr>
          <a:xfrm>
            <a:off x="30481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1"/>
          <p:cNvSpPr/>
          <p:nvPr/>
        </p:nvSpPr>
        <p:spPr>
          <a:xfrm>
            <a:off x="403848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2"/>
          <p:cNvSpPr/>
          <p:nvPr/>
        </p:nvSpPr>
        <p:spPr>
          <a:xfrm>
            <a:off x="3048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3"/>
          <p:cNvSpPr/>
          <p:nvPr/>
        </p:nvSpPr>
        <p:spPr>
          <a:xfrm>
            <a:off x="30481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4"/>
          <p:cNvSpPr/>
          <p:nvPr/>
        </p:nvSpPr>
        <p:spPr>
          <a:xfrm>
            <a:off x="3733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30481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6"/>
          <p:cNvSpPr/>
          <p:nvPr/>
        </p:nvSpPr>
        <p:spPr>
          <a:xfrm>
            <a:off x="403848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7"/>
          <p:cNvSpPr/>
          <p:nvPr/>
        </p:nvSpPr>
        <p:spPr>
          <a:xfrm>
            <a:off x="37339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59436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0"/>
          <p:cNvSpPr/>
          <p:nvPr/>
        </p:nvSpPr>
        <p:spPr>
          <a:xfrm>
            <a:off x="594360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1"/>
          <p:cNvSpPr/>
          <p:nvPr/>
        </p:nvSpPr>
        <p:spPr>
          <a:xfrm>
            <a:off x="632448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5943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594360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5943600" y="1295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71629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59436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8"/>
          <p:cNvSpPr/>
          <p:nvPr/>
        </p:nvSpPr>
        <p:spPr>
          <a:xfrm>
            <a:off x="71629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0"/>
          <p:cNvSpPr/>
          <p:nvPr/>
        </p:nvSpPr>
        <p:spPr>
          <a:xfrm>
            <a:off x="59436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59436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2"/>
          <p:cNvSpPr/>
          <p:nvPr/>
        </p:nvSpPr>
        <p:spPr>
          <a:xfrm>
            <a:off x="6934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59436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6934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9436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59436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7"/>
          <p:cNvSpPr/>
          <p:nvPr/>
        </p:nvSpPr>
        <p:spPr>
          <a:xfrm>
            <a:off x="69343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9"/>
          <p:cNvSpPr/>
          <p:nvPr/>
        </p:nvSpPr>
        <p:spPr>
          <a:xfrm>
            <a:off x="59436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0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1"/>
          <p:cNvSpPr/>
          <p:nvPr/>
        </p:nvSpPr>
        <p:spPr>
          <a:xfrm>
            <a:off x="6477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2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3"/>
          <p:cNvSpPr/>
          <p:nvPr/>
        </p:nvSpPr>
        <p:spPr>
          <a:xfrm>
            <a:off x="5943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4"/>
          <p:cNvSpPr/>
          <p:nvPr/>
        </p:nvSpPr>
        <p:spPr>
          <a:xfrm>
            <a:off x="594360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5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6"/>
          <p:cNvSpPr/>
          <p:nvPr/>
        </p:nvSpPr>
        <p:spPr>
          <a:xfrm>
            <a:off x="59436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л.мн.ч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ут(-ю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ат(-ят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15238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52388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76212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4038480" y="7617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343400" y="762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038480" y="1066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267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380988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342900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952880" y="3048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2895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6553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74320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5530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</cp:lastModifiedBy>
  <dcterms:modified xsi:type="dcterms:W3CDTF">2019-03-18T07:45:45Z</dcterms:modified>
  <cp:revision>4</cp:revision>
  <dc:subject/>
  <dc:title>PowerPoint Presentation</dc:title>
</cp:coreProperties>
</file>