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5560-4D99-4477-8B91-4CF499A72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0F5D-2CB3-4B10-B9E4-1B5EF1D0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DA28-4414-471D-81DF-BFD47D7B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0C1D-FB55-49C7-B82C-C6C2489AE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B595-A20B-405A-A5B3-E00AFC50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71D9-5054-42FC-B65A-21BA64DF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B428-5D97-471E-A6EF-1C426B25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4293-8557-459A-A123-112EABBB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7A4F-404F-4D5D-8EEA-0CB0ADDE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6AB2-94FE-410B-BCFC-621DDB3E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21CF-12C4-45AD-A2C3-5249B6DB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100C-1184-424B-98D4-AB692F5C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19CE-4249-456F-A0C5-C73FFBFD55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791856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Русский язык</a:t>
            </a:r>
            <a:br>
              <a:rPr sz="4000"/>
            </a:b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3 класс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Тема урока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: Проверка орфограмм слабых позиций в окончаниях существительных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6360" y="4365360"/>
            <a:ext cx="3592440" cy="16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ринова Ю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 Лицей № 165 имени 65-летия «ГАЗ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 Нижний Новг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611280" y="3573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а учебного занятия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ий закон проверки орфограмм слабой пози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п уро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Урок постановки УЗ и преобразования мо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/>
          <p:cNvSpPr/>
          <p:nvPr/>
        </p:nvSpPr>
        <p:spPr>
          <a:xfrm>
            <a:off x="971640" y="2060640"/>
            <a:ext cx="7488000" cy="4392720"/>
          </a:xfrm>
          <a:prstGeom prst="foldedCorner">
            <a:avLst>
              <a:gd name="adj" fmla="val 12500"/>
            </a:avLst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623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Arial"/>
              </a:rPr>
              <a:t>Проверь себя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2556000" y="2637000"/>
            <a:ext cx="470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3471840" y="2513160"/>
            <a:ext cx="37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564000" y="256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979560" y="2421000"/>
            <a:ext cx="749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ез букв и грамматик</a:t>
            </a: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е учатся и математик</a:t>
            </a: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е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20"/>
                            </p:stCondLst>
                            <p:childTnLst>
                              <p:par>
                                <p:cTn id="4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3"/>
          <p:cNvSpPr txBox="1"/>
          <p:nvPr/>
        </p:nvSpPr>
        <p:spPr>
          <a:xfrm>
            <a:off x="1835280" y="549360"/>
            <a:ext cx="687384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До новых встреч!</a:t>
            </a:r>
            <a:endParaRPr b="1" i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3780000" y="1916280"/>
            <a:ext cx="2736720" cy="2592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4427640" y="2565360"/>
            <a:ext cx="1441440" cy="1295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3"/>
          <p:cNvSpPr/>
          <p:nvPr/>
        </p:nvSpPr>
        <p:spPr>
          <a:xfrm>
            <a:off x="1332000" y="2060640"/>
            <a:ext cx="7127640" cy="4392720"/>
          </a:xfrm>
          <a:prstGeom prst="foldedCorner">
            <a:avLst>
              <a:gd name="adj" fmla="val 12500"/>
            </a:avLst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247320"/>
            <a:ext cx="81709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6969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Arial"/>
              </a:rPr>
              <a:t>Орфографическая минут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1709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Вставить пропущенные бу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56000" y="2637000"/>
            <a:ext cx="470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2050920" y="2349360"/>
            <a:ext cx="4321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 . РЯ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В . СТЕ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В . РЁ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ХВ . СТУ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Т . ПН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3471840" y="2513160"/>
            <a:ext cx="37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564000" y="256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2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Arial"/>
              </a:rPr>
              <a:t>Способы проверки слабой позиции в корне слов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39337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менить форму сло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обрать однокоренное сло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мотреть в словаре, книге,  спросить компетентного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2050920" y="2421000"/>
            <a:ext cx="115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5796000" y="234936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 flipV="1">
            <a:off x="6372360" y="1699920"/>
            <a:ext cx="0" cy="12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 rot="10800000">
            <a:off x="1692360" y="3141720"/>
            <a:ext cx="5256000" cy="503280"/>
          </a:xfrm>
          <a:custGeom>
            <a:avLst/>
            <a:gdLst>
              <a:gd name="textAreaLeft" fmla="*/ 919800 w 5256000"/>
              <a:gd name="textAreaRight" fmla="*/ 3810600 w 525600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rc 8"/>
          <p:cNvSpPr/>
          <p:nvPr/>
        </p:nvSpPr>
        <p:spPr>
          <a:xfrm rot="19450200">
            <a:off x="1979280" y="1341000"/>
            <a:ext cx="136836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rc 9"/>
          <p:cNvSpPr/>
          <p:nvPr/>
        </p:nvSpPr>
        <p:spPr>
          <a:xfrm rot="19450200">
            <a:off x="5795640" y="1267920"/>
            <a:ext cx="136836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2"/>
          <p:cNvSpPr/>
          <p:nvPr/>
        </p:nvSpPr>
        <p:spPr>
          <a:xfrm>
            <a:off x="1332000" y="2060640"/>
            <a:ext cx="7127640" cy="4392720"/>
          </a:xfrm>
          <a:prstGeom prst="foldedCorner">
            <a:avLst>
              <a:gd name="adj" fmla="val 12500"/>
            </a:avLst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280" y="247320"/>
            <a:ext cx="81709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6969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Arial"/>
              </a:rPr>
              <a:t>Проверь себя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1709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556000" y="2637000"/>
            <a:ext cx="470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2050920" y="2349360"/>
            <a:ext cx="4321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 . РЯ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В . СТЕ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В . РЁ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ХВ . СТУ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Т . ПН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3471840" y="2513160"/>
            <a:ext cx="37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3564000" y="256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2557440" y="227664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2918880" y="2997360"/>
            <a:ext cx="67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2844720" y="371628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2844720" y="450864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2916360" y="5229360"/>
            <a:ext cx="71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5219640" y="5351400"/>
            <a:ext cx="318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СТ</a:t>
            </a: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5221080" y="5300640"/>
            <a:ext cx="261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- СТ</a:t>
            </a: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Е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20"/>
                            </p:stCondLst>
                            <p:childTnLst>
                              <p:par>
                                <p:cTn id="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60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400" spc="-1" strike="noStrike">
                <a:solidFill>
                  <a:srgbClr val="000099"/>
                </a:solidFill>
                <a:latin typeface="Arial"/>
              </a:rPr>
              <a:t>Вставить пропущенные буквы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250920" y="1989000"/>
            <a:ext cx="8569080" cy="4392720"/>
          </a:xfrm>
          <a:prstGeom prst="foldedCorner">
            <a:avLst>
              <a:gd name="adj" fmla="val 12500"/>
            </a:avLst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а г . рами, за л . сами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а ш . рокими м . рями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отив неба – на з . мл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Жил ст . рик в одном с . л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755640" y="33336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Arial"/>
              </a:rPr>
              <a:t>Проверь себя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4789800" y="3213000"/>
            <a:ext cx="65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1405080" y="2492280"/>
            <a:ext cx="65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5725800" y="393372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1620720" y="3213000"/>
            <a:ext cx="61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4860720" y="249228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2341440" y="46530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6734160" y="465300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5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2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-1916640"/>
            <a:ext cx="93492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5444640"/>
            <a:ext cx="5745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2195640" y="321300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"/>
          <p:cNvSpPr/>
          <p:nvPr/>
        </p:nvSpPr>
        <p:spPr>
          <a:xfrm>
            <a:off x="5940360" y="3141720"/>
            <a:ext cx="115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 flipV="1">
            <a:off x="6516720" y="2491920"/>
            <a:ext cx="0" cy="12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 rot="10800000">
            <a:off x="1835280" y="4076640"/>
            <a:ext cx="5256000" cy="503280"/>
          </a:xfrm>
          <a:custGeom>
            <a:avLst/>
            <a:gdLst>
              <a:gd name="textAreaLeft" fmla="*/ 919800 w 5256000"/>
              <a:gd name="textAreaRight" fmla="*/ 3810600 w 525600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rc 8"/>
          <p:cNvSpPr/>
          <p:nvPr/>
        </p:nvSpPr>
        <p:spPr>
          <a:xfrm rot="19450200">
            <a:off x="1979280" y="1483920"/>
            <a:ext cx="136836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rc 9"/>
          <p:cNvSpPr/>
          <p:nvPr/>
        </p:nvSpPr>
        <p:spPr>
          <a:xfrm rot="19450200">
            <a:off x="5867280" y="1413000"/>
            <a:ext cx="136872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2"/>
          <p:cNvSpPr/>
          <p:nvPr/>
        </p:nvSpPr>
        <p:spPr>
          <a:xfrm>
            <a:off x="971640" y="2060640"/>
            <a:ext cx="7488000" cy="4392720"/>
          </a:xfrm>
          <a:prstGeom prst="foldedCorner">
            <a:avLst>
              <a:gd name="adj" fmla="val 12500"/>
            </a:avLst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99"/>
                </a:solidFill>
                <a:latin typeface="Arial"/>
              </a:rPr>
              <a:t>Вставить пропущенные бук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556000" y="2637000"/>
            <a:ext cx="470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471840" y="2513160"/>
            <a:ext cx="37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564000" y="256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979560" y="2421000"/>
            <a:ext cx="749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ез букв и граммати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е учатся и математик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1187280" y="1413000"/>
            <a:ext cx="21607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476000" y="1197000"/>
            <a:ext cx="159372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1763640" y="4508640"/>
            <a:ext cx="115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5651640" y="1413000"/>
            <a:ext cx="216036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6156360" y="450864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 flipV="1">
            <a:off x="6732720" y="3860280"/>
            <a:ext cx="0" cy="12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9"/>
          <p:cNvSpPr/>
          <p:nvPr/>
        </p:nvSpPr>
        <p:spPr>
          <a:xfrm rot="10800000">
            <a:off x="1979280" y="5229360"/>
            <a:ext cx="5256360" cy="503280"/>
          </a:xfrm>
          <a:custGeom>
            <a:avLst/>
            <a:gdLst>
              <a:gd name="textAreaLeft" fmla="*/ 919800 w 5256360"/>
              <a:gd name="textAreaRight" fmla="*/ 3810960 w 525636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65"/>
          <p:cNvSpPr/>
          <p:nvPr/>
        </p:nvSpPr>
        <p:spPr>
          <a:xfrm>
            <a:off x="7020000" y="549360"/>
            <a:ext cx="1873080" cy="6476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4"/>
          <p:cNvSpPr/>
          <p:nvPr/>
        </p:nvSpPr>
        <p:spPr>
          <a:xfrm>
            <a:off x="3059280" y="549360"/>
            <a:ext cx="3384360" cy="576000"/>
          </a:xfrm>
          <a:prstGeom prst="wedgeRectCallout">
            <a:avLst>
              <a:gd name="adj1" fmla="val -36444"/>
              <a:gd name="adj2" fmla="val 7231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987640" y="47628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СТОЛ   ОК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55"/>
          <p:cNvSpPr/>
          <p:nvPr/>
        </p:nvSpPr>
        <p:spPr>
          <a:xfrm>
            <a:off x="468360" y="549360"/>
            <a:ext cx="1871640" cy="609480"/>
          </a:xfrm>
          <a:prstGeom prst="wedgeRectCallout">
            <a:avLst>
              <a:gd name="adj1" fmla="val -46944"/>
              <a:gd name="adj2" fmla="val 700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3348000" y="1341360"/>
            <a:ext cx="2664000" cy="518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95280" y="1341360"/>
            <a:ext cx="2664000" cy="518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6227640" y="1341360"/>
            <a:ext cx="2664000" cy="518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6084720" y="2708280"/>
            <a:ext cx="26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227640" y="1412640"/>
            <a:ext cx="2602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Ж.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395280" y="1413000"/>
            <a:ext cx="2602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М.Р.  Ж.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А (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Ы (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У (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ОЙ (Ё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3419640" y="1413000"/>
            <a:ext cx="26017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М.Р.  СР.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       - О (Е)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А (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У (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       - О (Е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ОМ (Е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3780000" y="2205000"/>
            <a:ext cx="287280" cy="287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6"/>
          <p:cNvSpPr/>
          <p:nvPr/>
        </p:nvSpPr>
        <p:spPr>
          <a:xfrm>
            <a:off x="3851280" y="4005360"/>
            <a:ext cx="287280" cy="287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7"/>
          <p:cNvSpPr/>
          <p:nvPr/>
        </p:nvSpPr>
        <p:spPr>
          <a:xfrm>
            <a:off x="6588000" y="4005360"/>
            <a:ext cx="287640" cy="287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8"/>
          <p:cNvSpPr/>
          <p:nvPr/>
        </p:nvSpPr>
        <p:spPr>
          <a:xfrm>
            <a:off x="6588000" y="2205000"/>
            <a:ext cx="287640" cy="287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468360" y="4539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1"/>
          <p:cNvSpPr/>
          <p:nvPr/>
        </p:nvSpPr>
        <p:spPr>
          <a:xfrm>
            <a:off x="7022880" y="476280"/>
            <a:ext cx="192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СТЕП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17:13:50Z</dcterms:created>
  <dc:creator>Учитель</dc:creator>
  <dc:description/>
  <dc:language>en-US</dc:language>
  <cp:lastModifiedBy>viktor</cp:lastModifiedBy>
  <dcterms:modified xsi:type="dcterms:W3CDTF">2019-03-18T07:46:37Z</dcterms:modified>
  <cp:revision>14</cp:revision>
  <dc:subject/>
  <dc:title>Слайд 1</dc:title>
</cp:coreProperties>
</file>