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C27-930F-4643-9E78-D8A36536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6382-11E6-4C64-94E5-86489C5D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C59-905E-4FB3-B751-1B1BCACE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9EA-DF3D-4999-B7C6-2E9012AB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178-DD1A-4F65-8D93-7AF2A012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ECE8-927F-41D4-AA64-7FCB6E31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01E-CC79-4C9F-A4EF-21EB7EB8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D20-0689-4135-B832-4C6BDD1D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8AB-C32A-4FE6-9B5C-6803B3CD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02A-DC62-49DB-A2E9-5A2BF438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9E4-A808-408E-ABE8-6F793282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351-DECF-4B52-9CE5-B1BF03D5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531F-EC78-4F92-8C7F-1AFB17822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91856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Русский язык</a:t>
            </a:r>
            <a:br>
              <a:rPr sz="4000"/>
            </a:b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3 класс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ема урока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 Проверка орфограмм слабых позиций в окончаниях существительных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6360" y="4365360"/>
            <a:ext cx="359244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инова Ю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Лицей № 165 имени 65-летия «ГА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ижний 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11280" y="357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учебного занятия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закон проверки орфограмм слабой поз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 у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Урок постановки УЗ и преобразования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971640" y="2060640"/>
            <a:ext cx="7488000" cy="4392720"/>
          </a:xfrm>
          <a:prstGeom prst="foldedCorner">
            <a:avLst>
              <a:gd name="adj" fmla="val 12500"/>
            </a:avLst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23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Проверь себ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556000" y="2637000"/>
            <a:ext cx="47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471840" y="251316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56400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979560" y="2421000"/>
            <a:ext cx="749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ез букв и грамматик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е учатся и математик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2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3"/>
          <p:cNvSpPr txBox="1"/>
          <p:nvPr/>
        </p:nvSpPr>
        <p:spPr>
          <a:xfrm>
            <a:off x="1835280" y="549360"/>
            <a:ext cx="687384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До новых встреч!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3780000" y="1916280"/>
            <a:ext cx="2736720" cy="2592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4427640" y="2565360"/>
            <a:ext cx="1441440" cy="1295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3"/>
          <p:cNvSpPr/>
          <p:nvPr/>
        </p:nvSpPr>
        <p:spPr>
          <a:xfrm>
            <a:off x="1332000" y="2060640"/>
            <a:ext cx="7127640" cy="4392720"/>
          </a:xfrm>
          <a:prstGeom prst="foldedCorner">
            <a:avLst>
              <a:gd name="adj" fmla="val 12500"/>
            </a:avLst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47320"/>
            <a:ext cx="81709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Орфографическая минут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1709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Вставить пропущенные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56000" y="2637000"/>
            <a:ext cx="47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050920" y="2349360"/>
            <a:ext cx="4321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 . РЯ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 . СТ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В . РЁ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В . СТУ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 . П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471840" y="251316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56400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2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Способы проверки слабой позиции в корне сл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3933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ить форму сл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брать однокоренное сло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еть в словаре, книге,  спросить компетентно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2050920" y="242100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5796000" y="234936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V="1">
            <a:off x="6372360" y="1699920"/>
            <a:ext cx="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 rot="10800000">
            <a:off x="1692360" y="3141720"/>
            <a:ext cx="5256000" cy="503280"/>
          </a:xfrm>
          <a:custGeom>
            <a:avLst/>
            <a:gdLst>
              <a:gd name="textAreaLeft" fmla="*/ 919800 w 5256000"/>
              <a:gd name="textAreaRight" fmla="*/ 3810600 w 525600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rc 8"/>
          <p:cNvSpPr/>
          <p:nvPr/>
        </p:nvSpPr>
        <p:spPr>
          <a:xfrm rot="19450200">
            <a:off x="1979280" y="1341000"/>
            <a:ext cx="1368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rc 9"/>
          <p:cNvSpPr/>
          <p:nvPr/>
        </p:nvSpPr>
        <p:spPr>
          <a:xfrm rot="19450200">
            <a:off x="5795640" y="1267920"/>
            <a:ext cx="1368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1332000" y="2060640"/>
            <a:ext cx="7127640" cy="4392720"/>
          </a:xfrm>
          <a:prstGeom prst="foldedCorner">
            <a:avLst>
              <a:gd name="adj" fmla="val 12500"/>
            </a:avLst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247320"/>
            <a:ext cx="81709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Проверь себ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170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56000" y="2637000"/>
            <a:ext cx="47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050920" y="2349360"/>
            <a:ext cx="4321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 . РЯ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 . СТ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В . РЁ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В . СТУ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 . П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471840" y="251316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56400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2557440" y="227664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2918880" y="299736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2844720" y="37162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844720" y="45086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916360" y="5229360"/>
            <a:ext cx="71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219640" y="5351400"/>
            <a:ext cx="31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СТ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221080" y="5300640"/>
            <a:ext cx="26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- СТ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2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60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400" spc="-1" strike="noStrike">
                <a:solidFill>
                  <a:srgbClr val="000099"/>
                </a:solidFill>
                <a:latin typeface="Arial"/>
              </a:rPr>
              <a:t>Вставить пропущенные буквы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250920" y="1989000"/>
            <a:ext cx="8569080" cy="4392720"/>
          </a:xfrm>
          <a:prstGeom prst="foldedCorner">
            <a:avLst>
              <a:gd name="adj" fmla="val 12500"/>
            </a:avLst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 г . рами, за л . сам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 ш . рокими м . рям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тив неба – на з . м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ил ст . рик в одном с . л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55640" y="33336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Проверь себ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789800" y="3213000"/>
            <a:ext cx="65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405080" y="2492280"/>
            <a:ext cx="65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5725800" y="39337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620720" y="3213000"/>
            <a:ext cx="6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4860720" y="24922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341440" y="46530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734160" y="4653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2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-1916640"/>
            <a:ext cx="9349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5444640"/>
            <a:ext cx="5745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195640" y="321300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5940360" y="314172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 flipV="1">
            <a:off x="6516720" y="2491920"/>
            <a:ext cx="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10800000">
            <a:off x="1835280" y="4076640"/>
            <a:ext cx="5256000" cy="503280"/>
          </a:xfrm>
          <a:custGeom>
            <a:avLst/>
            <a:gdLst>
              <a:gd name="textAreaLeft" fmla="*/ 919800 w 5256000"/>
              <a:gd name="textAreaRight" fmla="*/ 3810600 w 525600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8"/>
          <p:cNvSpPr/>
          <p:nvPr/>
        </p:nvSpPr>
        <p:spPr>
          <a:xfrm rot="19450200">
            <a:off x="1979280" y="1483920"/>
            <a:ext cx="1368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9"/>
          <p:cNvSpPr/>
          <p:nvPr/>
        </p:nvSpPr>
        <p:spPr>
          <a:xfrm rot="19450200">
            <a:off x="5867280" y="1413000"/>
            <a:ext cx="136872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971640" y="2060640"/>
            <a:ext cx="7488000" cy="4392720"/>
          </a:xfrm>
          <a:prstGeom prst="foldedCorner">
            <a:avLst>
              <a:gd name="adj" fmla="val 12500"/>
            </a:avLst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Arial"/>
              </a:rPr>
              <a:t>Вставить пропущенные бу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56000" y="2637000"/>
            <a:ext cx="47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471840" y="251316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56400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979560" y="2421000"/>
            <a:ext cx="749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ез букв и граммати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е учатся и математик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187280" y="1413000"/>
            <a:ext cx="21607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76000" y="1197000"/>
            <a:ext cx="159372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1763640" y="450864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5651640" y="1413000"/>
            <a:ext cx="216036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6156360" y="450864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V="1">
            <a:off x="6732720" y="3860280"/>
            <a:ext cx="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 rot="10800000">
            <a:off x="1979280" y="5229360"/>
            <a:ext cx="5256360" cy="503280"/>
          </a:xfrm>
          <a:custGeom>
            <a:avLst/>
            <a:gdLst>
              <a:gd name="textAreaLeft" fmla="*/ 919800 w 5256360"/>
              <a:gd name="textAreaRight" fmla="*/ 3810960 w 52563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65"/>
          <p:cNvSpPr/>
          <p:nvPr/>
        </p:nvSpPr>
        <p:spPr>
          <a:xfrm>
            <a:off x="7020000" y="549360"/>
            <a:ext cx="187308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3059280" y="549360"/>
            <a:ext cx="3384360" cy="576000"/>
          </a:xfrm>
          <a:prstGeom prst="wedgeRectCallout">
            <a:avLst>
              <a:gd name="adj1" fmla="val -36444"/>
              <a:gd name="adj2" fmla="val 723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987640" y="476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ОЛ   ОК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5"/>
          <p:cNvSpPr/>
          <p:nvPr/>
        </p:nvSpPr>
        <p:spPr>
          <a:xfrm>
            <a:off x="468360" y="54936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348000" y="1341360"/>
            <a:ext cx="266400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95280" y="1341360"/>
            <a:ext cx="266400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227640" y="1341360"/>
            <a:ext cx="266400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6084720" y="270828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227640" y="1412640"/>
            <a:ext cx="2602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Ж.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395280" y="1413000"/>
            <a:ext cx="2602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М.Р.  Ж.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А (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Ы (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У (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Й (Ё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3419640" y="1413000"/>
            <a:ext cx="2601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М.Р.  СР.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       - О (Е)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А (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У (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       - О (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М (Е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780000" y="2205000"/>
            <a:ext cx="287280" cy="28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3851280" y="4005360"/>
            <a:ext cx="287280" cy="28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6588000" y="4005360"/>
            <a:ext cx="287640" cy="28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6588000" y="2205000"/>
            <a:ext cx="287640" cy="28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468360" y="4539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7022880" y="476280"/>
            <a:ext cx="192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ЕП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7:13:50Z</dcterms:created>
  <dc:creator>Учитель</dc:creator>
  <dc:description/>
  <dc:language>en-US</dc:language>
  <cp:lastModifiedBy>viktor</cp:lastModifiedBy>
  <dcterms:modified xsi:type="dcterms:W3CDTF">2019-03-18T07:46:37Z</dcterms:modified>
  <cp:revision>14</cp:revision>
  <dc:subject/>
  <dc:title>Слайд 1</dc:title>
</cp:coreProperties>
</file>