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A9D-9EF4-4909-BCB3-F7CE01C2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424-5C06-4E4D-B473-375757B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F4A-42A8-4753-AAD1-A6309D65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10E-DFE3-4912-BA2B-B8D179EF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9DC-C53D-4593-8420-559787E2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B35-502F-4352-85D3-58EBFF2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8B7-3620-4C7C-AA20-62234E1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E2D-0B1F-43BA-A249-DC6CBA29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B0D-F46D-4271-8053-802891A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9FB-8FE9-4F65-940B-59AF328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7BD-E458-4072-9E07-F955784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E75-1CB7-4FE3-AA92-AD7FB9B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A6C-5E11-46D8-BF13-5EDB5D4DC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твоим языком не поспе…шь и босиком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сковым словом и камень растоп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т больше дела…т, кто мало говор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дят, кричат, ходят, пищ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регут, рисуют, поют, реж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р освеща…т солнце, а человека - зна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а пчела не много мёда натаска…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котёл вар…т, а стряпух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у за деньги не куп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04Z</dcterms:modified>
  <cp:revision>178</cp:revision>
  <dc:subject/>
  <dc:title>Слайд 1</dc:title>
</cp:coreProperties>
</file>