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217-D67A-4769-B394-2224115C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354-20E8-449D-8B0D-5324978D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849-C4DF-428E-86B3-E9D6E900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BC9-4679-49A4-B2C6-F8660503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77D-0A47-4747-9A18-8A85DE29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080-E811-44BD-990A-CB119832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B21-E915-400C-8A63-726F89FB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6CF-A995-4004-96A1-566D0D08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E82-3DC3-4572-8E47-D000F0B2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A3D-E273-45ED-B130-728A14C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797-4725-4C1B-957D-C256DE70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DA2-28E9-4CA4-A774-052F8DF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4AF9-D3D3-44CC-AEE1-8EBAC08ED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русскому язык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класс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1636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641840" y="2552760"/>
            <a:ext cx="309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пряжения глаголов по 3 л. мн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 твоим языком не поспе…шь и босиком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4572000" y="364320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4572000" y="221472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3"/>
          <p:cNvSpPr/>
          <p:nvPr/>
        </p:nvSpPr>
        <p:spPr>
          <a:xfrm>
            <a:off x="4714920" y="2286000"/>
            <a:ext cx="2879640" cy="1000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4643280" y="3643200"/>
            <a:ext cx="292896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335480" y="5864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4764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сковым словом и камень растоп…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5"/>
          <p:cNvSpPr/>
          <p:nvPr/>
        </p:nvSpPr>
        <p:spPr>
          <a:xfrm>
            <a:off x="4714920" y="1785960"/>
            <a:ext cx="2808360" cy="10857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4714920" y="2928960"/>
            <a:ext cx="2808360" cy="1081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4786200" y="4071960"/>
            <a:ext cx="2737080" cy="107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911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0" y="50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т больше дела…т, кто мало говор…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ую форму нужно поставить глагол, чтобы определить его спряж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643280" y="15717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.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л. 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. мн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дят, кричат, ходят, пищ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4786200" y="35002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78620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регут, рисуют, поют, режу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4714920" y="2286000"/>
            <a:ext cx="3024000" cy="11415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4714920" y="37148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р освеща…т солнце, а человека - зна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4714920" y="35002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4714920" y="214308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14308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41212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а пчела не много мёда натаска…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4643280" y="228600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4714920" y="36432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котёл вар…т, а стряпух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4714920" y="3643200"/>
            <a:ext cx="2879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4714920" y="2143080"/>
            <a:ext cx="28814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7" descr="cdolls80.gif"/>
          <p:cNvPicPr/>
          <p:nvPr/>
        </p:nvPicPr>
        <p:blipFill>
          <a:blip r:embed="rId2"/>
          <a:stretch/>
        </p:blipFill>
        <p:spPr>
          <a:xfrm>
            <a:off x="1000080" y="2214720"/>
            <a:ext cx="2898720" cy="26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537030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жбу за деньги не куп…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4714920" y="335772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47149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4:04Z</dcterms:modified>
  <cp:revision>178</cp:revision>
  <dc:subject/>
  <dc:title>Слайд 1</dc:title>
</cp:coreProperties>
</file>