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9E7-A836-4416-88A9-5B21E90A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E9E-4C4D-429F-9B6A-E029F695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B2D-F535-4BE9-B788-1814F8E8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0DE-4325-4A68-829E-CEEFCB77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1C0-6B2E-4771-9C1D-8F4E6D74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CF3-37B2-4AE7-840A-97E61FCB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B0D-8329-40A9-AF42-34D1DF0B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883-4F39-47DD-914E-62F318B8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FE8-507D-4DB6-98F4-F6ED545A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B15-9A4E-49B8-A274-26B7E75B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0C4-8131-4EB0-9070-13475504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6BF-F7DE-4001-9514-996BB08C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7CEB-7B92-4DB1-8CE9-976F53A311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русскому языку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класс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4280"/>
            <a:ext cx="8572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Как использов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Два первых слайда – основные, у них можно менять дизайн, но нельзя удалять: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а) кнопку на 1 слайде («начало теста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б) заголовок, блок текста и кнопку на 2 слайде («отметка за тест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) сами 1-й и 2-й слайды (а также вставлять слайды между ни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Задания тренажера начинаются с 3-го(!) слайда. Также рекомендуется сразу добавить к шаблону необходимое количество слайдов и придерживаться его (т.к. при беспорядочном удалении и вставке слайдов может нарушиться их нумерация, что важно для правильной работы тренажер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Работа по составлению тренажера не требует ни одной строчки программирования. Все, что Вам нужно сделать – это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рименить к правильным объектам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DA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, а к неправильным –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NET 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см. как это сделано на 2 примерах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 тренажере на одном слайде возможен ТОЛЬКО ОДИН ПРАВИЛЬНЫЙ ОТВЕТ. Количество неправильных ответов не ограниче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Переход между слайдами осуществляется программно. При этом у каждого слайда нужно отключать «переход по клик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6" descr="537030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786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716360" y="299736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641840" y="2552760"/>
            <a:ext cx="3098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пряжения глаголов по 3 л. мн. 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Баринова Ю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 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з беды друга не  узна…шь.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5929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4572000" y="3643200"/>
            <a:ext cx="31431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4572000" y="221472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3"/>
          <p:cNvSpPr/>
          <p:nvPr/>
        </p:nvSpPr>
        <p:spPr>
          <a:xfrm>
            <a:off x="4714920" y="2286000"/>
            <a:ext cx="2879640" cy="1000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4643280" y="3643200"/>
            <a:ext cx="2928960" cy="1008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335480" y="58644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547640" y="6093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пкую дружбу и топором не разруб…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07" name="Скругленный прямоугольник 5"/>
          <p:cNvSpPr/>
          <p:nvPr/>
        </p:nvSpPr>
        <p:spPr>
          <a:xfrm>
            <a:off x="4714920" y="1785960"/>
            <a:ext cx="2808360" cy="108576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4"/>
          <p:cNvSpPr/>
          <p:nvPr/>
        </p:nvSpPr>
        <p:spPr>
          <a:xfrm>
            <a:off x="4714920" y="2928960"/>
            <a:ext cx="2808360" cy="1081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,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4786200" y="4071960"/>
            <a:ext cx="2737080" cy="1071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,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68360" y="59119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0" y="50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упый кисн…т, а умный всё промысл…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ерно: 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метка: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ую форму нужно поставить глагол, чтобы определить его спряж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4643280" y="157176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л. мн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4714920" y="27860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л. 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4714920" y="407196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л. мн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спряжению относятся глаголы: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ворят, дружат, клеят, молча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3"/>
          <p:cNvSpPr/>
          <p:nvPr/>
        </p:nvSpPr>
        <p:spPr>
          <a:xfrm>
            <a:off x="4786200" y="350028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478620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спряжению относятся глаголы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гут, воют, сеют, плачу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3"/>
          <p:cNvSpPr/>
          <p:nvPr/>
        </p:nvSpPr>
        <p:spPr>
          <a:xfrm>
            <a:off x="4714920" y="2286000"/>
            <a:ext cx="3024000" cy="114156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4714920" y="37148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р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0104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нание дела…т  жизнь красив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4714920" y="350028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4"/>
          <p:cNvSpPr/>
          <p:nvPr/>
        </p:nvSpPr>
        <p:spPr>
          <a:xfrm>
            <a:off x="4714920" y="214308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14308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41212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мная голова не скаж…т  пустые слов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4643280" y="228600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4714920" y="36432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емлю солнце крас…т,  а человека –тру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4714920" y="3643200"/>
            <a:ext cx="28796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4"/>
          <p:cNvSpPr/>
          <p:nvPr/>
        </p:nvSpPr>
        <p:spPr>
          <a:xfrm>
            <a:off x="4714920" y="2143080"/>
            <a:ext cx="28814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7" descr="cdolls80.gif"/>
          <p:cNvPicPr/>
          <p:nvPr/>
        </p:nvPicPr>
        <p:blipFill>
          <a:blip r:embed="rId2"/>
          <a:stretch/>
        </p:blipFill>
        <p:spPr>
          <a:xfrm>
            <a:off x="1000080" y="2214720"/>
            <a:ext cx="2898720" cy="26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6" descr="537030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пропущены в окончаниях глаголов?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ла словом не  замен…ш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4714920" y="335772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471492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viktor</cp:lastModifiedBy>
  <dcterms:modified xsi:type="dcterms:W3CDTF">2019-03-18T07:54:37Z</dcterms:modified>
  <cp:revision>176</cp:revision>
  <dc:subject/>
  <dc:title>Слайд 1</dc:title>
</cp:coreProperties>
</file>