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A61F-4C08-4466-A25D-EAB0E4A0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839A-DE1D-4DCB-A8D5-7E32CAA6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BB5-8A39-4493-81F8-AF55DC67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785A-E59D-4372-9E52-E84ACB9E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BC9-7B72-44FA-A828-3D3703BE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6D15-8409-4432-B27F-7034D4D3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D3DD-2405-407F-AE40-EDBB317C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594-3A6C-4E26-A64E-426955B1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36A-FBC3-41C9-B632-6B4FE1D7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2DD6-05B4-4816-9064-61AA8B88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00DD-A333-433D-81C6-B5B8D11A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B008-6389-429B-8CB5-818947FF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3245-2344-4EC7-89E2-25BAB89A60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по русскому языку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класс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4280"/>
            <a:ext cx="85726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Как использов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Два первых слайда – основные, у них можно менять дизайн, но нельзя удалять: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а) кнопку на 1 слайде («начало теста»)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б) заголовок, блок текста и кнопку на 2 слайде («отметка за тест»)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в) сами 1-й и 2-й слайды (а также вставлять слайды между ним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Задания тренажера начинаются с 3-го(!) слайда. Также рекомендуется сразу добавить к шаблону необходимое количество слайдов и придерживаться его (т.к. при беспорядочном удалении и вставке слайдов может нарушиться их нумерация, что важно для правильной работы тренажер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Работа по составлению тренажера не требует ни одной строчки программирования. Все, что Вам нужно сделать – это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применить к правильным объектам макрос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DA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, а к неправильным – макрос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NET </a:t>
            </a: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см. как это сделано на 2 примерах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В тренажере на одном слайде возможен ТОЛЬКО ОДИН ПРАВИЛЬНЫЙ ОТВЕТ. Количество неправильных ответов не ограниче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Переход между слайдами осуществляется программно. При этом у каждого слайда нужно отключать «переход по клику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6" descr="537030.JPG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7865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716360" y="299736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641840" y="2552760"/>
            <a:ext cx="30988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пряжения глаголов по 3 л. мн. 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Баринова Ю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 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з беды друга не  узна…шь.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5929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кругленный прямоугольник 3"/>
          <p:cNvSpPr/>
          <p:nvPr/>
        </p:nvSpPr>
        <p:spPr>
          <a:xfrm>
            <a:off x="4572000" y="3643200"/>
            <a:ext cx="31431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4"/>
          <p:cNvSpPr/>
          <p:nvPr/>
        </p:nvSpPr>
        <p:spPr>
          <a:xfrm>
            <a:off x="4572000" y="2214720"/>
            <a:ext cx="30956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100" name="Скругленный прямоугольник 3"/>
          <p:cNvSpPr/>
          <p:nvPr/>
        </p:nvSpPr>
        <p:spPr>
          <a:xfrm>
            <a:off x="4714920" y="2286000"/>
            <a:ext cx="2879640" cy="100008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4"/>
          <p:cNvSpPr/>
          <p:nvPr/>
        </p:nvSpPr>
        <p:spPr>
          <a:xfrm>
            <a:off x="4643280" y="3643200"/>
            <a:ext cx="2928960" cy="1008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4335480" y="586440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547640" y="609300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епкую дружбу и топором не разруб…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107" name="Скругленный прямоугольник 5"/>
          <p:cNvSpPr/>
          <p:nvPr/>
        </p:nvSpPr>
        <p:spPr>
          <a:xfrm>
            <a:off x="4714920" y="1785960"/>
            <a:ext cx="2808360" cy="108576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4"/>
          <p:cNvSpPr/>
          <p:nvPr/>
        </p:nvSpPr>
        <p:spPr>
          <a:xfrm>
            <a:off x="4714920" y="2928960"/>
            <a:ext cx="2808360" cy="108108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,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3"/>
          <p:cNvSpPr/>
          <p:nvPr/>
        </p:nvSpPr>
        <p:spPr>
          <a:xfrm>
            <a:off x="4786200" y="4071960"/>
            <a:ext cx="2737080" cy="10717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,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68360" y="59119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0" y="50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лупый кисн…т, а умный всё промысл…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5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ерно: 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тметка: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ую форму нужно поставить глагол, чтобы определить его спряж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4643280" y="1571760"/>
            <a:ext cx="30718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л. мн.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4714920" y="278604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л. 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4714920" y="4071960"/>
            <a:ext cx="30002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л. мн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кому спряжению относятся глаголы: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ворят, дружат, клеят, молча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кругленный прямоугольник 3"/>
          <p:cNvSpPr/>
          <p:nvPr/>
        </p:nvSpPr>
        <p:spPr>
          <a:xfrm>
            <a:off x="4786200" y="3500280"/>
            <a:ext cx="295272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п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"/>
          <p:cNvSpPr/>
          <p:nvPr/>
        </p:nvSpPr>
        <p:spPr>
          <a:xfrm>
            <a:off x="4786200" y="207180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п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кому спряжению относятся глаголы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гут, воют, сеют, плачу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кругленный прямоугольник 3"/>
          <p:cNvSpPr/>
          <p:nvPr/>
        </p:nvSpPr>
        <p:spPr>
          <a:xfrm>
            <a:off x="4714920" y="2286000"/>
            <a:ext cx="3024000" cy="114156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п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4"/>
          <p:cNvSpPr/>
          <p:nvPr/>
        </p:nvSpPr>
        <p:spPr>
          <a:xfrm>
            <a:off x="4714920" y="371484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пр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0104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нание дела…т  жизнь красив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кругленный прямоугольник 3"/>
          <p:cNvSpPr/>
          <p:nvPr/>
        </p:nvSpPr>
        <p:spPr>
          <a:xfrm>
            <a:off x="4714920" y="3500280"/>
            <a:ext cx="29512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4"/>
          <p:cNvSpPr/>
          <p:nvPr/>
        </p:nvSpPr>
        <p:spPr>
          <a:xfrm>
            <a:off x="4714920" y="214308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14308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841212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мная голова не скаж…т  пустые слов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4643280" y="2286000"/>
            <a:ext cx="30718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4714920" y="364320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емлю солнце крас…т,  а человека –тру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кругленный прямоугольник 3"/>
          <p:cNvSpPr/>
          <p:nvPr/>
        </p:nvSpPr>
        <p:spPr>
          <a:xfrm>
            <a:off x="4714920" y="3643200"/>
            <a:ext cx="28796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4"/>
          <p:cNvSpPr/>
          <p:nvPr/>
        </p:nvSpPr>
        <p:spPr>
          <a:xfrm>
            <a:off x="4714920" y="2143080"/>
            <a:ext cx="28814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7" descr="cdolls80.gif"/>
          <p:cNvPicPr/>
          <p:nvPr/>
        </p:nvPicPr>
        <p:blipFill>
          <a:blip r:embed="rId2"/>
          <a:stretch/>
        </p:blipFill>
        <p:spPr>
          <a:xfrm>
            <a:off x="1000080" y="2214720"/>
            <a:ext cx="2898720" cy="263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6" descr="537030.JPG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ла словом не  замен…ш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кругленный прямоугольник 3"/>
          <p:cNvSpPr/>
          <p:nvPr/>
        </p:nvSpPr>
        <p:spPr>
          <a:xfrm>
            <a:off x="4714920" y="3357720"/>
            <a:ext cx="29512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4"/>
          <p:cNvSpPr/>
          <p:nvPr/>
        </p:nvSpPr>
        <p:spPr>
          <a:xfrm>
            <a:off x="4714920" y="207180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viktor</cp:lastModifiedBy>
  <dcterms:modified xsi:type="dcterms:W3CDTF">2019-03-18T07:54:37Z</dcterms:modified>
  <cp:revision>176</cp:revision>
  <dc:subject/>
  <dc:title>Слайд 1</dc:title>
</cp:coreProperties>
</file>