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2F6-3417-48AB-94F4-10557118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ECD-0709-4A32-9E65-03986B72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A50-705C-4389-B242-57947302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FE6-5E0A-4B88-9176-F9BB5AF5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6E82-7B81-4F77-ACA3-CD44F2C2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5E3E-71A9-454F-B1F8-300EF3A0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9466-618C-47C9-820D-2A37069C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1137-1184-458F-B221-449D72A6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11AE-ACF3-48B7-8511-B2919A3A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3D9B-491D-46C2-86F1-C315114E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E2EE-F454-40C9-9449-A30A80C6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E41-7FE8-4FA4-8D3C-2E0108F1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F2BB-8979-479F-AD93-23A33287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4A55-721E-4D74-892B-9E4A76B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B41F-30FD-4A43-BFFC-91150B1D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A773-32C0-4A77-8A3D-D6D99D12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2C9-6B3A-42B4-B1FE-A15FE0C9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122-2373-4680-90EC-1E96F98E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E9F-35F2-4104-BFA6-34019A55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3BF-2DAD-447A-B8FA-88495AA5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080-4C1D-40A8-A313-641BA578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655-153C-4D17-99CE-C0EA3C3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D02-8B83-4448-9774-BD382A93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643-7E2D-4D32-9CE2-B045DE0D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4EC-CC59-42C5-8E25-34CD7AF0BB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7AF0-BF46-469F-8C03-82D8259946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134136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Работа с таблицами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5184" t="42634" r="26789" b="18625"/>
          <a:stretch/>
        </p:blipFill>
        <p:spPr>
          <a:xfrm>
            <a:off x="4140360" y="4437000"/>
            <a:ext cx="504000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формление таблиц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нужные ячейки (строки, столб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ж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нарисовать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нужную толщину, цвет и тип л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зали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18941" t="49294" r="12237" b="13673"/>
          <a:stretch/>
        </p:blipFill>
        <p:spPr>
          <a:xfrm>
            <a:off x="4211640" y="1628640"/>
            <a:ext cx="4392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ртировка данных в таблиц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707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копируемую кле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– сорт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вариант сортировки (по возрастанию/ убыв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ворот текс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ячейку с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ая кнопка – направление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вариант ори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полнение тес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923920"/>
            <a:ext cx="7707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:/рабочий сто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тесты/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 Tester / Word 1.V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44823" t="23079" r="43730" b="68416"/>
          <a:stretch/>
        </p:blipFill>
        <p:spPr>
          <a:xfrm>
            <a:off x="5580000" y="5013360"/>
            <a:ext cx="284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аблиц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—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 совокупность ячеек, расположенных в строках и столбцах, которые можно заполнять произвольным текстом, формулами и график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ставка таблицы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ить курсор в то место документа, где необходимо создать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рать в меню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вставить – 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ть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ать 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ить кур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ать кноп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ть мышью нужное количеств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елкнуть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1596" t="9750" r="57016" b="88369"/>
          <a:stretch/>
        </p:blipFill>
        <p:spPr>
          <a:xfrm>
            <a:off x="3564000" y="4437000"/>
            <a:ext cx="355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ставка строк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ь строку, перед(после) которой нужно вставить пустую ст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вставить – строки вы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ниж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0462" t="0" r="25475" b="22818"/>
          <a:stretch/>
        </p:blipFill>
        <p:spPr>
          <a:xfrm>
            <a:off x="4211640" y="1895400"/>
            <a:ext cx="43210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даление строки, столбц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ь строку (столбе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удалить – стро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столбцы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2869" t="0" r="3758" b="18630"/>
          <a:stretch/>
        </p:blipFill>
        <p:spPr>
          <a:xfrm>
            <a:off x="3924360" y="2143080"/>
            <a:ext cx="47512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14707" t="0" r="9314" b="26037"/>
          <a:stretch/>
        </p:blipFill>
        <p:spPr>
          <a:xfrm>
            <a:off x="3348000" y="1628640"/>
            <a:ext cx="5327640" cy="3889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ъединение ячее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6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диапазон объединяемых яче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таблица –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объединить 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азбиение ячее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" y="155700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ь ячейки , которые нужно раз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Разбить 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зать нужное количество строк и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1030" t="0" r="25582" b="28488"/>
          <a:stretch/>
        </p:blipFill>
        <p:spPr>
          <a:xfrm>
            <a:off x="3816360" y="1760400"/>
            <a:ext cx="47880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Изменение размеров столбцов (строк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сти указатель мыши к линии разделяющей столбцы. Указатель мыши примет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тпуская левую кнопку мыши изменять разм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716360" y="1628640"/>
            <a:ext cx="3887280" cy="3455640"/>
            <a:chOff x="4716360" y="1628640"/>
            <a:chExt cx="3887280" cy="34556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11030" t="-103" r="5596" b="45755"/>
            <a:stretch/>
          </p:blipFill>
          <p:spPr>
            <a:xfrm>
              <a:off x="4716360" y="1628640"/>
              <a:ext cx="3745440" cy="27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rcRect l="11942" t="19048" r="4518" b="40405"/>
            <a:stretch/>
          </p:blipFill>
          <p:spPr>
            <a:xfrm>
              <a:off x="4809960" y="3744000"/>
              <a:ext cx="3793680" cy="134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0:50:45Z</dcterms:created>
  <dc:creator>USER</dc:creator>
  <dc:description/>
  <dc:language>en-US</dc:language>
  <cp:lastModifiedBy>USER</cp:lastModifiedBy>
  <dcterms:modified xsi:type="dcterms:W3CDTF">2008-11-28T06:45:37Z</dcterms:modified>
  <cp:revision>11</cp:revision>
  <dc:subject/>
  <dc:title>Работа с таблицами</dc:title>
</cp:coreProperties>
</file>