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07F-BC43-4EB9-9A30-D918F653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E61-6DF7-4662-B2E0-AB77B0B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118-808F-440E-A4EC-9FDC36DC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E83-CFCF-4090-B0A5-E1205AAC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AEB4-8203-4AAF-9B8A-C017983B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5ED9-9B2E-41DE-B90A-B6A1B36A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543E-BF69-4FDE-921A-DDCE0B23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DCFE-9273-4F71-9FD3-ED3F49ED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9DB0-2845-4AC9-B58C-52D36A89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428B-BFC9-49EE-B387-5051F42E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412-F76D-4A4C-A0A1-958C6F7A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50D-9565-465C-A421-94BC71FE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7287-546A-43F6-BB96-652A07A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28EA-649B-4363-B1E7-48B62FC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AEC7-F304-4684-9AB4-95578E6A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CD8F-8FA9-4779-8585-9DC8E268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4879-64BD-4A8D-B80A-EFF43DB3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F73-1E16-4DE3-91BB-87D1FDFC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889-EE71-4030-B6DA-09C2E1FA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FA2-1C64-41CB-956D-DC8E3544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9B5-3F95-4A68-BF49-1A9E7DC0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93B-FE29-43B2-8EC5-55B0685E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BDA-98BF-45FE-BA5D-7BC79E8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D09-1425-433A-BC3E-2CDFA4A9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38E6-0AB3-4695-A692-DD11D9914D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D65-3440-470C-80AC-EBB8A85B75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134136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Работа с таблицами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5184" t="42634" r="26789" b="18625"/>
          <a:stretch/>
        </p:blipFill>
        <p:spPr>
          <a:xfrm>
            <a:off x="4140360" y="4437000"/>
            <a:ext cx="504000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формление таблиц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нужные ячейки (строки, столб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ж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нарисовать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нужную толщину, цвет и тип л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зали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18941" t="49294" r="12237" b="13673"/>
          <a:stretch/>
        </p:blipFill>
        <p:spPr>
          <a:xfrm>
            <a:off x="4211640" y="1628640"/>
            <a:ext cx="4392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ртировка данных в таблиц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707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копируемую кле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– сорт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вариант сортировки (по возрастанию/ убыв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ворот текс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ячейку с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ая кнопка – направление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вариант ори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полнение тес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923920"/>
            <a:ext cx="7707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:/рабочий сто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тесты/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 Tester / Word 1.V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44823" t="23079" r="43730" b="68416"/>
          <a:stretch/>
        </p:blipFill>
        <p:spPr>
          <a:xfrm>
            <a:off x="5580000" y="5013360"/>
            <a:ext cx="284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аблиц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—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 совокупность ячеек, расположенных в строках и столбцах, которые можно заполнять произвольным текстом, формулами и график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ставка таблицы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ить курсор в то место документа, где необходимо создать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рать в меню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вставить – 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ть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ать 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ить кур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ать кноп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ть мышью нужное количеств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елкнуть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1596" t="9750" r="57016" b="88369"/>
          <a:stretch/>
        </p:blipFill>
        <p:spPr>
          <a:xfrm>
            <a:off x="3564000" y="4437000"/>
            <a:ext cx="355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ставка строк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ь строку, перед(после) которой нужно вставить пустую ст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вставить – строки вы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ниж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0462" t="0" r="25475" b="22818"/>
          <a:stretch/>
        </p:blipFill>
        <p:spPr>
          <a:xfrm>
            <a:off x="4211640" y="1895400"/>
            <a:ext cx="43210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даление строки, столбц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ь строку (столбе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удалить – стро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столбцы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2869" t="0" r="3758" b="18630"/>
          <a:stretch/>
        </p:blipFill>
        <p:spPr>
          <a:xfrm>
            <a:off x="3924360" y="2143080"/>
            <a:ext cx="47512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14707" t="0" r="9314" b="26037"/>
          <a:stretch/>
        </p:blipFill>
        <p:spPr>
          <a:xfrm>
            <a:off x="3348000" y="1628640"/>
            <a:ext cx="5327640" cy="3889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ъединение ячее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6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диапазон объединяемых яче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таблица –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объединить 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азбиение ячее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" y="155700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ь ячейки , которые нужно раз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Разбить 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зать нужное количество строк и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1030" t="0" r="25582" b="28488"/>
          <a:stretch/>
        </p:blipFill>
        <p:spPr>
          <a:xfrm>
            <a:off x="3816360" y="1760400"/>
            <a:ext cx="47880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Изменение размеров столбцов (строк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сти указатель мыши к линии разделяющей столбцы. Указатель мыши примет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тпуская левую кнопку мыши изменять разм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716360" y="1628640"/>
            <a:ext cx="3887280" cy="3455640"/>
            <a:chOff x="4716360" y="1628640"/>
            <a:chExt cx="3887280" cy="34556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11030" t="-103" r="5596" b="45755"/>
            <a:stretch/>
          </p:blipFill>
          <p:spPr>
            <a:xfrm>
              <a:off x="4716360" y="1628640"/>
              <a:ext cx="3745440" cy="27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rcRect l="11942" t="19048" r="4518" b="40405"/>
            <a:stretch/>
          </p:blipFill>
          <p:spPr>
            <a:xfrm>
              <a:off x="4809960" y="3744000"/>
              <a:ext cx="3793680" cy="134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0:50:45Z</dcterms:created>
  <dc:creator>USER</dc:creator>
  <dc:description/>
  <dc:language>en-US</dc:language>
  <cp:lastModifiedBy>USER</cp:lastModifiedBy>
  <dcterms:modified xsi:type="dcterms:W3CDTF">2008-11-28T06:45:37Z</dcterms:modified>
  <cp:revision>11</cp:revision>
  <dc:subject/>
  <dc:title>Работа с таблицами</dc:title>
</cp:coreProperties>
</file>