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3A6-2B23-433F-A98D-3A124B2F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6D6-1354-4E73-BF1C-43D0B97C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300-4FF0-4AF5-A37B-71641A34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363-DF63-4D3E-A10E-0C7F612B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0490-D3C1-40FC-B131-E1119A8A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D007-20EC-4993-89D0-B5A1B676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6E22-28DB-489E-B545-0EA44E39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B67C-664A-4D3C-AFB4-4FFCD64F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09E9-E774-4694-9F9C-B6B7D36B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3B42-9012-4AE7-8CD0-50F8A2B1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9795-274C-49B0-87D8-9AD7E42E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38E-B418-46A7-BDF5-2A1BEEE8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FFC1-A574-4C63-9A07-9488280F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14B4-E984-4F07-98F7-C49A9193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433C-D783-414A-8AA8-DD2AF76B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AC66-0A8D-4137-89F0-46D3CC49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2656-A452-4225-A2E5-B37C2D1A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A0A-6FA7-4EBF-B9E2-9623251B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A38-9BDE-4DC8-85A7-50432F65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6F8-5655-4901-8411-71674E80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E5F-9754-49A4-ABB6-43BFAB3B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1BB-6DF4-435A-81C1-D81D61E7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6FD-BDF3-433E-A95C-47C26F71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EB3-1CAA-4B55-A7E0-1AE25A23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257C-FC1D-4620-BC40-C85511D372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3B79-D825-4CD8-BD96-D2F33FAB30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1341360"/>
            <a:ext cx="80769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Работа с таблицами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25184" t="42634" r="26789" b="18625"/>
          <a:stretch/>
        </p:blipFill>
        <p:spPr>
          <a:xfrm>
            <a:off x="4140360" y="4437000"/>
            <a:ext cx="5040000" cy="2232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формление таблиц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нужные ячейки (строки, столбц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жать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Таблица – нарисовать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нужную толщину, цвет и тип л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залив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18941" t="49294" r="12237" b="13673"/>
          <a:stretch/>
        </p:blipFill>
        <p:spPr>
          <a:xfrm>
            <a:off x="4211640" y="1628640"/>
            <a:ext cx="4392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ортировка данных в таблиц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7079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ить копируемую клет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– сорт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рать вариант сортировки (по возрастанию/ убыв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ворот текс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ить ячейку с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ая кнопка – направление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рать вариант ори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ыполнение тес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923920"/>
            <a:ext cx="7707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:/рабочий сто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/тесты/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S Tester / Word 1.V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44823" t="23079" r="43730" b="68416"/>
          <a:stretch/>
        </p:blipFill>
        <p:spPr>
          <a:xfrm>
            <a:off x="5580000" y="5013360"/>
            <a:ext cx="28432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аблица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—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 совокупность ячеек, расположенных в строках и столбцах, которые можно заполнять произвольным текстом, формулами и график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ставка таблицы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новить курсор в то место документа, где необходимо создать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рать в меню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Таблица – вставить – таб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зать число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ать 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новить кур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ать кноп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зать мышью нужное количество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елкнуть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41596" t="9750" r="57016" b="88369"/>
          <a:stretch/>
        </p:blipFill>
        <p:spPr>
          <a:xfrm>
            <a:off x="3564000" y="4437000"/>
            <a:ext cx="3556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ставка строк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ить строку, перед(после) которой нужно вставить пустую ст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Таблица – вставить – строки выш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ниж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0462" t="0" r="25475" b="22818"/>
          <a:stretch/>
        </p:blipFill>
        <p:spPr>
          <a:xfrm>
            <a:off x="4211640" y="1895400"/>
            <a:ext cx="43210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даление строки, столбц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ить строку (столбе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Таблица – удалить – стро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столбцы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2869" t="0" r="3758" b="18630"/>
          <a:stretch/>
        </p:blipFill>
        <p:spPr>
          <a:xfrm>
            <a:off x="3924360" y="2143080"/>
            <a:ext cx="47512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14707" t="0" r="9314" b="26037"/>
          <a:stretch/>
        </p:blipFill>
        <p:spPr>
          <a:xfrm>
            <a:off x="3348000" y="1628640"/>
            <a:ext cx="5327640" cy="3889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бъединение ячее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60" y="162828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диапазон объединяемых яче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таблица –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объединить яче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Разбиение ячее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" y="155700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ить ячейки , которые нужно разб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ть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таблица – Разбить яче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азать нужное количество строк и столб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1030" t="0" r="25582" b="28488"/>
          <a:stretch/>
        </p:blipFill>
        <p:spPr>
          <a:xfrm>
            <a:off x="3816360" y="1760400"/>
            <a:ext cx="478800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Изменение размеров столбцов (строк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вести указатель мыши к линии разделяющей столбцы. Указатель мыши примет в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отпуская левую кнопку мыши изменять разме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716360" y="1628640"/>
            <a:ext cx="3887280" cy="3455640"/>
            <a:chOff x="4716360" y="1628640"/>
            <a:chExt cx="3887280" cy="345564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rcRect l="11030" t="-103" r="5596" b="45755"/>
            <a:stretch/>
          </p:blipFill>
          <p:spPr>
            <a:xfrm>
              <a:off x="4716360" y="1628640"/>
              <a:ext cx="3745440" cy="27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rcRect l="11942" t="19048" r="4518" b="40405"/>
            <a:stretch/>
          </p:blipFill>
          <p:spPr>
            <a:xfrm>
              <a:off x="4809960" y="3744000"/>
              <a:ext cx="3793680" cy="134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0:50:45Z</dcterms:created>
  <dc:creator>USER</dc:creator>
  <dc:description/>
  <dc:language>en-US</dc:language>
  <cp:lastModifiedBy>USER</cp:lastModifiedBy>
  <dcterms:modified xsi:type="dcterms:W3CDTF">2008-11-28T06:45:37Z</dcterms:modified>
  <cp:revision>11</cp:revision>
  <dc:subject/>
  <dc:title>Работа с таблицами</dc:title>
</cp:coreProperties>
</file>