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46C5-43A3-4FC2-91B6-EF1C5257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6DA5-713F-4844-81EE-FAFB04FA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ED33-1786-45A4-893A-CAEB673C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1F97-78C5-4360-9ADB-38A44E49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E194-6C20-4275-B7D8-29F3F661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30C0-D9BE-430F-A0CB-28F27D08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3D93-EA35-4762-8B80-2A382A07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3D59-44AD-4E95-A6D9-10959B66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947E-DC56-493E-B168-B741CD76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C905-7610-4CC8-8639-E16A8590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6650-11F4-439B-A061-FC6BF9BA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3C4-A37B-443B-91B4-A4DF8708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B15D-91C0-415D-8EDF-8412537A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F2C5-6769-4302-A577-C0098A9E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09BE-FA07-4779-A8A6-F409A425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E453-29B7-4E4B-8EA9-06634F3E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2146-AD63-4B93-B32C-03EF9F68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A4C-1C32-49E7-A958-0AD6C4DE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8ED-5971-4145-863B-C5E875D1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980A-4BEC-49F1-A0F1-FE845500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AB9-6E2A-4670-A7C2-F742CEAD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58FD-7616-47BF-89A8-2F0AEA96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65F6-F317-4CE4-B6AB-0A601E6E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4138-3A0B-4288-9760-65F86934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101D-CCDF-433A-81DA-7BB7186698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F278-6655-472A-A716-D69D7A6136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336666"/>
                </a:solidFill>
                <a:latin typeface="Monotype Corsiva"/>
              </a:rPr>
              <a:t>Рефлексия как этап урока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учител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Черноморская СШ №3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омор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спублики Кр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аковской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5a5a9e62947"/>
          <p:cNvPicPr/>
          <p:nvPr/>
        </p:nvPicPr>
        <p:blipFill>
          <a:blip r:embed="rId1"/>
          <a:stretch/>
        </p:blipFill>
        <p:spPr>
          <a:xfrm>
            <a:off x="457200" y="2362320"/>
            <a:ext cx="19810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2438280" y="30924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ём  “Рюкза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4267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ем рефлексии используется чаще всего на уроках после изучения большого раздела. Суть - зафиксировать свои продвижения в учебе, а также, возможно, в отношениях с другими. Рюкзак перемещается от одного ученика к другому. Каждый не просто фиксирует успех, но и приводит конкретный пример. Если нужно собраться с мыслями, можно сказать: «Пропускаю ход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719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научился составлять план текс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разобрался в такой-то тем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наконец-то запомни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imgpreview (7)"/>
          <p:cNvPicPr/>
          <p:nvPr/>
        </p:nvPicPr>
        <p:blipFill>
          <a:blip r:embed="rId2"/>
          <a:stretch/>
        </p:blipFill>
        <p:spPr>
          <a:xfrm>
            <a:off x="6629400" y="380880"/>
            <a:ext cx="2038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Приём  «Мысли во времени» </a:t>
            </a:r>
            <a:br>
              <a:rPr sz="2900"/>
            </a:br>
            <a:r>
              <a:rPr b="1" lang="ru-RU" sz="1600" spc="-1" strike="noStrike">
                <a:solidFill>
                  <a:srgbClr val="336666"/>
                </a:solidFill>
                <a:latin typeface="Arial Black"/>
              </a:rPr>
              <a:t>Рефлексивный прием, способствующий развитию умения осмысливать свой опыт и давать личностную оценку проживаемому опыту.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зывает ключевое слово. как правило, оно тесно связано с темой урока. В течение 1 минуты учащимся необходимо непрерывно записывать те мысли, которые "приходят в голову" и связаны с заданным словом. По истечении времени ученики читают записи про себя. Затем мысленно отвечают на следующие вопро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я записал именно эти сло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чем я думал, когда писал эти сло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я хотел в записях изменит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нное мной имеет или не имеет для меня значени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27672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Город - «Как прогулять школу без последствий?» и другие вопросы одесских школьников"/>
          <p:cNvPicPr/>
          <p:nvPr/>
        </p:nvPicPr>
        <p:blipFill>
          <a:blip r:embed="rId1"/>
          <a:stretch/>
        </p:blipFill>
        <p:spPr>
          <a:xfrm>
            <a:off x="6019920" y="4495680"/>
            <a:ext cx="26287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Приём  «Сообщи свое Я» </a:t>
            </a:r>
            <a:br>
              <a:rPr sz="2900"/>
            </a:br>
            <a:r>
              <a:rPr b="1" lang="ru-RU" sz="1600" spc="-1" strike="noStrike">
                <a:solidFill>
                  <a:srgbClr val="336666"/>
                </a:solidFill>
                <a:latin typeface="Arial Black"/>
              </a:rPr>
              <a:t>Рефлексивный прием, способствующий организации эмоционального отклика на уроке.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у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е оценивать деятельность и способы решения проблем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вать результаты и анализировать причинно-следственные связ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е осмысливать свой опыт и осознавать его личностно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Я бы, пожалуй, сделал так. Провел опрос учащихся класса и сравнил его с предложенными статистическими данным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Я провел опрос одноклассников, сравнил его с предложенными статистическими данными. Мои результаты совпали с результатами учащихся, которые искали ответ на вопрос иным способом. Думаю, что принятое мною решение было верным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bb78b5d0dc628c09a7ecd24eeae74f33-501x332"/>
          <p:cNvPicPr/>
          <p:nvPr/>
        </p:nvPicPr>
        <p:blipFill>
          <a:blip r:embed="rId2"/>
          <a:stretch/>
        </p:blipFill>
        <p:spPr>
          <a:xfrm>
            <a:off x="1219320" y="4343400"/>
            <a:ext cx="27144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Приём  «Хочу спросить» </a:t>
            </a:r>
            <a:br>
              <a:rPr sz="2900"/>
            </a:br>
            <a:r>
              <a:rPr b="1" lang="ru-RU" sz="1600" spc="-1" strike="noStrike">
                <a:solidFill>
                  <a:srgbClr val="336666"/>
                </a:solidFill>
                <a:latin typeface="Arial Black"/>
              </a:rPr>
              <a:t>Рефлексивный прием, способствующий организации эмоционального отклика на уроке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Формирует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мение задавать вопросы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мению выражать свое эмоциональное отношение к ответу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ченик задает вопрос, начиная со слов «Хочу спросить…». На полученный ответ сообщает свое эмоциональное отношение: «Я удовлетворен….» или «Я неудовлетворен, потому что …»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frazy_iz_sochineniy6"/>
          <p:cNvPicPr/>
          <p:nvPr/>
        </p:nvPicPr>
        <p:blipFill>
          <a:blip r:embed="rId1"/>
          <a:stretch/>
        </p:blipFill>
        <p:spPr>
          <a:xfrm>
            <a:off x="914400" y="4191120"/>
            <a:ext cx="3505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6"/>
          <p:cNvSpPr txBox="1"/>
          <p:nvPr/>
        </p:nvSpPr>
        <p:spPr>
          <a:xfrm>
            <a:off x="2438280" y="1143000"/>
            <a:ext cx="44960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ЕЛАЮ</a:t>
            </a:r>
            <a:endParaRPr b="1" lang="en-US" sz="40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7"/>
          <p:cNvSpPr txBox="1"/>
          <p:nvPr/>
        </p:nvSpPr>
        <p:spPr>
          <a:xfrm>
            <a:off x="2362320" y="3429000"/>
            <a:ext cx="4800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ПЕХА!</a:t>
            </a:r>
            <a:endParaRPr b="1" lang="en-US" sz="40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                </a:t>
            </a:r>
            <a:br>
              <a:rPr sz="2900"/>
            </a:b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Что такое рефлексия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685800" y="1295280"/>
            <a:ext cx="7620120" cy="4648320"/>
          </a:xfrm>
          <a:prstGeom prst="foldedCorner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1178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62120" y="2057400"/>
            <a:ext cx="1942128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ловарях дается четкое опреде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рефлексия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это самоанализ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оценка, "взгляд внутрь себя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ительно к урокам, рефлек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этап урока, в ходе котор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щиеся самостоятельно оцени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е состояние, свои эмоции,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ей 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11971723"/>
          <p:cNvPicPr/>
          <p:nvPr/>
        </p:nvPicPr>
        <p:blipFill>
          <a:blip r:embed="rId1"/>
          <a:srcRect l="0" t="0" r="690" b="5684"/>
          <a:stretch/>
        </p:blipFill>
        <p:spPr>
          <a:xfrm>
            <a:off x="838080" y="380880"/>
            <a:ext cx="182880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Для чего нужна рефлексия?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696080" cy="3809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33cc"/>
                </a:solidFill>
                <a:latin typeface="Arial"/>
              </a:rPr>
              <a:t>Если ребенок понимае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ди чего он изучает данную тему, как она ему пригодится в будуще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цели должны быть достигнуты именно на этом урок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й вклад в общее дело он может вне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жет ли он адекватно оценивать свой труд и работу своих одноклассников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cc"/>
                </a:solidFill>
                <a:latin typeface="Arial"/>
              </a:rPr>
              <a:t>…</a:t>
            </a:r>
            <a:r>
              <a:rPr b="1" lang="ru-RU" sz="2200" spc="-1" strike="noStrike">
                <a:solidFill>
                  <a:srgbClr val="0033cc"/>
                </a:solidFill>
                <a:latin typeface="Arial"/>
              </a:rPr>
              <a:t>то процесс обучения становится намного интереснее и легче как для ученика, так и для учителя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imgpreview (70)"/>
          <p:cNvPicPr/>
          <p:nvPr/>
        </p:nvPicPr>
        <p:blipFill>
          <a:blip r:embed="rId1"/>
          <a:stretch/>
        </p:blipFill>
        <p:spPr>
          <a:xfrm>
            <a:off x="457200" y="228600"/>
            <a:ext cx="14763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Когда проводить?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флексию можно проводить на любом этапе урока, а также по итогам изучения темы, целого раздела материа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247682-78176f8b963c88c4"/>
          <p:cNvPicPr/>
          <p:nvPr/>
        </p:nvPicPr>
        <p:blipFill>
          <a:blip r:embed="rId2"/>
          <a:stretch/>
        </p:blipFill>
        <p:spPr>
          <a:xfrm>
            <a:off x="609480" y="3886200"/>
            <a:ext cx="1447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Organization Chart 8"/>
          <p:cNvGrpSpPr/>
          <p:nvPr/>
        </p:nvGrpSpPr>
        <p:grpSpPr>
          <a:xfrm>
            <a:off x="685800" y="533520"/>
            <a:ext cx="8076600" cy="5408280"/>
            <a:chOff x="685800" y="533520"/>
            <a:chExt cx="8076600" cy="5408280"/>
          </a:xfrm>
        </p:grpSpPr>
        <p:cxnSp>
          <p:nvCxnSpPr>
            <p:cNvPr id="103" name="_s1028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5596560" y="1823400"/>
              <a:ext cx="1082160" cy="2827440"/>
            </a:xfrm>
            <a:prstGeom prst="bentConnector3">
              <a:avLst>
                <a:gd name="adj1" fmla="val 207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29"/>
            <p:cNvCxnSpPr>
              <a:stCxn id="107" idx="0"/>
              <a:endCxn id="105" idx="2"/>
            </p:cNvCxnSpPr>
            <p:nvPr/>
          </p:nvCxnSpPr>
          <p:spPr>
            <a:xfrm flipV="1">
              <a:off x="4723920" y="2696400"/>
              <a:ext cx="3240" cy="108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0"/>
            <p:cNvCxnSpPr>
              <a:stCxn id="109" idx="0"/>
              <a:endCxn id="105" idx="2"/>
            </p:cNvCxnSpPr>
            <p:nvPr/>
          </p:nvCxnSpPr>
          <p:spPr>
            <a:xfrm flipH="1" flipV="1" rot="5400000">
              <a:off x="2770560" y="1824840"/>
              <a:ext cx="1082160" cy="2824920"/>
            </a:xfrm>
            <a:prstGeom prst="bentConnector3">
              <a:avLst>
                <a:gd name="adj1" fmla="val 207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031"/>
            <p:cNvSpPr/>
            <p:nvPr/>
          </p:nvSpPr>
          <p:spPr>
            <a:xfrm>
              <a:off x="3512520" y="533520"/>
              <a:ext cx="2422800" cy="2163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Arial"/>
                  <a:ea typeface="Arial"/>
                </a:rPr>
                <a:t>ВИД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Arial"/>
                  <a:ea typeface="Arial"/>
                </a:rPr>
                <a:t>РЕФЛЕКС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2"/>
            <p:cNvSpPr/>
            <p:nvPr/>
          </p:nvSpPr>
          <p:spPr>
            <a:xfrm>
              <a:off x="685800" y="3778560"/>
              <a:ext cx="2422800" cy="2163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405a42"/>
                  </a:solidFill>
                  <a:uFillTx/>
                  <a:latin typeface="Arial"/>
                  <a:ea typeface="Arial"/>
                </a:rPr>
                <a:t>По содержанию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имволическая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стная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исьмен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3512520" y="3778560"/>
              <a:ext cx="2422800" cy="2163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405a42"/>
                  </a:solidFill>
                  <a:uFillTx/>
                  <a:latin typeface="Arial"/>
                  <a:ea typeface="Arial"/>
                </a:rPr>
                <a:t>По форм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405a42"/>
                  </a:solidFill>
                  <a:uFillTx/>
                  <a:latin typeface="Arial"/>
                  <a:ea typeface="Arial"/>
                </a:rPr>
                <a:t>деятельности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ллективная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рупповая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ронтальная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дивидуаль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4"/>
            <p:cNvSpPr/>
            <p:nvPr/>
          </p:nvSpPr>
          <p:spPr>
            <a:xfrm>
              <a:off x="6339600" y="3778560"/>
              <a:ext cx="2422800" cy="2163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405a42"/>
                  </a:solidFill>
                  <a:uFillTx/>
                  <a:latin typeface="Arial"/>
                  <a:ea typeface="Arial"/>
                </a:rPr>
                <a:t>По цели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моциональная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нравилось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 понравилось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кучно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есн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18" descr=""/>
            <p:cNvPicPr/>
            <p:nvPr/>
          </p:nvPicPr>
          <p:blipFill>
            <a:blip r:embed="rId2"/>
            <a:stretch/>
          </p:blipFill>
          <p:spPr>
            <a:xfrm>
              <a:off x="1524600" y="1824480"/>
              <a:ext cx="1522440" cy="144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Picture 17" descr="imgpreview (81)"/>
          <p:cNvPicPr/>
          <p:nvPr/>
        </p:nvPicPr>
        <p:blipFill>
          <a:blip r:embed="rId3"/>
          <a:stretch/>
        </p:blipFill>
        <p:spPr>
          <a:xfrm>
            <a:off x="6324480" y="1828800"/>
            <a:ext cx="1524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Рефлексия в начале урока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начале урока эмоциональную рефлексию проводят ради установления контакта с классом. Можно поставить музыку (подобрав мотив, согласующийся с темой), процитировать классика, зачитать эмоциональное стихотворени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сле обязательно следует спросить 3-4 учеников: «Что ты чувствуешь сейчас? Какое настроение у тебя?»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Таким образом,  такая рефлексия поможет учащимся настроиться на восприятие темы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Рефлексия деятельности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ный вид рефлексии удобнее применять при проверке домашних заданий, на этапе закрепления материала, при защите про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помогает ученикам осмыслить виды и способы работы, проанализировать свою активность и, конечно, выявить пробел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203480" y="3770280"/>
            <a:ext cx="469260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енка успех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Каждая ступень — один из видов работы. Чем больше заданий выполнено, тем выше поднимается нарисованный человеч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245124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Arial Black"/>
              </a:rPr>
              <a:t>Дерево успеха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листочек имеет свой определенный цвет: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еле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се сделал правильно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желт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встретились трудности,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рас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много ошибок. Каждый ученик наряжает свое дерево соответствующими листочками. Подобным же образом можно наряжать елку игрушками, украшать поляну цветам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NSdt74zigrs"/>
          <p:cNvPicPr/>
          <p:nvPr/>
        </p:nvPicPr>
        <p:blipFill>
          <a:blip r:embed="rId1"/>
          <a:srcRect l="0" t="0" r="2223" b="12936"/>
          <a:stretch/>
        </p:blipFill>
        <p:spPr>
          <a:xfrm>
            <a:off x="5867280" y="1905120"/>
            <a:ext cx="2514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Рефлексия содержания материал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т тип рефлексии удобнее проводить в конце урока или на этапе подведения итогов. Он дает возможность детям осознать содержание пройденного, оценить эффективность собственной работы на уро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2895480" y="2971800"/>
            <a:ext cx="5639040" cy="3657600"/>
          </a:xfrm>
          <a:prstGeom prst="cloudCallout">
            <a:avLst>
              <a:gd name="adj1" fmla="val -17907"/>
              <a:gd name="adj2" fmla="val 15842"/>
            </a:avLst>
          </a:prstGeom>
          <a:solidFill>
            <a:srgbClr val="00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годня я узнал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ыло трудн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 понял, ч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 научил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 смог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ыло интересно узнать, ч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ня удивил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не захотелось…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205640" y="331632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блако "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егов"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13:32:52Z</dcterms:created>
  <dc:creator>1</dc:creator>
  <dc:description/>
  <dc:language>en-US</dc:language>
  <cp:lastModifiedBy>Информатика-Борзов</cp:lastModifiedBy>
  <dcterms:modified xsi:type="dcterms:W3CDTF">2019-03-20T05:53:4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