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A2C-63B1-4EE3-B815-31DB529A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2E5-7454-48B4-BEFA-095B0C25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239-D5C3-4080-850D-7B5B7279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73F-8C60-468A-8D56-C4D72091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3C35-D744-4D17-8F08-06BEF1A9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F09F-C302-4359-BA17-ECB6F5B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D58E-3270-43FD-A53F-1EEFA90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724C-F2CA-44E1-AA45-8EB09F11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9570-1A5A-4728-AC08-8E7EFAF4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D64-7219-4B3F-BC4A-FB2707B0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53B3-ED58-4431-915E-33E5735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2AF-E03E-4F9C-B741-56D38BC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814C-B0B4-4C3A-BE29-7121660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0188-8471-4C91-8ED9-D4334B7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E45E-7EFB-49D9-91C1-9D7E6C8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D302-12B1-4B37-BA40-6D526F89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4132-2947-413C-A88E-C0CD2830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EBD-CEF4-45C2-A140-6DBCBD1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9D0-9912-464F-83B3-B2D41059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DA1-DF80-4FF5-B1CA-B05799D0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358-616D-4070-9CDB-0CF7522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17B-25A0-489D-92A9-68E9773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9EF-2026-4859-8A9F-BE95A46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88E-FED5-4A42-813A-70262DB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D20-FD51-439B-826E-48B3BBB972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ED43-C14A-4306-8E6E-AFF836C22C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Monotype Corsiva"/>
              </a:rPr>
              <a:t>Рефлексия как этап урока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учител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Черноморская СШ №3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мо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публики Кр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аковской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5a5a9e62947"/>
          <p:cNvPicPr/>
          <p:nvPr/>
        </p:nvPicPr>
        <p:blipFill>
          <a:blip r:embed="rId1"/>
          <a:stretch/>
        </p:blipFill>
        <p:spPr>
          <a:xfrm>
            <a:off x="457200" y="2362320"/>
            <a:ext cx="1981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438280" y="30924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ём  “Рюкза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рефлексии используется чаще всего на уроках после изучения большого раздела. Суть - зафиксировать свои продвижения в учебе, а также, возможно, в отношениях с другими. Рюкзак перемещается от одного ученика к другому. Каждый не просто фиксирует успех, но и приводит конкретный пример. Если нужно собраться с мыслями, можно сказать: «Пропускаю ход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719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учился составлять план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зобрался в такой-то тем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конец-то запомн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imgpreview (7)"/>
          <p:cNvPicPr/>
          <p:nvPr/>
        </p:nvPicPr>
        <p:blipFill>
          <a:blip r:embed="rId2"/>
          <a:stretch/>
        </p:blipFill>
        <p:spPr>
          <a:xfrm>
            <a:off x="6629400" y="380880"/>
            <a:ext cx="2038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Мысли во времени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развитию умения осмысливать свой опыт и давать личностную оценку проживаемому опыту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зывает ключевое слово. как правило, оно тесно связано с темой урока. В течение 1 минуты учащимся необходимо непрерывно записывать те мысли, которые "приходят в голову" и связаны с заданным словом. По истечении времени ученики читают записи про себя. Затем мысленно отвечают на следующи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я записал именно эт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чем я думал, когда писал эти сло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я хотел в записях измени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нное мной имеет или не имеет для меня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767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Город - «Как прогулять школу без последствий?» и другие вопросы одесских школьников"/>
          <p:cNvPicPr/>
          <p:nvPr/>
        </p:nvPicPr>
        <p:blipFill>
          <a:blip r:embed="rId1"/>
          <a:stretch/>
        </p:blipFill>
        <p:spPr>
          <a:xfrm>
            <a:off x="6019920" y="4495680"/>
            <a:ext cx="26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Сообщи свое Я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организации эмоционального отклика на уроке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оценивать деятельность и способы решения пробл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вать результаты и анализировать причинно-следственные связ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осмысливать свой опыт и осознавать его личностно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бы, пожалуй, сделал так. Провел опрос учащихся класса и сравнил его с предложенными статистическими данны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 провел опрос одноклассников, сравнил его с предложенными статистическими данными. Мои результаты совпали с результатами учащихся, которые искали ответ на вопрос иным способом. Думаю, что принятое мною решение было верны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bb78b5d0dc628c09a7ecd24eeae74f33-501x332"/>
          <p:cNvPicPr/>
          <p:nvPr/>
        </p:nvPicPr>
        <p:blipFill>
          <a:blip r:embed="rId2"/>
          <a:stretch/>
        </p:blipFill>
        <p:spPr>
          <a:xfrm>
            <a:off x="1219320" y="4343400"/>
            <a:ext cx="2714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Приём  «Хочу спросить» </a:t>
            </a:r>
            <a:br>
              <a:rPr sz="29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Рефлексивный прием, способствующий организации эмоционального отклика на уроке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ормирует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мение задавать вопросы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мению выражать свое эмоциональное отношение к ответ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еник задает вопрос, начиная со слов «Хочу спросить…». На полученный ответ сообщает свое эмоциональное отношение: «Я удовлетворен….» или «Я неудовлетворен, потому что …»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frazy_iz_sochineniy6"/>
          <p:cNvPicPr/>
          <p:nvPr/>
        </p:nvPicPr>
        <p:blipFill>
          <a:blip r:embed="rId1"/>
          <a:stretch/>
        </p:blipFill>
        <p:spPr>
          <a:xfrm>
            <a:off x="914400" y="4191120"/>
            <a:ext cx="3505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6"/>
          <p:cNvSpPr txBox="1"/>
          <p:nvPr/>
        </p:nvSpPr>
        <p:spPr>
          <a:xfrm>
            <a:off x="2438280" y="1143000"/>
            <a:ext cx="4496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40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7"/>
          <p:cNvSpPr txBox="1"/>
          <p:nvPr/>
        </p:nvSpPr>
        <p:spPr>
          <a:xfrm>
            <a:off x="2362320" y="342900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А!</a:t>
            </a:r>
            <a:endParaRPr b="1" lang="en-US" sz="40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br>
              <a:rPr sz="2900"/>
            </a:b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Что такое рефлексия?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85800" y="1295280"/>
            <a:ext cx="7620120" cy="4648320"/>
          </a:xfrm>
          <a:prstGeom prst="foldedCorner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178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62120" y="2057400"/>
            <a:ext cx="1942128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арях дается четкое опре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ефлексия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это самоанали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ценка, "взгляд внутрь себя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ельно к урокам, рефлек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этап урока, в ходе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самостоятельно оцен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 состояние, свои эмоции,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й 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1971723"/>
          <p:cNvPicPr/>
          <p:nvPr/>
        </p:nvPicPr>
        <p:blipFill>
          <a:blip r:embed="rId1"/>
          <a:srcRect l="0" t="0" r="690" b="5684"/>
          <a:stretch/>
        </p:blipFill>
        <p:spPr>
          <a:xfrm>
            <a:off x="838080" y="380880"/>
            <a:ext cx="18288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Для чего нужна рефлексия?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Если ребенок поним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 чего он изучает данную тему, как она ему пригодится в будущ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цели должны быть достигнуты именно на этом уро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вклад в общее дело он может вне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ли он адекватно оценивать свой труд и работу своих одноклассник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то процесс обучения становится намного интереснее и легче как для ученика, так и для учителя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preview (70)"/>
          <p:cNvPicPr/>
          <p:nvPr/>
        </p:nvPicPr>
        <p:blipFill>
          <a:blip r:embed="rId1"/>
          <a:stretch/>
        </p:blipFill>
        <p:spPr>
          <a:xfrm>
            <a:off x="457200" y="228600"/>
            <a:ext cx="1476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Когда проводить?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флексию можно проводить на любом этапе урока, а также по итогам изучения темы, целого раздела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47682-78176f8b963c88c4"/>
          <p:cNvPicPr/>
          <p:nvPr/>
        </p:nvPicPr>
        <p:blipFill>
          <a:blip r:embed="rId2"/>
          <a:stretch/>
        </p:blipFill>
        <p:spPr>
          <a:xfrm>
            <a:off x="609480" y="3886200"/>
            <a:ext cx="1447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Organization Chart 8"/>
          <p:cNvGrpSpPr/>
          <p:nvPr/>
        </p:nvGrpSpPr>
        <p:grpSpPr>
          <a:xfrm>
            <a:off x="685800" y="533520"/>
            <a:ext cx="8076600" cy="5408280"/>
            <a:chOff x="685800" y="533520"/>
            <a:chExt cx="8076600" cy="54082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596560" y="1823400"/>
              <a:ext cx="1082160" cy="2827440"/>
            </a:xfrm>
            <a:prstGeom prst="bentConnector3">
              <a:avLst>
                <a:gd name="adj1" fmla="val 20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723920" y="2696400"/>
              <a:ext cx="3240" cy="108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770560" y="1824840"/>
              <a:ext cx="1082160" cy="2824920"/>
            </a:xfrm>
            <a:prstGeom prst="bentConnector3">
              <a:avLst>
                <a:gd name="adj1" fmla="val 207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512520" y="53352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Arial"/>
                  <a:ea typeface="Arial"/>
                </a:rPr>
                <a:t>ВИД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Arial"/>
                  <a:ea typeface="Arial"/>
                </a:rPr>
                <a:t>РЕФЛЕКС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68580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содержанию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мволическ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ст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исьме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51252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форм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деятельности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лектив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в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ронтальная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ивиду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339600" y="3778560"/>
              <a:ext cx="2422800" cy="2163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405a42"/>
                  </a:solidFill>
                  <a:uFillTx/>
                  <a:latin typeface="Arial"/>
                  <a:ea typeface="Arial"/>
                </a:rPr>
                <a:t>По цели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нравилос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понравилось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учно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н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8" descr=""/>
            <p:cNvPicPr/>
            <p:nvPr/>
          </p:nvPicPr>
          <p:blipFill>
            <a:blip r:embed="rId2"/>
            <a:stretch/>
          </p:blipFill>
          <p:spPr>
            <a:xfrm>
              <a:off x="1524600" y="1824480"/>
              <a:ext cx="1522440" cy="144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7" descr="imgpreview (81)"/>
          <p:cNvPicPr/>
          <p:nvPr/>
        </p:nvPicPr>
        <p:blipFill>
          <a:blip r:embed="rId3"/>
          <a:stretch/>
        </p:blipFill>
        <p:spPr>
          <a:xfrm>
            <a:off x="6324480" y="18288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флексия в начале урока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урока эмоциональную рефлексию проводят ради установления контакта с классом. Можно поставить музыку (подобрав мотив, согласующийся с темой), процитировать классика, зачитать эмоциональное стихотворени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сле обязательно следует спросить 3-4 учеников: «Что ты чувствуешь сейчас? Какое настроение у тебя?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аким образом,  такая рефлексия поможет учащимся настроиться на восприятие тем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Рефлексия деятельност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й вид рефлексии удобнее применять при проверке домашних заданий, на этапе закрепления материала, при защите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омогает ученикам осмыслить виды и способы работы, проанализировать свою активность и, конечно, выявить пробел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203480" y="3770280"/>
            <a:ext cx="469260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аждая ступень — один из видов работы. Чем больше заданий выполнено, тем выше поднимается нарисованный челове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24512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Дерево успех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листочек имеет свой определенный цвет: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се сделал правильно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лт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встретились трудности,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ас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много ошибок. Каждый ученик наряжает свое дерево соответствующими листочками. Подобным же образом можно наряжать елку игрушками, украшать поляну цвет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NSdt74zigrs"/>
          <p:cNvPicPr/>
          <p:nvPr/>
        </p:nvPicPr>
        <p:blipFill>
          <a:blip r:embed="rId1"/>
          <a:srcRect l="0" t="0" r="2223" b="12936"/>
          <a:stretch/>
        </p:blipFill>
        <p:spPr>
          <a:xfrm>
            <a:off x="5867280" y="190512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флексия содержания материа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тип рефлексии удобнее проводить в конце урока или на этапе подведения итогов. Он дает возможность детям осознать содержание пройденного, оценить эффективность собственной работы на уро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895480" y="2971800"/>
            <a:ext cx="5639040" cy="3657600"/>
          </a:xfrm>
          <a:prstGeom prst="cloudCallout">
            <a:avLst>
              <a:gd name="adj1" fmla="val -17907"/>
              <a:gd name="adj2" fmla="val 15842"/>
            </a:avLst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ыло труд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смог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ыло интересно узнать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ня удиви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е захотелось…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05640" y="33163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блако "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гов"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3:32:52Z</dcterms:created>
  <dc:creator>1</dc:creator>
  <dc:description/>
  <dc:language>en-US</dc:language>
  <cp:lastModifiedBy>Информатика-Борзов</cp:lastModifiedBy>
  <dcterms:modified xsi:type="dcterms:W3CDTF">2019-03-20T05:53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