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56E-7E0C-4092-AD74-6AF3A54C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416-E5B5-4142-9ACC-8DB35EA8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1AD-C4B4-4F96-ADDA-C6576425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AB4-28B8-4DB0-8ED0-B443AEDD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41FE-F4B2-4F85-8BBE-FF68DDEB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72DF-B8B5-4578-A992-73B516CC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79E0-167D-4D52-9D2B-E4FB1E44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73C3-CF54-450C-ADB8-C014D3E9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832B-8F43-4A9B-990A-E4AE2A93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16E7-5A8D-40E3-B78D-9E00A469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28B0-5624-46E9-837E-11436D31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E88-C6A2-4218-B6C9-87363F72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ADC3-F54F-491B-BE3E-6291EC79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D547-09E1-4ECC-9F3C-D3C6F6F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DC4F-5A6F-4E47-88AC-22F7D2F6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544A-8061-4DC7-9E40-BFC76103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B9DF-7196-43C9-A183-2F640322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AE2-C329-4AFA-A04F-119C1162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E90-90B7-44F0-AB21-C3EE03D1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C79-D7CE-4FFD-BECC-6207F77F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AA0-468D-41F5-95A2-EBDF9531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CC8-E7FF-48D9-A4B7-E56069CD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CD3-A9D7-496A-BA2E-7F539D63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CB4-FB4A-422B-96A8-90529E04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2DF8-48C6-462E-9636-916217E2FB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1C2D-E5FE-4F52-9FEF-11FA68438B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Monotype Corsiva"/>
              </a:rPr>
              <a:t>Рефлексия как этап урока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учител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Черноморская СШ №3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мор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публики Кр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аковской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5a5a9e62947"/>
          <p:cNvPicPr/>
          <p:nvPr/>
        </p:nvPicPr>
        <p:blipFill>
          <a:blip r:embed="rId1"/>
          <a:stretch/>
        </p:blipFill>
        <p:spPr>
          <a:xfrm>
            <a:off x="457200" y="2362320"/>
            <a:ext cx="19810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438280" y="30924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ём  “Рюкза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4267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 рефлексии используется чаще всего на уроках после изучения большого раздела. Суть - зафиксировать свои продвижения в учебе, а также, возможно, в отношениях с другими. Рюкзак перемещается от одного ученика к другому. Каждый не просто фиксирует успех, но и приводит конкретный пример. Если нужно собраться с мыслями, можно сказать: «Пропускаю ход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719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аучился составлять план текс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разобрался в такой-то тем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аконец-то запомн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imgpreview (7)"/>
          <p:cNvPicPr/>
          <p:nvPr/>
        </p:nvPicPr>
        <p:blipFill>
          <a:blip r:embed="rId2"/>
          <a:stretch/>
        </p:blipFill>
        <p:spPr>
          <a:xfrm>
            <a:off x="6629400" y="380880"/>
            <a:ext cx="2038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Приём  «Мысли во времени» </a:t>
            </a:r>
            <a:br>
              <a:rPr sz="2900"/>
            </a:br>
            <a:r>
              <a:rPr b="1" lang="ru-RU" sz="1600" spc="-1" strike="noStrike">
                <a:solidFill>
                  <a:srgbClr val="336666"/>
                </a:solidFill>
                <a:latin typeface="Arial Black"/>
              </a:rPr>
              <a:t>Рефлексивный прием, способствующий развитию умения осмысливать свой опыт и давать личностную оценку проживаемому опыту.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зывает ключевое слово. как правило, оно тесно связано с темой урока. В течение 1 минуты учащимся необходимо непрерывно записывать те мысли, которые "приходят в голову" и связаны с заданным словом. По истечении времени ученики читают записи про себя. Затем мысленно отвечают на следующие вопро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я записал именно эти с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чем я думал, когда писал эти с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я хотел в записях измени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нное мной имеет или не имеет для меня знач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767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Город - «Как прогулять школу без последствий?» и другие вопросы одесских школьников"/>
          <p:cNvPicPr/>
          <p:nvPr/>
        </p:nvPicPr>
        <p:blipFill>
          <a:blip r:embed="rId1"/>
          <a:stretch/>
        </p:blipFill>
        <p:spPr>
          <a:xfrm>
            <a:off x="6019920" y="4495680"/>
            <a:ext cx="26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Приём  «Сообщи свое Я» </a:t>
            </a:r>
            <a:br>
              <a:rPr sz="2900"/>
            </a:br>
            <a:r>
              <a:rPr b="1" lang="ru-RU" sz="1600" spc="-1" strike="noStrike">
                <a:solidFill>
                  <a:srgbClr val="336666"/>
                </a:solidFill>
                <a:latin typeface="Arial Black"/>
              </a:rPr>
              <a:t>Рефлексивный прием, способствующий организации эмоционального отклика на уроке.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оценивать деятельность и способы решения проблем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вать результаты и анализировать причинно-следственные связ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осмысливать свой опыт и осознавать его личностно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Я бы, пожалуй, сделал так. Провел опрос учащихся класса и сравнил его с предложенными статистическими данным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Я провел опрос одноклассников, сравнил его с предложенными статистическими данными. Мои результаты совпали с результатами учащихся, которые искали ответ на вопрос иным способом. Думаю, что принятое мною решение было верны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bb78b5d0dc628c09a7ecd24eeae74f33-501x332"/>
          <p:cNvPicPr/>
          <p:nvPr/>
        </p:nvPicPr>
        <p:blipFill>
          <a:blip r:embed="rId2"/>
          <a:stretch/>
        </p:blipFill>
        <p:spPr>
          <a:xfrm>
            <a:off x="1219320" y="4343400"/>
            <a:ext cx="2714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Приём  «Хочу спросить» </a:t>
            </a:r>
            <a:br>
              <a:rPr sz="2900"/>
            </a:br>
            <a:r>
              <a:rPr b="1" lang="ru-RU" sz="1600" spc="-1" strike="noStrike">
                <a:solidFill>
                  <a:srgbClr val="336666"/>
                </a:solidFill>
                <a:latin typeface="Arial Black"/>
              </a:rPr>
              <a:t>Рефлексивный прием, способствующий организации эмоционального отклика на уроке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Формирует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мение задавать вопросы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мению выражать свое эмоциональное отношение к ответ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еник задает вопрос, начиная со слов «Хочу спросить…». На полученный ответ сообщает свое эмоциональное отношение: «Я удовлетворен….» или «Я неудовлетворен, потому что …»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frazy_iz_sochineniy6"/>
          <p:cNvPicPr/>
          <p:nvPr/>
        </p:nvPicPr>
        <p:blipFill>
          <a:blip r:embed="rId1"/>
          <a:stretch/>
        </p:blipFill>
        <p:spPr>
          <a:xfrm>
            <a:off x="914400" y="4191120"/>
            <a:ext cx="3505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6"/>
          <p:cNvSpPr txBox="1"/>
          <p:nvPr/>
        </p:nvSpPr>
        <p:spPr>
          <a:xfrm>
            <a:off x="2438280" y="1143000"/>
            <a:ext cx="4496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40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7"/>
          <p:cNvSpPr txBox="1"/>
          <p:nvPr/>
        </p:nvSpPr>
        <p:spPr>
          <a:xfrm>
            <a:off x="2362320" y="342900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А!</a:t>
            </a:r>
            <a:endParaRPr b="1" lang="en-US" sz="40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                </a:t>
            </a:r>
            <a:br>
              <a:rPr sz="2900"/>
            </a:b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Что такое рефлексия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685800" y="1295280"/>
            <a:ext cx="7620120" cy="4648320"/>
          </a:xfrm>
          <a:prstGeom prst="foldedCorner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1178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62120" y="2057400"/>
            <a:ext cx="1942128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оварях дается четкое опре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ефлексия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это самоанали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оценка, "взгляд внутрь себя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ельно к урокам, рефлек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этап урока, в ходе котор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еся самостоятельно оцени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 состояние, свои эмоции,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й 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1971723"/>
          <p:cNvPicPr/>
          <p:nvPr/>
        </p:nvPicPr>
        <p:blipFill>
          <a:blip r:embed="rId1"/>
          <a:srcRect l="0" t="0" r="690" b="5684"/>
          <a:stretch/>
        </p:blipFill>
        <p:spPr>
          <a:xfrm>
            <a:off x="838080" y="380880"/>
            <a:ext cx="18288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Для чего нужна рефлексия?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96080" cy="3809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Если ребенок понима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ди чего он изучает данную тему, как она ему пригодится в будущ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цели должны быть достигнуты именно на этом уро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вклад в общее дело он может вне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ет ли он адекватно оценивать свой труд и работу своих одноклассник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…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то процесс обучения становится намного интереснее и легче как для ученика, так и для учителя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gpreview (70)"/>
          <p:cNvPicPr/>
          <p:nvPr/>
        </p:nvPicPr>
        <p:blipFill>
          <a:blip r:embed="rId1"/>
          <a:stretch/>
        </p:blipFill>
        <p:spPr>
          <a:xfrm>
            <a:off x="457200" y="228600"/>
            <a:ext cx="1476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Когда проводить?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флексию можно проводить на любом этапе урока, а также по итогам изучения темы, целого раздела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47682-78176f8b963c88c4"/>
          <p:cNvPicPr/>
          <p:nvPr/>
        </p:nvPicPr>
        <p:blipFill>
          <a:blip r:embed="rId2"/>
          <a:stretch/>
        </p:blipFill>
        <p:spPr>
          <a:xfrm>
            <a:off x="609480" y="3886200"/>
            <a:ext cx="1447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Organization Chart 8"/>
          <p:cNvGrpSpPr/>
          <p:nvPr/>
        </p:nvGrpSpPr>
        <p:grpSpPr>
          <a:xfrm>
            <a:off x="685800" y="533520"/>
            <a:ext cx="8076600" cy="5408280"/>
            <a:chOff x="685800" y="533520"/>
            <a:chExt cx="8076600" cy="540828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596560" y="1823400"/>
              <a:ext cx="1082160" cy="2827440"/>
            </a:xfrm>
            <a:prstGeom prst="bentConnector3">
              <a:avLst>
                <a:gd name="adj1" fmla="val 207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V="1">
              <a:off x="4723920" y="2696400"/>
              <a:ext cx="3240" cy="108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0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2770560" y="1824840"/>
              <a:ext cx="1082160" cy="2824920"/>
            </a:xfrm>
            <a:prstGeom prst="bentConnector3">
              <a:avLst>
                <a:gd name="adj1" fmla="val 207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1"/>
            <p:cNvSpPr/>
            <p:nvPr/>
          </p:nvSpPr>
          <p:spPr>
            <a:xfrm>
              <a:off x="3512520" y="53352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Arial"/>
                  <a:ea typeface="Arial"/>
                </a:rPr>
                <a:t>ВИД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Arial"/>
                  <a:ea typeface="Arial"/>
                </a:rPr>
                <a:t>РЕФЛЕКС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685800" y="377856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По содержанию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мволическая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стн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сьмен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3512520" y="377856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По форм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деятельности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лективн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уппов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ронтальн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дивидуа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>
              <a:off x="6339600" y="377856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По цели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нравилось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понравилось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кучно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есн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8" descr=""/>
            <p:cNvPicPr/>
            <p:nvPr/>
          </p:nvPicPr>
          <p:blipFill>
            <a:blip r:embed="rId2"/>
            <a:stretch/>
          </p:blipFill>
          <p:spPr>
            <a:xfrm>
              <a:off x="1524600" y="1824480"/>
              <a:ext cx="1522440" cy="144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17" descr="imgpreview (81)"/>
          <p:cNvPicPr/>
          <p:nvPr/>
        </p:nvPicPr>
        <p:blipFill>
          <a:blip r:embed="rId3"/>
          <a:stretch/>
        </p:blipFill>
        <p:spPr>
          <a:xfrm>
            <a:off x="6324480" y="1828800"/>
            <a:ext cx="1524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Рефлексия в начале урока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начале урока эмоциональную рефлексию проводят ради установления контакта с классом. Можно поставить музыку (подобрав мотив, согласующийся с темой), процитировать классика, зачитать эмоциональное стихотворени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сле обязательно следует спросить 3-4 учеников: «Что ты чувствуешь сейчас? Какое настроение у тебя?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аким образом,  такая рефлексия поможет учащимся настроиться на восприятие тем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Рефлексия деятельности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й вид рефлексии удобнее применять при проверке домашних заданий, на этапе закрепления материала, при защите про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помогает ученикам осмыслить виды и способы работы, проанализировать свою активность и, конечно, выявить пробел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203480" y="3770280"/>
            <a:ext cx="469260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енка успех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аждая ступень — один из видов работы. Чем больше заданий выполнено, тем выше поднимается нарисованный человеч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24512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 Black"/>
              </a:rPr>
              <a:t>Дерево успеха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листочек имеет свой определенный цвет: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еле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се сделал правильно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встретились трудности,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рас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много ошибок. Каждый ученик наряжает свое дерево соответствующими листочками. Подобным же образом можно наряжать елку игрушками, украшать поляну цветам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NSdt74zigrs"/>
          <p:cNvPicPr/>
          <p:nvPr/>
        </p:nvPicPr>
        <p:blipFill>
          <a:blip r:embed="rId1"/>
          <a:srcRect l="0" t="0" r="2223" b="12936"/>
          <a:stretch/>
        </p:blipFill>
        <p:spPr>
          <a:xfrm>
            <a:off x="5867280" y="1905120"/>
            <a:ext cx="2514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Рефлексия содержания материал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тип рефлексии удобнее проводить в конце урока или на этапе подведения итогов. Он дает возможность детям осознать содержание пройденного, оценить эффективность собственной работы на уро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895480" y="2971800"/>
            <a:ext cx="5639040" cy="3657600"/>
          </a:xfrm>
          <a:prstGeom prst="cloudCallout">
            <a:avLst>
              <a:gd name="adj1" fmla="val -17907"/>
              <a:gd name="adj2" fmla="val 15842"/>
            </a:avLst>
          </a:prstGeom>
          <a:solidFill>
            <a:srgbClr val="00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узнал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ыло труд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научил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смог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ыло интересно узнать, ч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ня удиви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не захотелось…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205640" y="331632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блако "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егов"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13:32:52Z</dcterms:created>
  <dc:creator>1</dc:creator>
  <dc:description/>
  <dc:language>en-US</dc:language>
  <cp:lastModifiedBy>Информатика-Борзов</cp:lastModifiedBy>
  <dcterms:modified xsi:type="dcterms:W3CDTF">2019-03-20T05:53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