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C45F-CE4B-403A-83F5-A16272B3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B4EE-5386-4AC9-A9E4-3B732444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5481-2924-4FD2-9180-9DDF2789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A4FE-E260-4A4A-A764-9D58F011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C0D6-9983-4DD4-986E-2F6DC1F4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8D1C-E705-416E-8671-AE1C4F45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74CB-3758-44D2-A768-7F456646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4EA-78C6-49EB-868F-E9AE3170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3F66-A3ED-4D60-9989-866189DB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8DA2-3304-464E-B015-12292C98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CC53-1689-4B4D-A4EA-817DBFB1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4C26-6C34-4E92-9C69-B961B1D7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568A-1C60-4555-90A6-EA78309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A9AD-A69C-453F-87F7-BD0E9B69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0C78-0F6F-4394-81F3-62AA6352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D116-A06A-49AA-832F-07EB392A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7437-5001-4235-B203-9B0BD6B4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344BB-9F38-49E2-BDD7-E73062E0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CA17-0C6D-4D67-BE24-6AB60B08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A384-772D-43B3-B657-F5ABF5C6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0DD2-05B8-4C15-9DEC-02B8160B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E78E-4703-4FA4-806A-A7BF391D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C477-52F8-49F7-A05D-2B157278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4638-0C1D-4315-B0B5-23D87BA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777A-9766-48E2-8022-CD6B0B5C27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6DA-AAFA-44BA-A9D9-C243504925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895480" y="4266720"/>
            <a:ext cx="60962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Разработка учител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МБОУ «Черноморская СШ №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Черномор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Республики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Ходаковской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066680" y="1828800"/>
            <a:ext cx="773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СТЕМНО-ДЕЯТЕЛЬНОСТНЫЙ 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2514600" y="2590920"/>
            <a:ext cx="5172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ХОД В ПРОЦЕССЕ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057400" y="3429000"/>
            <a:ext cx="5038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УЧЕНИЯ ИСТОРИИ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>
            <a:off x="457200" y="1600200"/>
            <a:ext cx="3505320" cy="2743200"/>
          </a:xfrm>
          <a:prstGeom prst="rightArrowCallout">
            <a:avLst>
              <a:gd name="adj1" fmla="val 25002"/>
              <a:gd name="adj2" fmla="val 25000"/>
              <a:gd name="adj3" fmla="val 21297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ЕК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4267080" y="1447920"/>
            <a:ext cx="4419720" cy="312408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по данной метод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ёт возможность разв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твор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и  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imgpreview?key=2f4976c09f0b4067&amp;mb=imgdb_preview_1466"/>
          <p:cNvPicPr/>
          <p:nvPr/>
        </p:nvPicPr>
        <p:blipFill>
          <a:blip r:embed="rId1"/>
          <a:stretch/>
        </p:blipFill>
        <p:spPr>
          <a:xfrm>
            <a:off x="1752480" y="3962520"/>
            <a:ext cx="297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828800" y="533520"/>
            <a:ext cx="5791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деятельност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752480" y="990720"/>
            <a:ext cx="570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щихся на уроках истори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ление опорных конспектов в виде плана, схемы, графика, диаграммы, рисунка и т.д. позволяет систематизировать учебную информацию, расположить ее в логической последовательности, выделить главное, аргументировать свою позицию, закрепить знания и умения прак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а с исторической картой. Этот вид учебной деятельности позволяет не только получить систематизированную историческую информацию о том или ином событии, явлении, процессе, но и умело ориентироваться в историко-географическом простран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лнение сравнительно-обобщающей таблицы, которая станет итогом анализа и сопоставления сравниваемых фактов и обобщения исторических собы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ление биографических справок-характеристик исторических лич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основе оценок деятельност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сти, историками 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ременниками, дети учатся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вать собственну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гументированную оценку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о из заданий ЕГЭ как раз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ует подобных знаний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м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828800" y="533520"/>
            <a:ext cx="5791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деятельност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1752480" y="990720"/>
            <a:ext cx="570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щихся на уроках истори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72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исторических источников (документов). Один из ведущих видов познавательной деятельности в процессе изучения истории, который способствует формированию таких учебных умений и навыков как: анализ, синтез, сравнение, обобщение, оценка и критическое отношение к различным интерпретациям исторических фа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ка и оформление сообщения, доклада, реферата. Этот вид учебной деятельности способствует формированию навыков поисковой и аналитической работы, учит грамотно оформлять в письменной форме итоги своих самостоятельных изыск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72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цензия на ответ товарища. Эта работа способствует формированию умений объективной самооценки и взаимной оценки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я на образную реконструкцию исторических фак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изложение исторических событий от имени одного из участников, свидетелей, современников или потом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изложение сути исторических событий в диалоге, споре, беседе их непосредственных участников, представляющих разные (противоположные) мнения и оце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4"/>
          <p:cNvSpPr/>
          <p:nvPr/>
        </p:nvSpPr>
        <p:spPr>
          <a:xfrm>
            <a:off x="3276720" y="2743200"/>
            <a:ext cx="2819160" cy="1981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 rot="2436600">
            <a:off x="6019920" y="4267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 rot="19829400">
            <a:off x="5802480" y="2587680"/>
            <a:ext cx="680760" cy="533520"/>
          </a:xfrm>
          <a:prstGeom prst="rightArrow">
            <a:avLst>
              <a:gd name="adj1" fmla="val 50000"/>
              <a:gd name="adj2" fmla="val 3189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 rot="19446000">
            <a:off x="2286000" y="4266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 rot="1857000">
            <a:off x="2819160" y="2514240"/>
            <a:ext cx="747720" cy="561960"/>
          </a:xfrm>
          <a:prstGeom prst="leftArrow">
            <a:avLst>
              <a:gd name="adj1" fmla="val 50000"/>
              <a:gd name="adj2" fmla="val 3326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380880" y="1828800"/>
            <a:ext cx="2210040" cy="13716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дап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629400" y="18288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гнити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познаватель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380880" y="4952880"/>
            <a:ext cx="2438640" cy="1447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форма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6324480" y="4952880"/>
            <a:ext cx="25146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3"/>
          <p:cNvSpPr txBox="1"/>
          <p:nvPr/>
        </p:nvSpPr>
        <p:spPr>
          <a:xfrm>
            <a:off x="1600200" y="609480"/>
            <a:ext cx="63914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 обучения с помощью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"/>
          <p:cNvSpPr txBox="1"/>
          <p:nvPr/>
        </p:nvSpPr>
        <p:spPr>
          <a:xfrm>
            <a:off x="2133720" y="1219320"/>
            <a:ext cx="52959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ятельностного подхода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3962520" y="1752480"/>
            <a:ext cx="13716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/>
          <p:cNvSpPr/>
          <p:nvPr/>
        </p:nvSpPr>
        <p:spPr>
          <a:xfrm>
            <a:off x="2057400" y="609480"/>
            <a:ext cx="4952880" cy="21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ЧН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371600" y="3124080"/>
            <a:ext cx="6629400" cy="281952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формировавшаяся в образовательном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 ценностных отношений к себе,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астникам образовательного проце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овательному процессу в ц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 его результа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5"/>
          <p:cNvSpPr/>
          <p:nvPr/>
        </p:nvSpPr>
        <p:spPr>
          <a:xfrm>
            <a:off x="2133720" y="838080"/>
            <a:ext cx="4952880" cy="190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990720" y="2895480"/>
            <a:ext cx="7315200" cy="274320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воение учениками на базе одного, нескольких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сех учебных предметов способов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меняемых как в рамках образовательного процес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ак и при решении проблем в ре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изненных ситуац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2209680" y="914400"/>
            <a:ext cx="4953240" cy="190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ЗУЛЬТА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143000" y="3124080"/>
            <a:ext cx="6934320" cy="243864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своение обучающимися конкретны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го опыта, изучаемого в рам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дельного учебного предмета, - знаний и навы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пыта решения проблем, опыта твор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ятельности, цен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ПИСОК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митриев С. В. Системно-деятельностный подход в технологии школьного обучения / С. В. Дмитриев // Школьные технологии. - 2003. - N 6. - С. 30-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ьин Г.Л. Как обеспечить качество обучения в информационном обществе? /Г.Л. Ильин //Народное образование.-2011.- №5.-стр.1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торский А. «Деятельность как содержание образования» /А. Хуторский «Народное образование» - 2003,  №8, стр.107-1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о-ориентированный подход к образованию //Управление школой. Газета Издательского дома «Первое сентября» - 2011,  №9, стр.14-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ный подход в обучении. Понятие проектирования как деятельности. Режим доступа: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festival.1septe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«Великая цель образовани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это не знания, а действ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                          </a:t>
            </a: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Гербер Спенс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imgpreview (2)"/>
          <p:cNvPicPr/>
          <p:nvPr/>
        </p:nvPicPr>
        <p:blipFill>
          <a:blip r:embed="rId1"/>
          <a:stretch/>
        </p:blipFill>
        <p:spPr>
          <a:xfrm>
            <a:off x="1371600" y="304812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/>
          <p:cNvSpPr/>
          <p:nvPr/>
        </p:nvSpPr>
        <p:spPr>
          <a:xfrm>
            <a:off x="533520" y="990720"/>
            <a:ext cx="3200400" cy="1904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114800" y="1066680"/>
            <a:ext cx="4648320" cy="198144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СПОСОБНОСТЬ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К САМО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И ЛИЧНОСТНОМУ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САМООПРЕД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57200" y="3809880"/>
            <a:ext cx="3124080" cy="18288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3809880" y="3733920"/>
            <a:ext cx="5029200" cy="2286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развитие у ученика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самостоятельно ставить учеб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проектировать пути их ре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контролировать и оценивать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1676520" y="1371600"/>
            <a:ext cx="63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Системно-деятельност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057400" y="2286000"/>
            <a:ext cx="558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подход включает в себ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1371600" y="3200400"/>
            <a:ext cx="742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Arial"/>
              </a:rPr>
              <a:t>ряд педагогических технологий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Arial"/>
              <a:ea typeface="Arial"/>
            </a:endParaRPr>
          </a:p>
        </p:txBody>
      </p:sp>
      <p:pic>
        <p:nvPicPr>
          <p:cNvPr id="119" name="Picture 9" descr="imgpreview (3)"/>
          <p:cNvPicPr/>
          <p:nvPr/>
        </p:nvPicPr>
        <p:blipFill>
          <a:blip r:embed="rId1"/>
          <a:stretch/>
        </p:blipFill>
        <p:spPr>
          <a:xfrm>
            <a:off x="3352680" y="3962520"/>
            <a:ext cx="3048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228600" y="914400"/>
            <a:ext cx="4038480" cy="2895480"/>
          </a:xfrm>
          <a:prstGeom prst="rightArrowCallout">
            <a:avLst>
              <a:gd name="adj1" fmla="val 25002"/>
              <a:gd name="adj2" fmla="val 25000"/>
              <a:gd name="adj3" fmla="val 23246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РАЗНОУРОВНЕ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Monotype Corsiv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495680" y="914400"/>
            <a:ext cx="4343400" cy="50292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724280" y="1349280"/>
            <a:ext cx="3810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озможность учителя помочь слабому ученику; давать более сложные задания си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чащему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ля сильных ученик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это утверждение в своих способностя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ля слабых – возможность испытать учебный успех, что повышает мотивацию к уч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imgpreview?key=3d7b8dcada605b3d&amp;mb=imgdb_preview_1503"/>
          <p:cNvPicPr/>
          <p:nvPr/>
        </p:nvPicPr>
        <p:blipFill>
          <a:blip r:embed="rId1"/>
          <a:stretch/>
        </p:blipFill>
        <p:spPr>
          <a:xfrm>
            <a:off x="609480" y="4038480"/>
            <a:ext cx="3353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304920" y="990720"/>
            <a:ext cx="4114800" cy="2743200"/>
          </a:xfrm>
          <a:prstGeom prst="rightArrowCallout">
            <a:avLst>
              <a:gd name="adj1" fmla="val 25002"/>
              <a:gd name="adj2" fmla="val 25000"/>
              <a:gd name="adj3" fmla="val 25000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ССЛЕДОВАТЕЛЬ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4800600" y="762120"/>
            <a:ext cx="3962520" cy="396216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 попол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и знания, изу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у   и предлож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подход помо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ять кругозор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ует мировоззр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imgpreview?key=5e8acba5112b6c89&amp;mb=imgdb_preview_1399"/>
          <p:cNvPicPr/>
          <p:nvPr/>
        </p:nvPicPr>
        <p:blipFill>
          <a:blip r:embed="rId1"/>
          <a:stretch/>
        </p:blipFill>
        <p:spPr>
          <a:xfrm>
            <a:off x="2286000" y="365760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380880" y="1295280"/>
            <a:ext cx="4114800" cy="2286000"/>
          </a:xfrm>
          <a:prstGeom prst="rightArrowCallout">
            <a:avLst>
              <a:gd name="adj1" fmla="val 25002"/>
              <a:gd name="adj2" fmla="val 25000"/>
              <a:gd name="adj3" fmla="val 30000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800600" y="762120"/>
            <a:ext cx="4114800" cy="41148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ая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ет познавате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ует ЗУН, необход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азличных играх учащ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ваивают раз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роли, учат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ять их на практик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mgpreview?key=23ffe5373bbfbd1b&amp;mb=imgdb_preview_104"/>
          <p:cNvPicPr/>
          <p:nvPr/>
        </p:nvPicPr>
        <p:blipFill>
          <a:blip r:embed="rId1"/>
          <a:stretch/>
        </p:blipFill>
        <p:spPr>
          <a:xfrm>
            <a:off x="1143000" y="3809880"/>
            <a:ext cx="3048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4"/>
          <p:cNvSpPr/>
          <p:nvPr/>
        </p:nvSpPr>
        <p:spPr>
          <a:xfrm>
            <a:off x="457200" y="1523880"/>
            <a:ext cx="3886200" cy="259092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4419720" y="1143000"/>
            <a:ext cx="4495680" cy="434340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нение и широкий вы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ей обога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я образ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возмож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я в различных Интернет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ах, обучающего харак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импиадах, что помог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ть потенциал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imgpreview?key=3b6802c5bee79437&amp;mb=imgdb_preview_1671"/>
          <p:cNvPicPr/>
          <p:nvPr/>
        </p:nvPicPr>
        <p:blipFill>
          <a:blip r:embed="rId1"/>
          <a:stretch/>
        </p:blipFill>
        <p:spPr>
          <a:xfrm>
            <a:off x="1219320" y="3962520"/>
            <a:ext cx="2705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4"/>
          <p:cNvSpPr/>
          <p:nvPr/>
        </p:nvSpPr>
        <p:spPr>
          <a:xfrm>
            <a:off x="304920" y="1676520"/>
            <a:ext cx="3504960" cy="2666880"/>
          </a:xfrm>
          <a:prstGeom prst="rightArrowCallout">
            <a:avLst>
              <a:gd name="adj1" fmla="val 25002"/>
              <a:gd name="adj2" fmla="val 25000"/>
              <a:gd name="adj3" fmla="val 21904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ДОРОВЬ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БЕРЕГ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962520" y="1143000"/>
            <a:ext cx="4647960" cy="419112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данного подх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воляет равномерно распреде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урока различные 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я данную технолог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ожет черед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слительную деятельность с ТС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ть время на самостояте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index_04"/>
          <p:cNvPicPr/>
          <p:nvPr/>
        </p:nvPicPr>
        <p:blipFill>
          <a:blip r:embed="rId1"/>
          <a:stretch/>
        </p:blipFill>
        <p:spPr>
          <a:xfrm>
            <a:off x="1447920" y="3809880"/>
            <a:ext cx="2238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6T03:37:48Z</dcterms:created>
  <dc:creator>1</dc:creator>
  <dc:description/>
  <dc:language>en-US</dc:language>
  <cp:lastModifiedBy>Информатика-Борзов</cp:lastModifiedBy>
  <dcterms:modified xsi:type="dcterms:W3CDTF">2019-03-20T05:54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