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982C-E391-41AD-AE6E-E93120FC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414B-402F-4209-BC68-79AE6B7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5EF7-DD6D-44D7-9925-8CA1BF6C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4336-83AB-46F0-BE2E-4040646B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67DD-3BD2-4904-BCFD-B78178EB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EE47-22CE-4842-A88D-D6BAE00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2AD-DEDD-4B43-81B5-589974E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AC86-E88A-4648-B856-C4FA5C4A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7BE-2CA7-4F8C-9001-E2EDB7AC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9141-0E0C-4ED9-90B5-A683AC4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78E-4083-4BCF-BE41-AB805D9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E4A7-9FCF-45CB-9C02-829793F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A93B-528B-49F5-A926-2FC81FF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00FA-6C8E-4C72-B9EE-F7E1B556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7361-9DE8-40B1-82AA-60D1216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9A3E-CB5A-4AE8-B306-41C4E7F8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C4F-E3A8-4B26-9253-648375FE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F98F-0A31-4666-90A9-0EEC553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F3F4-BCEC-4B08-9CA8-0918228A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B1A5-C201-40D7-8A68-BEB2095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8981-FD65-416A-A2EA-AEA64C3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F0EA-B966-45E4-BEF8-84A41E1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0B21-5DEF-4282-A25E-04D97E6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C577-33D6-4A9F-A5E9-FB1136DB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6EE-4FBA-4201-895C-987B02AC51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5457-03E7-41F4-B1C1-60CD308722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95480" y="4266720"/>
            <a:ext cx="6096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азработка учител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БОУ «Черноморская СШ №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066680" y="1828800"/>
            <a:ext cx="773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НО-ДЕЯТЕЛЬНОСТНЫЙ 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2514600" y="2590920"/>
            <a:ext cx="517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ХОД В ПРОЦЕССЕ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057400" y="3429000"/>
            <a:ext cx="5038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УЧЕНИЯ ИСТОРИИ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457200" y="1600200"/>
            <a:ext cx="3505320" cy="2743200"/>
          </a:xfrm>
          <a:prstGeom prst="rightArrowCallout">
            <a:avLst>
              <a:gd name="adj1" fmla="val 25002"/>
              <a:gd name="adj2" fmla="val 25000"/>
              <a:gd name="adj3" fmla="val 2129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4267080" y="1447920"/>
            <a:ext cx="4419720" cy="31240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по данной метод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ёт возможность 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твор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и  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mgpreview?key=2f4976c09f0b4067&amp;mb=imgdb_preview_1466"/>
          <p:cNvPicPr/>
          <p:nvPr/>
        </p:nvPicPr>
        <p:blipFill>
          <a:blip r:embed="rId1"/>
          <a:stretch/>
        </p:blipFill>
        <p:spPr>
          <a:xfrm>
            <a:off x="1752480" y="3962520"/>
            <a:ext cx="297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опорных конспектов в виде плана, схемы, графика, диаграммы, рисунка и т.д. позволяет систематизировать учебную информацию, расположить ее в логической последовательности, выделить главное, аргументировать свою позицию, закрепить знания и умения прак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с исторической картой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ение сравнительно-обобщающей таблицы, которая станет итогом анализа и сопоставления сравниваемых фактов и обобщен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биографических справок-характеристик исторических лич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снове оценок деятельност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и, историками 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ременниками, дети учатся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вать собственну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гументированную оценк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 из заданий ЕГЭ как раз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ует подобных знаний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исторических источников (документов). Один из ведущих видов познавательной деятельности в процессе изучения истории, который способствует формированию таких учебных умений и навыков как: анализ, синтез, сравнение, обобщение, оценка и критическое отношение к различным интерпретациям исторических ф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ка и оформление сообщения, доклада, реферата. Этот вид учебной деятельности способствует формированию навыков поисковой и аналитической работы, учит грамотно оформлять в письменной форме итоги своих самостоятельных изыск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цензия на ответ товарища. Эта работа способствует формированию умений объективной самооценки и взаимной оценки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я на образную реконструкцию исторических фа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исторических событий от имени одного из участников, свидетелей, современников или потом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сути исторических событий в диалоге, споре, беседе их непосредственных участников, представляющих разные (противоположные) мн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4"/>
          <p:cNvSpPr/>
          <p:nvPr/>
        </p:nvSpPr>
        <p:spPr>
          <a:xfrm>
            <a:off x="3276720" y="2743200"/>
            <a:ext cx="2819160" cy="1981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 rot="2436600">
            <a:off x="60199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rot="19829400">
            <a:off x="5802480" y="2587680"/>
            <a:ext cx="680760" cy="533520"/>
          </a:xfrm>
          <a:prstGeom prst="rightArrow">
            <a:avLst>
              <a:gd name="adj1" fmla="val 50000"/>
              <a:gd name="adj2" fmla="val 318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rot="19446000">
            <a:off x="2286000" y="4266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rot="1857000">
            <a:off x="2819160" y="2514240"/>
            <a:ext cx="747720" cy="561960"/>
          </a:xfrm>
          <a:prstGeom prst="leftArrow">
            <a:avLst>
              <a:gd name="adj1" fmla="val 50000"/>
              <a:gd name="adj2" fmla="val 332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80880" y="1828800"/>
            <a:ext cx="2210040" cy="13716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ап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629400" y="18288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ознава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380880" y="4952880"/>
            <a:ext cx="24386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324480" y="4952880"/>
            <a:ext cx="25146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1600200" y="609480"/>
            <a:ext cx="63914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 обучения с помощью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2133720" y="1219320"/>
            <a:ext cx="5295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ного подхода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3962520" y="1752480"/>
            <a:ext cx="13716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2057400" y="609480"/>
            <a:ext cx="495288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371600" y="3124080"/>
            <a:ext cx="6629400" cy="281952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вшаяс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ценностных отношений к себе,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стникам образовательного проце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тельному процесс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его результа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5"/>
          <p:cNvSpPr/>
          <p:nvPr/>
        </p:nvSpPr>
        <p:spPr>
          <a:xfrm>
            <a:off x="2133720" y="838080"/>
            <a:ext cx="495288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2895480"/>
            <a:ext cx="7315200" cy="27432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воение учениками на базе одного, нескольких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сех учебных предметов способов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меняемых как в рамках образовательного проце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ак и при решении проблем в ре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зне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2209680" y="914400"/>
            <a:ext cx="495324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143000" y="3124080"/>
            <a:ext cx="6934320" cy="243864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своение обучающимися конкрет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го опыта, изучаемого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ельного учебного предмета, - зна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ыта решения проблем, опыта твор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ятельности, ц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ИСОК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 С. В. Системно-деятельностный подход в технологии школьного обучения / С. В. Дмитриев // Школьные технологии. - 2003. - N 6. - С. 30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Г.Л. Как обеспечить качество обучения в информационном обществе? /Г.Л. Ильин //Народное образование.-2011.- №5.-стр.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торский А. «Деятельность как содержание образования» /А. Хуторский «Народное образование» - 2003,  №8, стр.107-1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ориентированный подход к образованию //Управление школой. Газета Издательского дома «Первое сентября» - 2011,  №9, стр.14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 Понятие проектирования как деятельности. Режим доступа: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festival.1sept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«Великая цель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это не знания, а действ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       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Гербер Спен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imgpreview (2)"/>
          <p:cNvPicPr/>
          <p:nvPr/>
        </p:nvPicPr>
        <p:blipFill>
          <a:blip r:embed="rId1"/>
          <a:stretch/>
        </p:blipFill>
        <p:spPr>
          <a:xfrm>
            <a:off x="1371600" y="30481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533520" y="990720"/>
            <a:ext cx="3200400" cy="1904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14800" y="1066680"/>
            <a:ext cx="4648320" cy="198144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ПОСОБ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И ЛИЧНОСТНОМУ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ОПРЕД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57200" y="380988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809880" y="3733920"/>
            <a:ext cx="5029200" cy="2286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витие у ученика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стоятельно ставить 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проектировать пути их ре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онтролировать и оценивать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676520" y="1371600"/>
            <a:ext cx="63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Системно-деятельност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057400" y="2286000"/>
            <a:ext cx="55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подход включает в себ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1371600" y="3200400"/>
            <a:ext cx="742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ряд педагогических технолог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pic>
        <p:nvPicPr>
          <p:cNvPr id="119" name="Picture 9" descr="imgpreview (3)"/>
          <p:cNvPicPr/>
          <p:nvPr/>
        </p:nvPicPr>
        <p:blipFill>
          <a:blip r:embed="rId1"/>
          <a:stretch/>
        </p:blipFill>
        <p:spPr>
          <a:xfrm>
            <a:off x="3352680" y="39625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228600" y="914400"/>
            <a:ext cx="4038480" cy="2895480"/>
          </a:xfrm>
          <a:prstGeom prst="rightArrowCallout">
            <a:avLst>
              <a:gd name="adj1" fmla="val 25002"/>
              <a:gd name="adj2" fmla="val 25000"/>
              <a:gd name="adj3" fmla="val 23246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НОУРОВН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95680" y="914400"/>
            <a:ext cx="4343400" cy="50292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724280" y="1349280"/>
            <a:ext cx="3810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озможность учителя помочь слабому ученику; давать более сложные задания си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чащему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ильных учен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утверждение в своих способност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лабых – возможность испытать учебный успех, что повышает мотивацию к 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imgpreview?key=3d7b8dcada605b3d&amp;mb=imgdb_preview_1503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304920" y="990720"/>
            <a:ext cx="4114800" cy="2743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800600" y="762120"/>
            <a:ext cx="3962520" cy="39621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 попол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 знания, из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у   и предло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подход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ять кругозор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мировоззр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imgpreview?key=5e8acba5112b6c89&amp;mb=imgdb_preview_1399"/>
          <p:cNvPicPr/>
          <p:nvPr/>
        </p:nvPicPr>
        <p:blipFill>
          <a:blip r:embed="rId1"/>
          <a:stretch/>
        </p:blipFill>
        <p:spPr>
          <a:xfrm>
            <a:off x="2286000" y="3657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380880" y="1295280"/>
            <a:ext cx="4114800" cy="2286000"/>
          </a:xfrm>
          <a:prstGeom prst="rightArrowCallout">
            <a:avLst>
              <a:gd name="adj1" fmla="val 25002"/>
              <a:gd name="adj2" fmla="val 25000"/>
              <a:gd name="adj3" fmla="val 30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800600" y="762120"/>
            <a:ext cx="4114800" cy="41148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ет позна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ЗУН, необход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зличных играх уча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ваивают раз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роли, уча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ять их на практи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mgpreview?key=23ffe5373bbfbd1b&amp;mb=imgdb_preview_104"/>
          <p:cNvPicPr/>
          <p:nvPr/>
        </p:nvPicPr>
        <p:blipFill>
          <a:blip r:embed="rId1"/>
          <a:stretch/>
        </p:blipFill>
        <p:spPr>
          <a:xfrm>
            <a:off x="1143000" y="38098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457200" y="1523880"/>
            <a:ext cx="3886200" cy="25909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419720" y="1143000"/>
            <a:ext cx="4495680" cy="43434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и широкий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ей обога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я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возмож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я в различных Интерн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ах, обучающе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импиадах, что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потенциал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preview?key=3b6802c5bee79437&amp;mb=imgdb_preview_1671"/>
          <p:cNvPicPr/>
          <p:nvPr/>
        </p:nvPicPr>
        <p:blipFill>
          <a:blip r:embed="rId1"/>
          <a:stretch/>
        </p:blipFill>
        <p:spPr>
          <a:xfrm>
            <a:off x="1219320" y="3962520"/>
            <a:ext cx="2705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304920" y="1676520"/>
            <a:ext cx="3504960" cy="2666880"/>
          </a:xfrm>
          <a:prstGeom prst="rightArrowCallout">
            <a:avLst>
              <a:gd name="adj1" fmla="val 25002"/>
              <a:gd name="adj2" fmla="val 25000"/>
              <a:gd name="adj3" fmla="val 21904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ДОРОВ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БЕРЕГ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962520" y="1143000"/>
            <a:ext cx="4647960" cy="419112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данного под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равномерно рас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урока различны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я данную технолог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жет чер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с Т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время на самостоя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ndex_04"/>
          <p:cNvPicPr/>
          <p:nvPr/>
        </p:nvPicPr>
        <p:blipFill>
          <a:blip r:embed="rId1"/>
          <a:stretch/>
        </p:blipFill>
        <p:spPr>
          <a:xfrm>
            <a:off x="1447920" y="3809880"/>
            <a:ext cx="2238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03:37:48Z</dcterms:created>
  <dc:creator>1</dc:creator>
  <dc:description/>
  <dc:language>en-US</dc:language>
  <cp:lastModifiedBy>Информатика-Борзов</cp:lastModifiedBy>
  <dcterms:modified xsi:type="dcterms:W3CDTF">2019-03-20T05:54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