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FE9-5B2D-4958-BE6E-2E64B5F7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0B6-BAD8-488C-9281-AA670E6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EC7-4854-4B50-BB29-7D64BDA2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DE4-56BD-4264-BC49-5206C89B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0EEC-39BB-411F-A1BD-68E518F1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98BC-9215-46BF-ACDC-14C2F34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105C-E6E9-45FF-8209-2ED9775E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48DF-CCC8-4666-B80B-CBE91102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923F-18C1-4E7F-AD8B-8CF54AAC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BEA-7678-420C-9C45-20217289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C9AB-97A8-4D1E-9FD5-08966C1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DCE-164F-46D1-9C32-72931C1D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3C30-73A2-49F9-A712-CBD4EA5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FE42-1418-45CA-8322-9E86590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6058-9EEB-493D-8776-ADEA17A5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F9C-B13B-44E2-BFE1-0EB2D877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B1F3-F41A-4AC9-BBF6-4F375026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3BE-8A15-4530-BE85-DA54D1DE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939-F701-47C3-B520-5873863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56B-1098-4E9F-A849-0D2B7AD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602-D100-4395-AE69-6617376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7D9-D1BE-499B-B3AF-C655CFE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7E1-ECAC-4CE3-8627-ED2084F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A2A-35C2-4256-BB3D-ACE2711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36FB-80CC-476A-98AA-A173F4316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3a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e58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9BC-B600-4B24-8260-02E702CFC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Здоровый образ жизни в детском саду</a:t>
            </a:r>
            <a:endParaRPr b="1" lang="en-US" sz="5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4653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289080"/>
            <a:ext cx="87138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Витамины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007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05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ажные витамины содержатся в нашей пище. Это необходимые элементы, которые нужно употреблять каждый день, ведь наше тело их не вырабатыва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705120" cy="207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Гигиена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Мыться нужно каждый день. Быть чистым и пахнуть свежестью – это всегда приятно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От пота и пыли одежда пачкается, её нужно регулярно меня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Соблюдать гигиену – это ещё и мыть голову, постригать ногти, чистить уши и зуб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827360" cy="234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2520" y="4437000"/>
            <a:ext cx="2211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"/>
              </a:rPr>
              <a:t>Отказ от вредных привычек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678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5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e58b6"/>
                </a:solidFill>
                <a:latin typeface="Arial"/>
              </a:rPr>
              <a:t>Здоровый образ жизни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 это не только все знания, усвоенные за определенное время, а целый стиль жизни, адекватное поведение в разных жизненных ситуациях. Ведь дети могут оказаться о абсолютно неожиданных ситуациях, и основная цель тут – развить у них самостоятельность, ответственность, а иногда и автоматизм. Всё, чему родители и педагоги учат детей, должно применяться ими в реальной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129440" cy="1700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56000" y="2492280"/>
            <a:ext cx="4209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доровье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58b6"/>
                </a:solidFill>
                <a:latin typeface="Arial"/>
              </a:rPr>
              <a:t>Здоровье человека</a:t>
            </a:r>
            <a:r>
              <a:rPr b="0" lang="en-US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это состояние полного физического, духовного и социального благополучия, а не только отсутствие болезней и физических недостат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58b6"/>
                </a:solidFill>
                <a:latin typeface="Arial"/>
              </a:rPr>
              <a:t>Духовное здоровье</a:t>
            </a:r>
            <a:r>
              <a:rPr b="0" lang="en-US" sz="28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умение жить в сочетании с собой и окружающ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806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ОЖ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58b6"/>
                </a:solidFill>
                <a:latin typeface="Arial"/>
              </a:rPr>
              <a:t>Здоровый образ жизни</a:t>
            </a:r>
            <a:r>
              <a:rPr b="1" lang="en-US" sz="3200" spc="-1" strike="noStrike">
                <a:solidFill>
                  <a:srgbClr val="fcf05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это образ жизни, способствующий сохранению, укреплению и восстановлению здоровья человека. Поэтому здоровый образ жизни (ЗОЖ) рассматривается не только как медицинская, но и как социально-экономическая проблема</a:t>
            </a:r>
            <a:r>
              <a:rPr b="0" lang="en-US" sz="3200" spc="-1" strike="noStrike">
                <a:solidFill>
                  <a:srgbClr val="fcf05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69120" y="0"/>
            <a:ext cx="27748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851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ормировать отношение детей к собственному здоров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чинать общее гигиеническое воспитание с 2-3 – летне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спитание с раннего возраста здоровых привычек и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684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Здоровый образ жизни включает в себя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птимальный двигатель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лодотворную трудовую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Хорошую гигие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тказ от любых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10600" y="189000"/>
            <a:ext cx="1733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ac9"/>
                </a:solidFill>
                <a:latin typeface="Arial Black"/>
              </a:rPr>
              <a:t>Оптимальный двигательный режим:</a:t>
            </a:r>
            <a:endParaRPr b="1" lang="en-US" sz="36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318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жедневная утренняя за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движные иг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Ежедневная прогу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e58b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Физкультур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4576680"/>
            <a:ext cx="3492360" cy="2281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4503600"/>
            <a:ext cx="31384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Гигиена, закаливание, правильное питание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Дети учатся соблюдать </a:t>
            </a: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гигиену</a:t>
            </a:r>
            <a:r>
              <a:rPr b="0" lang="en-US" sz="24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 помощью взросл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Закаливание</a:t>
            </a:r>
            <a:r>
              <a:rPr b="0" lang="en-US" sz="24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воздух, солнце и в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тихого часа проводится гимнастика и умывание лица прохладной вод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58b6"/>
                </a:solidFill>
                <a:latin typeface="Arial"/>
              </a:rPr>
              <a:t>Правильное питание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сбалансированное четырехразовое питание обогащённое витамин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48360" y="4653000"/>
            <a:ext cx="30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4813200"/>
            <a:ext cx="2971800" cy="204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4d26"/>
            </a:gs>
            <a:gs pos="100000">
              <a:srgbClr val="f3a4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ac9"/>
                </a:solidFill>
                <a:latin typeface="Arial Black"/>
              </a:rPr>
              <a:t>Нормальный сон:</a:t>
            </a:r>
            <a:endParaRPr b="1" lang="en-US" sz="4400" spc="-1" strike="noStrike">
              <a:solidFill>
                <a:srgbClr val="fefac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455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о время сна тело работает в ином ритме. Оно отдыхает, набирается сил. Сон позволяет мозгу развиваться, а телу ра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573360"/>
            <a:ext cx="3562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7:58:30Z</dcterms:created>
  <dc:creator>LENKA</dc:creator>
  <dc:description/>
  <dc:language>en-US</dc:language>
  <cp:lastModifiedBy>Наташа</cp:lastModifiedBy>
  <dcterms:modified xsi:type="dcterms:W3CDTF">2015-11-05T13:38:51Z</dcterms:modified>
  <cp:revision>55</cp:revision>
  <dc:subject/>
  <dc:title>Здоровый образ жизни дошкольников в течении дня</dc:title>
</cp:coreProperties>
</file>