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40F-8EEB-41DF-9272-DFFC992D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9CF-B4D0-431F-81A8-2218EB7D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7FB-ECB6-469C-9362-E600F6A1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278-8B59-4A9F-842D-877BBBE0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A7B3-2BE7-4D83-9154-CB85AC8C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8012-20FA-45C2-935B-0AA1C25A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4C8F-BF70-4170-ADC3-D20291CE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7589-1468-4757-913F-70906867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948D-DA03-48CB-8AF2-51A31DBA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BA60-F645-47E6-BDCF-E5BF2BB3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A06A-A632-439C-A554-59313B5A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403-FDA3-4807-AA20-937A631E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61A8-3303-4FE1-A459-71EC831C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85C3-A305-4A2B-B853-64C93FF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21E3-8F3A-48B3-A1FA-567EF666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088E-D3CA-4680-ACC8-AE39E8AC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C635-9E5D-42DF-A4E5-928ECB3A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E58-ECAD-42DC-9ECE-72BDD3DA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8AE-9558-453D-9394-8FC046B5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728-D2D5-4735-BB79-DA0A3530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D07-CD3C-4546-970F-4793FBD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6DF-716F-47A8-9D53-0313714B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BC2-D8BF-470E-B57F-1EA30583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874-DAF4-4742-878E-5BA15621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73C1-2544-406A-92E5-B99E464A0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ABAA-B4AC-45ED-B55A-0DAF0AA68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Здоровый образ жизни в детском саду</a:t>
            </a:r>
            <a:endParaRPr b="1" lang="en-US" sz="5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4653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289080"/>
            <a:ext cx="87138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Витамины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8007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05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ажные витамины содержатся в нашей пище. Это необходимые элементы, которые нужно употреблять каждый день, ведь наше тело их не вырабатыва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705120" cy="207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            </a:t>
            </a: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Гигиена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Мыться нужно каждый день. Быть чистым и пахнуть свежестью – это всегда приятно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От пота и пыли одежда пачкается, её нужно регулярно меня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Соблюдать гигиену – это ещё и мыть голову, постригать ногти, чистить уши и зуб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827360" cy="234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2520" y="4437000"/>
            <a:ext cx="22114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"/>
              </a:rPr>
              <a:t>Отказ от вредных привычек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930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678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e58b6"/>
                </a:solidFill>
                <a:latin typeface="Arial"/>
              </a:rPr>
              <a:t>Здоровый образ жизни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 это не только все знания, усвоенные за определенное время, а целый стиль жизни, адекватное поведение в разных жизненных ситуациях. Ведь дети могут оказаться о абсолютно неожиданных ситуациях, и основная цель тут – развить у них самостоятельность, ответственность, а иногда и автоматизм. Всё, чему родители и педагоги учат детей, должно применяться ими в реальной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129440" cy="1700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4209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доровье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58b6"/>
                </a:solidFill>
                <a:latin typeface="Arial"/>
              </a:rPr>
              <a:t>Здоровье человека</a:t>
            </a:r>
            <a:r>
              <a:rPr b="0" lang="en-US" sz="28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это состояние полного физического, духовного и социального благополучия, а не только отсутствие болезней и физических недостат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58b6"/>
                </a:solidFill>
                <a:latin typeface="Arial"/>
              </a:rPr>
              <a:t>Духовное здоровье</a:t>
            </a:r>
            <a:r>
              <a:rPr b="0" lang="en-US" sz="28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умение жить в сочетании с собой и окружающ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8069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ОЖ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58b6"/>
                </a:solidFill>
                <a:latin typeface="Arial"/>
              </a:rPr>
              <a:t>Здоровый образ жизни</a:t>
            </a:r>
            <a:r>
              <a:rPr b="1" lang="en-US" sz="32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это образ жизни, способствующий сохранению, укреплению и восстановлению здоровья человека. Поэтому здоровый образ жизни (ЗОЖ) рассматривается не только как медицинская, но и как социально-экономическая проблема</a:t>
            </a:r>
            <a:r>
              <a:rPr b="0" lang="en-US" sz="3200" spc="-1" strike="noStrike">
                <a:solidFill>
                  <a:srgbClr val="fcf05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69120" y="0"/>
            <a:ext cx="27748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Диаграмма 6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851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ормировать отношение детей к собственному здоров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ачинать общее гигиеническое воспитание с 2-3 – летнего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спитание с раннего возраста здоровых привычек и навы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6840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доровый образ жизни включает в себя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птимальный двигатель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лодотворную трудовую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Хорошую гигие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каз от любых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10600" y="189000"/>
            <a:ext cx="1733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ac9"/>
                </a:solidFill>
                <a:latin typeface="Arial Black"/>
              </a:rPr>
              <a:t>Оптимальный двигательный режим:</a:t>
            </a:r>
            <a:endParaRPr b="1" lang="en-US" sz="36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318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Ежедневная утренняя заря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движные иг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Ежедневная прогу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Физкультурн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51640" y="4576680"/>
            <a:ext cx="3492360" cy="2281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4503600"/>
            <a:ext cx="31384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Гигиена, закаливание, правильное питание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ети учатся соблюдать </a:t>
            </a:r>
            <a:r>
              <a:rPr b="1" lang="en-US" sz="2400" spc="-1" strike="noStrike">
                <a:solidFill>
                  <a:srgbClr val="8e58b6"/>
                </a:solidFill>
                <a:latin typeface="Arial"/>
              </a:rPr>
              <a:t>гигиену</a:t>
            </a:r>
            <a:r>
              <a:rPr b="0" lang="en-US" sz="2400" spc="-1" strike="noStrike">
                <a:solidFill>
                  <a:srgbClr val="8e58b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 помощью взросл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58b6"/>
                </a:solidFill>
                <a:latin typeface="Arial"/>
              </a:rPr>
              <a:t>Закаливание</a:t>
            </a:r>
            <a:r>
              <a:rPr b="0" lang="en-US" sz="2400" spc="-1" strike="noStrike">
                <a:solidFill>
                  <a:srgbClr val="8e58b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воздух, солнце и в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сле тихого часа проводится гимнастика и умывание лица прохладной во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58b6"/>
                </a:solidFill>
                <a:latin typeface="Arial"/>
              </a:rPr>
              <a:t>Правильное питание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сбалансированное четырехразовое питание обогащённое витамин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48360" y="4653000"/>
            <a:ext cx="3095640" cy="220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16360" y="4813200"/>
            <a:ext cx="2971800" cy="204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Нормальный сон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455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о время сна тело работает в ином ритме. Оно отдыхает, набирается сил. Сон позволяет мозгу развиваться, а телу ра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573360"/>
            <a:ext cx="35622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7:58:30Z</dcterms:created>
  <dc:creator>LENKA</dc:creator>
  <dc:description/>
  <dc:language>en-US</dc:language>
  <cp:lastModifiedBy>Наташа</cp:lastModifiedBy>
  <dcterms:modified xsi:type="dcterms:W3CDTF">2015-11-05T13:38:51Z</dcterms:modified>
  <cp:revision>55</cp:revision>
  <dc:subject/>
  <dc:title>Здоровый образ жизни дошкольников в течении дня</dc:title>
</cp:coreProperties>
</file>