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4ED-5F6A-49F0-A19B-39E64347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742-20EC-44DF-BD17-511F4BAA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E35-C63D-467E-9F7F-25166765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CF4-06C4-42CA-B80A-C2E19EDA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683B-35FB-4AFE-B45F-2C0DBA87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3E5-B015-4B6E-98EA-7944621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4FD3-2FA5-40A8-B523-17077BE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B5A6-1FF2-4A29-A20A-A90D6B2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0ABD-A239-48FF-94DA-4A9BB831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175E-F372-4517-B11C-40AF5C7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A5C7-34A7-4DD7-A8A4-35C2528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BA5-498B-4C8D-989A-A10863A5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7B86-E9DD-4F37-B378-A9116A7A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E550-5522-4795-BD7C-BAEBB33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D55D-C701-4E78-9B11-9ED8AA01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900-62C4-4DAD-9845-13550A25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AFB-3CF1-4CA2-9ED0-E5EA6488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B35-79BF-43EE-A203-93D480F7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B80-F25B-4742-8E43-4821467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243-07EA-40C2-B011-7B18F17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2FB-1C91-4B1E-9F4E-F55C1435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D9D-8E47-4DC0-A955-31E8CE6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7F6-169A-4BEA-8288-5DEF859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BFF-FD83-4198-BBFB-1668EA4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5F1-8413-4FB9-8007-8AB755C0A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0CA6-2DB3-4DA7-90B6-753CE520E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Здоровый образ жизни в детском саду</a:t>
            </a:r>
            <a:endParaRPr b="1" lang="en-US" sz="5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4653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289080"/>
            <a:ext cx="87138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Витамины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007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05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ажные витамины содержатся в нашей пище. Это необходимые элементы, которые нужно употреблять каждый день, ведь наше тело их не вырабатыва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705120" cy="207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Гигиена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Мыться нужно каждый день. Быть чистым и пахнуть свежестью – это всегда приятно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От пота и пыли одежда пачкается, её нужно регулярно мен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Соблюдать гигиену – это ещё и мыть голову, постригать ногти, чистить уши и зуб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827360" cy="234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2520" y="4437000"/>
            <a:ext cx="2211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"/>
              </a:rPr>
              <a:t>Отказ от вредных привычек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678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e58b6"/>
                </a:solidFill>
                <a:latin typeface="Arial"/>
              </a:rPr>
              <a:t>Здоровый образ жизни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это не только все знания, усвоенные за определенное время, а целый стиль жизни, адекватное поведение в разных жизненных ситуациях. Ведь дети могут оказаться о абсолютно неожиданных ситуациях, и основная цель тут – развить у них самостоятельность, ответственность, а иногда и автоматизм. Всё, чему родители и педагоги учат детей, должно применяться ими в реальной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129440" cy="170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209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доровье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58b6"/>
                </a:solidFill>
                <a:latin typeface="Arial"/>
              </a:rPr>
              <a:t>Здоровье человека</a:t>
            </a:r>
            <a:r>
              <a:rPr b="0" lang="en-US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это состояние полного физического, духовного и социального благополучия, а не только отсутствие болезней и физических недостат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58b6"/>
                </a:solidFill>
                <a:latin typeface="Arial"/>
              </a:rPr>
              <a:t>Духовное здоровье</a:t>
            </a:r>
            <a:r>
              <a:rPr b="0" lang="en-US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умение жить в сочетании с собой и окружающ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806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ОЖ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58b6"/>
                </a:solidFill>
                <a:latin typeface="Arial"/>
              </a:rPr>
              <a:t>Здоровый образ жизни</a:t>
            </a:r>
            <a:r>
              <a:rPr b="1" lang="en-US" sz="32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это образ жизни, способствующий сохранению, укреплению и восстановлению здоровья человека. Поэтому здоровый образ жизни (ЗОЖ) рассматривается не только как медицинская, но и как социально-экономическая проблема</a:t>
            </a:r>
            <a:r>
              <a:rPr b="0" lang="en-US" sz="3200" spc="-1" strike="noStrike">
                <a:solidFill>
                  <a:srgbClr val="fcf05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69120" y="0"/>
            <a:ext cx="27748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851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ормировать отношение детей к собственному здоров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чинать общее гигиеническое воспитание с 2-3 – летне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спитание с раннего возраста здоровых привычек и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684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доровый образ жизни включает в себя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птимальный двигатель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лодотворную трудовую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Хорошую гигие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каз от любых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10600" y="189000"/>
            <a:ext cx="1733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ac9"/>
                </a:solidFill>
                <a:latin typeface="Arial Black"/>
              </a:rPr>
              <a:t>Оптимальный двигательный режим:</a:t>
            </a:r>
            <a:endParaRPr b="1" lang="en-US" sz="36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318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жедневная утренняя за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вижные иг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жедневная прог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Физкультур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4576680"/>
            <a:ext cx="3492360" cy="2281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4503600"/>
            <a:ext cx="31384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Гигиена, закаливание, правильное питание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ети учатся соблюдать </a:t>
            </a: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гигиену</a:t>
            </a:r>
            <a:r>
              <a:rPr b="0" lang="en-US" sz="24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 помощью взросл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Закаливание</a:t>
            </a:r>
            <a:r>
              <a:rPr b="0" lang="en-US" sz="24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воздух, солнце и в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тихого часа проводится гимнастика и умывание лица прохладной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Правильное питание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сбалансированное четырехразовое питание обогащённое витамин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48360" y="4653000"/>
            <a:ext cx="30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4813200"/>
            <a:ext cx="2971800" cy="204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Нормальный сон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455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о время сна тело работает в ином ритме. Оно отдыхает, набирается сил. Сон позволяет мозгу развиваться, а телу ра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573360"/>
            <a:ext cx="3562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7:58:30Z</dcterms:created>
  <dc:creator>LENKA</dc:creator>
  <dc:description/>
  <dc:language>en-US</dc:language>
  <cp:lastModifiedBy>Наташа</cp:lastModifiedBy>
  <dcterms:modified xsi:type="dcterms:W3CDTF">2015-11-05T13:38:51Z</dcterms:modified>
  <cp:revision>55</cp:revision>
  <dc:subject/>
  <dc:title>Здоровый образ жизни дошкольников в течении дня</dc:title>
</cp:coreProperties>
</file>