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1.png" ContentType="image/pn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7.jpeg" ContentType="image/jpeg"/>
  <Override PartName="/ppt/media/image36.png" ContentType="image/png"/>
  <Override PartName="/ppt/media/image9.jpeg" ContentType="image/jpeg"/>
  <Override PartName="/ppt/media/image34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1.jpeg" ContentType="image/jpeg"/>
  <Override PartName="/ppt/media/image28.jpeg" ContentType="image/jpeg"/>
  <Override PartName="/ppt/media/image40.jpeg" ContentType="image/jpeg"/>
  <Override PartName="/ppt/media/image13.jpeg" ContentType="image/jpeg"/>
  <Override PartName="/ppt/media/image18.jpeg" ContentType="image/jpeg"/>
  <Override PartName="/ppt/media/image20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82.jpeg" ContentType="image/jpeg"/>
  <Override PartName="/ppt/media/image3.png" ContentType="image/png"/>
  <Override PartName="/ppt/media/image56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21.jpeg" ContentType="image/jpeg"/>
  <Override PartName="/ppt/media/image80.jpeg" ContentType="image/jpeg"/>
  <Override PartName="/ppt/media/image65.png" ContentType="image/pn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0.jpeg" ContentType="image/jpeg"/>
  <Override PartName="/ppt/media/image19.jpeg" ContentType="image/jpeg"/>
  <Override PartName="/ppt/media/image39.jpeg" ContentType="image/jpeg"/>
  <Override PartName="/ppt/media/image2.gif" ContentType="image/gif"/>
  <Override PartName="/ppt/media/image63.jpeg" ContentType="image/jpeg"/>
  <Override PartName="/ppt/media/image71.png" ContentType="image/png"/>
  <Override PartName="/ppt/media/image6.jpeg" ContentType="image/jpeg"/>
  <Override PartName="/ppt/media/image25.jpeg" ContentType="image/jpeg"/>
  <Override PartName="/ppt/media/image84.jpeg" ContentType="image/jpeg"/>
  <Override PartName="/ppt/media/image78.jpeg" ContentType="image/jpeg"/>
  <Override PartName="/ppt/media/image61.jpeg" ContentType="image/jpeg"/>
  <Override PartName="/ppt/media/image24.jpeg" ContentType="image/jpeg"/>
  <Override PartName="/ppt/media/image83.jpeg" ContentType="image/jpeg"/>
  <Override PartName="/ppt/media/image60.jpeg" ContentType="image/jpeg"/>
  <Override PartName="/ppt/media/image64.png" ContentType="image/png"/>
  <Override PartName="/ppt/media/image77.jpeg" ContentType="image/jpeg"/>
  <Override PartName="/ppt/media/image14.jpeg" ContentType="image/jpeg"/>
  <Override PartName="/ppt/media/image41.jpeg" ContentType="image/jpeg"/>
  <Override PartName="/ppt/media/image66.png" ContentType="image/png"/>
  <Override PartName="/ppt/media/image7.jpeg" ContentType="image/jpeg"/>
  <Override PartName="/ppt/media/image38.jpeg" ContentType="image/jpeg"/>
  <Override PartName="/ppt/media/image17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5.jpeg" ContentType="image/jpeg"/>
  <Override PartName="/ppt/media/image50.png" ContentType="image/png"/>
  <Override PartName="/ppt/media/image79.jpeg" ContentType="image/jpeg"/>
  <Override PartName="/ppt/media/image62.jpeg" ContentType="image/jpeg"/>
  <Override PartName="/ppt/media/image4.gif" ContentType="image/gif"/>
  <Override PartName="/ppt/media/image33.jpeg" ContentType="image/jpeg"/>
  <Override PartName="/ppt/media/image85.jpeg" ContentType="image/jpeg"/>
  <Override PartName="/ppt/media/image26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8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AAD1C-A846-41E8-B517-BDE0090C051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4120" cy="40003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F63A1-88CF-4672-8D93-D9F4D218DD3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4120" cy="40003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94260-2621-472D-8000-AF2DC2A4C83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4120" cy="40003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F5576-B741-4534-A43B-829404B3429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4120" cy="40003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78AC4-6CE3-4B67-B5C2-91C75325E4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4120" cy="40003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C887C62-EAE9-4D7B-8525-4A77AFCC1E4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4120" cy="40003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4EB07-150E-4A91-BFC8-66658D39D8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DC9D-0BCC-495D-8687-1D3387830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8C55-02DC-4715-944B-10EF9167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C37C-1B8B-49C4-BAB5-4327CCEE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1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6755-68EC-4413-B4F8-899656D74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3239-B9A5-4214-94AB-2320AE71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41A4-0FF6-4F0D-8ACB-CFB3CF68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F0F2-A3A9-4174-8313-91F380DC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7548-BDB6-45C4-B0BD-8FC606DE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8020-2F08-41FD-BA5F-E76F21EF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1E64-23B1-4EF4-BB2B-74A85C51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A6BE-2961-49D4-B95E-34E94DD0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DAEB-EA5F-48C2-85C3-E1A01B5B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FE9C2AE-7C35-4529-864A-3E30EC6B686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image" Target="../media/image57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image" Target="../media/image63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image" Target="../media/image69.jpeg"/><Relationship Id="rId7" Type="http://schemas.openxmlformats.org/officeDocument/2006/relationships/image" Target="../media/image70.jpeg"/><Relationship Id="rId8" Type="http://schemas.openxmlformats.org/officeDocument/2006/relationships/image" Target="../media/image71.png"/><Relationship Id="rId9" Type="http://schemas.openxmlformats.org/officeDocument/2006/relationships/image" Target="../media/image72.jpe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image" Target="../media/image80.jpeg"/><Relationship Id="rId6" Type="http://schemas.openxmlformats.org/officeDocument/2006/relationships/image" Target="../media/image8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image" Target="../media/image84.jpeg"/><Relationship Id="rId5" Type="http://schemas.openxmlformats.org/officeDocument/2006/relationships/image" Target="../media/image85.jpeg"/><Relationship Id="rId6" Type="http://schemas.openxmlformats.org/officeDocument/2006/relationships/image" Target="../media/image8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black101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grpSp>
        <p:nvGrpSpPr>
          <p:cNvPr id="53" name="Горизонтальный свиток 4"/>
          <p:cNvGrpSpPr/>
          <p:nvPr/>
        </p:nvGrpSpPr>
        <p:grpSpPr>
          <a:xfrm>
            <a:off x="396720" y="-268200"/>
            <a:ext cx="9217080" cy="4565520"/>
            <a:chOff x="396720" y="-268200"/>
            <a:chExt cx="9217080" cy="4565520"/>
          </a:xfrm>
        </p:grpSpPr>
        <p:pic>
          <p:nvPicPr>
            <p:cNvPr id="54" name="Горизонтальный свиток 4" descr=""/>
            <p:cNvPicPr/>
            <p:nvPr/>
          </p:nvPicPr>
          <p:blipFill>
            <a:blip r:embed="rId2"/>
            <a:stretch/>
          </p:blipFill>
          <p:spPr>
            <a:xfrm>
              <a:off x="396720" y="-268200"/>
              <a:ext cx="9217080" cy="456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181160" y="500040"/>
              <a:ext cx="7896240" cy="29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Georgia"/>
                </a:rPr>
                <a:t>Наши  достижения.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3600" spc="-1" strike="noStrike">
                  <a:solidFill>
                    <a:srgbClr val="3333cc"/>
                  </a:solidFill>
                  <a:latin typeface="Georgia"/>
                </a:rPr>
                <a:t>МЫ  были Первыми!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4800" spc="-1" strike="noStrike">
                  <a:solidFill>
                    <a:srgbClr val="ac0420"/>
                  </a:solidFill>
                  <a:latin typeface="Georgia"/>
                </a:rPr>
                <a:t>/1992 – 2019 гг./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" name="Прямоугольник 5"/>
          <p:cNvSpPr/>
          <p:nvPr/>
        </p:nvSpPr>
        <p:spPr>
          <a:xfrm>
            <a:off x="0" y="3637080"/>
            <a:ext cx="10080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ас приветствуют 18 учителе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 132 учени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БОУ «Большеберезниковская основная общеобразовательная школа»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018-2019 уч. год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Автор: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овикова Г.А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итель исто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17"/>
          <p:cNvSpPr/>
          <p:nvPr/>
        </p:nvSpPr>
        <p:spPr>
          <a:xfrm>
            <a:off x="0" y="2994120"/>
            <a:ext cx="1008072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орошко Марина 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амонина Ирина  Новикова Г.А.   </a:t>
            </a: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ачинова Мар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Золотое кольцо                   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зань - 2009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янск -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ссии - 2006»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20"/>
          <p:cNvSpPr/>
          <p:nvPr/>
        </p:nvSpPr>
        <p:spPr>
          <a:xfrm>
            <a:off x="0" y="6566040"/>
            <a:ext cx="100807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овикова Г.А.   Токарева Таня                 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лагин  Костя     Кулагин И.А.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Золотое руно - 2009»                          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Белая ладья - 2005»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D:\Documents and Settings\Admin\Рабочий стол\ВСЁ\Для Одноклассники-фото\Я\27-Я с Ириной-1.jpg"/>
          <p:cNvPicPr/>
          <p:nvPr/>
        </p:nvPicPr>
        <p:blipFill>
          <a:blip r:embed="rId2"/>
          <a:stretch/>
        </p:blipFill>
        <p:spPr>
          <a:xfrm>
            <a:off x="3611520" y="208080"/>
            <a:ext cx="2928960" cy="278604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" descr="IMG_1420 - копия"/>
          <p:cNvPicPr/>
          <p:nvPr/>
        </p:nvPicPr>
        <p:blipFill>
          <a:blip r:embed="rId3"/>
          <a:stretch/>
        </p:blipFill>
        <p:spPr>
          <a:xfrm>
            <a:off x="7397640" y="208080"/>
            <a:ext cx="2025720" cy="2786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C:\мы,фото\+Фото Тани Т\23062010318.jpg"/>
          <p:cNvPicPr/>
          <p:nvPr/>
        </p:nvPicPr>
        <p:blipFill>
          <a:blip r:embed="rId4"/>
          <a:stretch/>
        </p:blipFill>
        <p:spPr>
          <a:xfrm>
            <a:off x="611280" y="4137120"/>
            <a:ext cx="3516120" cy="25002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6" descr="Игорь Алексеевич Кулагин"/>
          <p:cNvPicPr/>
          <p:nvPr/>
        </p:nvPicPr>
        <p:blipFill>
          <a:blip r:embed="rId5"/>
          <a:srcRect l="0" t="-415" r="0" b="0"/>
          <a:stretch/>
        </p:blipFill>
        <p:spPr>
          <a:xfrm>
            <a:off x="7754760" y="4137120"/>
            <a:ext cx="1714680" cy="2438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D:\Documents and Settings\Admin\Рабочий стол\Сканер-12 ноября 2017\костя к..bmp"/>
          <p:cNvPicPr/>
          <p:nvPr/>
        </p:nvPicPr>
        <p:blipFill>
          <a:blip r:embed="rId6"/>
          <a:stretch/>
        </p:blipFill>
        <p:spPr>
          <a:xfrm>
            <a:off x="5468760" y="4137120"/>
            <a:ext cx="1868760" cy="2368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7"/>
          <a:stretch/>
        </p:blipFill>
        <p:spPr>
          <a:xfrm>
            <a:off x="182520" y="208080"/>
            <a:ext cx="2714760" cy="27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black101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grpSp>
        <p:nvGrpSpPr>
          <p:cNvPr id="141" name="Горизонтальный свиток 4"/>
          <p:cNvGrpSpPr/>
          <p:nvPr/>
        </p:nvGrpSpPr>
        <p:grpSpPr>
          <a:xfrm>
            <a:off x="324000" y="-268200"/>
            <a:ext cx="9551880" cy="6211800"/>
            <a:chOff x="324000" y="-268200"/>
            <a:chExt cx="9551880" cy="6211800"/>
          </a:xfrm>
        </p:grpSpPr>
        <p:pic>
          <p:nvPicPr>
            <p:cNvPr id="142" name="Горизонтальный свиток 4" descr=""/>
            <p:cNvPicPr/>
            <p:nvPr/>
          </p:nvPicPr>
          <p:blipFill>
            <a:blip r:embed="rId2"/>
            <a:stretch/>
          </p:blipFill>
          <p:spPr>
            <a:xfrm>
              <a:off x="324000" y="-268200"/>
              <a:ext cx="9551880" cy="621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1316160" y="704880"/>
              <a:ext cx="7921440" cy="42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3600" spc="-1" strike="noStrike">
                  <a:solidFill>
                    <a:srgbClr val="cc0000"/>
                  </a:solidFill>
                  <a:latin typeface="Georgia"/>
                </a:rPr>
                <a:t>Победители и призёры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Georgia"/>
                </a:rPr>
                <a:t>Регионального этапа Всероссийской предметной олимпиады школьников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Georgia"/>
                </a:rPr>
                <a:t>и их наставники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3600" spc="-1" strike="noStrike">
                  <a:solidFill>
                    <a:srgbClr val="3333cc"/>
                  </a:solidFill>
                  <a:latin typeface="Georgia"/>
                </a:rPr>
                <a:t>/2008 – 2009 гг./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3600" spc="-1" strike="noStrike">
                  <a:solidFill>
                    <a:srgbClr val="3333cc"/>
                  </a:solidFill>
                  <a:latin typeface="Georgia"/>
                </a:rPr>
                <a:t>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17"/>
          <p:cNvSpPr/>
          <p:nvPr/>
        </p:nvSpPr>
        <p:spPr>
          <a:xfrm>
            <a:off x="182520" y="3208320"/>
            <a:ext cx="964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амонина Ирина         Радкевич Ольга                       Колесникова Ксения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рямоугольник 20"/>
          <p:cNvSpPr/>
          <p:nvPr/>
        </p:nvSpPr>
        <p:spPr>
          <a:xfrm>
            <a:off x="0" y="6780240"/>
            <a:ext cx="1008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амонина Р.И.            Коробова Л.П.              Федотова С.Н.           Новикова Г.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Рисунок 4" descr=""/>
          <p:cNvPicPr/>
          <p:nvPr/>
        </p:nvPicPr>
        <p:blipFill>
          <a:blip r:embed="rId2"/>
          <a:stretch/>
        </p:blipFill>
        <p:spPr>
          <a:xfrm>
            <a:off x="396720" y="279360"/>
            <a:ext cx="2117880" cy="2928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Шамон, Кротова1"/>
          <p:cNvPicPr/>
          <p:nvPr/>
        </p:nvPicPr>
        <p:blipFill>
          <a:blip r:embed="rId3"/>
          <a:stretch/>
        </p:blipFill>
        <p:spPr>
          <a:xfrm>
            <a:off x="325440" y="3851280"/>
            <a:ext cx="2111400" cy="2928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Оля Рад"/>
          <p:cNvPicPr/>
          <p:nvPr/>
        </p:nvPicPr>
        <p:blipFill>
          <a:blip r:embed="rId4"/>
          <a:stretch/>
        </p:blipFill>
        <p:spPr>
          <a:xfrm>
            <a:off x="2897280" y="279360"/>
            <a:ext cx="2089080" cy="2928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4" descr="IMG_20161005_085220"/>
          <p:cNvPicPr/>
          <p:nvPr/>
        </p:nvPicPr>
        <p:blipFill>
          <a:blip r:embed="rId5">
            <a:lum contrast="20000"/>
          </a:blip>
          <a:stretch/>
        </p:blipFill>
        <p:spPr>
          <a:xfrm>
            <a:off x="2825640" y="3851280"/>
            <a:ext cx="2073240" cy="29289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http://nsportal.ru/sites/default/files/styles/media_gallery_thumbnail/public/gallery/2014/01/17/dsc04705_5.jpg"/>
          <p:cNvPicPr/>
          <p:nvPr/>
        </p:nvPicPr>
        <p:blipFill>
          <a:blip r:embed="rId6"/>
          <a:stretch/>
        </p:blipFill>
        <p:spPr>
          <a:xfrm>
            <a:off x="5326200" y="3922560"/>
            <a:ext cx="2071440" cy="2870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Мы-трое"/>
          <p:cNvPicPr/>
          <p:nvPr/>
        </p:nvPicPr>
        <p:blipFill>
          <a:blip r:embed="rId7">
            <a:lum contrast="20000"/>
          </a:blip>
          <a:stretch/>
        </p:blipFill>
        <p:spPr>
          <a:xfrm>
            <a:off x="7754760" y="3922560"/>
            <a:ext cx="19656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17"/>
          <p:cNvSpPr/>
          <p:nvPr/>
        </p:nvSpPr>
        <p:spPr>
          <a:xfrm>
            <a:off x="0" y="3306600"/>
            <a:ext cx="10080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ачинова Мария</a:t>
            </a: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Токарева Татьяна   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Зотова Мария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Прямоугольник 20"/>
          <p:cNvSpPr/>
          <p:nvPr/>
        </p:nvSpPr>
        <p:spPr>
          <a:xfrm>
            <a:off x="0" y="6923160"/>
            <a:ext cx="10080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овикова Г.А.                           Сардаева И.В.   Шачинова Т.Н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Рисунок 1" descr="C:\Users\TEMP.User-ПК.002\Desktop\IMG_1184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3254400" y="422280"/>
            <a:ext cx="2103480" cy="2895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7" name="Picture 12" descr="сканирование0001"/>
          <p:cNvPicPr/>
          <p:nvPr/>
        </p:nvPicPr>
        <p:blipFill>
          <a:blip r:embed="rId3"/>
          <a:stretch/>
        </p:blipFill>
        <p:spPr>
          <a:xfrm>
            <a:off x="7112160" y="422280"/>
            <a:ext cx="2030400" cy="292896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2" descr=""/>
          <p:cNvPicPr/>
          <p:nvPr/>
        </p:nvPicPr>
        <p:blipFill>
          <a:blip r:embed="rId4"/>
          <a:stretch/>
        </p:blipFill>
        <p:spPr>
          <a:xfrm>
            <a:off x="754200" y="422280"/>
            <a:ext cx="2071440" cy="2906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9" name="Picture 2" descr="D:\Documents and Settings\Admin\Рабочий стол\Новикова Г.А..jpg"/>
          <p:cNvPicPr/>
          <p:nvPr/>
        </p:nvPicPr>
        <p:blipFill>
          <a:blip r:embed="rId5"/>
          <a:stretch/>
        </p:blipFill>
        <p:spPr>
          <a:xfrm>
            <a:off x="1825560" y="3780000"/>
            <a:ext cx="2571840" cy="318420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" descr="F:\20160826_132347-1.jpg"/>
          <p:cNvPicPr/>
          <p:nvPr/>
        </p:nvPicPr>
        <p:blipFill>
          <a:blip r:embed="rId6"/>
          <a:stretch/>
        </p:blipFill>
        <p:spPr>
          <a:xfrm>
            <a:off x="5969160" y="3851280"/>
            <a:ext cx="1925640" cy="307188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6" descr="Портрет - Татьяна Николаевна Шачинова"/>
          <p:cNvPicPr/>
          <p:nvPr/>
        </p:nvPicPr>
        <p:blipFill>
          <a:blip r:embed="rId7"/>
          <a:srcRect l="-2986" t="-1221" r="0" b="0"/>
          <a:stretch/>
        </p:blipFill>
        <p:spPr>
          <a:xfrm>
            <a:off x="8112240" y="3851280"/>
            <a:ext cx="17269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black101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grpSp>
        <p:nvGrpSpPr>
          <p:cNvPr id="163" name="Горизонтальный свиток 4"/>
          <p:cNvGrpSpPr/>
          <p:nvPr/>
        </p:nvGrpSpPr>
        <p:grpSpPr>
          <a:xfrm>
            <a:off x="324000" y="-268200"/>
            <a:ext cx="9502560" cy="4925880"/>
            <a:chOff x="324000" y="-268200"/>
            <a:chExt cx="9502560" cy="4925880"/>
          </a:xfrm>
        </p:grpSpPr>
        <p:pic>
          <p:nvPicPr>
            <p:cNvPr id="164" name="Горизонтальный свиток 4" descr=""/>
            <p:cNvPicPr/>
            <p:nvPr/>
          </p:nvPicPr>
          <p:blipFill>
            <a:blip r:embed="rId2"/>
            <a:stretch/>
          </p:blipFill>
          <p:spPr>
            <a:xfrm>
              <a:off x="324000" y="-268200"/>
              <a:ext cx="9502560" cy="492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1155600" y="544680"/>
              <a:ext cx="811368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Georgia"/>
                </a:rPr>
                <a:t>Сегодня  школа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Georgia"/>
                </a:rPr>
                <a:t>«основная»,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Georgia"/>
                </a:rPr>
                <a:t>А  всё  такая  же родная!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4400" spc="-1" strike="noStrike">
                  <a:solidFill>
                    <a:srgbClr val="00b050"/>
                  </a:solidFill>
                  <a:latin typeface="Georgia"/>
                </a:rPr>
                <a:t>Умники  и  Умницы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4400" spc="-1" strike="noStrike">
                  <a:solidFill>
                    <a:srgbClr val="3333cc"/>
                  </a:solidFill>
                  <a:latin typeface="Georgia"/>
                </a:rPr>
                <a:t>/2009 – 2019 гг./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Прямоугольник 3"/>
          <p:cNvSpPr/>
          <p:nvPr/>
        </p:nvSpPr>
        <p:spPr>
          <a:xfrm>
            <a:off x="1325520" y="4065480"/>
            <a:ext cx="7643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Призё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Регионального этапа Всероссийской предметной олимпиады школьник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и их наставники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17"/>
          <p:cNvSpPr/>
          <p:nvPr/>
        </p:nvSpPr>
        <p:spPr>
          <a:xfrm>
            <a:off x="0" y="3351240"/>
            <a:ext cx="989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логлазов Александр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еськаев Андрей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дянкина Даша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иськина Аля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оугольник 20"/>
          <p:cNvSpPr/>
          <p:nvPr/>
        </p:nvSpPr>
        <p:spPr>
          <a:xfrm>
            <a:off x="0" y="6923160"/>
            <a:ext cx="100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овикова Г.А.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логлазов М.Н. 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евайкина Н.М.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кина Т.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Рисунок 9" descr=""/>
          <p:cNvPicPr/>
          <p:nvPr/>
        </p:nvPicPr>
        <p:blipFill>
          <a:blip r:embed="rId2"/>
          <a:stretch/>
        </p:blipFill>
        <p:spPr>
          <a:xfrm>
            <a:off x="2897280" y="3994200"/>
            <a:ext cx="2057400" cy="2857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1" name="Рисунок 8" descr=""/>
          <p:cNvPicPr/>
          <p:nvPr/>
        </p:nvPicPr>
        <p:blipFill>
          <a:blip r:embed="rId3"/>
          <a:stretch/>
        </p:blipFill>
        <p:spPr>
          <a:xfrm>
            <a:off x="2968560" y="422280"/>
            <a:ext cx="2000160" cy="2878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2" name="Рисунок 1" descr="сканирование1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325440" y="351000"/>
            <a:ext cx="2274840" cy="292860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5" descr=""/>
          <p:cNvPicPr/>
          <p:nvPr/>
        </p:nvPicPr>
        <p:blipFill>
          <a:blip r:embed="rId5">
            <a:lum contrast="20000"/>
          </a:blip>
          <a:stretch/>
        </p:blipFill>
        <p:spPr>
          <a:xfrm>
            <a:off x="5397480" y="422280"/>
            <a:ext cx="2071800" cy="2933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4" name="Picture 12" descr="D:\Documents and Settings\Admin\Рабочий стол\Школа-Конкурс\Ан. Аля и Егор\АЛЯ 2.JPG"/>
          <p:cNvPicPr/>
          <p:nvPr/>
        </p:nvPicPr>
        <p:blipFill>
          <a:blip r:embed="rId6"/>
          <a:stretch/>
        </p:blipFill>
        <p:spPr>
          <a:xfrm>
            <a:off x="7754760" y="493560"/>
            <a:ext cx="1928880" cy="2919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5" name="Рисунок 10" descr=""/>
          <p:cNvPicPr/>
          <p:nvPr/>
        </p:nvPicPr>
        <p:blipFill>
          <a:blip r:embed="rId7">
            <a:lum contrast="20000"/>
          </a:blip>
          <a:stretch/>
        </p:blipFill>
        <p:spPr>
          <a:xfrm>
            <a:off x="7826400" y="4065480"/>
            <a:ext cx="1863720" cy="2714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6" name="Picture 12" descr="D:\Documents and Settings\Admin\Рабочий стол\Юбилей школы-2017\Звёзды\Зквайкина-a3a8a5ef8e32454dcaf781dc90be5215.png"/>
          <p:cNvPicPr/>
          <p:nvPr/>
        </p:nvPicPr>
        <p:blipFill>
          <a:blip r:embed="rId8"/>
          <a:stretch/>
        </p:blipFill>
        <p:spPr>
          <a:xfrm>
            <a:off x="5683320" y="3994200"/>
            <a:ext cx="1542960" cy="2838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3" descr="D:\Documents and Settings\Admin\Рабочий стол\Афган\яяя.bmp"/>
          <p:cNvPicPr/>
          <p:nvPr/>
        </p:nvPicPr>
        <p:blipFill>
          <a:blip r:embed="rId9"/>
          <a:stretch/>
        </p:blipFill>
        <p:spPr>
          <a:xfrm>
            <a:off x="254160" y="3994200"/>
            <a:ext cx="20541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760" y="0"/>
            <a:ext cx="9912600" cy="1565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уреаты  IX-го Межрегионального конкурс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«Урок по теме: История политических репрессий и сопротивления несвободе в СССР».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сква – 2011 год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щиеся 7-9 классов. Учитель: Новикова Г.А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4"/>
          <p:cNvPicPr/>
          <p:nvPr/>
        </p:nvPicPr>
        <p:blipFill>
          <a:blip r:embed="rId1"/>
          <a:stretch/>
        </p:blipFill>
        <p:spPr>
          <a:xfrm>
            <a:off x="0" y="1565280"/>
            <a:ext cx="10080720" cy="5994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http://upload2.schoolrm.ru/resize_cache/794247/c3bed4c46e3bebf9034448fed65e7b8e/iblock/ce1/ce1b779cd9e1e7761e146225175c0e46/aaf6e14844306e70e7b3dd434ad01c56.jpg"/>
          <p:cNvPicPr/>
          <p:nvPr/>
        </p:nvPicPr>
        <p:blipFill>
          <a:blip r:embed="rId2"/>
          <a:stretch/>
        </p:blipFill>
        <p:spPr>
          <a:xfrm>
            <a:off x="0" y="1636560"/>
            <a:ext cx="2387520" cy="3286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C:\Users\Пользователь\Desktop\Супер-Урок Репр. -МОСКВА -\фото.москва\DSCN0510.JPG"/>
          <p:cNvPicPr/>
          <p:nvPr/>
        </p:nvPicPr>
        <p:blipFill>
          <a:blip r:embed="rId3"/>
          <a:stretch/>
        </p:blipFill>
        <p:spPr>
          <a:xfrm>
            <a:off x="7397640" y="1636560"/>
            <a:ext cx="2683080" cy="2606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C:\Users\Пользователь\Desktop\Супер-Урок Репр. -МОСКВА -\фото.москва\DSCN0536.JPG"/>
          <p:cNvPicPr/>
          <p:nvPr/>
        </p:nvPicPr>
        <p:blipFill>
          <a:blip r:embed="rId4"/>
          <a:stretch/>
        </p:blipFill>
        <p:spPr>
          <a:xfrm>
            <a:off x="7397640" y="4208400"/>
            <a:ext cx="2683080" cy="1811520"/>
          </a:xfrm>
          <a:prstGeom prst="rect">
            <a:avLst/>
          </a:prstGeom>
          <a:ln w="0">
            <a:noFill/>
          </a:ln>
        </p:spPr>
      </p:pic>
      <p:pic>
        <p:nvPicPr>
          <p:cNvPr id="183" name="Репрессии-обрезка- +.wmv" descr=""/>
          <p:cNvPicPr/>
          <p:nvPr/>
        </p:nvPicPr>
        <p:blipFill>
          <a:blip r:embed="rId5"/>
          <a:stretch/>
        </p:blipFill>
        <p:spPr>
          <a:xfrm>
            <a:off x="2182680" y="3922560"/>
            <a:ext cx="5326200" cy="3351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42043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8" dur="1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760" y="-360"/>
            <a:ext cx="9912600" cy="1136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бедители и призёры Всероссийских, Республиканских 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курсов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иськины Аля, Егор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наставник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иськина Т.Д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изёры Республиканских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ревнований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наставник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елоглазов М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4"/>
          <p:cNvPicPr/>
          <p:nvPr/>
        </p:nvPicPr>
        <p:blipFill>
          <a:blip r:embed="rId1"/>
          <a:stretch/>
        </p:blipFill>
        <p:spPr>
          <a:xfrm>
            <a:off x="0" y="1136520"/>
            <a:ext cx="10080720" cy="6423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Семья"/>
          <p:cNvPicPr/>
          <p:nvPr/>
        </p:nvPicPr>
        <p:blipFill>
          <a:blip r:embed="rId2"/>
          <a:stretch/>
        </p:blipFill>
        <p:spPr>
          <a:xfrm>
            <a:off x="1111320" y="1208160"/>
            <a:ext cx="4071960" cy="25905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Егор и Аля"/>
          <p:cNvPicPr/>
          <p:nvPr/>
        </p:nvPicPr>
        <p:blipFill>
          <a:blip r:embed="rId3"/>
          <a:srcRect l="0" t="2628" r="0" b="0"/>
          <a:stretch/>
        </p:blipFill>
        <p:spPr>
          <a:xfrm>
            <a:off x="6826320" y="1208160"/>
            <a:ext cx="2036520" cy="2643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D:\Documents and Settings\Admin\Рабочий стол\Сканер-12 ноября 2017\Беськаев А..jpg"/>
          <p:cNvPicPr/>
          <p:nvPr/>
        </p:nvPicPr>
        <p:blipFill>
          <a:blip r:embed="rId4"/>
          <a:stretch/>
        </p:blipFill>
        <p:spPr>
          <a:xfrm>
            <a:off x="182520" y="4280040"/>
            <a:ext cx="2025720" cy="2786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D:\Documents and Settings\Admin\Рабочий стол\САЙТ-конкурс-2017\през. сор..jpg"/>
          <p:cNvPicPr/>
          <p:nvPr/>
        </p:nvPicPr>
        <p:blipFill>
          <a:blip r:embed="rId5"/>
          <a:stretch/>
        </p:blipFill>
        <p:spPr>
          <a:xfrm>
            <a:off x="2468520" y="4208400"/>
            <a:ext cx="4173480" cy="2857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7" descr="F:\9 МАЯ ФОТО\IMG_3920.JPG"/>
          <p:cNvPicPr/>
          <p:nvPr/>
        </p:nvPicPr>
        <p:blipFill>
          <a:blip r:embed="rId6"/>
          <a:stretch/>
        </p:blipFill>
        <p:spPr>
          <a:xfrm>
            <a:off x="6969240" y="4280040"/>
            <a:ext cx="2884320" cy="271440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9"/>
          <p:cNvSpPr/>
          <p:nvPr/>
        </p:nvSpPr>
        <p:spPr>
          <a:xfrm>
            <a:off x="0" y="6994440"/>
            <a:ext cx="1008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ськаев Андрей                     Команда 6 класса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елоглазовы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авлик,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.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Прямоугольник 10"/>
          <p:cNvSpPr/>
          <p:nvPr/>
        </p:nvSpPr>
        <p:spPr>
          <a:xfrm>
            <a:off x="152280" y="3780000"/>
            <a:ext cx="96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иськины  Аля,  Татьяна Дмитриевна, Егор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иськины Егор, Ал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760" y="-360"/>
            <a:ext cx="9912600" cy="779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бедители  и  призёры Всероссийских, Республиканских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лимпиад, конкурсов и наставник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овикова Г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4"/>
          <p:cNvPicPr/>
          <p:nvPr/>
        </p:nvPicPr>
        <p:blipFill>
          <a:blip r:embed="rId1"/>
          <a:stretch/>
        </p:blipFill>
        <p:spPr>
          <a:xfrm>
            <a:off x="0" y="779400"/>
            <a:ext cx="10080720" cy="678024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оугольник 17"/>
          <p:cNvSpPr/>
          <p:nvPr/>
        </p:nvSpPr>
        <p:spPr>
          <a:xfrm>
            <a:off x="0" y="3637080"/>
            <a:ext cx="100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стяйкина Алёна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броськина Даша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стяйкина  А.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18 г.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рямоугольник 20"/>
          <p:cNvSpPr/>
          <p:nvPr/>
        </p:nvSpPr>
        <p:spPr>
          <a:xfrm>
            <a:off x="0" y="6923160"/>
            <a:ext cx="100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логлазов Саша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19 г.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наева Настя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17 г.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футина Настя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3" descr="D:\Documents and Settings\Admin\Рабочий стол\image (3).jpg"/>
          <p:cNvPicPr/>
          <p:nvPr/>
        </p:nvPicPr>
        <p:blipFill>
          <a:blip r:embed="rId2"/>
          <a:stretch/>
        </p:blipFill>
        <p:spPr>
          <a:xfrm>
            <a:off x="825480" y="851040"/>
            <a:ext cx="4683240" cy="2795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D:\Documents and Settings\Admin\Рабочий стол\Краевед.-Саранск-2017\Новикова Г.А., Ифутина Н..bmp"/>
          <p:cNvPicPr/>
          <p:nvPr/>
        </p:nvPicPr>
        <p:blipFill>
          <a:blip r:embed="rId3"/>
          <a:srcRect l="0" t="0" r="-1586" b="0"/>
          <a:stretch/>
        </p:blipFill>
        <p:spPr>
          <a:xfrm>
            <a:off x="6897600" y="4137120"/>
            <a:ext cx="2928960" cy="2857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2" descr="D:\Documents and Settings\Admin\Рабочий стол\ФОТО Разные\18.01.2018-Фото\image (16).jpg"/>
          <p:cNvPicPr/>
          <p:nvPr/>
        </p:nvPicPr>
        <p:blipFill>
          <a:blip r:embed="rId4"/>
          <a:stretch/>
        </p:blipFill>
        <p:spPr>
          <a:xfrm>
            <a:off x="6754680" y="851040"/>
            <a:ext cx="2357640" cy="28382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3" descr="D:\Documents and Settings\Admin\Рабочий стол\Иск-во слова; Защ. Отечества-конкурс\Настя с папой .jpg"/>
          <p:cNvPicPr/>
          <p:nvPr/>
        </p:nvPicPr>
        <p:blipFill>
          <a:blip r:embed="rId5"/>
          <a:stretch/>
        </p:blipFill>
        <p:spPr>
          <a:xfrm>
            <a:off x="4754520" y="4280040"/>
            <a:ext cx="1627200" cy="25002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201" name="Picture 4" descr="C:\Мы с Сашей\Новикова Г_А  в театре\SDC10012.JPG"/>
          <p:cNvPicPr/>
          <p:nvPr/>
        </p:nvPicPr>
        <p:blipFill>
          <a:blip r:embed="rId6"/>
          <a:stretch/>
        </p:blipFill>
        <p:spPr>
          <a:xfrm>
            <a:off x="0" y="4280040"/>
            <a:ext cx="4071960" cy="2639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8" name="Текст 5"/>
          <p:cNvSpPr/>
          <p:nvPr/>
        </p:nvSpPr>
        <p:spPr>
          <a:xfrm>
            <a:off x="0" y="0"/>
            <a:ext cx="10080720" cy="12794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78000" indent="-37800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  <a:ea typeface="Times New Roman"/>
              </a:rPr>
              <a:t>НАШИ  НАГРАДЫ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357120" y="1795320"/>
            <a:ext cx="91281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D:\Documents and Settings\Admin\Рабочий стол\Видео-к ролику-Проект\НОВЫЙ РОЛИК-СУПЕР\2-я часть фильма\СЕРТИФИКАТ-10 тыс..jpg"/>
          <p:cNvPicPr/>
          <p:nvPr/>
        </p:nvPicPr>
        <p:blipFill>
          <a:blip r:embed="rId2"/>
          <a:stretch/>
        </p:blipFill>
        <p:spPr>
          <a:xfrm>
            <a:off x="5611680" y="1422360"/>
            <a:ext cx="3835440" cy="5851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D:\Documents and Settings\Admin\Рабочий стол\Фото Е.П. 1 ноября 2017\Attachments_ezabaturina@yandex.ru_2017-11-01_15-08-54\IMG_5212.jpg"/>
          <p:cNvPicPr/>
          <p:nvPr/>
        </p:nvPicPr>
        <p:blipFill>
          <a:blip r:embed="rId3"/>
          <a:stretch/>
        </p:blipFill>
        <p:spPr>
          <a:xfrm>
            <a:off x="611280" y="1422360"/>
            <a:ext cx="4340160" cy="5786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760" y="-360"/>
            <a:ext cx="9912600" cy="1065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Болью и счастьем пронзённая жизнь».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92 год.</a:t>
            </a:r>
            <a:br>
              <a:rPr sz="32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йонный конкурс (к 100-летию М.И. Цветаевой).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мес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4"/>
          <p:cNvPicPr/>
          <p:nvPr/>
        </p:nvPicPr>
        <p:blipFill>
          <a:blip r:embed="rId1"/>
          <a:stretch/>
        </p:blipFill>
        <p:spPr>
          <a:xfrm>
            <a:off x="0" y="993600"/>
            <a:ext cx="10080720" cy="65660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7"/>
          <p:cNvSpPr/>
          <p:nvPr/>
        </p:nvSpPr>
        <p:spPr>
          <a:xfrm>
            <a:off x="0" y="3708360"/>
            <a:ext cx="1008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овикова Г.А.         Ямашкин А.А.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Прямоугольник 20"/>
          <p:cNvSpPr/>
          <p:nvPr/>
        </p:nvSpPr>
        <p:spPr>
          <a:xfrm>
            <a:off x="0" y="6923160"/>
            <a:ext cx="100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бинкина Валя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батурина Юля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батурина Таня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рискина Мар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https://i.mycdn.me/image?t=3&amp;bid=848685071436&amp;id=848685071436&amp;plc=WEB&amp;tkn=*8It4qRwo_xVriJIcuELi0VIz4hQ"/>
          <p:cNvPicPr/>
          <p:nvPr/>
        </p:nvPicPr>
        <p:blipFill>
          <a:blip r:embed="rId2"/>
          <a:stretch/>
        </p:blipFill>
        <p:spPr>
          <a:xfrm>
            <a:off x="6391440" y="4208400"/>
            <a:ext cx="2947680" cy="2706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https://i.mycdn.me/image?t=3&amp;bid=848685071436&amp;id=848685071436&amp;plc=WEB&amp;tkn=*8It4qRwo_xVriJIcuELi0VIz4hQ"/>
          <p:cNvPicPr/>
          <p:nvPr/>
        </p:nvPicPr>
        <p:blipFill>
          <a:blip r:embed="rId3"/>
          <a:stretch/>
        </p:blipFill>
        <p:spPr>
          <a:xfrm>
            <a:off x="682560" y="4208400"/>
            <a:ext cx="3071880" cy="2765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s://i.mycdn.me/image?t=3&amp;bid=848685071436&amp;id=848685071436&amp;plc=WEB&amp;tkn=*8It4qRwo_xVriJIcuELi0VIz4hQ"/>
          <p:cNvPicPr/>
          <p:nvPr/>
        </p:nvPicPr>
        <p:blipFill>
          <a:blip r:embed="rId4"/>
          <a:stretch/>
        </p:blipFill>
        <p:spPr>
          <a:xfrm>
            <a:off x="4397400" y="4280040"/>
            <a:ext cx="1299960" cy="1571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https://i.mycdn.me/image?t=3&amp;bid=812210513137&amp;id=812210513137&amp;plc=WEB&amp;tkn=*uprVS5NPaUu1qtrOZ8bznRDHclM"/>
          <p:cNvPicPr/>
          <p:nvPr/>
        </p:nvPicPr>
        <p:blipFill>
          <a:blip r:embed="rId5"/>
          <a:stretch/>
        </p:blipFill>
        <p:spPr>
          <a:xfrm>
            <a:off x="3040200" y="1208160"/>
            <a:ext cx="1827000" cy="2571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0" name="Прямоугольник 10"/>
          <p:cNvSpPr/>
          <p:nvPr/>
        </p:nvSpPr>
        <p:spPr>
          <a:xfrm>
            <a:off x="3986280" y="5780160"/>
            <a:ext cx="210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убанищева Таня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27" descr="D:\Documents and Settings\Admin\Рабочий стол\Видео-к ролику-Проект\НОВЫЙ РОЛИК-СУПЕР\ДИРЕКТОРА\12-ЯМАШКИН А.А\2.jpg"/>
          <p:cNvPicPr/>
          <p:nvPr/>
        </p:nvPicPr>
        <p:blipFill>
          <a:blip r:embed="rId6"/>
          <a:stretch/>
        </p:blipFill>
        <p:spPr>
          <a:xfrm>
            <a:off x="5183280" y="1136520"/>
            <a:ext cx="200016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760" y="-360"/>
            <a:ext cx="9912600" cy="1065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Дипломат. Поэт. Композитор».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95 год.</a:t>
            </a:r>
            <a:br>
              <a:rPr sz="32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Районный конкурс (к 200-летию А.С. Грибоедова).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мес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4"/>
          <p:cNvPicPr/>
          <p:nvPr/>
        </p:nvPicPr>
        <p:blipFill>
          <a:blip r:embed="rId1"/>
          <a:stretch/>
        </p:blipFill>
        <p:spPr>
          <a:xfrm>
            <a:off x="0" y="993600"/>
            <a:ext cx="10080720" cy="656604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17"/>
          <p:cNvSpPr/>
          <p:nvPr/>
        </p:nvSpPr>
        <p:spPr>
          <a:xfrm>
            <a:off x="0" y="3708360"/>
            <a:ext cx="1008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.А. Ямашкин               Голова Р.Ф.                  Кабаева Г.М.          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12" descr="D:\Documents and Settings\Admin\Рабочий стол\САЙТ-конкурс-2017\Выпускники школы\Голова Раиса Фёдоровна.bmp"/>
          <p:cNvPicPr/>
          <p:nvPr/>
        </p:nvPicPr>
        <p:blipFill>
          <a:blip r:embed="rId2"/>
          <a:stretch/>
        </p:blipFill>
        <p:spPr>
          <a:xfrm>
            <a:off x="3897360" y="1136520"/>
            <a:ext cx="1928880" cy="25434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" descr="https://i.mycdn.me/image?t=3&amp;bid=834123424497&amp;id=834123424497&amp;plc=WEB&amp;tkn=*ow2RTpa0S86he6yytkwBGJ4REBo"/>
          <p:cNvPicPr/>
          <p:nvPr/>
        </p:nvPicPr>
        <p:blipFill>
          <a:blip r:embed="rId3"/>
          <a:stretch/>
        </p:blipFill>
        <p:spPr>
          <a:xfrm>
            <a:off x="6326280" y="1136520"/>
            <a:ext cx="1984320" cy="2540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D:\Documents and Settings\Admin\Рабочий стол\image.jpg"/>
          <p:cNvPicPr/>
          <p:nvPr/>
        </p:nvPicPr>
        <p:blipFill>
          <a:blip r:embed="rId4"/>
          <a:stretch/>
        </p:blipFill>
        <p:spPr>
          <a:xfrm>
            <a:off x="5397480" y="4208400"/>
            <a:ext cx="1643040" cy="2500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D:\Documents and Settings\Admin\Рабочий стол\image (1).jpg"/>
          <p:cNvPicPr/>
          <p:nvPr/>
        </p:nvPicPr>
        <p:blipFill>
          <a:blip r:embed="rId5"/>
          <a:stretch/>
        </p:blipFill>
        <p:spPr>
          <a:xfrm>
            <a:off x="2897280" y="4208400"/>
            <a:ext cx="1716120" cy="25002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12"/>
          <p:cNvSpPr/>
          <p:nvPr/>
        </p:nvSpPr>
        <p:spPr>
          <a:xfrm>
            <a:off x="325440" y="6780240"/>
            <a:ext cx="93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амаюнов Дима          Шамонина Маша              Кабаева Катя            Кумакшев Андр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3" descr="D:\Documents and Settings\Admin\Рабочий стол\image (1).jpg"/>
          <p:cNvPicPr/>
          <p:nvPr/>
        </p:nvPicPr>
        <p:blipFill>
          <a:blip r:embed="rId6"/>
          <a:stretch/>
        </p:blipFill>
        <p:spPr>
          <a:xfrm>
            <a:off x="7683480" y="4280040"/>
            <a:ext cx="1643040" cy="2500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D:\Documents and Settings\Admin\Рабочий стол\День Учит.-2018 г\1996.jpg"/>
          <p:cNvPicPr/>
          <p:nvPr/>
        </p:nvPicPr>
        <p:blipFill>
          <a:blip r:embed="rId7"/>
          <a:stretch/>
        </p:blipFill>
        <p:spPr>
          <a:xfrm>
            <a:off x="539640" y="4137120"/>
            <a:ext cx="1714680" cy="2500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D:\Documents and Settings\Admin\Рабочий стол\День Учит.-2018 г\1996.jpg"/>
          <p:cNvPicPr/>
          <p:nvPr/>
        </p:nvPicPr>
        <p:blipFill>
          <a:blip r:embed="rId8"/>
          <a:stretch/>
        </p:blipFill>
        <p:spPr>
          <a:xfrm>
            <a:off x="1468440" y="1136520"/>
            <a:ext cx="19828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760" y="0"/>
            <a:ext cx="9912600" cy="922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ые первые в районе призёры</a:t>
            </a:r>
            <a:br>
              <a:rPr sz="32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спубликанских олимпиад и их наставники /1998-2006 гг.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4"/>
          <p:cNvPicPr/>
          <p:nvPr/>
        </p:nvPicPr>
        <p:blipFill>
          <a:blip r:embed="rId1"/>
          <a:stretch/>
        </p:blipFill>
        <p:spPr>
          <a:xfrm>
            <a:off x="0" y="922320"/>
            <a:ext cx="10080720" cy="663732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рямоугольник 12"/>
          <p:cNvSpPr/>
          <p:nvPr/>
        </p:nvSpPr>
        <p:spPr>
          <a:xfrm>
            <a:off x="325440" y="7066080"/>
            <a:ext cx="93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13" descr="Григ-31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254160" y="993600"/>
            <a:ext cx="2081160" cy="2928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http://www.natapop.ru/_tbkp/tn_1.jpg"/>
          <p:cNvPicPr/>
          <p:nvPr/>
        </p:nvPicPr>
        <p:blipFill>
          <a:blip r:embed="rId3"/>
          <a:stretch/>
        </p:blipFill>
        <p:spPr>
          <a:xfrm>
            <a:off x="2682720" y="1565280"/>
            <a:ext cx="2286000" cy="1682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Тренин Женя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5183280" y="922320"/>
            <a:ext cx="2214360" cy="2943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https://i.mycdn.me/image?t=3&amp;bid=814318256881&amp;id=814318256881&amp;plc=WEB&amp;tkn=*3cH1XxdQ_NZVb6RCJYWv5UKGrCc"/>
          <p:cNvPicPr/>
          <p:nvPr/>
        </p:nvPicPr>
        <p:blipFill>
          <a:blip r:embed="rId5">
            <a:lum contrast="20000"/>
          </a:blip>
          <a:stretch/>
        </p:blipFill>
        <p:spPr>
          <a:xfrm>
            <a:off x="7612200" y="922320"/>
            <a:ext cx="2077920" cy="2857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D:\Documents and Settings\Admin\Рабочий стол\День Учит.-2018 г\1993-мужчины.jpg"/>
          <p:cNvPicPr/>
          <p:nvPr/>
        </p:nvPicPr>
        <p:blipFill>
          <a:blip r:embed="rId6"/>
          <a:stretch/>
        </p:blipFill>
        <p:spPr>
          <a:xfrm>
            <a:off x="325440" y="4280040"/>
            <a:ext cx="1825560" cy="278604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93" name="Picture 3" descr="Мы-Учителя"/>
          <p:cNvPicPr/>
          <p:nvPr/>
        </p:nvPicPr>
        <p:blipFill>
          <a:blip r:embed="rId7"/>
          <a:stretch/>
        </p:blipFill>
        <p:spPr>
          <a:xfrm>
            <a:off x="5326200" y="4280040"/>
            <a:ext cx="1928520" cy="2860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08010003"/>
          <p:cNvPicPr/>
          <p:nvPr/>
        </p:nvPicPr>
        <p:blipFill>
          <a:blip r:embed="rId8"/>
          <a:stretch/>
        </p:blipFill>
        <p:spPr>
          <a:xfrm>
            <a:off x="7826400" y="4280040"/>
            <a:ext cx="1897200" cy="278604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22"/>
          <p:cNvSpPr/>
          <p:nvPr/>
        </p:nvSpPr>
        <p:spPr>
          <a:xfrm>
            <a:off x="0" y="3851280"/>
            <a:ext cx="1008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отов Григорий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няйкин Андрей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Тренин Евгений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орохов Евгени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Прямоугольник 23"/>
          <p:cNvSpPr/>
          <p:nvPr/>
        </p:nvSpPr>
        <p:spPr>
          <a:xfrm>
            <a:off x="0" y="7066080"/>
            <a:ext cx="1008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ачинова Т.Н.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овикова Г.А.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Прокина Н.И.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елоглазов М.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12" descr="D:\Documents and Settings\Admin\Рабочий стол\ФОТО Разные\я.bmp"/>
          <p:cNvPicPr/>
          <p:nvPr/>
        </p:nvPicPr>
        <p:blipFill>
          <a:blip r:embed="rId9"/>
          <a:stretch/>
        </p:blipFill>
        <p:spPr>
          <a:xfrm>
            <a:off x="2825640" y="4280040"/>
            <a:ext cx="19623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760" y="-360"/>
            <a:ext cx="9912600" cy="1065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спубликанский  финал  «Движение юных патриотов». 2001-2002  учебный  год. Команда – призёр в номинациях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4"/>
          <p:cNvPicPr/>
          <p:nvPr/>
        </p:nvPicPr>
        <p:blipFill>
          <a:blip r:embed="rId1"/>
          <a:stretch/>
        </p:blipFill>
        <p:spPr>
          <a:xfrm>
            <a:off x="0" y="1065240"/>
            <a:ext cx="10080720" cy="64944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23"/>
          <p:cNvSpPr/>
          <p:nvPr/>
        </p:nvSpPr>
        <p:spPr>
          <a:xfrm>
            <a:off x="0" y="6423120"/>
            <a:ext cx="100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Яськина Ираида          Хлучин Владимир         Полушкина Наталья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юткин Олег          Пашуткина Валентина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Рисунок 1" descr="https://i.mycdn.me/image?t=3&amp;bid=814675195633&amp;id=814675195633&amp;plc=WEB&amp;tkn=*Fom3IHxwCFVhG4B2pMbBdjPjP9M"/>
          <p:cNvPicPr/>
          <p:nvPr/>
        </p:nvPicPr>
        <p:blipFill>
          <a:blip r:embed="rId2"/>
          <a:stretch/>
        </p:blipFill>
        <p:spPr>
          <a:xfrm>
            <a:off x="1325520" y="1208160"/>
            <a:ext cx="72151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760" y="0"/>
            <a:ext cx="9912600" cy="993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спубликанский  финал  «Движение юных патриотов». 2001-2002  учебный  год. Команда – призёр в номинациях.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4"/>
          <p:cNvPicPr/>
          <p:nvPr/>
        </p:nvPicPr>
        <p:blipFill>
          <a:blip r:embed="rId1"/>
          <a:stretch/>
        </p:blipFill>
        <p:spPr>
          <a:xfrm>
            <a:off x="0" y="922320"/>
            <a:ext cx="10080720" cy="663732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7"/>
          <p:cNvSpPr/>
          <p:nvPr/>
        </p:nvSpPr>
        <p:spPr>
          <a:xfrm>
            <a:off x="0" y="3637080"/>
            <a:ext cx="100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улагин И.А.            Новикова Г.А.                                                           Прокина Н.И.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6" descr="https://i.mycdn.me/image?t=3&amp;bid=812278553585&amp;id=812278553585&amp;plc=WEB&amp;tkn=*7OiczMt3FDM-LRai2jXqF9VXhIg"/>
          <p:cNvPicPr/>
          <p:nvPr/>
        </p:nvPicPr>
        <p:blipFill>
          <a:blip r:embed="rId2"/>
          <a:stretch/>
        </p:blipFill>
        <p:spPr>
          <a:xfrm>
            <a:off x="2468520" y="1065240"/>
            <a:ext cx="1913040" cy="2571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https://i.mycdn.me/image?t=3&amp;bid=812278553585&amp;id=812278553585&amp;plc=WEB&amp;tkn=*7OiczMt3FDM-LRai2jXqF9VXhIg"/>
          <p:cNvPicPr/>
          <p:nvPr/>
        </p:nvPicPr>
        <p:blipFill>
          <a:blip r:embed="rId3"/>
          <a:stretch/>
        </p:blipFill>
        <p:spPr>
          <a:xfrm>
            <a:off x="5254560" y="4137120"/>
            <a:ext cx="2073240" cy="2571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https://i.mycdn.me/image?t=3&amp;bid=812278553585&amp;id=812278553585&amp;plc=WEB&amp;tkn=*7OiczMt3FDM-LRai2jXqF9VXhIg"/>
          <p:cNvPicPr/>
          <p:nvPr/>
        </p:nvPicPr>
        <p:blipFill>
          <a:blip r:embed="rId4"/>
          <a:stretch/>
        </p:blipFill>
        <p:spPr>
          <a:xfrm>
            <a:off x="7683480" y="4137120"/>
            <a:ext cx="2005200" cy="2571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https://i.mycdn.me/image?t=3&amp;bid=812278553585&amp;id=812278553585&amp;plc=WEB&amp;tkn=*7OiczMt3FDM-LRai2jXqF9VXhIg"/>
          <p:cNvPicPr/>
          <p:nvPr/>
        </p:nvPicPr>
        <p:blipFill>
          <a:blip r:embed="rId5"/>
          <a:stretch/>
        </p:blipFill>
        <p:spPr>
          <a:xfrm>
            <a:off x="254160" y="1065240"/>
            <a:ext cx="2000160" cy="2583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9" name="Picture 6" descr="https://i.mycdn.me/image?t=3&amp;bid=812278553585&amp;id=812278553585&amp;plc=WEB&amp;tkn=*7OiczMt3FDM-LRai2jXqF9VXhIg"/>
          <p:cNvPicPr/>
          <p:nvPr/>
        </p:nvPicPr>
        <p:blipFill>
          <a:blip r:embed="rId6"/>
          <a:stretch/>
        </p:blipFill>
        <p:spPr>
          <a:xfrm>
            <a:off x="2825640" y="4137120"/>
            <a:ext cx="2000520" cy="2571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https://i.mycdn.me/image?t=3&amp;bid=812278553585&amp;id=812278553585&amp;plc=WEB&amp;tkn=*7OiczMt3FDM-LRai2jXqF9VXhIg"/>
          <p:cNvPicPr/>
          <p:nvPr/>
        </p:nvPicPr>
        <p:blipFill>
          <a:blip r:embed="rId7"/>
          <a:stretch/>
        </p:blipFill>
        <p:spPr>
          <a:xfrm>
            <a:off x="254160" y="4178160"/>
            <a:ext cx="2071440" cy="260208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111" name="Picture 6" descr="https://i.mycdn.me/image?t=3&amp;bid=812278553585&amp;id=812278553585&amp;plc=WEB&amp;tkn=*7OiczMt3FDM-LRai2jXqF9VXhIg"/>
          <p:cNvPicPr/>
          <p:nvPr/>
        </p:nvPicPr>
        <p:blipFill>
          <a:blip r:embed="rId8"/>
          <a:stretch/>
        </p:blipFill>
        <p:spPr>
          <a:xfrm>
            <a:off x="7897680" y="1065240"/>
            <a:ext cx="1874880" cy="2500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D:\Documents and Settings\Admin\Рабочий стол\Сканер-12 ноября 2017\ДЮП-республика.jpg"/>
          <p:cNvPicPr/>
          <p:nvPr/>
        </p:nvPicPr>
        <p:blipFill>
          <a:blip r:embed="rId9"/>
          <a:stretch/>
        </p:blipFill>
        <p:spPr>
          <a:xfrm>
            <a:off x="4540320" y="1208160"/>
            <a:ext cx="3163680" cy="233532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23"/>
          <p:cNvSpPr/>
          <p:nvPr/>
        </p:nvSpPr>
        <p:spPr>
          <a:xfrm>
            <a:off x="254160" y="6780240"/>
            <a:ext cx="964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монова В.С.             Белоглазов М.Н.         Забатурина Е.П.         Кумакшев А.А.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4"/>
          <p:cNvPicPr/>
          <p:nvPr/>
        </p:nvPicPr>
        <p:blipFill>
          <a:blip r:embed="rId1"/>
          <a:stretch/>
        </p:blipFill>
        <p:spPr>
          <a:xfrm>
            <a:off x="0" y="779400"/>
            <a:ext cx="10080720" cy="678024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20"/>
          <p:cNvSpPr/>
          <p:nvPr/>
        </p:nvSpPr>
        <p:spPr>
          <a:xfrm>
            <a:off x="0" y="7066080"/>
            <a:ext cx="100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лагин И.А .  /2000 г./            Новикова Г.А.  /2012 г./             Струенков Р.М.  /2016 г./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3" descr="D:\Documents and Settings\Admin\Рабочий стол\Афган\рс-2.bmp"/>
          <p:cNvPicPr/>
          <p:nvPr/>
        </p:nvPicPr>
        <p:blipFill>
          <a:blip r:embed="rId2"/>
          <a:stretch/>
        </p:blipFill>
        <p:spPr>
          <a:xfrm>
            <a:off x="7397640" y="4280040"/>
            <a:ext cx="1928880" cy="2766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D:\Documents and Settings\Admin\Рабочий стол\Конкурс РМО-2017\+ Я-уч. го.jpg"/>
          <p:cNvPicPr/>
          <p:nvPr/>
        </p:nvPicPr>
        <p:blipFill>
          <a:blip r:embed="rId3"/>
          <a:stretch/>
        </p:blipFill>
        <p:spPr>
          <a:xfrm>
            <a:off x="3968640" y="4280040"/>
            <a:ext cx="1928880" cy="2786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Игорь Алексеевич Кулагин"/>
          <p:cNvPicPr/>
          <p:nvPr/>
        </p:nvPicPr>
        <p:blipFill>
          <a:blip r:embed="rId4"/>
          <a:stretch/>
        </p:blipFill>
        <p:spPr>
          <a:xfrm>
            <a:off x="611280" y="4280040"/>
            <a:ext cx="1928880" cy="27860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4"/>
          <p:cNvSpPr/>
          <p:nvPr/>
        </p:nvSpPr>
        <p:spPr>
          <a:xfrm>
            <a:off x="254160" y="3851280"/>
            <a:ext cx="9826560" cy="357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бедители  районного конкурса  «Учитель год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82520" y="0"/>
            <a:ext cx="9898200" cy="779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бедитель  республиканского  конкурс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Учитель года-2002»  Белоглазов М.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оугольник 17"/>
          <p:cNvSpPr/>
          <p:nvPr/>
        </p:nvSpPr>
        <p:spPr>
          <a:xfrm>
            <a:off x="4826160" y="922320"/>
            <a:ext cx="3857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Краповый» спецназове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 ребят не бояться армии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ывший сержа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ушит кирпич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мает доски  и благодари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вку Корчаги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/«Известия Мордовии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3 апреля 2002 г.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11" descr="Белоглазов-2е0001"/>
          <p:cNvPicPr/>
          <p:nvPr/>
        </p:nvPicPr>
        <p:blipFill>
          <a:blip r:embed="rId5"/>
          <a:stretch/>
        </p:blipFill>
        <p:spPr>
          <a:xfrm>
            <a:off x="1397160" y="851040"/>
            <a:ext cx="33969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760" y="207720"/>
            <a:ext cx="9912600" cy="1928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спубликанский  форум  по  конституционному                                              и  избирательному  праву.   2005-2006  учебный  год.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кола – Призёр.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спубликанский  конкурс  «Подросток и закон».                                        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е место.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6-2007 учебный год. 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4"/>
          <p:cNvPicPr/>
          <p:nvPr/>
        </p:nvPicPr>
        <p:blipFill>
          <a:blip r:embed="rId1"/>
          <a:stretch/>
        </p:blipFill>
        <p:spPr>
          <a:xfrm>
            <a:off x="0" y="2136600"/>
            <a:ext cx="10080720" cy="542304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17"/>
          <p:cNvSpPr/>
          <p:nvPr/>
        </p:nvSpPr>
        <p:spPr>
          <a:xfrm>
            <a:off x="0" y="4851360"/>
            <a:ext cx="1008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овикова Г.А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ягитова Таня                                                                                       Тюкина В.И.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2" descr="D:\Documents and Settings\Admin\Рабочий стол\Юбилей школы-2017\Звёзды\изб. право-грамота.jpg"/>
          <p:cNvPicPr/>
          <p:nvPr/>
        </p:nvPicPr>
        <p:blipFill>
          <a:blip r:embed="rId2"/>
          <a:stretch/>
        </p:blipFill>
        <p:spPr>
          <a:xfrm>
            <a:off x="3111480" y="3987720"/>
            <a:ext cx="2678040" cy="3571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D:\Documents and Settings\Admin\Мои документы\Downloads\Сягитова Т.А..bmp"/>
          <p:cNvPicPr/>
          <p:nvPr/>
        </p:nvPicPr>
        <p:blipFill>
          <a:blip r:embed="rId3"/>
          <a:stretch/>
        </p:blipFill>
        <p:spPr>
          <a:xfrm>
            <a:off x="2039760" y="2136600"/>
            <a:ext cx="1865520" cy="2643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8" name="Picture 4" descr="Новикова Г"/>
          <p:cNvPicPr/>
          <p:nvPr/>
        </p:nvPicPr>
        <p:blipFill>
          <a:blip r:embed="rId4"/>
          <a:stretch/>
        </p:blipFill>
        <p:spPr>
          <a:xfrm>
            <a:off x="0" y="2136600"/>
            <a:ext cx="1968480" cy="2684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9" name="Picture 2" descr="D:\Documents and Settings\Admin\Рабочий стол\Юбилей школы-2017\Звёзды\2-е место-грамота.jpg"/>
          <p:cNvPicPr/>
          <p:nvPr/>
        </p:nvPicPr>
        <p:blipFill>
          <a:blip r:embed="rId5"/>
          <a:stretch/>
        </p:blipFill>
        <p:spPr>
          <a:xfrm>
            <a:off x="5826240" y="4059360"/>
            <a:ext cx="2523960" cy="3500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"/>
          <p:cNvPicPr/>
          <p:nvPr/>
        </p:nvPicPr>
        <p:blipFill>
          <a:blip r:embed="rId6"/>
          <a:stretch/>
        </p:blipFill>
        <p:spPr>
          <a:xfrm>
            <a:off x="8002440" y="2136600"/>
            <a:ext cx="207828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0:10:55Z</dcterms:created>
  <dc:creator/>
  <dc:description/>
  <dc:language>en-US</dc:language>
  <cp:lastModifiedBy>Admin</cp:lastModifiedBy>
  <dcterms:modified xsi:type="dcterms:W3CDTF">2019-03-20T21:34:33Z</dcterms:modified>
  <cp:revision>704</cp:revision>
  <dc:subject/>
  <dc:title>Презентация PowerPoint</dc:title>
</cp:coreProperties>
</file>