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png" ContentType="image/png"/>
  <Override PartName="/ppt/media/image9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82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0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63.jpeg" ContentType="image/jpeg"/>
  <Override PartName="/ppt/media/image71.png" ContentType="image/png"/>
  <Override PartName="/ppt/media/image6.jpeg" ContentType="image/jpeg"/>
  <Override PartName="/ppt/media/image25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7.jpeg" ContentType="image/jpeg"/>
  <Override PartName="/ppt/media/image38.jpeg" ContentType="image/jpeg"/>
  <Override PartName="/ppt/media/image1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.jpeg" ContentType="image/jpeg"/>
  <Override PartName="/ppt/media/image50.png" ContentType="image/png"/>
  <Override PartName="/ppt/media/image79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85.jpeg" ContentType="image/jpeg"/>
  <Override PartName="/ppt/media/image2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C04F5-7299-4295-BC50-EB5BCD83D2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4ABE-2C11-4037-9CD7-94903F8F5D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F5426-5E0A-4C0F-A231-9E9D95D79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BA6D0-F68E-42FE-B361-DF2EA385A3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EE64D-0932-442B-A676-39447C93C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0FC95-B800-4D7A-BEC0-CCA2346A9D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8B636-B03C-461F-AB43-313B8F6F80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504-857B-4507-836F-8B687FA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ED8-72D8-4E69-B36D-D1C8F6E8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13B-0F72-4F40-8712-896A9B95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202-FD1A-4BC7-BBB6-9AB83E6E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EB3-2360-49A1-A6C0-42529E9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692-306C-4C16-A6C0-9E153EE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256-0750-4E82-A0DB-19828AD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0BC-FE04-427C-BD0A-DD2B8290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06A-24A3-49F7-9B6A-E8E33EAE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0BA-8687-4A6B-AE90-F1AD372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09C-BD6C-41E4-99AF-41E55A6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4BB-EE6E-4B17-8C27-33FCEF0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0A518C-6E99-4B32-8BBC-3F9F9B9E07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png"/><Relationship Id="rId9" Type="http://schemas.openxmlformats.org/officeDocument/2006/relationships/image" Target="../media/image7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53" name="Горизонтальный свиток 4"/>
          <p:cNvGrpSpPr/>
          <p:nvPr/>
        </p:nvGrpSpPr>
        <p:grpSpPr>
          <a:xfrm>
            <a:off x="396720" y="-268200"/>
            <a:ext cx="9217080" cy="4565520"/>
            <a:chOff x="396720" y="-268200"/>
            <a:chExt cx="9217080" cy="4565520"/>
          </a:xfrm>
        </p:grpSpPr>
        <p:pic>
          <p:nvPicPr>
            <p:cNvPr id="54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96720" y="-268200"/>
              <a:ext cx="92170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81160" y="500040"/>
              <a:ext cx="789624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Наши  достижения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МЫ  были Первыми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800" spc="-1" strike="noStrike">
                  <a:solidFill>
                    <a:srgbClr val="ac0420"/>
                  </a:solidFill>
                  <a:latin typeface="Georgia"/>
                </a:rPr>
                <a:t>/1992 – 2019 гг./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Прямоугольник 5"/>
          <p:cNvSpPr/>
          <p:nvPr/>
        </p:nvSpPr>
        <p:spPr>
          <a:xfrm>
            <a:off x="0" y="3637080"/>
            <a:ext cx="1008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с приветствуют 18 учите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132 уче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БОУ «Большеберезниковская основная общеобразовательная школа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18-2019 уч.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втор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кова Г.А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7"/>
          <p:cNvSpPr/>
          <p:nvPr/>
        </p:nvSpPr>
        <p:spPr>
          <a:xfrm>
            <a:off x="0" y="2994120"/>
            <a:ext cx="10080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рошко Марина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монина Ирина  Новикова Г.А.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чинова Ма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кольцо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зань - 2009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янск -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и - 2006»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0" y="6566040"/>
            <a:ext cx="10080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Токарева Таня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агин  Костя     Кулагин И.А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руно - 2009»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лая ладья - 2005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D:\Documents and Settings\Admin\Рабочий стол\ВСЁ\Для Одноклассники-фото\Я\27-Я с Ириной-1.jpg"/>
          <p:cNvPicPr/>
          <p:nvPr/>
        </p:nvPicPr>
        <p:blipFill>
          <a:blip r:embed="rId2"/>
          <a:stretch/>
        </p:blipFill>
        <p:spPr>
          <a:xfrm>
            <a:off x="3611520" y="20808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IMG_1420 - копия"/>
          <p:cNvPicPr/>
          <p:nvPr/>
        </p:nvPicPr>
        <p:blipFill>
          <a:blip r:embed="rId3"/>
          <a:stretch/>
        </p:blipFill>
        <p:spPr>
          <a:xfrm>
            <a:off x="7397640" y="208080"/>
            <a:ext cx="20257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мы,фото\+Фото Тани Т\23062010318.jpg"/>
          <p:cNvPicPr/>
          <p:nvPr/>
        </p:nvPicPr>
        <p:blipFill>
          <a:blip r:embed="rId4"/>
          <a:stretch/>
        </p:blipFill>
        <p:spPr>
          <a:xfrm>
            <a:off x="611280" y="4137120"/>
            <a:ext cx="3516120" cy="2500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Игорь Алексеевич Кулагин"/>
          <p:cNvPicPr/>
          <p:nvPr/>
        </p:nvPicPr>
        <p:blipFill>
          <a:blip r:embed="rId5"/>
          <a:srcRect l="0" t="-415" r="0" b="0"/>
          <a:stretch/>
        </p:blipFill>
        <p:spPr>
          <a:xfrm>
            <a:off x="7754760" y="413712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Documents and Settings\Admin\Рабочий стол\Сканер-12 ноября 2017\костя к..bmp"/>
          <p:cNvPicPr/>
          <p:nvPr/>
        </p:nvPicPr>
        <p:blipFill>
          <a:blip r:embed="rId6"/>
          <a:stretch/>
        </p:blipFill>
        <p:spPr>
          <a:xfrm>
            <a:off x="5468760" y="4137120"/>
            <a:ext cx="1868760" cy="2368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7"/>
          <a:stretch/>
        </p:blipFill>
        <p:spPr>
          <a:xfrm>
            <a:off x="182520" y="208080"/>
            <a:ext cx="27147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141" name="Горизонтальный свиток 4"/>
          <p:cNvGrpSpPr/>
          <p:nvPr/>
        </p:nvGrpSpPr>
        <p:grpSpPr>
          <a:xfrm>
            <a:off x="324000" y="-268200"/>
            <a:ext cx="9551880" cy="6211800"/>
            <a:chOff x="324000" y="-268200"/>
            <a:chExt cx="9551880" cy="6211800"/>
          </a:xfrm>
        </p:grpSpPr>
        <p:pic>
          <p:nvPicPr>
            <p:cNvPr id="142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24000" y="-268200"/>
              <a:ext cx="9551880" cy="62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316160" y="704880"/>
              <a:ext cx="7921440" cy="42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Georgia"/>
                </a:rPr>
                <a:t>Победители и призёр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Регионального этапа Всероссийской предметной олимпиады школьников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и их наставник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/2008 – 2009 гг./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Georgia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7"/>
          <p:cNvSpPr/>
          <p:nvPr/>
        </p:nvSpPr>
        <p:spPr>
          <a:xfrm>
            <a:off x="182520" y="3208320"/>
            <a:ext cx="9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монина Ирина         Радкевич Ольга                       Колесникова Ксения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0" y="678024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монина Р.И.            Коробова Л.П.              Федотова С.Н.           Новикова Г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396720" y="279360"/>
            <a:ext cx="2117880" cy="29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Шамон, Кротова1"/>
          <p:cNvPicPr/>
          <p:nvPr/>
        </p:nvPicPr>
        <p:blipFill>
          <a:blip r:embed="rId3"/>
          <a:stretch/>
        </p:blipFill>
        <p:spPr>
          <a:xfrm>
            <a:off x="325440" y="3851280"/>
            <a:ext cx="2111400" cy="29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Оля Рад"/>
          <p:cNvPicPr/>
          <p:nvPr/>
        </p:nvPicPr>
        <p:blipFill>
          <a:blip r:embed="rId4"/>
          <a:stretch/>
        </p:blipFill>
        <p:spPr>
          <a:xfrm>
            <a:off x="2897280" y="279360"/>
            <a:ext cx="2089080" cy="29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IMG_20161005_085220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825640" y="3851280"/>
            <a:ext cx="2073240" cy="2928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nsportal.ru/sites/default/files/styles/media_gallery_thumbnail/public/gallery/2014/01/17/dsc04705_5.jpg"/>
          <p:cNvPicPr/>
          <p:nvPr/>
        </p:nvPicPr>
        <p:blipFill>
          <a:blip r:embed="rId6"/>
          <a:stretch/>
        </p:blipFill>
        <p:spPr>
          <a:xfrm>
            <a:off x="5326200" y="3922560"/>
            <a:ext cx="2071440" cy="287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Мы-трое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7754760" y="3922560"/>
            <a:ext cx="1965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7"/>
          <p:cNvSpPr/>
          <p:nvPr/>
        </p:nvSpPr>
        <p:spPr>
          <a:xfrm>
            <a:off x="0" y="3306600"/>
            <a:ext cx="100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чинова Мария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Токарева Татьяна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Зотова Мария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20"/>
          <p:cNvSpPr/>
          <p:nvPr/>
        </p:nvSpPr>
        <p:spPr>
          <a:xfrm>
            <a:off x="0" y="6923160"/>
            <a:ext cx="100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                  Сардаева И.В.   Шачинова Т.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Рисунок 1" descr="C:\Users\TEMP.User-ПК.002\Desktop\IMG_1184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254400" y="422280"/>
            <a:ext cx="210348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12" descr="сканирование0001"/>
          <p:cNvPicPr/>
          <p:nvPr/>
        </p:nvPicPr>
        <p:blipFill>
          <a:blip r:embed="rId3"/>
          <a:stretch/>
        </p:blipFill>
        <p:spPr>
          <a:xfrm>
            <a:off x="7112160" y="422280"/>
            <a:ext cx="203040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"/>
          <p:cNvPicPr/>
          <p:nvPr/>
        </p:nvPicPr>
        <p:blipFill>
          <a:blip r:embed="rId4"/>
          <a:stretch/>
        </p:blipFill>
        <p:spPr>
          <a:xfrm>
            <a:off x="754200" y="422280"/>
            <a:ext cx="2071440" cy="290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2" descr="D:\Documents and Settings\Admin\Рабочий стол\Новикова Г.А..jpg"/>
          <p:cNvPicPr/>
          <p:nvPr/>
        </p:nvPicPr>
        <p:blipFill>
          <a:blip r:embed="rId5"/>
          <a:stretch/>
        </p:blipFill>
        <p:spPr>
          <a:xfrm>
            <a:off x="1825560" y="3780000"/>
            <a:ext cx="2571840" cy="31842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F:\20160826_132347-1.jpg"/>
          <p:cNvPicPr/>
          <p:nvPr/>
        </p:nvPicPr>
        <p:blipFill>
          <a:blip r:embed="rId6"/>
          <a:stretch/>
        </p:blipFill>
        <p:spPr>
          <a:xfrm>
            <a:off x="5969160" y="3851280"/>
            <a:ext cx="1925640" cy="3071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Портрет - Татьяна Николаевна Шачинова"/>
          <p:cNvPicPr/>
          <p:nvPr/>
        </p:nvPicPr>
        <p:blipFill>
          <a:blip r:embed="rId7"/>
          <a:srcRect l="-2986" t="-1221" r="0" b="0"/>
          <a:stretch/>
        </p:blipFill>
        <p:spPr>
          <a:xfrm>
            <a:off x="8112240" y="3851280"/>
            <a:ext cx="172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163" name="Горизонтальный свиток 4"/>
          <p:cNvGrpSpPr/>
          <p:nvPr/>
        </p:nvGrpSpPr>
        <p:grpSpPr>
          <a:xfrm>
            <a:off x="324000" y="-268200"/>
            <a:ext cx="9502560" cy="4925880"/>
            <a:chOff x="324000" y="-268200"/>
            <a:chExt cx="9502560" cy="4925880"/>
          </a:xfrm>
        </p:grpSpPr>
        <p:pic>
          <p:nvPicPr>
            <p:cNvPr id="164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324000" y="-268200"/>
              <a:ext cx="950256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155600" y="544680"/>
              <a:ext cx="81136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Сегодня  школ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«основная»,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Georgia"/>
                </a:rPr>
                <a:t>А  всё  такая  же родная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400" spc="-1" strike="noStrike">
                  <a:solidFill>
                    <a:srgbClr val="00b050"/>
                  </a:solidFill>
                  <a:latin typeface="Georgia"/>
                </a:rPr>
                <a:t>Умники  и  Умниц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4400" spc="-1" strike="noStrike">
                  <a:solidFill>
                    <a:srgbClr val="3333cc"/>
                  </a:solidFill>
                  <a:latin typeface="Georgia"/>
                </a:rPr>
                <a:t>/2009 – 2019 гг./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Прямоугольник 3"/>
          <p:cNvSpPr/>
          <p:nvPr/>
        </p:nvSpPr>
        <p:spPr>
          <a:xfrm>
            <a:off x="1325520" y="4065480"/>
            <a:ext cx="764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зё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Регионального этапа Всероссийской предметной олимпиады школьн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и их наставник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7"/>
          <p:cNvSpPr/>
          <p:nvPr/>
        </p:nvSpPr>
        <p:spPr>
          <a:xfrm>
            <a:off x="0" y="3351240"/>
            <a:ext cx="989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Александр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ькаев Андрей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дянкина Даша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а Аля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923160"/>
            <a:ext cx="100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М.Н.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вайкина Н.М.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кина Т.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9" descr=""/>
          <p:cNvPicPr/>
          <p:nvPr/>
        </p:nvPicPr>
        <p:blipFill>
          <a:blip r:embed="rId2"/>
          <a:stretch/>
        </p:blipFill>
        <p:spPr>
          <a:xfrm>
            <a:off x="2897280" y="3994200"/>
            <a:ext cx="205740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Рисунок 8" descr=""/>
          <p:cNvPicPr/>
          <p:nvPr/>
        </p:nvPicPr>
        <p:blipFill>
          <a:blip r:embed="rId3"/>
          <a:stretch/>
        </p:blipFill>
        <p:spPr>
          <a:xfrm>
            <a:off x="2968560" y="422280"/>
            <a:ext cx="2000160" cy="287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2" name="Рисунок 1" descr="сканирование1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325440" y="351000"/>
            <a:ext cx="2274840" cy="2928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5397480" y="422280"/>
            <a:ext cx="2071800" cy="293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12" descr="D:\Documents and Settings\Admin\Рабочий стол\Школа-Конкурс\Ан. Аля и Егор\АЛЯ 2.JPG"/>
          <p:cNvPicPr/>
          <p:nvPr/>
        </p:nvPicPr>
        <p:blipFill>
          <a:blip r:embed="rId6"/>
          <a:stretch/>
        </p:blipFill>
        <p:spPr>
          <a:xfrm>
            <a:off x="7754760" y="493560"/>
            <a:ext cx="1928880" cy="291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Рисунок 10" descr="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7826400" y="4065480"/>
            <a:ext cx="1863720" cy="271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6" name="Picture 12" descr="D:\Documents and Settings\Admin\Рабочий стол\Юбилей школы-2017\Звёзды\Зквайкина-a3a8a5ef8e32454dcaf781dc90be5215.png"/>
          <p:cNvPicPr/>
          <p:nvPr/>
        </p:nvPicPr>
        <p:blipFill>
          <a:blip r:embed="rId8"/>
          <a:stretch/>
        </p:blipFill>
        <p:spPr>
          <a:xfrm>
            <a:off x="5683320" y="3994200"/>
            <a:ext cx="1542960" cy="2838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D:\Documents and Settings\Admin\Рабочий стол\Афган\яяя.bmp"/>
          <p:cNvPicPr/>
          <p:nvPr/>
        </p:nvPicPr>
        <p:blipFill>
          <a:blip r:embed="rId9"/>
          <a:stretch/>
        </p:blipFill>
        <p:spPr>
          <a:xfrm>
            <a:off x="254160" y="3994200"/>
            <a:ext cx="2054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156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уреаты  IX-го Межрегионального конкурс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Урок по теме: История политических репрессий и сопротивления несвободе в СССР».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сква – 2011 го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7-9 классов. Учитель: Новикова Г.А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4"/>
          <p:cNvPicPr/>
          <p:nvPr/>
        </p:nvPicPr>
        <p:blipFill>
          <a:blip r:embed="rId1"/>
          <a:stretch/>
        </p:blipFill>
        <p:spPr>
          <a:xfrm>
            <a:off x="0" y="1565280"/>
            <a:ext cx="10080720" cy="599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upload2.schoolrm.ru/resize_cache/794247/c3bed4c46e3bebf9034448fed65e7b8e/iblock/ce1/ce1b779cd9e1e7761e146225175c0e46/aaf6e14844306e70e7b3dd434ad01c56.jpg"/>
          <p:cNvPicPr/>
          <p:nvPr/>
        </p:nvPicPr>
        <p:blipFill>
          <a:blip r:embed="rId2"/>
          <a:stretch/>
        </p:blipFill>
        <p:spPr>
          <a:xfrm>
            <a:off x="0" y="1636560"/>
            <a:ext cx="2387520" cy="3286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Пользователь\Desktop\Супер-Урок Репр. -МОСКВА -\фото.москва\DSCN0510.JPG"/>
          <p:cNvPicPr/>
          <p:nvPr/>
        </p:nvPicPr>
        <p:blipFill>
          <a:blip r:embed="rId3"/>
          <a:stretch/>
        </p:blipFill>
        <p:spPr>
          <a:xfrm>
            <a:off x="7397640" y="1636560"/>
            <a:ext cx="2683080" cy="26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Пользователь\Desktop\Супер-Урок Репр. -МОСКВА -\фото.москва\DSCN0536.JPG"/>
          <p:cNvPicPr/>
          <p:nvPr/>
        </p:nvPicPr>
        <p:blipFill>
          <a:blip r:embed="rId4"/>
          <a:stretch/>
        </p:blipFill>
        <p:spPr>
          <a:xfrm>
            <a:off x="7397640" y="4208400"/>
            <a:ext cx="2683080" cy="1811520"/>
          </a:xfrm>
          <a:prstGeom prst="rect">
            <a:avLst/>
          </a:prstGeom>
          <a:ln w="0">
            <a:noFill/>
          </a:ln>
        </p:spPr>
      </p:pic>
      <p:pic>
        <p:nvPicPr>
          <p:cNvPr id="183" name="Репрессии-обрезка- +.wmv" descr=""/>
          <p:cNvPicPr/>
          <p:nvPr/>
        </p:nvPicPr>
        <p:blipFill>
          <a:blip r:embed="rId5"/>
          <a:stretch/>
        </p:blipFill>
        <p:spPr>
          <a:xfrm>
            <a:off x="2182680" y="3922560"/>
            <a:ext cx="5326200" cy="335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204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13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и призёры Всероссийских, Республиканских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ов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ы Аля, Егор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ставник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а Т.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зёры Республиканских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ставник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4"/>
          <p:cNvPicPr/>
          <p:nvPr/>
        </p:nvPicPr>
        <p:blipFill>
          <a:blip r:embed="rId1"/>
          <a:stretch/>
        </p:blipFill>
        <p:spPr>
          <a:xfrm>
            <a:off x="0" y="1136520"/>
            <a:ext cx="10080720" cy="642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Семья"/>
          <p:cNvPicPr/>
          <p:nvPr/>
        </p:nvPicPr>
        <p:blipFill>
          <a:blip r:embed="rId2"/>
          <a:stretch/>
        </p:blipFill>
        <p:spPr>
          <a:xfrm>
            <a:off x="1111320" y="1208160"/>
            <a:ext cx="4071960" cy="259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Егор и Аля"/>
          <p:cNvPicPr/>
          <p:nvPr/>
        </p:nvPicPr>
        <p:blipFill>
          <a:blip r:embed="rId3"/>
          <a:srcRect l="0" t="2628" r="0" b="0"/>
          <a:stretch/>
        </p:blipFill>
        <p:spPr>
          <a:xfrm>
            <a:off x="6826320" y="1208160"/>
            <a:ext cx="2036520" cy="26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Documents and Settings\Admin\Рабочий стол\Сканер-12 ноября 2017\Беськаев А..jpg"/>
          <p:cNvPicPr/>
          <p:nvPr/>
        </p:nvPicPr>
        <p:blipFill>
          <a:blip r:embed="rId4"/>
          <a:stretch/>
        </p:blipFill>
        <p:spPr>
          <a:xfrm>
            <a:off x="182520" y="4280040"/>
            <a:ext cx="202572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Documents and Settings\Admin\Рабочий стол\САЙТ-конкурс-2017\през. сор..jpg"/>
          <p:cNvPicPr/>
          <p:nvPr/>
        </p:nvPicPr>
        <p:blipFill>
          <a:blip r:embed="rId5"/>
          <a:stretch/>
        </p:blipFill>
        <p:spPr>
          <a:xfrm>
            <a:off x="2468520" y="4208400"/>
            <a:ext cx="417348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F:\9 МАЯ ФОТО\IMG_3920.JPG"/>
          <p:cNvPicPr/>
          <p:nvPr/>
        </p:nvPicPr>
        <p:blipFill>
          <a:blip r:embed="rId6"/>
          <a:stretch/>
        </p:blipFill>
        <p:spPr>
          <a:xfrm>
            <a:off x="6969240" y="4280040"/>
            <a:ext cx="2884320" cy="27144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9"/>
          <p:cNvSpPr/>
          <p:nvPr/>
        </p:nvSpPr>
        <p:spPr>
          <a:xfrm>
            <a:off x="0" y="699444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ькаев Андрей                     Команда 6 класса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влик,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.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152280" y="3780000"/>
            <a:ext cx="9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ськины  Аля,  Татьяна Дмитриевна, Егор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иськины Егор, А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77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 и  призёры Всероссийских, Республикански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ад, конкурсов и наставник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4"/>
          <p:cNvPicPr/>
          <p:nvPr/>
        </p:nvPicPr>
        <p:blipFill>
          <a:blip r:embed="rId1"/>
          <a:stretch/>
        </p:blipFill>
        <p:spPr>
          <a:xfrm>
            <a:off x="0" y="779400"/>
            <a:ext cx="10080720" cy="67802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7"/>
          <p:cNvSpPr/>
          <p:nvPr/>
        </p:nvSpPr>
        <p:spPr>
          <a:xfrm>
            <a:off x="0" y="363708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стяйкина Алёна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роськина Даша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стяйкина  А.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8 г.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0" y="692316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глазов Саша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9 г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аева Настя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7 г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утина Настя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D:\Documents and Settings\Admin\Рабочий стол\image (3).jpg"/>
          <p:cNvPicPr/>
          <p:nvPr/>
        </p:nvPicPr>
        <p:blipFill>
          <a:blip r:embed="rId2"/>
          <a:stretch/>
        </p:blipFill>
        <p:spPr>
          <a:xfrm>
            <a:off x="825480" y="851040"/>
            <a:ext cx="4683240" cy="2795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D:\Documents and Settings\Admin\Рабочий стол\Краевед.-Саранск-2017\Новикова Г.А., Ифутина Н..bmp"/>
          <p:cNvPicPr/>
          <p:nvPr/>
        </p:nvPicPr>
        <p:blipFill>
          <a:blip r:embed="rId3"/>
          <a:srcRect l="0" t="0" r="-1586" b="0"/>
          <a:stretch/>
        </p:blipFill>
        <p:spPr>
          <a:xfrm>
            <a:off x="6897600" y="4137120"/>
            <a:ext cx="2928960" cy="285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D:\Documents and Settings\Admin\Рабочий стол\ФОТО Разные\18.01.2018-Фото\image (16).jpg"/>
          <p:cNvPicPr/>
          <p:nvPr/>
        </p:nvPicPr>
        <p:blipFill>
          <a:blip r:embed="rId4"/>
          <a:stretch/>
        </p:blipFill>
        <p:spPr>
          <a:xfrm>
            <a:off x="6754680" y="851040"/>
            <a:ext cx="2357640" cy="2838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D:\Documents and Settings\Admin\Рабочий стол\Иск-во слова; Защ. Отечества-конкурс\Настя с папой .jpg"/>
          <p:cNvPicPr/>
          <p:nvPr/>
        </p:nvPicPr>
        <p:blipFill>
          <a:blip r:embed="rId5"/>
          <a:stretch/>
        </p:blipFill>
        <p:spPr>
          <a:xfrm>
            <a:off x="4754520" y="4280040"/>
            <a:ext cx="1627200" cy="2500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01" name="Picture 4" descr="C:\Мы с Сашей\Новикова Г_А  в театре\SDC10012.JPG"/>
          <p:cNvPicPr/>
          <p:nvPr/>
        </p:nvPicPr>
        <p:blipFill>
          <a:blip r:embed="rId6"/>
          <a:stretch/>
        </p:blipFill>
        <p:spPr>
          <a:xfrm>
            <a:off x="0" y="4280040"/>
            <a:ext cx="40719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Текст 5"/>
          <p:cNvSpPr/>
          <p:nvPr/>
        </p:nvSpPr>
        <p:spPr>
          <a:xfrm>
            <a:off x="0" y="0"/>
            <a:ext cx="10080720" cy="1279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НАШИ  НАГРАДЫ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57120" y="1795320"/>
            <a:ext cx="9128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D:\Documents and Settings\Admin\Рабочий стол\Видео-к ролику-Проект\НОВЫЙ РОЛИК-СУПЕР\2-я часть фильма\СЕРТИФИКАТ-10 тыс..jpg"/>
          <p:cNvPicPr/>
          <p:nvPr/>
        </p:nvPicPr>
        <p:blipFill>
          <a:blip r:embed="rId2"/>
          <a:stretch/>
        </p:blipFill>
        <p:spPr>
          <a:xfrm>
            <a:off x="5611680" y="1422360"/>
            <a:ext cx="383544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D:\Documents and Settings\Admin\Рабочий стол\Фото Е.П. 1 ноября 2017\Attachments_ezabaturina@yandex.ru_2017-11-01_15-08-54\IMG_5212.jpg"/>
          <p:cNvPicPr/>
          <p:nvPr/>
        </p:nvPicPr>
        <p:blipFill>
          <a:blip r:embed="rId3"/>
          <a:stretch/>
        </p:blipFill>
        <p:spPr>
          <a:xfrm>
            <a:off x="611280" y="1422360"/>
            <a:ext cx="4340160" cy="578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олью и счастьем пронзённая жизнь»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2 год.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йонный конкурс (к 100-летию М.И. Цветаевой)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4"/>
          <p:cNvPicPr/>
          <p:nvPr/>
        </p:nvPicPr>
        <p:blipFill>
          <a:blip r:embed="rId1"/>
          <a:stretch/>
        </p:blipFill>
        <p:spPr>
          <a:xfrm>
            <a:off x="0" y="99360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7"/>
          <p:cNvSpPr/>
          <p:nvPr/>
        </p:nvSpPr>
        <p:spPr>
          <a:xfrm>
            <a:off x="0" y="370836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Ямашкин А.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0" y="6923160"/>
            <a:ext cx="100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бинкина Валя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атурина Юля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атурина Таня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рискина М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s://i.mycdn.me/image?t=3&amp;bid=848685071436&amp;id=848685071436&amp;plc=WEB&amp;tkn=*8It4qRwo_xVriJIcuELi0VIz4hQ"/>
          <p:cNvPicPr/>
          <p:nvPr/>
        </p:nvPicPr>
        <p:blipFill>
          <a:blip r:embed="rId2"/>
          <a:stretch/>
        </p:blipFill>
        <p:spPr>
          <a:xfrm>
            <a:off x="6391440" y="4208400"/>
            <a:ext cx="2947680" cy="270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i.mycdn.me/image?t=3&amp;bid=848685071436&amp;id=848685071436&amp;plc=WEB&amp;tkn=*8It4qRwo_xVriJIcuELi0VIz4hQ"/>
          <p:cNvPicPr/>
          <p:nvPr/>
        </p:nvPicPr>
        <p:blipFill>
          <a:blip r:embed="rId3"/>
          <a:stretch/>
        </p:blipFill>
        <p:spPr>
          <a:xfrm>
            <a:off x="682560" y="4208400"/>
            <a:ext cx="3071880" cy="276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i.mycdn.me/image?t=3&amp;bid=848685071436&amp;id=848685071436&amp;plc=WEB&amp;tkn=*8It4qRwo_xVriJIcuELi0VIz4hQ"/>
          <p:cNvPicPr/>
          <p:nvPr/>
        </p:nvPicPr>
        <p:blipFill>
          <a:blip r:embed="rId4"/>
          <a:stretch/>
        </p:blipFill>
        <p:spPr>
          <a:xfrm>
            <a:off x="4397400" y="4280040"/>
            <a:ext cx="129996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i.mycdn.me/image?t=3&amp;bid=812210513137&amp;id=812210513137&amp;plc=WEB&amp;tkn=*uprVS5NPaUu1qtrOZ8bznRDHclM"/>
          <p:cNvPicPr/>
          <p:nvPr/>
        </p:nvPicPr>
        <p:blipFill>
          <a:blip r:embed="rId5"/>
          <a:stretch/>
        </p:blipFill>
        <p:spPr>
          <a:xfrm>
            <a:off x="3040200" y="1208160"/>
            <a:ext cx="1827000" cy="257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Прямоугольник 10"/>
          <p:cNvSpPr/>
          <p:nvPr/>
        </p:nvSpPr>
        <p:spPr>
          <a:xfrm>
            <a:off x="3986280" y="578016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банищева Тан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7" descr="D:\Documents and Settings\Admin\Рабочий стол\Видео-к ролику-Проект\НОВЫЙ РОЛИК-СУПЕР\ДИРЕКТОРА\12-ЯМАШКИН А.А\2.jpg"/>
          <p:cNvPicPr/>
          <p:nvPr/>
        </p:nvPicPr>
        <p:blipFill>
          <a:blip r:embed="rId6"/>
          <a:stretch/>
        </p:blipFill>
        <p:spPr>
          <a:xfrm>
            <a:off x="5183280" y="1136520"/>
            <a:ext cx="20001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ипломат. Поэт. Композитор»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5 год.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айонный конкурс (к 200-летию А.С. Грибоедова)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4"/>
          <p:cNvPicPr/>
          <p:nvPr/>
        </p:nvPicPr>
        <p:blipFill>
          <a:blip r:embed="rId1"/>
          <a:stretch/>
        </p:blipFill>
        <p:spPr>
          <a:xfrm>
            <a:off x="0" y="99360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7"/>
          <p:cNvSpPr/>
          <p:nvPr/>
        </p:nvSpPr>
        <p:spPr>
          <a:xfrm>
            <a:off x="0" y="370836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А. Ямашкин               Голова Р.Ф.                  Кабаева Г.М.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2" descr="D:\Documents and Settings\Admin\Рабочий стол\САЙТ-конкурс-2017\Выпускники школы\Голова Раиса Фёдоровна.bmp"/>
          <p:cNvPicPr/>
          <p:nvPr/>
        </p:nvPicPr>
        <p:blipFill>
          <a:blip r:embed="rId2"/>
          <a:stretch/>
        </p:blipFill>
        <p:spPr>
          <a:xfrm>
            <a:off x="3897360" y="1136520"/>
            <a:ext cx="1928880" cy="2543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https://i.mycdn.me/image?t=3&amp;bid=834123424497&amp;id=834123424497&amp;plc=WEB&amp;tkn=*ow2RTpa0S86he6yytkwBGJ4REBo"/>
          <p:cNvPicPr/>
          <p:nvPr/>
        </p:nvPicPr>
        <p:blipFill>
          <a:blip r:embed="rId3"/>
          <a:stretch/>
        </p:blipFill>
        <p:spPr>
          <a:xfrm>
            <a:off x="6326280" y="113652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Documents and Settings\Admin\Рабочий стол\image.jpg"/>
          <p:cNvPicPr/>
          <p:nvPr/>
        </p:nvPicPr>
        <p:blipFill>
          <a:blip r:embed="rId4"/>
          <a:stretch/>
        </p:blipFill>
        <p:spPr>
          <a:xfrm>
            <a:off x="5397480" y="42084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Documents and Settings\Admin\Рабочий стол\image (1).jpg"/>
          <p:cNvPicPr/>
          <p:nvPr/>
        </p:nvPicPr>
        <p:blipFill>
          <a:blip r:embed="rId5"/>
          <a:stretch/>
        </p:blipFill>
        <p:spPr>
          <a:xfrm>
            <a:off x="2897280" y="4208400"/>
            <a:ext cx="1716120" cy="2500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325440" y="6780240"/>
            <a:ext cx="93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маюнов Дима          Шамонина Маша              Кабаева Катя            Кумакшев Андр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D:\Documents and Settings\Admin\Рабочий стол\image (1).jpg"/>
          <p:cNvPicPr/>
          <p:nvPr/>
        </p:nvPicPr>
        <p:blipFill>
          <a:blip r:embed="rId6"/>
          <a:stretch/>
        </p:blipFill>
        <p:spPr>
          <a:xfrm>
            <a:off x="7683480" y="428004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Documents and Settings\Admin\Рабочий стол\День Учит.-2018 г\1996.jpg"/>
          <p:cNvPicPr/>
          <p:nvPr/>
        </p:nvPicPr>
        <p:blipFill>
          <a:blip r:embed="rId7"/>
          <a:stretch/>
        </p:blipFill>
        <p:spPr>
          <a:xfrm>
            <a:off x="539640" y="413712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Documents and Settings\Admin\Рабочий стол\День Учит.-2018 г\1996.jpg"/>
          <p:cNvPicPr/>
          <p:nvPr/>
        </p:nvPicPr>
        <p:blipFill>
          <a:blip r:embed="rId8"/>
          <a:stretch/>
        </p:blipFill>
        <p:spPr>
          <a:xfrm>
            <a:off x="1468440" y="1136520"/>
            <a:ext cx="1982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92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первые в районе призёры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х олимпиад и их наставники /1998-2006 гг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4"/>
          <p:cNvPicPr/>
          <p:nvPr/>
        </p:nvPicPr>
        <p:blipFill>
          <a:blip r:embed="rId1"/>
          <a:stretch/>
        </p:blipFill>
        <p:spPr>
          <a:xfrm>
            <a:off x="0" y="922320"/>
            <a:ext cx="10080720" cy="663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25440" y="7066080"/>
            <a:ext cx="93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3" descr="Григ-31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54160" y="993600"/>
            <a:ext cx="208116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www.natapop.ru/_tbkp/tn_1.jpg"/>
          <p:cNvPicPr/>
          <p:nvPr/>
        </p:nvPicPr>
        <p:blipFill>
          <a:blip r:embed="rId3"/>
          <a:stretch/>
        </p:blipFill>
        <p:spPr>
          <a:xfrm>
            <a:off x="2682720" y="1565280"/>
            <a:ext cx="2286000" cy="168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Тренин Женя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83280" y="922320"/>
            <a:ext cx="2214360" cy="294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s://i.mycdn.me/image?t=3&amp;bid=814318256881&amp;id=814318256881&amp;plc=WEB&amp;tkn=*3cH1XxdQ_NZVb6RCJYWv5UKGrCc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7612200" y="922320"/>
            <a:ext cx="207792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Documents and Settings\Admin\Рабочий стол\День Учит.-2018 г\1993-мужчины.jpg"/>
          <p:cNvPicPr/>
          <p:nvPr/>
        </p:nvPicPr>
        <p:blipFill>
          <a:blip r:embed="rId6"/>
          <a:stretch/>
        </p:blipFill>
        <p:spPr>
          <a:xfrm>
            <a:off x="325440" y="4280040"/>
            <a:ext cx="1825560" cy="2786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93" name="Picture 3" descr="Мы-Учителя"/>
          <p:cNvPicPr/>
          <p:nvPr/>
        </p:nvPicPr>
        <p:blipFill>
          <a:blip r:embed="rId7"/>
          <a:stretch/>
        </p:blipFill>
        <p:spPr>
          <a:xfrm>
            <a:off x="5326200" y="4280040"/>
            <a:ext cx="1928520" cy="286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08010003"/>
          <p:cNvPicPr/>
          <p:nvPr/>
        </p:nvPicPr>
        <p:blipFill>
          <a:blip r:embed="rId8"/>
          <a:stretch/>
        </p:blipFill>
        <p:spPr>
          <a:xfrm>
            <a:off x="7826400" y="4280040"/>
            <a:ext cx="1897200" cy="27860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2"/>
          <p:cNvSpPr/>
          <p:nvPr/>
        </p:nvSpPr>
        <p:spPr>
          <a:xfrm>
            <a:off x="0" y="385128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тов Григорий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няйкин Андрей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Тренин Евгений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рохов Евг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0" y="7066080"/>
            <a:ext cx="100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чинова Т.Н.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Прокина Н.И.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глазов М.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D:\Documents and Settings\Admin\Рабочий стол\ФОТО Разные\я.bmp"/>
          <p:cNvPicPr/>
          <p:nvPr/>
        </p:nvPicPr>
        <p:blipFill>
          <a:blip r:embed="rId9"/>
          <a:stretch/>
        </p:blipFill>
        <p:spPr>
          <a:xfrm>
            <a:off x="2825640" y="4280040"/>
            <a:ext cx="196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9912600" cy="106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инал  «Движение юных патриотов». 2001-2002  учебный  год. Команда – призёр в номинация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4"/>
          <p:cNvPicPr/>
          <p:nvPr/>
        </p:nvPicPr>
        <p:blipFill>
          <a:blip r:embed="rId1"/>
          <a:stretch/>
        </p:blipFill>
        <p:spPr>
          <a:xfrm>
            <a:off x="0" y="1065240"/>
            <a:ext cx="10080720" cy="6494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3"/>
          <p:cNvSpPr/>
          <p:nvPr/>
        </p:nvSpPr>
        <p:spPr>
          <a:xfrm>
            <a:off x="0" y="642312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ськина Ираида          Хлучин Владимир         Полушкина Наталья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ткин Олег          Пашуткина Валентина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1" descr="https://i.mycdn.me/image?t=3&amp;bid=814675195633&amp;id=814675195633&amp;plc=WEB&amp;tkn=*Fom3IHxwCFVhG4B2pMbBdjPjP9M"/>
          <p:cNvPicPr/>
          <p:nvPr/>
        </p:nvPicPr>
        <p:blipFill>
          <a:blip r:embed="rId2"/>
          <a:stretch/>
        </p:blipFill>
        <p:spPr>
          <a:xfrm>
            <a:off x="1325520" y="1208160"/>
            <a:ext cx="72151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991260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инал  «Движение юных патриотов». 2001-2002  учебный  год. Команда – призёр в номинациях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4"/>
          <p:cNvPicPr/>
          <p:nvPr/>
        </p:nvPicPr>
        <p:blipFill>
          <a:blip r:embed="rId1"/>
          <a:stretch/>
        </p:blipFill>
        <p:spPr>
          <a:xfrm>
            <a:off x="0" y="922320"/>
            <a:ext cx="10080720" cy="66373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7"/>
          <p:cNvSpPr/>
          <p:nvPr/>
        </p:nvSpPr>
        <p:spPr>
          <a:xfrm>
            <a:off x="0" y="363708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агин И.А.            Новикова Г.А.                                                           Прокина Н.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https://i.mycdn.me/image?t=3&amp;bid=812278553585&amp;id=812278553585&amp;plc=WEB&amp;tkn=*7OiczMt3FDM-LRai2jXqF9VXhIg"/>
          <p:cNvPicPr/>
          <p:nvPr/>
        </p:nvPicPr>
        <p:blipFill>
          <a:blip r:embed="rId2"/>
          <a:stretch/>
        </p:blipFill>
        <p:spPr>
          <a:xfrm>
            <a:off x="2468520" y="1065240"/>
            <a:ext cx="191304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i.mycdn.me/image?t=3&amp;bid=812278553585&amp;id=812278553585&amp;plc=WEB&amp;tkn=*7OiczMt3FDM-LRai2jXqF9VXhIg"/>
          <p:cNvPicPr/>
          <p:nvPr/>
        </p:nvPicPr>
        <p:blipFill>
          <a:blip r:embed="rId3"/>
          <a:stretch/>
        </p:blipFill>
        <p:spPr>
          <a:xfrm>
            <a:off x="5254560" y="4137120"/>
            <a:ext cx="2073240" cy="257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s://i.mycdn.me/image?t=3&amp;bid=812278553585&amp;id=812278553585&amp;plc=WEB&amp;tkn=*7OiczMt3FDM-LRai2jXqF9VXhIg"/>
          <p:cNvPicPr/>
          <p:nvPr/>
        </p:nvPicPr>
        <p:blipFill>
          <a:blip r:embed="rId4"/>
          <a:stretch/>
        </p:blipFill>
        <p:spPr>
          <a:xfrm>
            <a:off x="7683480" y="4137120"/>
            <a:ext cx="2005200" cy="257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i.mycdn.me/image?t=3&amp;bid=812278553585&amp;id=812278553585&amp;plc=WEB&amp;tkn=*7OiczMt3FDM-LRai2jXqF9VXhIg"/>
          <p:cNvPicPr/>
          <p:nvPr/>
        </p:nvPicPr>
        <p:blipFill>
          <a:blip r:embed="rId5"/>
          <a:stretch/>
        </p:blipFill>
        <p:spPr>
          <a:xfrm>
            <a:off x="254160" y="1065240"/>
            <a:ext cx="2000160" cy="258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Picture 6" descr="https://i.mycdn.me/image?t=3&amp;bid=812278553585&amp;id=812278553585&amp;plc=WEB&amp;tkn=*7OiczMt3FDM-LRai2jXqF9VXhIg"/>
          <p:cNvPicPr/>
          <p:nvPr/>
        </p:nvPicPr>
        <p:blipFill>
          <a:blip r:embed="rId6"/>
          <a:stretch/>
        </p:blipFill>
        <p:spPr>
          <a:xfrm>
            <a:off x="2825640" y="4137120"/>
            <a:ext cx="200052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s://i.mycdn.me/image?t=3&amp;bid=812278553585&amp;id=812278553585&amp;plc=WEB&amp;tkn=*7OiczMt3FDM-LRai2jXqF9VXhIg"/>
          <p:cNvPicPr/>
          <p:nvPr/>
        </p:nvPicPr>
        <p:blipFill>
          <a:blip r:embed="rId7"/>
          <a:stretch/>
        </p:blipFill>
        <p:spPr>
          <a:xfrm>
            <a:off x="254160" y="4178160"/>
            <a:ext cx="2071440" cy="2602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11" name="Picture 6" descr="https://i.mycdn.me/image?t=3&amp;bid=812278553585&amp;id=812278553585&amp;plc=WEB&amp;tkn=*7OiczMt3FDM-LRai2jXqF9VXhIg"/>
          <p:cNvPicPr/>
          <p:nvPr/>
        </p:nvPicPr>
        <p:blipFill>
          <a:blip r:embed="rId8"/>
          <a:stretch/>
        </p:blipFill>
        <p:spPr>
          <a:xfrm>
            <a:off x="7897680" y="106524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Documents and Settings\Admin\Рабочий стол\Сканер-12 ноября 2017\ДЮП-республика.jpg"/>
          <p:cNvPicPr/>
          <p:nvPr/>
        </p:nvPicPr>
        <p:blipFill>
          <a:blip r:embed="rId9"/>
          <a:stretch/>
        </p:blipFill>
        <p:spPr>
          <a:xfrm>
            <a:off x="4540320" y="1208160"/>
            <a:ext cx="3163680" cy="23353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3"/>
          <p:cNvSpPr/>
          <p:nvPr/>
        </p:nvSpPr>
        <p:spPr>
          <a:xfrm>
            <a:off x="254160" y="6780240"/>
            <a:ext cx="964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онова В.С.             Белоглазов М.Н.         Забатурина Е.П.         Кумакшев А.А.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"/>
          <p:cNvPicPr/>
          <p:nvPr/>
        </p:nvPicPr>
        <p:blipFill>
          <a:blip r:embed="rId1"/>
          <a:stretch/>
        </p:blipFill>
        <p:spPr>
          <a:xfrm>
            <a:off x="0" y="779400"/>
            <a:ext cx="10080720" cy="6780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0"/>
          <p:cNvSpPr/>
          <p:nvPr/>
        </p:nvSpPr>
        <p:spPr>
          <a:xfrm>
            <a:off x="0" y="706608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агин И.А .  /2000 г./            Новикова Г.А.  /2012 г./             Струенков Р.М.  /2016 г.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D:\Documents and Settings\Admin\Рабочий стол\Афган\рс-2.bmp"/>
          <p:cNvPicPr/>
          <p:nvPr/>
        </p:nvPicPr>
        <p:blipFill>
          <a:blip r:embed="rId2"/>
          <a:stretch/>
        </p:blipFill>
        <p:spPr>
          <a:xfrm>
            <a:off x="7397640" y="4280040"/>
            <a:ext cx="1928880" cy="276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D:\Documents and Settings\Admin\Рабочий стол\Конкурс РМО-2017\+ Я-уч. го.jpg"/>
          <p:cNvPicPr/>
          <p:nvPr/>
        </p:nvPicPr>
        <p:blipFill>
          <a:blip r:embed="rId3"/>
          <a:stretch/>
        </p:blipFill>
        <p:spPr>
          <a:xfrm>
            <a:off x="3968640" y="4280040"/>
            <a:ext cx="192888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Игорь Алексеевич Кулагин"/>
          <p:cNvPicPr/>
          <p:nvPr/>
        </p:nvPicPr>
        <p:blipFill>
          <a:blip r:embed="rId4"/>
          <a:stretch/>
        </p:blipFill>
        <p:spPr>
          <a:xfrm>
            <a:off x="611280" y="4280040"/>
            <a:ext cx="1928880" cy="2786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54160" y="3851280"/>
            <a:ext cx="982656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и  районного конкурса  «Учитель г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520" y="0"/>
            <a:ext cx="9898200" cy="77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 республиканского  конкур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читель года-2002»  Белоглазов М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4826160" y="922320"/>
            <a:ext cx="3857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аповый» спецназов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 ребят не бояться арми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вший серж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шит кирпич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мает доски  и благодар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ку Корчаг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«Известия Мордови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3 апреля 2002 г.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1" descr="Белоглазов-2е0001"/>
          <p:cNvPicPr/>
          <p:nvPr/>
        </p:nvPicPr>
        <p:blipFill>
          <a:blip r:embed="rId5"/>
          <a:stretch/>
        </p:blipFill>
        <p:spPr>
          <a:xfrm>
            <a:off x="1397160" y="851040"/>
            <a:ext cx="3396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760" y="207720"/>
            <a:ext cx="9912600" cy="192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форум  по  конституционному                                              и  избирательному  праву.   2005-2006  учебный  год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 – Призёр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нский  конкурс  «Подросток и закон».             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е место.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6-2007 учебный год.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4"/>
          <p:cNvPicPr/>
          <p:nvPr/>
        </p:nvPicPr>
        <p:blipFill>
          <a:blip r:embed="rId1"/>
          <a:stretch/>
        </p:blipFill>
        <p:spPr>
          <a:xfrm>
            <a:off x="0" y="2136600"/>
            <a:ext cx="10080720" cy="54230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7"/>
          <p:cNvSpPr/>
          <p:nvPr/>
        </p:nvSpPr>
        <p:spPr>
          <a:xfrm>
            <a:off x="0" y="4851360"/>
            <a:ext cx="100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икова Г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ягитова Таня                                                                                       Тюкина В.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D:\Documents and Settings\Admin\Рабочий стол\Юбилей школы-2017\Звёзды\изб. право-грамота.jpg"/>
          <p:cNvPicPr/>
          <p:nvPr/>
        </p:nvPicPr>
        <p:blipFill>
          <a:blip r:embed="rId2"/>
          <a:stretch/>
        </p:blipFill>
        <p:spPr>
          <a:xfrm>
            <a:off x="3111480" y="3987720"/>
            <a:ext cx="267804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:\Documents and Settings\Admin\Мои документы\Downloads\Сягитова Т.А..bmp"/>
          <p:cNvPicPr/>
          <p:nvPr/>
        </p:nvPicPr>
        <p:blipFill>
          <a:blip r:embed="rId3"/>
          <a:stretch/>
        </p:blipFill>
        <p:spPr>
          <a:xfrm>
            <a:off x="2039760" y="2136600"/>
            <a:ext cx="1865520" cy="264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4" descr="Новикова Г"/>
          <p:cNvPicPr/>
          <p:nvPr/>
        </p:nvPicPr>
        <p:blipFill>
          <a:blip r:embed="rId4"/>
          <a:stretch/>
        </p:blipFill>
        <p:spPr>
          <a:xfrm>
            <a:off x="0" y="2136600"/>
            <a:ext cx="1968480" cy="2684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2" descr="D:\Documents and Settings\Admin\Рабочий стол\Юбилей школы-2017\Звёзды\2-е место-грамота.jpg"/>
          <p:cNvPicPr/>
          <p:nvPr/>
        </p:nvPicPr>
        <p:blipFill>
          <a:blip r:embed="rId5"/>
          <a:stretch/>
        </p:blipFill>
        <p:spPr>
          <a:xfrm>
            <a:off x="5826240" y="4059360"/>
            <a:ext cx="252396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6"/>
          <a:stretch/>
        </p:blipFill>
        <p:spPr>
          <a:xfrm>
            <a:off x="8002440" y="2136600"/>
            <a:ext cx="2078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0:10:55Z</dcterms:created>
  <dc:creator/>
  <dc:description/>
  <dc:language>en-US</dc:language>
  <cp:lastModifiedBy>Admin</cp:lastModifiedBy>
  <dcterms:modified xsi:type="dcterms:W3CDTF">2019-03-20T21:34:33Z</dcterms:modified>
  <cp:revision>704</cp:revision>
  <dc:subject/>
  <dc:title>Презентация PowerPoint</dc:title>
</cp:coreProperties>
</file>