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1E7-340D-410F-9A2C-B93CCB90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00C-96F9-44C0-BBD1-E20A475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AE7F2-A4DC-43E0-B70C-0CE9C6C3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90209-68F4-43FB-A6B3-258FBED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4CD7E-F9CD-4B68-9996-C072646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8E6AF-25FF-4820-89A7-B4DD77B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7C91D-7592-4BF4-BFAE-032C4CE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6220-355D-4E0C-9CDD-E52FBD9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0571D-F096-4FD2-8E2D-93448D9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7DBD0-9421-467C-B021-65BA36B7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9605B-A949-473F-A4B6-E1FAE439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2E2-7641-4660-BBB8-BC7EA935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2A8-AFC7-40D9-B445-2C0FFA7F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B977-2D1F-4A65-ABB7-65BD1AAE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4549-0284-4E3F-88F7-F385CB57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6F84-32C8-42E7-8ACC-EC76396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AD14-3A69-477F-BC8D-06CD6ED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12B1-35C6-4211-A43D-83C5329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27AA-837F-4A4B-BF68-B915420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483-0246-4150-A613-A3AA212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20D-8F03-4499-AA38-DBF15D7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C57C-0212-4811-BA56-DD0B81C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1F7-4B0D-4C44-AD7B-1D7BA49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8EF-CFF2-44E0-8AD9-FA5721B9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063-EDD9-4139-9B65-204C2670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86D8-1729-4790-8A95-D772A399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E305-C8F3-4BD3-AD2A-A0864739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751F-7CC2-471C-8454-B473E56A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8AE6-AE8F-4F90-A859-A4A3168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2A0A-60D7-45F4-9D9B-A1943C9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F114-261A-4FFE-9FEF-F4AD28B5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4D2-D04B-431F-A17F-B02426C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A1E9-652C-4A4D-944E-A3DFE5A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8690-955F-4B85-B187-BAD5C4B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1CC6-8E1F-44C1-8BB8-2543AEF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F809-AB3B-4C20-A00C-F83A5F7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4C35-CB26-499D-A044-8641B17B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48CA-A407-49DA-9ACA-0065E2E7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54FC-3724-4F00-AE7C-A20A108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9A91-E4CC-449C-97E9-C46E0AEC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79E7-F677-4504-A1FC-DB13CEC6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A84A-BF58-4A9A-9743-8351E7E6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9FF-674C-4D6E-ACEC-350D77C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E174-CB53-4C00-AACB-CF4D797F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A48E-3345-43A4-B876-E345F65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1BF6-E733-495A-AB04-37C35A5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5722-497F-40F6-ADDD-523792D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A21A-96BD-4262-8637-1D512BC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F30C-EC12-4432-8931-5B109B2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D639-872C-4B49-AA54-0103F17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713B-2C09-4DE0-ADEC-B3D2B531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03BD-204E-42F0-A36F-56A0402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5F30-4923-48B5-8E8F-33B6D516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DB7-FC73-4C7E-BDE2-EBFE7488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CE2E-82F4-4BA6-8076-7D259F15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B72B-B1B6-4EB6-9EA9-24D43D8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EB9E-56E9-4277-800C-7A83665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F81B-E7A7-4414-9E72-79DC6A3C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FD41-26F1-4B43-B5F8-A7A882BB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AB4F-135B-49D0-8CE3-36A44ED8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8194-EC2C-4427-BF1C-655B6A9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7CDC-F6A6-4CCE-82B6-A3490C4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2A7C-1F7D-4E33-BE90-02B449FF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20F1-6DD5-4012-9F99-14F12775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B33-1C55-4F6C-A13F-BF95D80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1812-518A-4EDC-8E9B-36F7D5D5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B326-DA5D-4B4C-B80E-BF552472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922E3-C021-4CEB-95F2-1629E9D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059D2-406D-43B2-8698-73E2CA8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C7C4-B6DB-4090-981A-42C8024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A59B-D60B-4633-B568-128EED48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815B-5FA6-4AAD-8719-A4B99A3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6C441-49CF-4FBC-B1CB-557253B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5869-F033-4926-8500-5E14C2E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36C8-9749-4EBA-9B37-CA90B1AD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922-0709-462F-8B0B-B30C937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A9DC-CA76-4AAE-BDEC-BFACC6A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571E-2065-4FF5-B937-358A8A37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1FF2-D47F-4F24-AA75-ACF50AA2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E60F-F44A-43A1-9529-4E464657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D873-7ACA-4638-841B-DCD320C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4A35-C7DF-4FED-8ED8-2E5A9BE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B8E8B-A13C-4F54-8C56-EA277F5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44DE-D0BA-494D-9040-24109D13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09153-7793-4510-9866-5B2C9F6C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0279-6A29-4579-9C79-890A12E1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E29-B397-43FF-AE22-DB50B3C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7ED0-1563-40E8-9225-7F734CA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FC60-9BB0-4EDD-825F-8E992A4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E4E5-35D7-4F80-BF26-4F500D9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7720-1DA4-42A1-A21C-3648B0FC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C9DE-8764-49C7-82B7-F11F3C4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1C06-D554-4E92-819D-74CFE222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BF59-F74D-46F0-9AEE-CD1C7BF9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2904-8614-4732-9054-B7F6794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D86E5-ED32-41FB-9FC6-39DAB59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5562B-44A8-4BC8-B74C-9945A39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9F8-93D6-4226-AC42-46A9D159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26AF-4742-4D98-98C0-B7D2A1F5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1028-6621-4F99-9A21-FD2F0B9B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B537-6D51-4BEC-8EEA-7EF7742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43C0-8334-4AA6-81E2-A9C3B8A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D9FBD-87B4-4431-8E0E-2093BBF4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C4E94-B40F-4061-9024-8ECEF1AB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8D92-3FAA-47E5-BE41-3C398AE7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949D5-9922-458A-82FF-73C312C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C09B-E716-4C61-8E48-06DCBB2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15EDF-3CEF-473E-B752-05AE759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40E-F141-4763-B6C9-44AE311ABD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8C05-9A37-47FF-AB59-EAF1D67056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B9E4-3B85-4C2E-AC4D-9F658D98CA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F360-165F-4A2E-8C32-D5D8364AA8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C19E-3698-4BE9-AE4F-B332B35E95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E9F-662F-48E2-B449-B2CD64EFC0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61B-895E-450F-A30C-757A7DA0D7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1C4-CC36-44D0-A7CB-BFEA2A9A20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3AA4-5E1C-4E15-B638-9BAA9A66C9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573120"/>
            <a:ext cx="8686800" cy="1127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28600" y="1267920"/>
            <a:ext cx="868680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бщее родительское собрани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«Здоровое общество рождается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в детях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12400" indent="-2124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Г.А.Афанасьева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физическое-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то совершенство саморегуляции в организме, максимальная адаптация к окружающей сред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психическ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высокое сознание, развитое мышление, большая внутренняя и моральная сила, побуждающая к созидательной деятельнос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 социальное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– это моральное самообладание, адекватная оценка своего «Я», самоопределение личности в оптимальных условиях микро- и макросреды (семье, детском саду, социальной группе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304920" y="60336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Здоровьесберегающая технология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–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46160" y="0"/>
            <a:ext cx="8948520" cy="1006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8584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. Артикуляцион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2. Пальчиков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3. Гимнастика для гл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4. Дыхательн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. Корригирующая 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6. Психогимнаст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. Закали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. Витамин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9. Массаж и самомассаж: 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Языка, лица и шеи, ступней ног (плантарный), ушных раковин, точечный массаж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0. Релаксация (Расслабление мышц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1. Логоритми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2. Сказ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3. Арттерапия (излечение искусством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4. Музыкотерап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25:12Z</dcterms:created>
  <dc:creator>Виктория</dc:creator>
  <dc:description/>
  <dc:language>en-US</dc:language>
  <cp:lastModifiedBy>user</cp:lastModifiedBy>
  <dcterms:modified xsi:type="dcterms:W3CDTF">2019-03-22T03:06:26Z</dcterms:modified>
  <cp:revision>8</cp:revision>
  <dc:subject/>
  <dc:title>Слайд 1</dc:title>
</cp:coreProperties>
</file>