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2EAE-E500-48D2-B262-808465E2F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6F51-E231-4F42-9849-28D80209C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CF63A4-CE28-439F-AD4D-5F7E767CF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A1356D-49DE-411C-9989-E4B590200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758CF8-F806-4B8F-A90F-BE64A4B4A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ACD627-1ABF-4FEA-B4E0-8DB74434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E4D5AC-C620-4DFF-A1FA-75D11A7A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8CD8F9-8031-44FD-8FAB-05743038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E3D401-D11B-4120-857F-AFF2CD7D6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0FED3C-FE15-4D50-A859-40EE56CE7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B716B6-191E-4E29-96B9-F10D6004F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D1A9-73D2-41E3-9795-7BD144696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9D22-BD0A-40C0-91E0-BA6A0FCCD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28D7A-01B3-428F-905C-E3041B223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DF839-D8C8-492B-9899-6A527743C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E49D2-3B83-4126-815D-FAEC478EA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53D6C-1709-4FD8-A0ED-1DCB1BD9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0B85A-5421-4A9F-9CE2-BCDC77062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AFFAC-7DE7-4FA7-B969-179BE3C8F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3F263-A1F2-48B0-8F4F-42E5BBBF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2656-5D49-417F-8434-2EB13F2BF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5490D-8C6D-42C7-A5D7-542A7217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78CE8-0EB1-4194-83A7-EBD49F20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28428-000F-45CC-8914-F3B0BC262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424B8-D550-4C6D-BFD0-1B242CD82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54627-37B8-4AFF-8272-26F711812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5A77B-4108-48D9-9408-507F7AE86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D4C4F-B438-4976-B248-9D6A3D749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5BA2D-88A1-46E3-8DD4-C3F20930D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A83ED-2A4E-4270-9501-838CF186D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93161-67F3-4936-AA04-C4BF500B6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0E7A-19D7-44AC-A92C-8D7C5BF29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8227D-F978-4B4A-837A-C57B47592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4BAB1-5429-4952-BB8F-D3322B4A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920F2-EB00-4550-9286-1B47061B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EAC1F-0EDB-4715-BF91-8B75025D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FDA1D-685E-47F3-A9BB-22B8A3F5B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85E62-FEE1-4BDF-B0B7-8E5DF7213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CA773-B1F6-4FC9-B635-0F5FC8B18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81CD5-9881-4A1B-8D9E-3FB1A3C14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C3104-A1A4-4A81-A4EF-0BE8D0D33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E9D57-89C7-4C7D-984B-9D06BD42E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47A0-C662-414B-8777-F2848BF3F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483ED-6E30-4F17-9D9E-788A98A40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C4C1F-C78D-45FF-99AB-1252A10C5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CEE77-AF91-4A13-8954-2EAC84373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DC908-9F7F-48DD-9693-2ECBE568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45258-7BE1-4D67-9991-75AE951A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5A779-DD47-4958-8A38-90D1E606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BE3E3-A0F1-4F01-9C29-BB3CD7731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FB48B-DA17-4825-A645-B58DD3E64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3D9B8-E0B7-4EC4-8C52-8C6B69DF3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ED2AD-8490-4085-B90A-F3BF6A879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5131-0C3A-4D65-98D0-5D36AEA84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46F28-07D8-485F-A03C-F9DA11638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3C5B9-D281-4846-A875-87FB860EA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8B2B2-31DB-4E12-86CC-300E1DD3D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DBAF1-EDC2-4746-ADEB-CD7898EA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57EB5-93F5-4CCF-ACC6-98F15A809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1DB9D-4672-4437-B6E5-EE0FEF72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C671A-BBD3-4026-9D8F-9B6B9AF0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43B87-0D5E-4889-B430-F1AC1728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1BEED-69E4-468C-B53A-06659D383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17D5F-FBA9-421D-B508-895EE3E1E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7BB7-2D91-420C-8D5D-1B601FDD5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49D2B-6431-43D3-AAED-A26B31BE1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BEFAE-1D5C-401B-999F-63A36A1D6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0D74D-F7F4-4F57-B3C6-4D8054C0D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2477C-5841-449A-997D-C8E524FFC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FED3AF-B142-4083-BEEA-D5301F160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BC5E69-92A8-4297-A26E-10D9B64D1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EC307-ADCF-4A7F-AC7C-BF68FD2D0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5A69D-BC48-4FF6-AE19-5646C53A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18253-D179-4000-91FD-CE3F7284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69E838-1D32-4620-8A80-A7F25708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0F97-2A1D-4632-9E0C-52AE102F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75B7E-48A2-4A7E-ACEC-1FCA289B7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E426F-BA3C-4B79-978A-217950037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78B07-6271-4E9F-863F-73F04CD13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785104-ABB7-44F2-BF2F-D430A011F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C58B89-783C-46DE-8EF7-AFE43C82B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8595D-3BE6-463D-9C3F-4B1C8EB5E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93870-3F30-4FFF-A2E8-46783B959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9AAB1C-EE79-458D-A317-612338025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62B79-08EE-43C0-9746-9D351CE83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0836FA-46CA-4B9C-B496-2CA8FF9B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91FF-5CC4-4ED5-BB21-B72F1C9C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26F5F-60C4-400C-B786-6F02E1CC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8403C-2DA6-449A-9C5D-AACDA00D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894A2-2636-4E97-B7C1-EC4D6513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8E712F-3BCD-48DE-B3E8-D514C74C6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05721-AD28-494C-BB47-F7CF4F721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0A40AC-308A-42C7-84C3-96AB410BA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3416AE-DE86-424C-B1A5-879F86EEA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3CF9ED-89FE-4B0C-9D83-6FBDD9259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803F1A-BAE5-4C61-90EC-CA173BB1E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4F65E3-64A9-41DE-9A97-8FAC3D150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DEF6-5931-462B-A9F4-12A36593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9F9578-F68F-4CCD-8FF0-67A038546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613857-296D-4BC5-B949-38EBDD3E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66B56F-D10D-4344-9029-54AE68A8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6EE5AB-DDAE-42E1-A592-ACF7A9E3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08B094-B8BE-4C85-8D67-8925B1461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CB1573-5816-4FFC-A545-80E021FD7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8A9977-4CE8-4327-852B-7C1500CD7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E4A502-E336-46D3-8FFA-0035A2468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C850C6-8E0F-40DE-9AB4-51C8EF921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3DE455-C526-4D83-86BD-85E235FD9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438CA-DCD6-47BD-A0B3-18E43FE60E6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7840" cy="19080"/>
            <a:chOff x="512640" y="1054080"/>
            <a:chExt cx="8637840" cy="1908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7840" cy="17280"/>
            <a:chOff x="512640" y="5346720"/>
            <a:chExt cx="8637840" cy="1728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7840" cy="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B618E-C689-47AA-A20F-55E2206299E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7840" cy="19080"/>
            <a:chOff x="512640" y="1054080"/>
            <a:chExt cx="8637840" cy="1908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0D078-552C-4943-94E0-13065C8E577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7840" cy="17640"/>
            <a:chOff x="512640" y="3438360"/>
            <a:chExt cx="8637840" cy="1764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AA979-1099-4020-9B57-F48F717C128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7840" cy="19080"/>
            <a:chOff x="512640" y="6016680"/>
            <a:chExt cx="8637840" cy="1908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B75BE-7295-4039-83CA-19ECB1BF695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21002-9211-4911-A0B4-54B7D602176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7840" cy="17640"/>
            <a:chOff x="512640" y="5846760"/>
            <a:chExt cx="8637840" cy="1764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6A5B0-3993-4F9B-A3C7-CBC8FAA6049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ED04-D7BD-4CCA-A2CB-8ECD715D80E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5450E-49C7-4F22-AB3B-E57C0FB96CC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304920" y="573120"/>
            <a:ext cx="8686800" cy="112716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228600" y="1267920"/>
            <a:ext cx="8686800" cy="34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-21240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212400" indent="-21240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Общее родительское собрание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212400" indent="-2124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e3b30"/>
                </a:solidFill>
                <a:latin typeface="Franklin Gothic Book"/>
              </a:rPr>
              <a:t>«Здоровое общество рождается 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212400" indent="-2124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e3b30"/>
                </a:solidFill>
                <a:latin typeface="Franklin Gothic Book"/>
              </a:rPr>
              <a:t>в детях»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212400" indent="-21240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212400" indent="-21240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212400" indent="-21240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Г.А.Афанасьева</a:t>
            </a: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304920" y="428760"/>
            <a:ext cx="8686800" cy="56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4e3b30"/>
                </a:solidFill>
                <a:uFillTx/>
                <a:latin typeface="Franklin Gothic Book"/>
              </a:rPr>
              <a:t>Здоровье физическое- </a:t>
            </a: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это совершенство саморегуляции в организме, максимальная адаптация к окружающей среде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4e3b30"/>
                </a:solidFill>
                <a:uFillTx/>
                <a:latin typeface="Franklin Gothic Book"/>
              </a:rPr>
              <a:t>Здоровье психическое </a:t>
            </a: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– это высокое сознание, развитое мышление, большая внутренняя и моральная сила, побуждающая к созидательной деятельности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4e3b30"/>
                </a:solidFill>
                <a:uFillTx/>
                <a:latin typeface="Franklin Gothic Book"/>
              </a:rPr>
              <a:t>Здоровье социальное </a:t>
            </a: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– это моральное самообладание, адекватная оценка своего «Я», самоопределение личности в оптимальных условиях микро- и макросреды (семье, детском саду, социальной группе)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Содержимое 3" descr=""/>
          <p:cNvPicPr/>
          <p:nvPr/>
        </p:nvPicPr>
        <p:blipFill>
          <a:blip r:embed="rId1"/>
          <a:stretch/>
        </p:blipFill>
        <p:spPr>
          <a:xfrm>
            <a:off x="304920" y="603360"/>
            <a:ext cx="8686800" cy="561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304920" y="428760"/>
            <a:ext cx="8686800" cy="56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4e3b30"/>
                </a:solidFill>
                <a:uFillTx/>
                <a:latin typeface="Franklin Gothic Book"/>
              </a:rPr>
              <a:t>Здоровьесберегающая технология </a:t>
            </a: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– это система мер, включающая взаимосвязь и взаимодействие всех факторов образовательной среды, направленных на сохранение здоровья ребенка на всех этапах его обучения и развития.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Заголовок 1" descr=""/>
          <p:cNvPicPr/>
          <p:nvPr/>
        </p:nvPicPr>
        <p:blipFill>
          <a:blip r:embed="rId1"/>
          <a:stretch/>
        </p:blipFill>
        <p:spPr>
          <a:xfrm>
            <a:off x="146160" y="0"/>
            <a:ext cx="8948520" cy="100656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285840" y="713880"/>
            <a:ext cx="868680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1. Артикуляционная гимнастик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2. Пальчиковая гимнастик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3. Гимнастика для глаз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4. Дыхательная гимнастик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5. Корригирующая гимнастик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6. Психогимнастик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7. Закаливание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8. Витаминотерапия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9. Массаж и самомассаж: </a:t>
            </a:r>
            <a:r>
              <a:rPr b="0" i="1" lang="ru-RU" sz="2000" spc="-1" strike="noStrike">
                <a:solidFill>
                  <a:srgbClr val="4e3b30"/>
                </a:solidFill>
                <a:latin typeface="Franklin Gothic Book"/>
              </a:rPr>
              <a:t>Языка, лица и шеи, ступней ног (плантарный), ушных раковин, точечный массаж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10. Релаксация (Расслабление мышц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11. Логоритмик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12. Сказкотерапия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13. Арттерапия (излечение искусством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14. Музыкотерапия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4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4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4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1T01:25:12Z</dcterms:created>
  <dc:creator>Виктория</dc:creator>
  <dc:description/>
  <dc:language>en-US</dc:language>
  <cp:lastModifiedBy>user</cp:lastModifiedBy>
  <dcterms:modified xsi:type="dcterms:W3CDTF">2019-03-22T03:06:26Z</dcterms:modified>
  <cp:revision>8</cp:revision>
  <dc:subject/>
  <dc:title>Слайд 1</dc:title>
</cp:coreProperties>
</file>