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D8C-59F9-43CF-8E24-A743CAE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237-CD37-48D2-9FD5-232E17A4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EAF98-162D-4F10-8855-6DBCEFE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6B77A-E248-46B7-8F58-922C4B2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B3E2E-0494-4BF5-84EC-9431555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2596-DB17-4D72-A418-3370F8B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026DA-C265-4B97-8A10-5D3C631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5532E-146F-41D2-A76F-5DEB8BD2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40229-B071-4A9D-ACBE-9E1B67C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DC458-7753-4279-A0E1-5EC95D01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7BB3-C036-456F-AD16-5C936D71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337-093B-456A-A8A9-0190330B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764-4AD3-4598-A793-40A8069B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F87F-61DC-428E-9A95-5571E023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A4E8-98E9-41D3-96E3-0FBEDB3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667-BD92-4FFC-ACE0-4715B047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9B5F-471C-4E70-871E-6CB4F2D0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A61F-0770-4015-A164-02802724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AE33-A9EE-4CC2-AD20-E01472A3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83E-082D-4274-90B3-0B9E1B3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694-EFE4-484C-B3A6-A7851FF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D7F-4193-46F3-88D0-ED95124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A0B0-535F-459B-9FBD-EB2E2D8B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1A00-6D0F-4272-AD4A-0AF63E01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67D1-90C9-4FFF-BEE0-4253A21B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4608-DC5A-4B0E-9942-4F9DD0FF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9BD0-241F-4DB5-B7E9-7F2E8DAD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EB74-A382-4953-A39B-EB2CB2A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12F2-7565-4D85-A0A7-D64E4474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FBBA-AF03-48CA-8D10-84AE6906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859F-2337-4689-8C64-30426B4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AA6-EAF9-4663-88E4-D822291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63EC-2397-4355-94AE-5B8AD30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6A5B-6C5F-4C16-B8FB-784D0EB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D50C-B0B4-48D8-B1B7-BCA7CBE4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E5DA-16D3-4411-8888-2AAC7E5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9192-F670-4455-9C53-3F988EC7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8A22-2F1C-4A6B-BAFE-CDC3F791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EC4B-2053-4BD3-9C87-ABDC4E4C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5847-78E0-46A1-8A5B-64367257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DFD7-CA45-48F1-BA71-7CD883D5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3A19-CEC8-43CF-8098-A875761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5A3-4F47-4E4D-9D41-DFF2ED3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E1D8-6890-418F-B66E-B1B9D34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B3FA-CD50-4ABA-A1F4-67A5541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4C43-2AB2-4A9B-B276-7F747FE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80EB-F5EB-4E52-98E9-16DF57F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B53C-4796-4E45-84AB-F5D0D43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DC01-58DD-49DC-B521-CBCB78B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5664-3984-458B-9DB2-08BFA99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8AA3-CBD2-4058-9AA9-4E45C041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66DA-114A-495C-866C-3D0E2D0A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7F1E-ED9D-4B34-AE01-56FAFF2F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124-2EF1-4201-B410-E493D1A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024D-A43A-409F-902F-4B987C7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68A3-8713-44B4-9B0D-B11497E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D92D-200C-43BE-A843-E85D0E81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C3FE-122E-42FE-866B-3180F07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424C-A425-438D-A9A0-BB606931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BEA0-4223-4BE2-BC31-EEF2FD0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D99D2-2313-49BA-B3FC-9B6A68B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98C8-87F4-48A6-A911-7A8EFFE5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1A29-2FF8-4F5A-B312-C154F59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68AD-7F7C-4A90-AC51-72460392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20D-49BE-4CC3-8709-068EDD25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9EAE-A5A4-4E5D-AB3D-2E5B236A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DF38-C1CF-4F17-A30B-3F892A48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7897-94CE-4FA6-94DE-BEF6D2F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D1FC0-10E3-4473-AAA4-9367FFC2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5EFD-EE23-4897-9F5F-1A73F0D1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FD49A-D432-49C9-8268-3E193DC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ED7C5-B069-4EA0-A6E3-DD92ECFA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FE6C7-804C-4D19-8752-3B128DD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191A-E6F5-48DC-B769-B512D36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B9CA-2C84-4B73-AAE3-82D601E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427-D7F2-490C-8C13-0ED8E51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272A-C4A3-49F3-BEC2-4E81C539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9B24D-7018-4F0A-ABF6-2E9E8072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14EB-F697-457E-A1F4-99758387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8AFC-4720-46BC-82EB-28A9C69A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C532-7293-4ED1-BADC-671F8042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5D3CD-6752-4C20-B08D-8765A9F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40FF-2FD4-4956-9AC5-49B0937F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44A2-6182-4B78-AB87-7F5D0D2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9B625-2290-4C82-B177-6975848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3E49-1C2D-4D67-8575-D396733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4A5-6068-414E-BD46-3CE6F43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380D-0E72-4FAF-8714-4610F47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34237-C238-44ED-B901-7575CA6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19194-F33E-43E6-AC0A-1C3CA17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ECFB-1A18-4D7F-9B3E-FA06ED4B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4617-318D-45C6-89A8-E294DAD3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150D4-6D81-4EC8-9FE6-BF9923F5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8BD19-FF8E-4383-AB71-E1E2B73F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363C-5E8F-464A-A2F4-B366CD43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3F65-512A-44BD-874A-F3A75C2E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C1E4-F3FE-44AF-B5AB-64561E0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BEE-EB18-4082-81FA-673B800F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3FFC1-66C9-4739-8BD4-1C279B3F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2C4D-3B70-4114-8E2F-CE33486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FB466-7AF8-4477-B2D6-70A317B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92BE-83AA-40EA-8D8C-7EBE60C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0CE48-584D-4536-B7C6-905AC445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140DF-0171-4F8B-A72F-8A2399E3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0C5D-8E22-4DB5-9AD6-CB05E5F4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EAB95-9296-44FC-ABD5-1EAC7842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F87CC-FF97-4627-89B2-AC870370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923B7-1612-4C3D-BDF3-EF3059C2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540-9325-4BC2-B3A7-8D05369CFE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451-F01D-4CB6-999C-7EEA81C000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2458-5AB8-4A21-8DF2-83625E5390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33A5-7FE4-4671-9A1A-EF6D5F26E2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4F6E-0583-4B62-9369-17DE32837B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BC8-448E-4679-922E-B42C36EB4B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2FFD-955E-41B9-9DF8-78A471188A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F18-DFAC-4561-B666-9D4BFEABC6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375-A425-46D5-8089-C235FF65A3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573120"/>
            <a:ext cx="8686800" cy="1127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28600" y="1267920"/>
            <a:ext cx="8686800" cy="34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бщее родительское собран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«Здоровое общество рождается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в детях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Г.А.Афанасьева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физическое-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то совершенство саморегуляции в организме, максимальная адаптация к окружающей сред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психическое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это высокое сознание, развитое мышление, большая внутренняя и моральная сила, побуждающая к созидательной деятельнос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социальное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это моральное самообладание, адекватная оценка своего «Я», самоопределение личности в оптимальных условиях микро- и макросреды (семье, детском саду, социальной группе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сберегающая технология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–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46160" y="0"/>
            <a:ext cx="8948520" cy="1006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8584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. Артикуляционн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2. Пальчиков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3. Гимнастика для гл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4. Дыхательн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. Корригирующ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6. Психо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. Закали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. Витамин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9. Массаж и самомассаж: 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Языка, лица и шеи, ступней ног (плантарный), ушных раковин, точечный массаж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0. Релаксация (Расслабление мышц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1. Логоритм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2. Сказк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3. Арттерапия (излечение искусством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4. Музык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25:12Z</dcterms:created>
  <dc:creator>Виктория</dc:creator>
  <dc:description/>
  <dc:language>en-US</dc:language>
  <cp:lastModifiedBy>user</cp:lastModifiedBy>
  <dcterms:modified xsi:type="dcterms:W3CDTF">2019-03-22T03:06:26Z</dcterms:modified>
  <cp:revision>8</cp:revision>
  <dc:subject/>
  <dc:title>Слайд 1</dc:title>
</cp:coreProperties>
</file>