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67AA-5273-4A08-97FB-7290C4FCC7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92F0E-19FA-431C-B6D1-8D13AD51C3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4E96-4A83-412A-ACF4-F031B9CEDD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3BEA-84CD-4282-83F6-A0279E03F9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D5A69-7576-4CFA-BE2A-6EB76128F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03C1B-0B6D-4742-8BF4-926B56A75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80E2D-FB63-4973-AD66-D2BE8A613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77150-936F-405F-9013-BBA06BBB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F31D6-EDE7-44A7-931D-29CBED97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90914-13BB-42AD-9450-2DA726971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83F7A-38AE-4507-B260-3AADE15F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BDD2E-824C-4047-A79B-F0C7B15AA2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683B8-A5FE-4C2B-8C51-DF6F01D1F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19C3A-746B-435E-B99C-E8231A499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70ABA-C872-4007-BF6B-E940154DB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04B9E-A38A-4A3E-8B7F-A36DA739E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F8643-F0DC-4CF0-8F08-2115AF615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7FC76-302A-4A76-BC37-6AF5318390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EC162-5386-409A-ABD9-4CD752B63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735DA-60EC-4850-8924-834438B1C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405B9-968A-41F5-8D5B-74E4BA6B5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76EBF-A23B-4BA4-8B7E-E5BC6C344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6B91A-003A-48B7-8B45-9FA67B3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D4282-BCC4-4039-86E0-7F8C2F47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63AF5-AA4B-4BC9-A32A-A13AF89CA610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0231F2-4FB5-473F-9E42-EDC05BE201FE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Arial"/>
              </a:rPr>
              <a:t>Методы исследования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роблема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 основе проблемы исследования лежит противоречие, которое необходимо разрешить в ходе эксперимента и которое обосновывалось при определении актуальности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Объект и предмет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бъект исследования – это область изуч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редмет исследования – это аспект изучения объек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Гипотеза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Гипотеза исследования – это научно обоснованное предположение о разрешении проблем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5640" y="228240"/>
            <a:ext cx="65530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Цели и задачи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Цель исследования – это предполагаемая деятельность, промежуточные и конечные результаты проверки гипотезы. Задачи – конкретизация цели исследования, ее декомпозиция (расчленени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Этапы экспериментальной работы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апы экспериментальной работы, ожидаемые результаты по каждому этапу в форме документов, основные методы исслед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133360" y="228240"/>
            <a:ext cx="701028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Научная новизна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овизна отражает общественно значимые новые знания, факты, данные, полученные в результате исследования. Критерий новизна отражает содержательную сторону результата. В зависимости от результата на первый план может быть выдвинута теоретическая новизна (концепция, принцип и т.д.), практическая (правило, рекомендация, методика, требование, средство и т.д.) или оба вида одновременно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Моделирован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и – это материальные и мысленно представленные объекты, которые в процессе изучения замещают объект-оригинал, сохраняя некоторые важные для определенного исследования свой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Виды моделирова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атериальное (предметное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ысленное (идеальное) моделирова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атериальное (предметное) моделирова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физическое моделирование – это моделирование, при котором реальный объект замещается на его увеличенную или уменьшенную копию, позволяющую проводить изучение свойств объект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аналоговое моделирование – это моделирование на аналогии процессов и явлений, которые имеют различную физическую природу, но одинаково описываемые формально (одними и теми же математическими уравнениями, логическими схемами и т.п.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Мысленное (идеальное) моделирова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интуитивное моделирование – это моделирование, основанное на интуитивном представлении об объекте исследования, не поддающимся или не требующим формализац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знаковое моделирование – это моделирование, использующее в качестве моделей знаковые преобразования какого-либо вида: схемы, графики, чертежи, формулы, набор символов и т.д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Эмпирическ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метод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аблюд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ксперимен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Модел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Анкет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Интервьюирова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Анкетирование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это метод опроса посредством самостоятельного заполнения опросного листа (т.е. анкеты) респондентом (т.е. опрашиваемым) по указанным в нем правилам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Виды вопро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крытый вопрос – это вопрос, на который в анкете приводится полный набор вариантов ответов. Закрытые вопросы бывают альтернативные (т.е. предполагающие выбор только одного ответа) и неальтернативные (т.е. предполагающие выбор более одного ответа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крытый вопрос – это вопрос, который не содержит подсказки и не навязывает респонденту варианты ответ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Интервьюирован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Это метод опроса, осуществляемый в форме целенаправленной беседы по заранее подготовленному плану с каким-либо лицом или группой лиц, ответы которых на поставленные перед ними вопросы служат исходным источником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133720" y="228240"/>
            <a:ext cx="670536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ва основных вида интервью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133360" y="1600200"/>
            <a:ext cx="701028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Формализованное интервью предполагает, что общение интервьюера и респондента строго регламентировано детально разработанными вопросником и инструкци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вободное интервью (беседа) проводится без заранее подготовленного опросника, определяется только тема беседы. Беседа применяется на стадии подготовки массовых анкетных опросов для определения области исследования, пополнения и уточнения данных массовой статистики и как самостоятельный метод сбора информации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Теоретическ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методы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Анализ и синтез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Сравн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бобщени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Классификаци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Определение понятий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Анализ и синтез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Анализ – это способ познания объекта посредством изучения его частей и свойст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Синтез – это способ познания объекта посредством объединения в целое частей и свойств, выделенных в результате анализа. Анализ и синтез не изолированы друг от друга, а сосуществуют, друг друга дополня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Сравнен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равнение – это способ познания посредством установления сходства и/или различия объектов. Сходство – это то, что у сравниваемых объектов совпадает, а различие – это то, чем один сравниваемый объект отличается от друг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514600" y="228240"/>
            <a:ext cx="64008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Общий алгоритм сравнения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80720" y="761760"/>
            <a:ext cx="716292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Определение объектов с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пределение аспекта сравнения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Анализ и синтез объектов в соответствии с аспектом сравнения. Если существенные признаки сравниваемых объектов известны, то их выбирают в соответствии с аспектом сравн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Сопоставление существенных признаков сравниваемых объектов, т.е. определение общих и/или отличительных существенных признаков сравниваемы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Определение различия у общих признак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Вывод. Необходимо представить общие и/или отличительные существенные признаки сравниваемых объектов и указать степень различия общих признаков. В некоторых случаях необходимо привести причины сходства и различия сравниваемых объектов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 </a:t>
            </a: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бобщени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общение – это способ познания посредством определения общих существенных признаков объектов. Из данного определения следует, что обобщение базируется на анализе и синтезе, направленных на установление существенных признаков объектов, а также на сравнении, которое позволяет определить общие существенные признак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ва основных обобщения: </a:t>
            </a:r>
            <a:r>
              <a:rPr b="0" lang="en-US" sz="2800" spc="-1" strike="noStrike">
                <a:solidFill>
                  <a:srgbClr val="8c0039"/>
                </a:solidFill>
                <a:latin typeface="Arial"/>
              </a:rPr>
              <a:t>индуктивное и дедуктивное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Индуктивное обобщение (от единичного достоверного к общему вероятностному) предполагает определение общих существенных признаков двух и более объектов и фиксировании их в форме понятия или сужд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нятие – это мысль, отражающая общие существенные признаки объектов. Суждение – это мысль, в которой что-либо утверждается или отрицается о признаках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лгоритм индуктивного обобщ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Актуализируйте существенные признаки объектов обобщ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Определите общие существенные признаки объек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Зафиксируйте общность объектов в форме понятия или суж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Наблюдение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– </a:t>
            </a:r>
            <a:r>
              <a:rPr b="0" lang="en-US" sz="2000" spc="-1" strike="noStrike">
                <a:solidFill>
                  <a:srgbClr val="8c0039"/>
                </a:solidFill>
                <a:latin typeface="Arial"/>
              </a:rPr>
              <a:t>это метод познания, состоящий в преднамеренном, целенаправленном восприятии реальных объектов.</a:t>
            </a:r>
            <a:endParaRPr b="0" lang="en-US" sz="20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Виды наблюд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ированн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вое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средственно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Дедуктивное обобще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Дедуктивное обобщение (подведение единичного достоверного под общее достоверное) предполагает актуализацию понятия или суждения и отождествления с ним соответствующих существенных признаков одного и более объекто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лгоритм дедуктивного обобщ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. Актуализируйте существенные признаки объектов, зафиксированные в понятии или суждени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. Актуализируйте существенные признаки заданного объекта или объек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. Сопоставьте существенные признаки и определите принадлежность объекта или объектов к данному понятию или сужден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Классификация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Классификация предполагает делание рода (класса) на виды (подклассы) на основе установления признаков объектов, составляющих род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Род – это совокупность объектов, которые объединяются в целое по общим существенным отличительным признака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лгоритм классификации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Установите род объектов для классифик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Определите признаки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Определите общие и отличительные существенные признаки объектов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Определите основание для классификации рода, т.е. отличительный существенный признак, по которому будет делиться род на в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Распределите объекты по вида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Определите основания классификации вида на подв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 Распределите объекты на подвид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Определение понятий</a:t>
            </a: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особ познания посредством раскрытия содержания поняти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нятие – это мысль, отражающая общие существенные признаки объектов. Всякое понятие имеет содержание и объ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м понятия называют существенные признаки объекта или объектов, отраженных в поня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бъемом понятия называют объект или объекты, существенные признаки которых зафиксированы в понят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Структурированное наблюде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Структурированное наблюдение – это наблюдение, осуществляемое по плану, неструктурированное наблюдение – это наблюдение, при котором определен только объект наблю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Полевое наблюде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Полевое наблюдение – это наблюдение в естественной обстановке; лабораторное наблюдение – это наблюдение, при котором объект находится в искусственно созданных условия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Непосредственное наблюдение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Непосредственное наблюдение – это наблюдение, в процессе которого объект прямо воздействует на органы чувств наблюдателя; опосредованное наблюдение – это наблюдение, в котором воздействие объекта на органы чувств наблюдателя опосредовано прибором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c0039"/>
                </a:solidFill>
                <a:latin typeface="Arial"/>
              </a:rPr>
              <a:t>Алгоритм наблюдения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 Определение цели наблю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Выбор объекта наблю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Выбор способов достижения цели наблюд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. Выбор способа регистрации полученной информаци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5. Обработка и интерпретация полученной информаци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5640" y="228600"/>
            <a:ext cx="6553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c0039"/>
                </a:solidFill>
                <a:latin typeface="Arial"/>
              </a:rPr>
              <a:t>Эксперимент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– </a:t>
            </a:r>
            <a:r>
              <a:rPr b="0" lang="en-US" sz="2400" spc="-1" strike="noStrike">
                <a:solidFill>
                  <a:srgbClr val="8c0039"/>
                </a:solidFill>
                <a:latin typeface="Arial"/>
              </a:rPr>
              <a:t>это метод познания, предполагающий целенаправленное изменение объекта для получения знаний, которые невозможно выявить в результате наблюдения</a:t>
            </a:r>
            <a:r>
              <a:rPr b="0" lang="en-US" sz="3200" spc="-1" strike="noStrike">
                <a:solidFill>
                  <a:srgbClr val="8c003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2362320" y="236232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Структура программы эксперимент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. Актуальность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. Проблема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. Объект и предмет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. Гипотеза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. Цель и задачи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. Этапы экспериментальной работы, ожидаемые результаты по каждому этапу в форме документов, основные методы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7. Научная новизна исследова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Актуальность исследования 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Актуальность исследования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это обоснование необходимости решения той или иной проблемы. Актуальность исследований характеризуется степенью расхождения между спросом на научные идеи, технологии, методические рекомендации и предложениями, которые может дать наука и практика в настоящее врем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4-26T16:04:22Z</dcterms:created>
  <dc:creator>Acer</dc:creator>
  <dc:description/>
  <dc:language>en-US</dc:language>
  <cp:lastModifiedBy>Acer</cp:lastModifiedBy>
  <dcterms:modified xsi:type="dcterms:W3CDTF">2018-04-26T16:40:08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