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FDCF-9345-407D-B4B9-B2248756D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CA8-5630-4A5D-A9C9-E058A31A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5C64-C459-46BF-9D78-6D32B396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A8AA-84C0-4EF6-9230-D3B58686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756C7-8E29-4936-964F-CF89257EC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5477C-3481-4C07-88FB-1B6AA6E0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30FC-9A2D-4D20-BF2E-8926F41C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2B676-5BC8-4C68-B94C-10A47152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1EC-D4D9-40F3-AEA5-57A9CA568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A1245-F4AD-4794-AA7D-93C2085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E5AB-B282-4159-B082-FE512645A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9275-1407-4781-8B5D-60E8E050F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F5BA-2CD2-4B3D-B8CD-1BD1031C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8431-DAE6-49FF-A94A-795A877C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56B15-22BB-43E5-B041-F50E9AFE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430D-351C-4E4A-9699-F5EE0CEE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CDE43-6848-46F2-895B-39F017356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FDEC-0BC6-4BBA-A598-DE4A3EAB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C092-9912-4ED7-B5C5-78B1F891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125B-5613-46D0-B426-900309755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1CDD-2FDC-4D7F-82F2-8C41617A6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F01B-1F3A-435D-A408-7C16E83C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F398-0DCB-4778-939B-1DA0CC84C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4EE8-B113-43E9-BDAC-E25D1B67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29E8-DAB8-4AB1-9FA9-4DCDA519E55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EF463-F934-40E6-99D0-3EF9CAAF67E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блем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е проблемы исследования лежит противоречие, которое необходимо разрешить в ходе эксперимента и которое обосновывалось при определении актуальности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бъект и предмет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 исследования – это область из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исследования – это аспект изучения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ипотез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еза исследования – это научно обоснованное предположение о разрешении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и задачи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сследования – это предполагаемая деятельность, промежуточные и конечные результаты проверки гипотезы. Задачи – конкретизация цели исследования, ее декомпозиция (расчлен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Этапы экспериментальной работы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 экспериментальной работы, ожидаемые результаты по каждому этапу в форме документов, основные методы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аучная новизн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изна отражает общественно значимые новые знания, факты, данные, полученные в результате исследования. Критерий новизна отражает содержательную сторону результата. В зависимости от результата на первый план может быть выдвинута теоретическая новизна (концепция, принцип и т.д.), практическая (правило, рекомендация, методика, требование, средство и т.д.) или оба вида одноврем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Моделирова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 – это материальные и мысленно представленные объекты, которые в процессе изучения замещают объект-оригинал, сохраняя некоторые важные для определенного исследования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иды моделир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ьное (предметно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енное (идеальное) моде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риальное (предметное) моделирова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ое моделирование – это моделирование, при котором реальный объект замещается на его увеличенную или уменьшенную копию, позволяющую проводить изучение свойств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овое моделирование – это моделирование на аналогии процессов и явлений, которые имеют различную физическую природу, но одинаково описываемые формально (одними и теми же математическими уравнениями, логическими схемами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ысленное (идеальное) моделирова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уитивное моделирование – это моделирование, основанное на интуитивном представлении об объекте исследования, не поддающимся или не требующим форм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вое моделирование – это моделирование, использующее в качестве моделей знаковые преобразования какого-либо вида: схемы, графики, чертежи, формулы, набор символов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Эмпирическ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метод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вью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Анкетирование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это метод опроса посредством самостоятельного заполнения опросного листа (т.е. анкеты) респондентом (т.е. опрашиваемым) по указанным в нем правилам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ы вопро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ый вопрос – это вопрос, на который в анкете приводится полный набор вариантов ответов. Закрытые вопросы бывают альтернативные (т.е. предполагающие выбор только одного ответа) и неальтернативные (т.е. предполагающие выбор более одного отве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й вопрос – это вопрос, который не содержит подсказки и не навязывает респонденту варианты от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нтервьюирова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метод опроса, осуществляемый в форме целенаправленной беседы по заранее подготовленному плану с каким-либо лицом или группой лиц, ответы которых на поставленные перед ними вопросы служат исходным источником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ва основных вида интервью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изованное интервью предполагает, что общение интервьюера и респондента строго регламентировано детально разработанными вопросником и инстр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интервью (беседа) проводится без заранее подготовленного опросника, определяется только тема беседы. Беседа применяется на стадии подготовки массовых анкетных опросов для определения области исследования, пополнения и уточнения данных массовой статистики и как самостоятельный метод сбора информ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Теоретическ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метод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 и синт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ение по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нализ и синтез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– это способ познания объекта посредством изучения его частей и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тез – это способ познания объекта посредством объединения в целое частей и свойств, выделенных в результате анализа. Анализ и синтез не изолированы друг от друга, а сосуществуют, друг друга дополня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равне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ение – это способ познания посредством установления сходства и/или различия объектов. Сходство – это то, что у сравниваемых объектов совпадает, а различие – это то, чем один сравниваемый объект отличается от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Общий алгоритм сравнени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761760"/>
            <a:ext cx="7162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Определение объектов с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ение аспекта сравнения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Анализ и синтез объектов в соответствии с аспектом сравнения. Если существенные признаки сравниваемых объектов известны, то их выбирают в соответствии с аспектом с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Сопоставление существенных признаков сравниваемых объектов, т.е. определение общих и/или отличительных существенных признаков сравниваем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Определение различия у общих при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Вывод. Необходимо представить общие и/или отличительные существенные признаки сравниваемых объектов и указать степень различия общих признаков. В некоторых случаях необходимо привести причины сходства и различия сравниваемы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бобще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бщение – это способ познания посредством определения общих существенных признаков объектов. Из данного определения следует, что обобщение базируется на анализе и синтезе, направленных на установление существенных признаков объектов, а также на сравнении, которое позволяет определить общие существенные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ва основных обобщения: 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индуктивное и дедуктивно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уктивное обобщение (от единичного достоверного к общему вероятностному) предполагает определение общих существенных признаков двух и более объектов и фиксировании их в форме понятия или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е – это мысль, отражающая общие существенные признаки объектов. Суждение – это мысль, в которой что-либо утверждается или отрицается о признака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индуктивного об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ктуализируйте существенные признаки объектов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пределите общие существенные признак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фиксируйте общность объектов в форме понятия или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Наблюдение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это метод познания, состоящий в преднамеренном, целенаправленном восприятии реальных объектов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наблю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ирова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в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средствен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едуктивное обобщ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дуктивное обобщение (подведение единичного достоверного под общее достоверное) предполагает актуализацию понятия или суждения и отождествления с ним соответствующих существенных признаков одного и более объе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дедуктивного об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Актуализируйте существенные признаки объектов, зафиксированные в понятии или суж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Актуализируйте существенные признаки заданного объекта ил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опоставьте существенные признаки и определите принадлежность объекта или объектов к данному понятию или суж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Классификация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предполагает делание рода (класса) на виды (подклассы) на основе установления признаков объектов, составляющих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 – это совокупность объектов, которые объединяются в целое по общим существенным отличительны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классификац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тановите род объектов для класс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ите признаки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пределите общие и отличительные существенные признаки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ределите основание для классификации рода, т.е. отличительный существенный признак, по которому будет делиться род на 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аспределите объекты по ви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Определите основания классификации вида на под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Распределите объекты на под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пределение понятий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познания посредством раскрытия содержания пон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– это мысль, отражающая общие существенные признаки объектов. Всякое понятие имеет содержание и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м понятия называют существенные признаки объекта или объектов, отраженных в по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ом понятия называют объект или объекты, существенные признаки которых зафиксированы в по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труктурированн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ированное наблюдение – это наблюдение, осуществляемое по плану, неструктурированное наблюдение – это наблюдение, при котором определен только объект наблю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лев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вое наблюдение – это наблюдение в естественной обстановке; лабораторное наблюдение – это наблюдение, при котором объект находится в искусственно созданных услов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епосредственн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средственное наблюдение – это наблюдение, в процессе которого объект прямо воздействует на органы чувств наблюдателя; опосредованное наблюдение – это наблюдение, в котором воздействие объекта на органы чувств наблюдателя опосредовано прибо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лгоритм наблю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пределение цели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бор объекта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ыбор способов достижения цели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бор способа регистрации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Обработка и интерпретация получен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Эксперимент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это метод познания, предполагающий целенаправленное изменение объекта для получения знаний, которые невозможно выявить в результате наблюдения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программы экспери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Актуальность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роблем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бъект и предмет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Гипотез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Цель и задач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Этапы экспериментальной работы, ожидаемые результаты по каждому этапу в форме документов, основные методы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Научная новизн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уальность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обоснование необходимости решения той или иной проблемы. Актуальность исследований характеризуется степенью расхождения между спросом на научные идеи, технологии, методические рекомендации и предложениями, которые может дать наука и практика в настояще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04:22Z</dcterms:created>
  <dc:creator>Acer</dc:creator>
  <dc:description/>
  <dc:language>en-US</dc:language>
  <cp:lastModifiedBy>Acer</cp:lastModifiedBy>
  <dcterms:modified xsi:type="dcterms:W3CDTF">2018-04-26T16:40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