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1C8F-848B-4761-96AE-BC5896E2F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8F6C-CEB6-4A7B-9AF1-57491CEBF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5526-84CD-46B7-878D-236704096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5529-3F51-49E9-8035-E8A54E716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E1C11-7D90-4803-9CEF-47EFCA094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EF2C9-B669-4073-9896-07D47F57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3AE5F-4E91-415F-8D34-126142C3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A7FB8-9C33-4005-BAA5-22266AB7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C1096-2B54-41F7-AB6C-D69CD5421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B72C-5BC9-4632-BA90-22D63A51E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1BE2-ECDD-4939-9D3F-368DB07A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7413-101E-4BD0-879C-EE7A29D5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8F3B0-434D-4486-8D7B-FBD7C8AE4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E7E66-37FA-4215-B4AF-00EB165E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5DEB5-A6FC-4203-B7CE-BDFAC79AA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6243-AC21-4072-A5B8-D19B75CC2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C6DC6-C999-441A-B8E1-3CC681D6A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3541-E7E8-4A5B-9AA5-1F7E1724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0A45-C7B8-4F20-A8A1-F07662AD2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7F211-4E7E-4D49-9EDE-2FD88FF3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643E-071E-487F-A821-0278E7D1E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AF27-7D3F-402A-9568-71B021DE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73A20-62AE-4EC6-A1D0-BF03C06C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9CEB-2E1E-48F5-BE88-29D4D69E7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F608-D2EF-4BF7-B111-8057955426B4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8D3D-51F5-4A50-857E-4FBA9D321D6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33"/>
                </a:solidFill>
                <a:latin typeface="Garamond"/>
              </a:rPr>
              <a:t>Фигурная нарезка овощей - карвинг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352680" y="3429000"/>
            <a:ext cx="5486400" cy="31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5f5f5f"/>
                </a:solidFill>
                <a:latin typeface="Garamond"/>
              </a:rPr>
              <a:t>Переносим готовый цветок на блюдо, обхватить его обеими руками, прижимая его со всех сторон. 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133720" y="2666880"/>
            <a:ext cx="599112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5f5f5f"/>
                </a:solidFill>
                <a:latin typeface="Garamond"/>
              </a:rPr>
              <a:t>Можно на дно тарелки положить лист салата.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599148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Колокольчики из огурца.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3800"/>
            </a:br>
            <a:r>
              <a:rPr b="1" lang="en-US" sz="2400" spc="-1" strike="noStrike">
                <a:solidFill>
                  <a:srgbClr val="5f5f5f"/>
                </a:solidFill>
                <a:latin typeface="Garamond"/>
              </a:rPr>
              <a:t>Острым маленьким ножом, направляя его на себя, надрезаем огурец в форме лепестка, погружая лезвие ножа до середины. </a:t>
            </a:r>
            <a:br>
              <a:rPr sz="2400"/>
            </a:br>
            <a:r>
              <a:rPr b="1" lang="en-US" sz="2400" spc="-1" strike="noStrike">
                <a:solidFill>
                  <a:srgbClr val="5f5f5f"/>
                </a:solidFill>
                <a:latin typeface="Garamond"/>
              </a:rPr>
              <a:t>Затем поворачивая его, надрезаем еще два листа.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23880" y="2590920"/>
            <a:ext cx="599148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5f5f5f"/>
                </a:solidFill>
                <a:latin typeface="Garamond"/>
              </a:rPr>
              <a:t>Чтобы отделить цветок от огурца нужно слегка его повернуть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 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19320" y="2438280"/>
            <a:ext cx="599112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5f5f5f"/>
                </a:solidFill>
                <a:latin typeface="Garamond"/>
              </a:rPr>
              <a:t>Продолжить в том же порядке, пока огурец не закончится.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76520" y="2514600"/>
            <a:ext cx="599112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5f5f5f"/>
                </a:solidFill>
                <a:latin typeface="Garamond"/>
              </a:rPr>
              <a:t>В серединку колокольчиков можно добавить полоски из перца или маслинки.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981080" y="2666880"/>
            <a:ext cx="599148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 </a:t>
            </a:r>
            <a:r>
              <a:rPr b="1" lang="en-US" sz="3800" spc="-1" strike="noStrike">
                <a:solidFill>
                  <a:srgbClr val="5f5f5f"/>
                </a:solidFill>
                <a:latin typeface="Garamond"/>
              </a:rPr>
              <a:t>Нарезать тонкие полосы из огурца и, сложить пополам не ломая.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52480" y="2514600"/>
            <a:ext cx="599148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Украсить блюдо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576440" y="1747800"/>
            <a:ext cx="599112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Кувшинка из лука</a:t>
            </a:r>
            <a:br>
              <a:rPr sz="3800"/>
            </a:br>
            <a:r>
              <a:rPr b="1" lang="en-US" sz="2800" spc="-1" strike="noStrike">
                <a:solidFill>
                  <a:srgbClr val="5f5f5f"/>
                </a:solidFill>
                <a:latin typeface="Garamond"/>
              </a:rPr>
              <a:t>Разрезать лук ровно зубчиками, погружая нож только до середины. По завершении он легко распадется на две половинки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057400" y="2666880"/>
            <a:ext cx="599112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5f5f5f"/>
                </a:solidFill>
                <a:latin typeface="Garamond"/>
              </a:rPr>
              <a:t>Все части лука необходимо вынуть и собрать уже формируя цветок.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599112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Нам понадобятс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98176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Дополнить блюдо кувшинкам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752480" y="2514600"/>
            <a:ext cx="599148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Роза из апельсин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429000" y="1066680"/>
            <a:ext cx="4724280" cy="28195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80880" y="4038480"/>
            <a:ext cx="44960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Роза из лимон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599112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Оформлени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52480" y="2590920"/>
            <a:ext cx="599148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Цветы из кив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76520" y="2590920"/>
            <a:ext cx="599112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Крылышки из яблок и груш</a:t>
            </a:r>
            <a:br>
              <a:rPr sz="3800"/>
            </a:br>
            <a:br>
              <a:rPr sz="3800"/>
            </a:br>
            <a:br>
              <a:rPr sz="3800"/>
            </a:br>
            <a:r>
              <a:rPr b="1" lang="en-US" sz="3800" spc="-1" strike="noStrike">
                <a:solidFill>
                  <a:srgbClr val="5f5f5f"/>
                </a:solidFill>
                <a:latin typeface="Garamond"/>
              </a:rPr>
              <a:t>Делим фрукты пополам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676520" y="2666880"/>
            <a:ext cx="599112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5f5f5f"/>
                </a:solidFill>
                <a:latin typeface="Garamond"/>
              </a:rPr>
              <a:t>Надрезаем лепесток с двух сторон. Нужно следить, чтобы лишнее не срезали.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676520" y="2286000"/>
            <a:ext cx="599112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5f5f5f"/>
                </a:solidFill>
                <a:latin typeface="Garamond"/>
              </a:rPr>
              <a:t>Отступив от вырезанного 2-3 мм вырезаем следующий листик.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599112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5f5f5f"/>
                </a:solidFill>
                <a:latin typeface="Garamond"/>
              </a:rPr>
              <a:t>Вырезаем до тех пор, пока не дойдем до нашей «границы» яблока.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828800" y="2514600"/>
            <a:ext cx="599112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5f5f5f"/>
                </a:solidFill>
                <a:latin typeface="Garamond"/>
              </a:rPr>
              <a:t>Все детали соединяем и раздвигаем так, чтобы получилось крылышко. 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523880" y="2438280"/>
            <a:ext cx="599148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006633"/>
                </a:solidFill>
                <a:uFillTx/>
                <a:latin typeface="Garamond"/>
              </a:rPr>
              <a:t>Советы начинающему «карвингеру»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1870920"/>
            <a:ext cx="77724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00"/>
                </a:solidFill>
                <a:latin typeface="Arial"/>
              </a:rPr>
              <a:t>Не каждый фрукт, овощ подойдет для карвинг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6600"/>
                </a:solidFill>
                <a:latin typeface="Arial"/>
              </a:rPr>
              <a:t>Редис должен быть крупным и ярк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6600"/>
                </a:solidFill>
                <a:latin typeface="Arial"/>
              </a:rPr>
              <a:t>Морковь — ровной и глад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6600"/>
                </a:solidFill>
                <a:latin typeface="Arial"/>
              </a:rPr>
              <a:t>Апельсин — очень свежи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00"/>
                </a:solidFill>
                <a:latin typeface="Arial"/>
              </a:rPr>
              <a:t>Яблоки лучше брать с гладкой кожиц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6600"/>
                </a:solidFill>
                <a:latin typeface="Arial"/>
              </a:rPr>
              <a:t>Огурцы — ровные и с тёмной кож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6600"/>
                </a:solidFill>
                <a:latin typeface="Arial"/>
              </a:rPr>
              <a:t>У тыкв с грубой кожицей более плотная и удобная в работе мяко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Крылышки из груш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52480" y="2514600"/>
            <a:ext cx="599148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Фруктовая тарелк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599112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Нарезка помидора</a:t>
            </a:r>
            <a:br>
              <a:rPr sz="3800"/>
            </a:br>
            <a:r>
              <a:rPr b="0" lang="en-US" sz="2400" spc="-1" strike="noStrike">
                <a:solidFill>
                  <a:srgbClr val="5f5f5f"/>
                </a:solidFill>
                <a:latin typeface="Garamond"/>
              </a:rPr>
              <a:t>Разрезаем его пополам и отрезаем ненужную часть.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59911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5f5f5f"/>
                </a:solidFill>
                <a:latin typeface="Garamond"/>
              </a:rPr>
              <a:t>Острым ножом тонко нарезаем одну из половинок помидора.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599112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5f5f5f"/>
                </a:solidFill>
                <a:latin typeface="Garamond"/>
              </a:rPr>
              <a:t>Если помидор маленький, то можно соединить две нарезанные половинки в одну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599112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5f5f5f"/>
                </a:solidFill>
                <a:latin typeface="Garamond"/>
              </a:rPr>
              <a:t>«Растягиваем» помидор, как можно тоньш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295280" y="2514600"/>
            <a:ext cx="599148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5f5f5f"/>
                </a:solidFill>
                <a:latin typeface="Garamond"/>
              </a:rPr>
              <a:t>Начинаем помидор закручивать в цветок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371600" y="2286000"/>
            <a:ext cx="599112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f5f5f"/>
                </a:solidFill>
                <a:latin typeface="Garamond"/>
              </a:rPr>
              <a:t>Получается цветок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52480" y="2590920"/>
            <a:ext cx="599148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27T17:37:40Z</dcterms:created>
  <dc:creator>Acer</dc:creator>
  <dc:description/>
  <dc:language>en-US</dc:language>
  <cp:lastModifiedBy>Acer</cp:lastModifiedBy>
  <dcterms:modified xsi:type="dcterms:W3CDTF">2017-12-27T18:06:4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