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27.jpeg" ContentType="image/jpeg"/>
  <Override PartName="/ppt/media/image6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10.jpeg" ContentType="image/jpeg"/>
  <Override PartName="/ppt/media/image8.jpeg" ContentType="image/jpeg"/>
  <Override PartName="/ppt/media/image29.jpeg" ContentType="image/jpeg"/>
  <Override PartName="/ppt/media/image13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5.jpeg" ContentType="image/jpeg"/>
  <Override PartName="/ppt/media/image26.jpeg" ContentType="image/jpeg"/>
  <Override PartName="/ppt/media/image2.jpeg" ContentType="image/jpeg"/>
  <Override PartName="/ppt/media/image23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C0490-E357-47B8-8F01-7D98031BCE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84F6-AD71-4C1E-9BD2-454960A28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0CE72-9700-4582-9A5D-D6F1DBF92F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856-E10F-42F4-B613-8C7E07EF4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E5C69-E51B-42D2-8794-4A29224D8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55134-63E8-4F8C-B89C-B85D5022C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387C5-285C-4EC4-964B-C4F741FA4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E3648-D48B-4255-B9FE-BEE61481E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93AEB-5715-4A34-9E64-48C7BD70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1CE12C-B5C1-4CDA-B5FB-3DFC47B836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98D67-92D3-4225-966A-5267166A1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88C64-6CB7-4150-9848-991529D745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30383-41B5-4C14-A044-C3A760A85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92D7-E7A5-4AC8-A8A4-C396E385A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483BF-F35B-4E42-A054-0419D2B18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B0301-98A3-4214-AB22-9F1D89D87C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0D1060-E1B1-4EC8-9D87-721A1159D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EFCC3-C2BF-4E96-8A5D-A0FC91B8F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187F-AE83-4E2D-A353-BFEB1255A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970F-F45E-41E6-B78C-0CBBA0C37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7785-DD0B-4D72-A183-1039ED48D1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CADBE-410C-4F07-84DA-70E55F2FB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D2A55-3AEB-4CAF-AF4A-7285E0F85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032D7-F297-48CD-B953-9BDD9A07A4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74AF19-C885-40DA-A8EF-F3BEC056435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C9793-81AF-462E-A4F0-F5588EED923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000" spc="-1" strike="noStrike">
                <a:solidFill>
                  <a:srgbClr val="006633"/>
                </a:solidFill>
                <a:latin typeface="Garamond"/>
              </a:rPr>
              <a:t>Фигурная нарезка овощей - карвинг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3352680" y="3429000"/>
            <a:ext cx="5486400" cy="310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Переносим готовый цветок на блюдо, обхватить его обеими руками, прижимая его со всех сторон. 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13372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Можно на дно тарелки положить лист салат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752480" y="220968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олокольчики из огурц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br>
              <a:rPr sz="3800"/>
            </a:br>
            <a:r>
              <a:rPr b="1" lang="en-US" sz="2400" spc="-1" strike="noStrike">
                <a:solidFill>
                  <a:srgbClr val="5f5f5f"/>
                </a:solidFill>
                <a:latin typeface="Garamond"/>
              </a:rPr>
              <a:t>Острым маленьким ножом, направляя его на себя, надрезаем огурец в форме лепестка, погружая лезвие ножа до середины. </a:t>
            </a:r>
            <a:br>
              <a:rPr sz="2400"/>
            </a:br>
            <a:r>
              <a:rPr b="1" lang="en-US" sz="2400" spc="-1" strike="noStrike">
                <a:solidFill>
                  <a:srgbClr val="5f5f5f"/>
                </a:solidFill>
                <a:latin typeface="Garamond"/>
              </a:rPr>
              <a:t>Затем поворачивая его, надрезаем еще два листа.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523880" y="2590920"/>
            <a:ext cx="5991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Чтобы отделить цветок от огурца нужно слегка его повернуть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 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219320" y="24382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Продолжить в том же порядке, пока огурец не закончится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5f5f5f"/>
                </a:solidFill>
                <a:latin typeface="Garamond"/>
              </a:rPr>
              <a:t>В серединку колокольчиков можно добавить полоски из перца или маслинки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981080" y="266688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 </a:t>
            </a: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Нарезать тонкие полосы из огурца и, сложить пополам не ломая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Украсить блюдо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576440" y="17478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увшинка из лука</a:t>
            </a:r>
            <a:br>
              <a:rPr sz="3800"/>
            </a:br>
            <a:r>
              <a:rPr b="1" lang="en-US" sz="2800" spc="-1" strike="noStrike">
                <a:solidFill>
                  <a:srgbClr val="5f5f5f"/>
                </a:solidFill>
                <a:latin typeface="Garamond"/>
              </a:rPr>
              <a:t>Разрезать лук ровно зубчиками, погружая нож только до середины. По завершении он легко распадется на две половинки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205740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Все части лука необходимо вынуть и собрать уже формируя цветок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160020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Нам понадобятся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2057400" y="1828800"/>
            <a:ext cx="598176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Дополнить блюдо кувшинками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за из апельси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429000" y="1066680"/>
            <a:ext cx="4724280" cy="28195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380880" y="4038480"/>
            <a:ext cx="4496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Роза из лимон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1828800" y="2362320"/>
            <a:ext cx="5991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Оформление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991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Цветы из кив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676520" y="2590920"/>
            <a:ext cx="5991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Крылышки из яблок и груш</a:t>
            </a:r>
            <a:br>
              <a:rPr sz="3800"/>
            </a:br>
            <a:br>
              <a:rPr sz="3800"/>
            </a:br>
            <a:br>
              <a:rPr sz="3800"/>
            </a:b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Делим фрукты пополам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tretch/>
        </p:blipFill>
        <p:spPr>
          <a:xfrm>
            <a:off x="1676520" y="26668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Надрезаем лепесток с двух сторон. Нужно следить, чтобы лишнее не срезали.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67652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Отступив от вырезанного 2-3 мм вырезаем следующий листик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82880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Вырезаем до тех пор, пока не дойдем до нашей «границы» яблок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28800" y="25146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Все детали соединяем и раздвигаем так, чтобы получилось крылышко. 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1523880" y="243828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 u="sng">
                <a:solidFill>
                  <a:srgbClr val="006633"/>
                </a:solidFill>
                <a:uFillTx/>
                <a:latin typeface="Garamond"/>
              </a:rPr>
              <a:t>Советы начинающему «карвингеру»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1870920"/>
            <a:ext cx="777240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Не каждый фрукт, овощ подойдет для карвинг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Редис должен быть крупным и ярки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Морковь — ровной и глад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Апельсин — очень свежим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Яблоки лучше брать с гладкой кожиц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Огурцы — ровные и с тёмной коже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buClr>
                <a:srgbClr val="99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996600"/>
                </a:solidFill>
                <a:latin typeface="Arial"/>
              </a:rPr>
              <a:t>У тыкв с грубой кожицей более плотная и удобная в работе мякоть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Крылышки из груши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17524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006633"/>
                </a:solidFill>
                <a:latin typeface="Garamond"/>
              </a:rPr>
              <a:t>Фруктовая тарелка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60020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Нарезка помидора</a:t>
            </a:r>
            <a:br>
              <a:rPr sz="3800"/>
            </a:br>
            <a:r>
              <a:rPr b="0" lang="en-US" sz="2400" spc="-1" strike="noStrike">
                <a:solidFill>
                  <a:srgbClr val="5f5f5f"/>
                </a:solidFill>
                <a:latin typeface="Garamond"/>
              </a:rPr>
              <a:t>Разрезаем его пополам и отрезаем ненужную часть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676520" y="1828800"/>
            <a:ext cx="5991120" cy="37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Острым ножом тонко нарезаем одну из половинок помидора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1447920" y="2133720"/>
            <a:ext cx="599112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Если помидор маленький, то можно соединить две нарезанные половинки в одну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1600200" y="175248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«Растягиваем» помидор, как можно тоньше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1295280" y="2514600"/>
            <a:ext cx="599148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5f5f5f"/>
                </a:solidFill>
                <a:latin typeface="Garamond"/>
              </a:rPr>
              <a:t>Начинаем помидор закручивать в цветок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371600" y="2286000"/>
            <a:ext cx="5991120" cy="336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5f5f5f"/>
                </a:solidFill>
                <a:latin typeface="Garamond"/>
              </a:rPr>
              <a:t>Получается цветок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1752480" y="2590920"/>
            <a:ext cx="5991480" cy="33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2-27T17:37:40Z</dcterms:created>
  <dc:creator>Acer</dc:creator>
  <dc:description/>
  <dc:language>en-US</dc:language>
  <cp:lastModifiedBy>Acer</cp:lastModifiedBy>
  <dcterms:modified xsi:type="dcterms:W3CDTF">2017-12-27T18:06:40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