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886-AE1A-4B08-9E71-D5E731AF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68E-9A3C-4F7A-9D60-1BEA703C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294-82CC-4826-AFDB-8F5681CA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8B1-DA28-4C27-8F34-185C48C4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573-5EB6-45C7-9A53-01BEA1A1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BC5-4F5D-4CC3-A8B9-ACA7A549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B41-4ABE-4326-B556-CE10A4B4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0CB-C476-4287-9A06-BE589848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4B2-8C95-4866-AD53-2FB767BB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C79-37E9-48ED-A550-370BC3AF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88F-556B-4F1C-9A3D-6B20CC10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CBC-8A0F-4AF9-9D13-DAB4C2D0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175C-62F8-4239-938A-FADE86B358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1447920" y="0"/>
            <a:ext cx="7596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3c3b00"/>
              </a:gs>
              <a:gs pos="100000">
                <a:srgbClr val="827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J0234160"/>
          <p:cNvPicPr/>
          <p:nvPr/>
        </p:nvPicPr>
        <p:blipFill>
          <a:blip r:embed="rId1"/>
          <a:stretch/>
        </p:blipFill>
        <p:spPr>
          <a:xfrm>
            <a:off x="0" y="152280"/>
            <a:ext cx="2286000" cy="21592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"/>
          <p:cNvGrpSpPr/>
          <p:nvPr/>
        </p:nvGrpSpPr>
        <p:grpSpPr>
          <a:xfrm>
            <a:off x="2438280" y="152280"/>
            <a:ext cx="6094800" cy="1599480"/>
            <a:chOff x="2438280" y="152280"/>
            <a:chExt cx="6094800" cy="1599480"/>
          </a:xfrm>
        </p:grpSpPr>
        <p:grpSp>
          <p:nvGrpSpPr>
            <p:cNvPr id="45" name="Group 9"/>
            <p:cNvGrpSpPr/>
            <p:nvPr/>
          </p:nvGrpSpPr>
          <p:grpSpPr>
            <a:xfrm>
              <a:off x="2438280" y="294840"/>
              <a:ext cx="6094800" cy="1456920"/>
              <a:chOff x="2438280" y="294840"/>
              <a:chExt cx="6094800" cy="1456920"/>
            </a:xfrm>
          </p:grpSpPr>
          <p:sp>
            <p:nvSpPr>
              <p:cNvPr id="46" name="Oval 10"/>
              <p:cNvSpPr/>
              <p:nvPr/>
            </p:nvSpPr>
            <p:spPr>
              <a:xfrm>
                <a:off x="2504880" y="341280"/>
                <a:ext cx="6028200" cy="141048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a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11"/>
              <p:cNvSpPr/>
              <p:nvPr/>
            </p:nvSpPr>
            <p:spPr>
              <a:xfrm>
                <a:off x="2438280" y="294840"/>
                <a:ext cx="6028200" cy="1410120"/>
              </a:xfrm>
              <a:prstGeom prst="ellipse">
                <a:avLst/>
              </a:prstGeom>
              <a:gradFill rotWithShape="0">
                <a:gsLst>
                  <a:gs pos="0">
                    <a:srgbClr val="8ed2d2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Oval 12"/>
            <p:cNvSpPr/>
            <p:nvPr/>
          </p:nvSpPr>
          <p:spPr>
            <a:xfrm>
              <a:off x="2725560" y="152280"/>
              <a:ext cx="5456880" cy="1339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3"/>
            <p:cNvSpPr/>
            <p:nvPr/>
          </p:nvSpPr>
          <p:spPr>
            <a:xfrm>
              <a:off x="2796840" y="159840"/>
              <a:ext cx="5324400" cy="130788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e7f4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4"/>
            <p:cNvSpPr/>
            <p:nvPr/>
          </p:nvSpPr>
          <p:spPr>
            <a:xfrm>
              <a:off x="2851560" y="172800"/>
              <a:ext cx="5068800" cy="1219320"/>
            </a:xfrm>
            <a:prstGeom prst="ellipse">
              <a:avLst/>
            </a:prstGeom>
            <a:gradFill rotWithShape="0">
              <a:gsLst>
                <a:gs pos="0">
                  <a:srgbClr val="94b1b4"/>
                </a:gs>
                <a:gs pos="100000">
                  <a:srgbClr val="bbe0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5"/>
            <p:cNvSpPr/>
            <p:nvPr/>
          </p:nvSpPr>
          <p:spPr>
            <a:xfrm>
              <a:off x="3119400" y="199800"/>
              <a:ext cx="4462200" cy="98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6 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 flipH="1" rot="1128000">
            <a:off x="2401200" y="1136520"/>
            <a:ext cx="1209600" cy="1860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aedfdf"/>
              </a:gs>
            </a:gsLst>
            <a:lin ang="11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276720" y="1828800"/>
            <a:ext cx="5410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Monotype Corsiva"/>
              </a:rPr>
              <a:t>Урок  русского язы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600200" y="373392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1523880" y="0"/>
            <a:ext cx="7632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2860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3c3b00"/>
              </a:gs>
              <a:gs pos="100000">
                <a:srgbClr val="827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J0234160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21589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0"/>
          <p:cNvSpPr/>
          <p:nvPr/>
        </p:nvSpPr>
        <p:spPr>
          <a:xfrm>
            <a:off x="5105520" y="4800600"/>
            <a:ext cx="4038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AutoShape 11"/>
          <p:cNvGrpSpPr/>
          <p:nvPr/>
        </p:nvGrpSpPr>
        <p:grpSpPr>
          <a:xfrm>
            <a:off x="2346480" y="438120"/>
            <a:ext cx="6230880" cy="1281240"/>
            <a:chOff x="2346480" y="438120"/>
            <a:chExt cx="6230880" cy="1281240"/>
          </a:xfrm>
        </p:grpSpPr>
        <p:pic>
          <p:nvPicPr>
            <p:cNvPr id="132" name="AutoShape 11" descr=""/>
            <p:cNvPicPr/>
            <p:nvPr/>
          </p:nvPicPr>
          <p:blipFill>
            <a:blip r:embed="rId2"/>
            <a:stretch/>
          </p:blipFill>
          <p:spPr>
            <a:xfrm>
              <a:off x="2346480" y="438120"/>
              <a:ext cx="623088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10800000">
              <a:off x="3895200" y="456480"/>
              <a:ext cx="3086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9"/>
          <p:cNvSpPr/>
          <p:nvPr/>
        </p:nvSpPr>
        <p:spPr>
          <a:xfrm>
            <a:off x="3200400" y="457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(на выбо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1"/>
          <p:cNvSpPr/>
          <p:nvPr/>
        </p:nvSpPr>
        <p:spPr>
          <a:xfrm>
            <a:off x="1905120" y="2286000"/>
            <a:ext cx="6781680" cy="3200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100000"/>
              </a:lnSpc>
              <a:buClr>
                <a:srgbClr val="26267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Monotype Corsiva"/>
              </a:rPr>
              <a:t>Написать письмо  Г.Х. Андерсену от лица ученика 21 века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26267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Monotype Corsiva"/>
              </a:rPr>
              <a:t>Составить текст поздравительной открытки ко дню рождения Г.Х. Андерсена, оформить е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3"/>
          <p:cNvSpPr/>
          <p:nvPr/>
        </p:nvSpPr>
        <p:spPr>
          <a:xfrm>
            <a:off x="0" y="5486400"/>
            <a:ext cx="5105520" cy="11239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4"/>
          <p:cNvSpPr/>
          <p:nvPr/>
        </p:nvSpPr>
        <p:spPr>
          <a:xfrm rot="18226800">
            <a:off x="1305000" y="4307040"/>
            <a:ext cx="460080" cy="708120"/>
          </a:xfrm>
          <a:prstGeom prst="ellipse">
            <a:avLst/>
          </a:prstGeom>
          <a:gradFill rotWithShape="0">
            <a:gsLst>
              <a:gs pos="0">
                <a:srgbClr val="3eb2b2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5"/>
          <p:cNvSpPr/>
          <p:nvPr/>
        </p:nvSpPr>
        <p:spPr>
          <a:xfrm rot="18226800">
            <a:off x="917640" y="4995360"/>
            <a:ext cx="381240" cy="450720"/>
          </a:xfrm>
          <a:prstGeom prst="ellipse">
            <a:avLst/>
          </a:prstGeom>
          <a:gradFill rotWithShape="0">
            <a:gsLst>
              <a:gs pos="0">
                <a:srgbClr val="3eb2b2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6"/>
          <p:cNvSpPr/>
          <p:nvPr/>
        </p:nvSpPr>
        <p:spPr>
          <a:xfrm>
            <a:off x="609480" y="57150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вочка со спич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42"/>
          <p:cNvGrpSpPr/>
          <p:nvPr/>
        </p:nvGrpSpPr>
        <p:grpSpPr>
          <a:xfrm>
            <a:off x="5257800" y="3429000"/>
            <a:ext cx="3886200" cy="3429000"/>
            <a:chOff x="5257800" y="3429000"/>
            <a:chExt cx="3886200" cy="3429000"/>
          </a:xfrm>
        </p:grpSpPr>
        <p:pic>
          <p:nvPicPr>
            <p:cNvPr id="61" name="Picture 4" descr="G:\мой универ\Вита\8\карт\звезда\zvezda_2.jpg"/>
            <p:cNvPicPr/>
            <p:nvPr/>
          </p:nvPicPr>
          <p:blipFill>
            <a:blip r:embed="rId1"/>
            <a:stretch/>
          </p:blipFill>
          <p:spPr>
            <a:xfrm>
              <a:off x="5257800" y="3429000"/>
              <a:ext cx="37702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" descr="G:\мой универ\Вита\8\карт\звезда\zvezd09.gif"/>
            <p:cNvPicPr/>
            <p:nvPr/>
          </p:nvPicPr>
          <p:blipFill>
            <a:blip r:embed="rId2"/>
            <a:stretch/>
          </p:blipFill>
          <p:spPr>
            <a:xfrm>
              <a:off x="8138160" y="5172120"/>
              <a:ext cx="1005840" cy="109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TextBox 2"/>
          <p:cNvSpPr/>
          <p:nvPr/>
        </p:nvSpPr>
        <p:spPr>
          <a:xfrm>
            <a:off x="990720" y="38088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чонки девочки закоченели. Ах, как бы ручонки согрел огонек маленькой спички! Если бы только девочка посмела вытащить спичку, чиркнуть спичкой о стену и погреть пальцы! Девочка робко вытянула одну спичку и … чирк! Как спичка вспыхнула, как ярко загорелась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3"/>
          <p:cNvSpPr/>
          <p:nvPr/>
        </p:nvSpPr>
        <p:spPr>
          <a:xfrm>
            <a:off x="1143000" y="228600"/>
            <a:ext cx="7848720" cy="35053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9"/>
          <p:cNvSpPr/>
          <p:nvPr/>
        </p:nvSpPr>
        <p:spPr>
          <a:xfrm>
            <a:off x="1447920" y="12952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1 ЛИЦО - Я, 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 ЛИЦО - ТЫ, 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3 ЛИЦО - ОН, ОНА, ОНО, 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457200" y="5486400"/>
            <a:ext cx="4267080" cy="11826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990720" y="5715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МЕСТОИ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"/>
          <p:cNvSpPr/>
          <p:nvPr/>
        </p:nvSpPr>
        <p:spPr>
          <a:xfrm rot="1423200">
            <a:off x="914400" y="4343400"/>
            <a:ext cx="762120" cy="66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3978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"/>
          <p:cNvSpPr/>
          <p:nvPr/>
        </p:nvSpPr>
        <p:spPr>
          <a:xfrm>
            <a:off x="685800" y="5105520"/>
            <a:ext cx="304920" cy="3618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"/>
          <p:cNvSpPr/>
          <p:nvPr/>
        </p:nvSpPr>
        <p:spPr>
          <a:xfrm rot="1619400">
            <a:off x="1498320" y="3457440"/>
            <a:ext cx="1143000" cy="10144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378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G:\мой универ\амо\карт\Рисунок6.png"/>
          <p:cNvPicPr/>
          <p:nvPr/>
        </p:nvPicPr>
        <p:blipFill>
          <a:blip r:embed="rId1"/>
          <a:stretch/>
        </p:blipFill>
        <p:spPr>
          <a:xfrm>
            <a:off x="4267080" y="3584520"/>
            <a:ext cx="4876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1523880" y="0"/>
            <a:ext cx="7632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2860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3c3b00"/>
              </a:gs>
              <a:gs pos="100000">
                <a:srgbClr val="827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34160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2158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5105520" y="4800600"/>
            <a:ext cx="4038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8"/>
          <p:cNvGrpSpPr/>
          <p:nvPr/>
        </p:nvGrpSpPr>
        <p:grpSpPr>
          <a:xfrm>
            <a:off x="2057400" y="0"/>
            <a:ext cx="6856560" cy="1370880"/>
            <a:chOff x="2057400" y="0"/>
            <a:chExt cx="6856560" cy="1370880"/>
          </a:xfrm>
        </p:grpSpPr>
        <p:grpSp>
          <p:nvGrpSpPr>
            <p:cNvPr id="77" name="Group 9"/>
            <p:cNvGrpSpPr/>
            <p:nvPr/>
          </p:nvGrpSpPr>
          <p:grpSpPr>
            <a:xfrm>
              <a:off x="2057400" y="122040"/>
              <a:ext cx="6856560" cy="1248840"/>
              <a:chOff x="2057400" y="122040"/>
              <a:chExt cx="6856560" cy="1248840"/>
            </a:xfrm>
          </p:grpSpPr>
          <p:sp>
            <p:nvSpPr>
              <p:cNvPr id="78" name="Oval 10"/>
              <p:cNvSpPr/>
              <p:nvPr/>
            </p:nvSpPr>
            <p:spPr>
              <a:xfrm>
                <a:off x="2132280" y="161640"/>
                <a:ext cx="6781680" cy="12092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a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11"/>
              <p:cNvSpPr/>
              <p:nvPr/>
            </p:nvSpPr>
            <p:spPr>
              <a:xfrm>
                <a:off x="2057400" y="122040"/>
                <a:ext cx="6781680" cy="1208880"/>
              </a:xfrm>
              <a:prstGeom prst="ellipse">
                <a:avLst/>
              </a:prstGeom>
              <a:gradFill rotWithShape="0">
                <a:gsLst>
                  <a:gs pos="0">
                    <a:srgbClr val="8ed2d2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Oval 12"/>
            <p:cNvSpPr/>
            <p:nvPr/>
          </p:nvSpPr>
          <p:spPr>
            <a:xfrm>
              <a:off x="2380680" y="0"/>
              <a:ext cx="6138720" cy="114984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3"/>
            <p:cNvSpPr/>
            <p:nvPr/>
          </p:nvSpPr>
          <p:spPr>
            <a:xfrm>
              <a:off x="2460600" y="6480"/>
              <a:ext cx="5989680" cy="112392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e7f4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4"/>
            <p:cNvSpPr/>
            <p:nvPr/>
          </p:nvSpPr>
          <p:spPr>
            <a:xfrm>
              <a:off x="2522520" y="17640"/>
              <a:ext cx="5702400" cy="1046160"/>
            </a:xfrm>
            <a:prstGeom prst="ellipse">
              <a:avLst/>
            </a:prstGeom>
            <a:gradFill rotWithShape="0">
              <a:gsLst>
                <a:gs pos="0">
                  <a:srgbClr val="94b1b4"/>
                </a:gs>
                <a:gs pos="100000">
                  <a:srgbClr val="bbe0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5"/>
            <p:cNvSpPr/>
            <p:nvPr/>
          </p:nvSpPr>
          <p:spPr>
            <a:xfrm>
              <a:off x="2823480" y="40680"/>
              <a:ext cx="5019840" cy="84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2"/>
          <p:cNvSpPr/>
          <p:nvPr/>
        </p:nvSpPr>
        <p:spPr>
          <a:xfrm>
            <a:off x="2514600" y="15228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Monotype Corsiva"/>
              </a:rPr>
              <a:t>Задачи 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Блок-схема: альтернативный процесс 17"/>
          <p:cNvGrpSpPr/>
          <p:nvPr/>
        </p:nvGrpSpPr>
        <p:grpSpPr>
          <a:xfrm>
            <a:off x="1620720" y="3029040"/>
            <a:ext cx="7602480" cy="2921040"/>
            <a:chOff x="1620720" y="3029040"/>
            <a:chExt cx="7602480" cy="2921040"/>
          </a:xfrm>
        </p:grpSpPr>
        <p:pic>
          <p:nvPicPr>
            <p:cNvPr id="86" name="Блок-схема: альтернативный процесс 17" descr=""/>
            <p:cNvPicPr/>
            <p:nvPr/>
          </p:nvPicPr>
          <p:blipFill>
            <a:blip r:embed="rId2"/>
            <a:stretch/>
          </p:blipFill>
          <p:spPr>
            <a:xfrm>
              <a:off x="1620720" y="3029040"/>
              <a:ext cx="7602480" cy="29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806480" y="3330720"/>
              <a:ext cx="7207200" cy="24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62673"/>
                  </a:solidFill>
                  <a:latin typeface="Monotype Corsiva"/>
                </a:rPr>
                <a:t>Узнавать личные местоимения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62673"/>
                  </a:solidFill>
                  <a:latin typeface="Monotype Corsiva"/>
                </a:rPr>
                <a:t>Знать морфологические признаки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62673"/>
                  </a:solidFill>
                  <a:latin typeface="Monotype Corsiva"/>
                </a:rPr>
                <a:t>Определять синтаксическую  функцию  личных местоимений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62673"/>
                  </a:solidFill>
                  <a:latin typeface="Monotype Corsiva"/>
                </a:rPr>
                <a:t>Правильно  употреблять их  в  реч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Freeform 7"/>
          <p:cNvSpPr/>
          <p:nvPr/>
        </p:nvSpPr>
        <p:spPr>
          <a:xfrm rot="19745400">
            <a:off x="4079880" y="1844640"/>
            <a:ext cx="1574640" cy="1187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aedfdf"/>
              </a:gs>
            </a:gsLst>
            <a:lin ang="18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G:\картинки\смайлы\smiles_211.gif"/>
          <p:cNvPicPr/>
          <p:nvPr/>
        </p:nvPicPr>
        <p:blipFill>
          <a:blip r:embed="rId3"/>
          <a:stretch/>
        </p:blipFill>
        <p:spPr>
          <a:xfrm>
            <a:off x="1371600" y="5343480"/>
            <a:ext cx="2195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6"/>
          <p:cNvSpPr/>
          <p:nvPr/>
        </p:nvSpPr>
        <p:spPr>
          <a:xfrm>
            <a:off x="2438280" y="7621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J0234160"/>
          <p:cNvPicPr/>
          <p:nvPr/>
        </p:nvPicPr>
        <p:blipFill>
          <a:blip r:embed="rId1"/>
          <a:stretch/>
        </p:blipFill>
        <p:spPr>
          <a:xfrm>
            <a:off x="0" y="228600"/>
            <a:ext cx="212400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2133720" y="609480"/>
          <a:ext cx="6324480" cy="4489560"/>
        </p:xfrm>
        <a:graphic>
          <a:graphicData uri="http://schemas.openxmlformats.org/drawingml/2006/table">
            <a:tbl>
              <a:tblPr/>
              <a:tblGrid>
                <a:gridCol w="685800"/>
                <a:gridCol w="1218960"/>
                <a:gridCol w="609840"/>
                <a:gridCol w="685800"/>
                <a:gridCol w="609480"/>
                <a:gridCol w="1413000"/>
                <a:gridCol w="1101600"/>
              </a:tblGrid>
              <a:tr h="457200">
                <a:tc gridSpan="7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ые местоим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0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сто-им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о, которое замещает местоимение, часть ре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де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.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таксиче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менилась ли основа при склонени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/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чонки, су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н.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чкой, су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.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вочка, су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.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лежа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ичка, сущ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.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лежа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Блок-схема: альтернативный процесс 4"/>
          <p:cNvGrpSpPr/>
          <p:nvPr/>
        </p:nvGrpSpPr>
        <p:grpSpPr>
          <a:xfrm>
            <a:off x="96840" y="-30240"/>
            <a:ext cx="8875800" cy="6967440"/>
            <a:chOff x="96840" y="-30240"/>
            <a:chExt cx="8875800" cy="6967440"/>
          </a:xfrm>
        </p:grpSpPr>
        <p:pic>
          <p:nvPicPr>
            <p:cNvPr id="94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96840" y="-30240"/>
              <a:ext cx="887580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87440" y="334800"/>
              <a:ext cx="8093160" cy="61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Box 1"/>
          <p:cNvSpPr/>
          <p:nvPr/>
        </p:nvSpPr>
        <p:spPr>
          <a:xfrm>
            <a:off x="685800" y="1143000"/>
            <a:ext cx="7696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онки ее закочен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вочка прикрыла ее рук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1523880" y="0"/>
            <a:ext cx="7632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2860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3c3b00"/>
              </a:gs>
              <a:gs pos="100000">
                <a:srgbClr val="827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828800" y="1447920"/>
          <a:ext cx="6095880" cy="3878280"/>
        </p:xfrm>
        <a:graphic>
          <a:graphicData uri="http://schemas.openxmlformats.org/drawingml/2006/table">
            <a:tbl>
              <a:tblPr/>
              <a:tblGrid>
                <a:gridCol w="4800600"/>
                <a:gridCol w="1295280"/>
              </a:tblGrid>
              <a:tr h="70848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ютка протянула к им руки, но … спичка погасла. («Девочка со спичками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славно пылает в ей огонь, каким теплом от его веет! («Девочка со спичками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 и у ее, как у других русалок не было ножек, а только рыбий хвост. («Русалочка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вел он (розовый куст) только раз в пять лет, и распускалась на ем всего одна-единственная роза. («Свинопас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Box 12"/>
          <p:cNvSpPr/>
          <p:nvPr/>
        </p:nvSpPr>
        <p:spPr>
          <a:xfrm>
            <a:off x="1981080" y="4572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ьте ошибки в употреблении местоимений 3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3"/>
          <p:cNvSpPr/>
          <p:nvPr/>
        </p:nvSpPr>
        <p:spPr>
          <a:xfrm>
            <a:off x="0" y="5486400"/>
            <a:ext cx="5105520" cy="11239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4"/>
          <p:cNvSpPr/>
          <p:nvPr/>
        </p:nvSpPr>
        <p:spPr>
          <a:xfrm rot="18226800">
            <a:off x="1305000" y="4307040"/>
            <a:ext cx="460080" cy="708120"/>
          </a:xfrm>
          <a:prstGeom prst="ellipse">
            <a:avLst/>
          </a:prstGeom>
          <a:gradFill rotWithShape="0">
            <a:gsLst>
              <a:gs pos="0">
                <a:srgbClr val="3eb2b2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5"/>
          <p:cNvSpPr/>
          <p:nvPr/>
        </p:nvSpPr>
        <p:spPr>
          <a:xfrm rot="18226800">
            <a:off x="917640" y="4995360"/>
            <a:ext cx="381240" cy="450720"/>
          </a:xfrm>
          <a:prstGeom prst="ellipse">
            <a:avLst/>
          </a:prstGeom>
          <a:gradFill rotWithShape="0">
            <a:gsLst>
              <a:gs pos="0">
                <a:srgbClr val="3eb2b2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9"/>
          <p:cNvSpPr/>
          <p:nvPr/>
        </p:nvSpPr>
        <p:spPr>
          <a:xfrm>
            <a:off x="990720" y="228600"/>
            <a:ext cx="693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 Вы, мой друг, когда Вы приедете к нам опять? Вот уже девять лет (как Вы пишете) протекли с тех пор, как Вы были у нас. В течение этих девяти лет Вы не лишились своего места в сердцах англичан, а, напротив, стали у нас еще более известным и любимым. (Чарльз Диккен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Отто Мюллеру)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рогой друг! Ты ей-Богу славный малый, и я помещу тебя в свой детский мир! Ах, если бы ты был здесь со мною, я допустил бы тебя в грот, где стоит моя Агнета, не виденная еще никем посторонним, стоит, словно сама северная Афродита, только что вынырнувшая из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6"/>
          <p:cNvSpPr/>
          <p:nvPr/>
        </p:nvSpPr>
        <p:spPr>
          <a:xfrm>
            <a:off x="609480" y="5715000"/>
            <a:ext cx="4114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личной перепи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Х. Андерс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Группа 42"/>
          <p:cNvGrpSpPr/>
          <p:nvPr/>
        </p:nvGrpSpPr>
        <p:grpSpPr>
          <a:xfrm>
            <a:off x="5257800" y="3429000"/>
            <a:ext cx="3886200" cy="3429000"/>
            <a:chOff x="5257800" y="3429000"/>
            <a:chExt cx="3886200" cy="3429000"/>
          </a:xfrm>
        </p:grpSpPr>
        <p:pic>
          <p:nvPicPr>
            <p:cNvPr id="107" name="Picture 4" descr="G:\мой универ\Вита\8\карт\звезда\zvezda_2.jpg"/>
            <p:cNvPicPr/>
            <p:nvPr/>
          </p:nvPicPr>
          <p:blipFill>
            <a:blip r:embed="rId1"/>
            <a:stretch/>
          </p:blipFill>
          <p:spPr>
            <a:xfrm>
              <a:off x="5257800" y="3429000"/>
              <a:ext cx="37702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G:\мой универ\Вита\8\карт\звезда\zvezd09.gif"/>
            <p:cNvPicPr/>
            <p:nvPr/>
          </p:nvPicPr>
          <p:blipFill>
            <a:blip r:embed="rId2"/>
            <a:stretch/>
          </p:blipFill>
          <p:spPr>
            <a:xfrm>
              <a:off x="8138160" y="5172120"/>
              <a:ext cx="1005840" cy="1091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1523880" y="0"/>
            <a:ext cx="7632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2860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3c3b00"/>
              </a:gs>
              <a:gs pos="100000">
                <a:srgbClr val="827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J0234160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21589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5105520" y="4800600"/>
            <a:ext cx="4038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"/>
          <p:cNvSpPr/>
          <p:nvPr/>
        </p:nvSpPr>
        <p:spPr>
          <a:xfrm rot="18603000">
            <a:off x="6678720" y="1758600"/>
            <a:ext cx="1382760" cy="9190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aedfd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8"/>
          <p:cNvGrpSpPr/>
          <p:nvPr/>
        </p:nvGrpSpPr>
        <p:grpSpPr>
          <a:xfrm>
            <a:off x="2057400" y="0"/>
            <a:ext cx="6856560" cy="1370880"/>
            <a:chOff x="2057400" y="0"/>
            <a:chExt cx="6856560" cy="1370880"/>
          </a:xfrm>
        </p:grpSpPr>
        <p:grpSp>
          <p:nvGrpSpPr>
            <p:cNvPr id="115" name="Group 9"/>
            <p:cNvGrpSpPr/>
            <p:nvPr/>
          </p:nvGrpSpPr>
          <p:grpSpPr>
            <a:xfrm>
              <a:off x="2057400" y="122040"/>
              <a:ext cx="6856560" cy="1248840"/>
              <a:chOff x="2057400" y="122040"/>
              <a:chExt cx="6856560" cy="1248840"/>
            </a:xfrm>
          </p:grpSpPr>
          <p:sp>
            <p:nvSpPr>
              <p:cNvPr id="116" name="Oval 10"/>
              <p:cNvSpPr/>
              <p:nvPr/>
            </p:nvSpPr>
            <p:spPr>
              <a:xfrm>
                <a:off x="2132280" y="161640"/>
                <a:ext cx="6781680" cy="12092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a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11"/>
              <p:cNvSpPr/>
              <p:nvPr/>
            </p:nvSpPr>
            <p:spPr>
              <a:xfrm>
                <a:off x="2057400" y="122040"/>
                <a:ext cx="6781680" cy="1208880"/>
              </a:xfrm>
              <a:prstGeom prst="ellipse">
                <a:avLst/>
              </a:prstGeom>
              <a:gradFill rotWithShape="0">
                <a:gsLst>
                  <a:gs pos="0">
                    <a:srgbClr val="8ed2d2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Oval 12"/>
            <p:cNvSpPr/>
            <p:nvPr/>
          </p:nvSpPr>
          <p:spPr>
            <a:xfrm>
              <a:off x="2380680" y="0"/>
              <a:ext cx="6138720" cy="114984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3"/>
            <p:cNvSpPr/>
            <p:nvPr/>
          </p:nvSpPr>
          <p:spPr>
            <a:xfrm>
              <a:off x="2460600" y="6480"/>
              <a:ext cx="5989680" cy="112392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e7f4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2522520" y="17640"/>
              <a:ext cx="5702400" cy="1046160"/>
            </a:xfrm>
            <a:prstGeom prst="ellipse">
              <a:avLst/>
            </a:prstGeom>
            <a:gradFill rotWithShape="0">
              <a:gsLst>
                <a:gs pos="0">
                  <a:srgbClr val="94b1b4"/>
                </a:gs>
                <a:gs pos="100000">
                  <a:srgbClr val="bbe0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5"/>
            <p:cNvSpPr/>
            <p:nvPr/>
          </p:nvSpPr>
          <p:spPr>
            <a:xfrm>
              <a:off x="2823480" y="40680"/>
              <a:ext cx="5019840" cy="847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"/>
          <p:cNvSpPr/>
          <p:nvPr/>
        </p:nvSpPr>
        <p:spPr>
          <a:xfrm>
            <a:off x="2514600" y="15228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леди за употреблением в речи местоимений ТЫ и В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Блок-схема: альтернативный процесс 18"/>
          <p:cNvGrpSpPr/>
          <p:nvPr/>
        </p:nvGrpSpPr>
        <p:grpSpPr>
          <a:xfrm>
            <a:off x="1243080" y="2603520"/>
            <a:ext cx="6967440" cy="3956040"/>
            <a:chOff x="1243080" y="2603520"/>
            <a:chExt cx="6967440" cy="3956040"/>
          </a:xfrm>
        </p:grpSpPr>
        <p:pic>
          <p:nvPicPr>
            <p:cNvPr id="124" name="Блок-схема: альтернативный процесс 18" descr=""/>
            <p:cNvPicPr/>
            <p:nvPr/>
          </p:nvPicPr>
          <p:blipFill>
            <a:blip r:embed="rId2"/>
            <a:stretch/>
          </p:blipFill>
          <p:spPr>
            <a:xfrm>
              <a:off x="1243080" y="2603520"/>
              <a:ext cx="696744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469880" y="3070080"/>
              <a:ext cx="6508800" cy="32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262673"/>
                  </a:solidFill>
                  <a:latin typeface="Monotype Corsiva"/>
                </a:rPr>
                <a:t>ТЫ – приемлемо в обращении к близким и недопустимо в обращении к  старшим, в официальной и деловой обстановке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262673"/>
                  </a:solidFill>
                  <a:latin typeface="Monotype Corsiva"/>
                </a:rPr>
                <a:t>Вы, Ваш  как  формы вежливого обращения к одному лицу пишутся с большой буквы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2" descr="G:\картинки\смайлы\smiles_207.gif"/>
          <p:cNvPicPr/>
          <p:nvPr/>
        </p:nvPicPr>
        <p:blipFill>
          <a:blip r:embed="rId3"/>
          <a:stretch/>
        </p:blipFill>
        <p:spPr>
          <a:xfrm>
            <a:off x="6858000" y="4876920"/>
            <a:ext cx="25336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9:50:18Z</dcterms:created>
  <dc:creator>GGolovicher</dc:creator>
  <dc:description/>
  <dc:language>en-US</dc:language>
  <cp:lastModifiedBy>User</cp:lastModifiedBy>
  <dcterms:modified xsi:type="dcterms:W3CDTF">2015-03-31T06:54:42Z</dcterms:modified>
  <cp:revision>237</cp:revision>
  <dc:subject/>
  <dc:title>Результаты апробации инструментария и заданий для оценки достижения планируемых результатов освоения основной образовательной программы начального общего образования </dc:title>
</cp:coreProperties>
</file>