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C4B1-FA9D-427F-893E-F98A513625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53BD-FFE0-4D7C-8343-119D1DD8561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1F6B-0AAD-4326-BB5F-C14BEA5F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45AA-1B37-4AD8-AF34-B637FB42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FAF6-978C-40D2-80C3-1F82944BE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DA3C-0EBE-4A76-87E9-51528998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0DA5-B70E-404D-AF13-508B939B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EE8A-BC96-4621-95C8-6BA91BF9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C6DA-00A6-490D-962A-FFB584D4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BD90-E3D4-432B-B6BC-793A6510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397C-BCA0-440C-A5AC-0A1DF17A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D2E8-B22E-43FB-B280-D2392077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C0DE-33D1-4EE9-9868-6EEE6057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A142-842C-4499-8730-8ED34684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5E76-3735-4B8F-9914-51EC5D591C7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Брейн – ринг  </a:t>
            </a:r>
            <a:br>
              <a:rPr sz="8000"/>
            </a:b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по математике</a:t>
            </a:r>
            <a:br>
              <a:rPr sz="8000"/>
            </a:b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9 – 10 классы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86480" cy="7142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                    2                  3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2714400" cy="3571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3500280" y="1071720"/>
            <a:ext cx="2643480" cy="3643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6357960" y="2714760"/>
            <a:ext cx="2428920" cy="1857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4"/>
          <a:stretch/>
        </p:blipFill>
        <p:spPr>
          <a:xfrm>
            <a:off x="6357960" y="1143000"/>
            <a:ext cx="2428920" cy="1571760"/>
          </a:xfrm>
          <a:prstGeom prst="rect">
            <a:avLst/>
          </a:prstGeom>
          <a:ln w="0">
            <a:noFill/>
          </a:ln>
        </p:spPr>
      </p:pic>
      <p:sp>
        <p:nvSpPr>
          <p:cNvPr id="77" name="Заголовок 1"/>
          <p:cNvSpPr/>
          <p:nvPr/>
        </p:nvSpPr>
        <p:spPr>
          <a:xfrm>
            <a:off x="214200" y="4929120"/>
            <a:ext cx="8715600" cy="1785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му из этих людей  принадлежат слова: «Вдохновение нужно в геометрии, как и в поэзии»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5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429400" cy="7858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                    2                 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2714400" cy="3571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3500280" y="1071720"/>
            <a:ext cx="2643480" cy="3643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3"/>
          <a:stretch/>
        </p:blipFill>
        <p:spPr>
          <a:xfrm>
            <a:off x="6357960" y="2714760"/>
            <a:ext cx="2428920" cy="1857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4"/>
          <a:stretch/>
        </p:blipFill>
        <p:spPr>
          <a:xfrm>
            <a:off x="6357960" y="1143000"/>
            <a:ext cx="2428920" cy="1571760"/>
          </a:xfrm>
          <a:prstGeom prst="rect">
            <a:avLst/>
          </a:prstGeom>
          <a:ln w="0">
            <a:noFill/>
          </a:ln>
        </p:spPr>
      </p:pic>
      <p:sp>
        <p:nvSpPr>
          <p:cNvPr id="84" name="Заголовок 1"/>
          <p:cNvSpPr/>
          <p:nvPr/>
        </p:nvSpPr>
        <p:spPr>
          <a:xfrm>
            <a:off x="214200" y="4786200"/>
            <a:ext cx="8715600" cy="1785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му из них принадлежат слов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«О сколько нам открытий чудных готовит просвещенья круг! И опыт – сын ошибок трудных, и гений – парадоксов друг»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6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9680" y="142560"/>
            <a:ext cx="8286840" cy="857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                    2                  3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2714400" cy="3571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3500280" y="1071720"/>
            <a:ext cx="2643480" cy="364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3"/>
          <a:stretch/>
        </p:blipFill>
        <p:spPr>
          <a:xfrm>
            <a:off x="6357960" y="2714760"/>
            <a:ext cx="2428920" cy="1857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4"/>
          <a:stretch/>
        </p:blipFill>
        <p:spPr>
          <a:xfrm>
            <a:off x="6357960" y="1143000"/>
            <a:ext cx="2428920" cy="157176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214200" y="4786200"/>
            <a:ext cx="8715600" cy="1785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амилиями этих людей называют города.  Какого города до сих пор н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Второй  раунд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«Четырехугольники»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4 вопроса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по 20 секунд на вопрос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1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акой четырехугольник по очень важному признаку является лишним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358120" cy="1143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1             2         3           4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285840" y="1857240"/>
            <a:ext cx="1857240" cy="1785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араллелограмм 5"/>
          <p:cNvSpPr/>
          <p:nvPr/>
        </p:nvSpPr>
        <p:spPr>
          <a:xfrm>
            <a:off x="2428920" y="1857240"/>
            <a:ext cx="2071800" cy="1785960"/>
          </a:xfrm>
          <a:prstGeom prst="parallelogram">
            <a:avLst>
              <a:gd name="adj" fmla="val 25000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Трапеция 6"/>
          <p:cNvSpPr/>
          <p:nvPr/>
        </p:nvSpPr>
        <p:spPr>
          <a:xfrm>
            <a:off x="4357800" y="1857240"/>
            <a:ext cx="2214360" cy="1785960"/>
          </a:xfrm>
          <a:custGeom>
            <a:avLst/>
            <a:gdLst>
              <a:gd name="textAreaLeft" fmla="*/ 297360 w 2214360"/>
              <a:gd name="textAreaRight" fmla="*/ 1917000 w 2214360"/>
              <a:gd name="textAreaTop" fmla="*/ 239760 h 1785960"/>
              <a:gd name="textAreaBottom" fmla="*/ 1786320 h 1785960"/>
            </a:gdLst>
            <a:ahLst/>
            <a:rect l="textAreaLeft" t="textAreaTop" r="textAreaRight" b="textAreaBottom"/>
            <a:pathLst>
              <a:path w="2214562" h="1785938">
                <a:moveTo>
                  <a:pt x="0" y="1785938"/>
                </a:moveTo>
                <a:lnTo>
                  <a:pt x="446485" y="0"/>
                </a:lnTo>
                <a:lnTo>
                  <a:pt x="1768078" y="0"/>
                </a:lnTo>
                <a:lnTo>
                  <a:pt x="2214562" y="1785938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Прямоугольник 7"/>
          <p:cNvGrpSpPr/>
          <p:nvPr/>
        </p:nvGrpSpPr>
        <p:grpSpPr>
          <a:xfrm>
            <a:off x="6724800" y="1822320"/>
            <a:ext cx="2260440" cy="1822680"/>
            <a:chOff x="6724800" y="1822320"/>
            <a:chExt cx="2260440" cy="1822680"/>
          </a:xfrm>
        </p:grpSpPr>
        <p:pic>
          <p:nvPicPr>
            <p:cNvPr id="100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6724800" y="1822320"/>
              <a:ext cx="226044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786720" y="1857240"/>
              <a:ext cx="21430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2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акая из этих фигур обладает наибольшим количеством свойств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285840" y="1857240"/>
            <a:ext cx="1857240" cy="1785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араллелограмм 5"/>
          <p:cNvSpPr/>
          <p:nvPr/>
        </p:nvSpPr>
        <p:spPr>
          <a:xfrm>
            <a:off x="2428920" y="1857240"/>
            <a:ext cx="2071800" cy="1785960"/>
          </a:xfrm>
          <a:prstGeom prst="parallelogram">
            <a:avLst>
              <a:gd name="adj" fmla="val 25000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Трапеция 6"/>
          <p:cNvSpPr/>
          <p:nvPr/>
        </p:nvSpPr>
        <p:spPr>
          <a:xfrm>
            <a:off x="4357800" y="1857240"/>
            <a:ext cx="2214360" cy="1785960"/>
          </a:xfrm>
          <a:custGeom>
            <a:avLst/>
            <a:gdLst>
              <a:gd name="textAreaLeft" fmla="*/ 297360 w 2214360"/>
              <a:gd name="textAreaRight" fmla="*/ 1917000 w 2214360"/>
              <a:gd name="textAreaTop" fmla="*/ 239760 h 1785960"/>
              <a:gd name="textAreaBottom" fmla="*/ 1786320 h 1785960"/>
            </a:gdLst>
            <a:ahLst/>
            <a:rect l="textAreaLeft" t="textAreaTop" r="textAreaRight" b="textAreaBottom"/>
            <a:pathLst>
              <a:path w="2214562" h="1785938">
                <a:moveTo>
                  <a:pt x="0" y="1785938"/>
                </a:moveTo>
                <a:lnTo>
                  <a:pt x="446485" y="0"/>
                </a:lnTo>
                <a:lnTo>
                  <a:pt x="1768078" y="0"/>
                </a:lnTo>
                <a:lnTo>
                  <a:pt x="2214562" y="1785938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Прямоугольник 7"/>
          <p:cNvGrpSpPr/>
          <p:nvPr/>
        </p:nvGrpSpPr>
        <p:grpSpPr>
          <a:xfrm>
            <a:off x="6724800" y="1822320"/>
            <a:ext cx="2260440" cy="1822680"/>
            <a:chOff x="6724800" y="1822320"/>
            <a:chExt cx="2260440" cy="1822680"/>
          </a:xfrm>
        </p:grpSpPr>
        <p:pic>
          <p:nvPicPr>
            <p:cNvPr id="108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6724800" y="1822320"/>
              <a:ext cx="226044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786720" y="1857240"/>
              <a:ext cx="21430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400960" cy="12034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1           2        3           4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Первый  раунд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«Русская  литература»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6 вопросов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по 20 секунд на вопрос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3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Для какого четырехугольника имеет смысл выражение: «Найдите среднюю линию»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285840" y="1857240"/>
            <a:ext cx="1857240" cy="1785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араллелограмм 5"/>
          <p:cNvSpPr/>
          <p:nvPr/>
        </p:nvSpPr>
        <p:spPr>
          <a:xfrm>
            <a:off x="2428920" y="1857240"/>
            <a:ext cx="2071800" cy="1785960"/>
          </a:xfrm>
          <a:prstGeom prst="parallelogram">
            <a:avLst>
              <a:gd name="adj" fmla="val 25000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Трапеция 6"/>
          <p:cNvSpPr/>
          <p:nvPr/>
        </p:nvSpPr>
        <p:spPr>
          <a:xfrm>
            <a:off x="4357800" y="1857240"/>
            <a:ext cx="2214360" cy="1785960"/>
          </a:xfrm>
          <a:custGeom>
            <a:avLst/>
            <a:gdLst>
              <a:gd name="textAreaLeft" fmla="*/ 297360 w 2214360"/>
              <a:gd name="textAreaRight" fmla="*/ 1917000 w 2214360"/>
              <a:gd name="textAreaTop" fmla="*/ 239760 h 1785960"/>
              <a:gd name="textAreaBottom" fmla="*/ 1786320 h 1785960"/>
            </a:gdLst>
            <a:ahLst/>
            <a:rect l="textAreaLeft" t="textAreaTop" r="textAreaRight" b="textAreaBottom"/>
            <a:pathLst>
              <a:path w="2214562" h="1785938">
                <a:moveTo>
                  <a:pt x="0" y="1785938"/>
                </a:moveTo>
                <a:lnTo>
                  <a:pt x="446485" y="0"/>
                </a:lnTo>
                <a:lnTo>
                  <a:pt x="1768078" y="0"/>
                </a:lnTo>
                <a:lnTo>
                  <a:pt x="2214562" y="1785938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Прямоугольник 7"/>
          <p:cNvGrpSpPr/>
          <p:nvPr/>
        </p:nvGrpSpPr>
        <p:grpSpPr>
          <a:xfrm>
            <a:off x="6724800" y="1822320"/>
            <a:ext cx="2260440" cy="1822680"/>
            <a:chOff x="6724800" y="1822320"/>
            <a:chExt cx="2260440" cy="1822680"/>
          </a:xfrm>
        </p:grpSpPr>
        <p:pic>
          <p:nvPicPr>
            <p:cNvPr id="117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6724800" y="1822320"/>
              <a:ext cx="226044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86720" y="1857240"/>
              <a:ext cx="21430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1             2         3           4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4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Название  какой фигуры в переводе с греческого языка означает «обеденный столик»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285840" y="1857240"/>
            <a:ext cx="1857240" cy="1785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араллелограмм 5"/>
          <p:cNvSpPr/>
          <p:nvPr/>
        </p:nvSpPr>
        <p:spPr>
          <a:xfrm>
            <a:off x="2428920" y="1857240"/>
            <a:ext cx="2071800" cy="1785960"/>
          </a:xfrm>
          <a:prstGeom prst="parallelogram">
            <a:avLst>
              <a:gd name="adj" fmla="val 25000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Трапеция 6"/>
          <p:cNvSpPr/>
          <p:nvPr/>
        </p:nvSpPr>
        <p:spPr>
          <a:xfrm>
            <a:off x="4357800" y="1857240"/>
            <a:ext cx="2214360" cy="1785960"/>
          </a:xfrm>
          <a:custGeom>
            <a:avLst/>
            <a:gdLst>
              <a:gd name="textAreaLeft" fmla="*/ 297360 w 2214360"/>
              <a:gd name="textAreaRight" fmla="*/ 1917000 w 2214360"/>
              <a:gd name="textAreaTop" fmla="*/ 239760 h 1785960"/>
              <a:gd name="textAreaBottom" fmla="*/ 1786320 h 1785960"/>
            </a:gdLst>
            <a:ahLst/>
            <a:rect l="textAreaLeft" t="textAreaTop" r="textAreaRight" b="textAreaBottom"/>
            <a:pathLst>
              <a:path w="2214562" h="1785938">
                <a:moveTo>
                  <a:pt x="0" y="1785938"/>
                </a:moveTo>
                <a:lnTo>
                  <a:pt x="446485" y="0"/>
                </a:lnTo>
                <a:lnTo>
                  <a:pt x="1768078" y="0"/>
                </a:lnTo>
                <a:lnTo>
                  <a:pt x="2214562" y="1785938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Прямоугольник 7"/>
          <p:cNvGrpSpPr/>
          <p:nvPr/>
        </p:nvGrpSpPr>
        <p:grpSpPr>
          <a:xfrm>
            <a:off x="6724800" y="1822320"/>
            <a:ext cx="2260440" cy="1822680"/>
            <a:chOff x="6724800" y="1822320"/>
            <a:chExt cx="2260440" cy="1822680"/>
          </a:xfrm>
        </p:grpSpPr>
        <p:pic>
          <p:nvPicPr>
            <p:cNvPr id="126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6724800" y="1822320"/>
              <a:ext cx="226044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6786720" y="1857240"/>
              <a:ext cx="21430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1          2          3           4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Третий раунд 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«Древние математики»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8 вопросов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по 20 секунд на вопрос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1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58400" cy="7858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                      2                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85840" y="1000080"/>
            <a:ext cx="2643120" cy="3357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3143160" y="1000080"/>
            <a:ext cx="2714760" cy="3357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3"/>
          <a:stretch/>
        </p:blipFill>
        <p:spPr>
          <a:xfrm>
            <a:off x="6000840" y="1000080"/>
            <a:ext cx="2643120" cy="3286080"/>
          </a:xfrm>
          <a:prstGeom prst="rect">
            <a:avLst/>
          </a:prstGeom>
          <a:ln w="0">
            <a:noFill/>
          </a:ln>
        </p:spPr>
      </p:pic>
      <p:sp>
        <p:nvSpPr>
          <p:cNvPr id="135" name="Заголовок 1"/>
          <p:cNvSpPr/>
          <p:nvPr/>
        </p:nvSpPr>
        <p:spPr>
          <a:xfrm>
            <a:off x="142920" y="4429080"/>
            <a:ext cx="8858160" cy="22147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Пифагор             Архимед            Фалес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Кто  из  этих  ученых  был   дважды   олимпийским чемпионом?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2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58400" cy="7858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                     2                 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85840" y="1000080"/>
            <a:ext cx="2643120" cy="3357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3143160" y="1000080"/>
            <a:ext cx="2714760" cy="3357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3"/>
          <a:stretch/>
        </p:blipFill>
        <p:spPr>
          <a:xfrm>
            <a:off x="6000840" y="1000080"/>
            <a:ext cx="2643120" cy="3286080"/>
          </a:xfrm>
          <a:prstGeom prst="rect">
            <a:avLst/>
          </a:prstGeom>
          <a:ln w="0">
            <a:noFill/>
          </a:ln>
        </p:spPr>
      </p:pic>
      <p:sp>
        <p:nvSpPr>
          <p:cNvPr id="141" name="Заголовок 1"/>
          <p:cNvSpPr/>
          <p:nvPr/>
        </p:nvSpPr>
        <p:spPr>
          <a:xfrm>
            <a:off x="214200" y="4429080"/>
            <a:ext cx="8715600" cy="2286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ифагор                  Архимед                     Фале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 каким ученым произошел такой случа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Ученый, наблюдая звезды, упал в колодец, а стоящая рядом женщина посмеялась над ним, сказав: «Хочет знать, что делается на небе, а что у него под ногами, не видит»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3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1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58400" cy="7858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                      2                  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85840" y="1000080"/>
            <a:ext cx="2643120" cy="3357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3143160" y="1000080"/>
            <a:ext cx="2714760" cy="3357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3"/>
          <a:stretch/>
        </p:blipFill>
        <p:spPr>
          <a:xfrm>
            <a:off x="6000840" y="1000080"/>
            <a:ext cx="2643120" cy="3286080"/>
          </a:xfrm>
          <a:prstGeom prst="rect">
            <a:avLst/>
          </a:prstGeom>
          <a:ln w="0">
            <a:noFill/>
          </a:ln>
        </p:spPr>
      </p:pic>
      <p:sp>
        <p:nvSpPr>
          <p:cNvPr id="147" name="Заголовок 1"/>
          <p:cNvSpPr/>
          <p:nvPr/>
        </p:nvSpPr>
        <p:spPr>
          <a:xfrm>
            <a:off x="142920" y="4429080"/>
            <a:ext cx="8858160" cy="2286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4100" spc="-1" strike="noStrike">
                <a:solidFill>
                  <a:srgbClr val="ffffff"/>
                </a:solidFill>
                <a:latin typeface="Calibri"/>
              </a:rPr>
              <a:t>Пифагор            Архимед          Фалес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4100" spc="-1" strike="noStrike">
                <a:solidFill>
                  <a:srgbClr val="ffffff"/>
                </a:solidFill>
                <a:latin typeface="Calibri"/>
              </a:rPr>
              <a:t>Кому из этих ученых принадлежат слова: «Числа правят миром»?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4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58400" cy="7858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                      2                 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285840" y="1000080"/>
            <a:ext cx="2643120" cy="3357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3143160" y="1000080"/>
            <a:ext cx="2714760" cy="3357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3"/>
          <a:stretch/>
        </p:blipFill>
        <p:spPr>
          <a:xfrm>
            <a:off x="6000840" y="1000080"/>
            <a:ext cx="2643120" cy="3286080"/>
          </a:xfrm>
          <a:prstGeom prst="rect">
            <a:avLst/>
          </a:prstGeom>
          <a:ln w="0">
            <a:noFill/>
          </a:ln>
        </p:spPr>
      </p:pic>
      <p:sp>
        <p:nvSpPr>
          <p:cNvPr id="153" name="Заголовок 1"/>
          <p:cNvSpPr/>
          <p:nvPr/>
        </p:nvSpPr>
        <p:spPr>
          <a:xfrm>
            <a:off x="142920" y="4429080"/>
            <a:ext cx="8858160" cy="2286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ифагор                    Архимед                  Фале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то из этих ученых сформулировал следующие теорем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ертикальные углы рав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р/б треугольнике углы при основании рав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иаметр делит круг пополам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5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Заголовок 1"/>
          <p:cNvSpPr/>
          <p:nvPr/>
        </p:nvSpPr>
        <p:spPr>
          <a:xfrm>
            <a:off x="285840" y="357120"/>
            <a:ext cx="8501040" cy="62866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ксиома параллельных эт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ве прямые параллельные третьей – параллельны между соб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ве прямые перпендикулярные третьей - параллельны между соб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ерез точку, не лежащую на прямой, можно провести на плоскости не более одной прямой , параллельной дан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6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                    2                  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Заголовок 1"/>
          <p:cNvSpPr/>
          <p:nvPr/>
        </p:nvSpPr>
        <p:spPr>
          <a:xfrm>
            <a:off x="142920" y="4357800"/>
            <a:ext cx="8643960" cy="22143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.Ф.Гаусс                       Н.И.Лобачевский            Евкли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асположите ученых в хронологическом порядке слева направ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2571480" cy="3000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6072120" y="1143000"/>
            <a:ext cx="2643120" cy="3143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3"/>
          <a:stretch/>
        </p:blipFill>
        <p:spPr>
          <a:xfrm>
            <a:off x="3357720" y="1143000"/>
            <a:ext cx="23572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7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                    2                  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Заголовок 1"/>
          <p:cNvSpPr/>
          <p:nvPr/>
        </p:nvSpPr>
        <p:spPr>
          <a:xfrm>
            <a:off x="142920" y="4357800"/>
            <a:ext cx="8643960" cy="22143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.Ф.Гаусс                       Н.И.Лобачевский            Евкли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то из этих ученых  в возрасте 24 лет был уже профессором университет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2571480" cy="3000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6072120" y="1143000"/>
            <a:ext cx="2643120" cy="3143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/>
          <p:cNvPicPr/>
          <p:nvPr/>
        </p:nvPicPr>
        <p:blipFill>
          <a:blip r:embed="rId3"/>
          <a:stretch/>
        </p:blipFill>
        <p:spPr>
          <a:xfrm>
            <a:off x="3357720" y="1143000"/>
            <a:ext cx="23572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8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8358120" cy="9288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                    2                  3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71680" y="1571760"/>
            <a:ext cx="2714400" cy="3500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3500280" y="1571760"/>
            <a:ext cx="264348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6357960" y="3143160"/>
            <a:ext cx="2428920" cy="185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4"/>
          <a:stretch/>
        </p:blipFill>
        <p:spPr>
          <a:xfrm>
            <a:off x="6357960" y="1571760"/>
            <a:ext cx="2428920" cy="1571400"/>
          </a:xfrm>
          <a:prstGeom prst="rect">
            <a:avLst/>
          </a:prstGeom>
          <a:ln w="0">
            <a:noFill/>
          </a:ln>
        </p:spPr>
      </p:pic>
      <p:sp>
        <p:nvSpPr>
          <p:cNvPr id="56" name="Заголовок 1"/>
          <p:cNvSpPr/>
          <p:nvPr/>
        </p:nvSpPr>
        <p:spPr>
          <a:xfrm>
            <a:off x="214200" y="5214960"/>
            <a:ext cx="8715600" cy="14288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Кто из них является автором учебника для детей под названием «Арифметика» 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429760" cy="8575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                     2                    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Заголовок 1"/>
          <p:cNvSpPr/>
          <p:nvPr/>
        </p:nvSpPr>
        <p:spPr>
          <a:xfrm>
            <a:off x="142920" y="4357800"/>
            <a:ext cx="8786880" cy="2286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.Ф.Гаусс                                Евклид                    Н.И.Лобачев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ому из этих ученых принадлежат слова : «Математика – царица наук, арифметика- царица математи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2571480" cy="3000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3286080" y="1143000"/>
            <a:ext cx="2643120" cy="3143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3"/>
          <a:stretch/>
        </p:blipFill>
        <p:spPr>
          <a:xfrm>
            <a:off x="6500880" y="1214280"/>
            <a:ext cx="23572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Четвертый раунд 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«Алгебра»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 8 вопросов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по 60 секунд на вопрос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1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85480" y="4071600"/>
            <a:ext cx="8715240" cy="25002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акая  из  этих  функций  лишняя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Прямоугольник 4"/>
          <p:cNvSpPr/>
          <p:nvPr/>
        </p:nvSpPr>
        <p:spPr>
          <a:xfrm>
            <a:off x="142920" y="1571760"/>
            <a:ext cx="2071800" cy="20714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2214720" y="1571760"/>
            <a:ext cx="2071440" cy="20714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оугольник 9"/>
          <p:cNvSpPr/>
          <p:nvPr/>
        </p:nvSpPr>
        <p:spPr>
          <a:xfrm>
            <a:off x="4357800" y="1571760"/>
            <a:ext cx="2071440" cy="2071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оугольник 10"/>
          <p:cNvSpPr/>
          <p:nvPr/>
        </p:nvSpPr>
        <p:spPr>
          <a:xfrm>
            <a:off x="6500880" y="1500120"/>
            <a:ext cx="2500200" cy="21430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285840" y="1857240"/>
                <a:ext cx="171432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8"/>
              <p:cNvSpPr txBox="1"/>
              <p:nvPr/>
            </p:nvSpPr>
            <p:spPr>
              <a:xfrm>
                <a:off x="2286000" y="1785960"/>
                <a:ext cx="191124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4357800" y="1785960"/>
                <a:ext cx="200016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6357960" y="1714680"/>
                <a:ext cx="257184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501040" cy="12034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1             2             3           4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2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285480" y="5143680"/>
            <a:ext cx="8715240" cy="14284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акая    парабола   лишняя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214200" y="1357200"/>
            <a:ext cx="2786040" cy="1643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8"/>
          <p:cNvSpPr/>
          <p:nvPr/>
        </p:nvSpPr>
        <p:spPr>
          <a:xfrm>
            <a:off x="3214800" y="1428840"/>
            <a:ext cx="3071880" cy="1643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9"/>
          <p:cNvSpPr/>
          <p:nvPr/>
        </p:nvSpPr>
        <p:spPr>
          <a:xfrm>
            <a:off x="2143080" y="3357720"/>
            <a:ext cx="3500640" cy="1500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10"/>
          <p:cNvSpPr/>
          <p:nvPr/>
        </p:nvSpPr>
        <p:spPr>
          <a:xfrm>
            <a:off x="6286680" y="2786040"/>
            <a:ext cx="2643120" cy="15001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8"/>
              <p:cNvSpPr txBox="1"/>
              <p:nvPr/>
            </p:nvSpPr>
            <p:spPr>
              <a:xfrm>
                <a:off x="285840" y="1357200"/>
                <a:ext cx="257184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6"/>
              <p:cNvSpPr txBox="1"/>
              <p:nvPr/>
            </p:nvSpPr>
            <p:spPr>
              <a:xfrm>
                <a:off x="2357280" y="3286080"/>
                <a:ext cx="270036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7"/>
              <p:cNvSpPr txBox="1"/>
              <p:nvPr/>
            </p:nvSpPr>
            <p:spPr>
              <a:xfrm>
                <a:off x="6715080" y="2786040"/>
                <a:ext cx="17668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9"/>
              <p:cNvSpPr txBox="1"/>
              <p:nvPr/>
            </p:nvSpPr>
            <p:spPr>
              <a:xfrm>
                <a:off x="3429000" y="1500120"/>
                <a:ext cx="26020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3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ершина какой параболы находится в точке с координатами (0, 3)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285840" y="428760"/>
            <a:ext cx="2786040" cy="1643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оугольник 8"/>
          <p:cNvSpPr/>
          <p:nvPr/>
        </p:nvSpPr>
        <p:spPr>
          <a:xfrm>
            <a:off x="3643200" y="357120"/>
            <a:ext cx="3071880" cy="1643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9"/>
          <p:cNvSpPr/>
          <p:nvPr/>
        </p:nvSpPr>
        <p:spPr>
          <a:xfrm>
            <a:off x="1428840" y="2214720"/>
            <a:ext cx="3500280" cy="1500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оугольник 10"/>
          <p:cNvSpPr/>
          <p:nvPr/>
        </p:nvSpPr>
        <p:spPr>
          <a:xfrm>
            <a:off x="5572080" y="2214720"/>
            <a:ext cx="2643120" cy="15001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57120" y="285840"/>
                <a:ext cx="257184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3"/>
              <p:cNvSpPr txBox="1"/>
              <p:nvPr/>
            </p:nvSpPr>
            <p:spPr>
              <a:xfrm>
                <a:off x="1928880" y="2143080"/>
                <a:ext cx="270036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6072120" y="2143080"/>
                <a:ext cx="17668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5"/>
              <p:cNvSpPr txBox="1"/>
              <p:nvPr/>
            </p:nvSpPr>
            <p:spPr>
              <a:xfrm>
                <a:off x="3857760" y="357120"/>
                <a:ext cx="260172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4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Осью симметрии какой параболы является прямая   х = - 7 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Прямоугольник 4"/>
          <p:cNvSpPr/>
          <p:nvPr/>
        </p:nvSpPr>
        <p:spPr>
          <a:xfrm>
            <a:off x="214200" y="428760"/>
            <a:ext cx="2786040" cy="1643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8"/>
          <p:cNvSpPr/>
          <p:nvPr/>
        </p:nvSpPr>
        <p:spPr>
          <a:xfrm>
            <a:off x="3571920" y="357120"/>
            <a:ext cx="3071880" cy="1643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оугольник 9"/>
          <p:cNvSpPr/>
          <p:nvPr/>
        </p:nvSpPr>
        <p:spPr>
          <a:xfrm>
            <a:off x="1357200" y="2214720"/>
            <a:ext cx="3500640" cy="1500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оугольник 10"/>
          <p:cNvSpPr/>
          <p:nvPr/>
        </p:nvSpPr>
        <p:spPr>
          <a:xfrm>
            <a:off x="5572080" y="2143080"/>
            <a:ext cx="2643120" cy="15001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8"/>
              <p:cNvSpPr txBox="1"/>
              <p:nvPr/>
            </p:nvSpPr>
            <p:spPr>
              <a:xfrm>
                <a:off x="285840" y="428760"/>
                <a:ext cx="257184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3"/>
              <p:cNvSpPr txBox="1"/>
              <p:nvPr/>
            </p:nvSpPr>
            <p:spPr>
              <a:xfrm>
                <a:off x="1714680" y="2143080"/>
                <a:ext cx="270000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6143760" y="2143080"/>
                <a:ext cx="17668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3857760" y="357120"/>
                <a:ext cx="260172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2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5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акая  из  данных  формул  лишняя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Прямоугольник 4"/>
          <p:cNvSpPr/>
          <p:nvPr/>
        </p:nvSpPr>
        <p:spPr>
          <a:xfrm>
            <a:off x="142920" y="500040"/>
            <a:ext cx="2500200" cy="2000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8"/>
          <p:cNvSpPr/>
          <p:nvPr/>
        </p:nvSpPr>
        <p:spPr>
          <a:xfrm>
            <a:off x="4714920" y="428760"/>
            <a:ext cx="1785960" cy="2428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9"/>
          <p:cNvSpPr/>
          <p:nvPr/>
        </p:nvSpPr>
        <p:spPr>
          <a:xfrm>
            <a:off x="2714760" y="428760"/>
            <a:ext cx="1928520" cy="2357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10"/>
          <p:cNvSpPr/>
          <p:nvPr/>
        </p:nvSpPr>
        <p:spPr>
          <a:xfrm>
            <a:off x="6643800" y="428760"/>
            <a:ext cx="2214360" cy="2428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8"/>
              <p:cNvSpPr txBox="1"/>
              <p:nvPr/>
            </p:nvSpPr>
            <p:spPr>
              <a:xfrm>
                <a:off x="285840" y="571680"/>
                <a:ext cx="221940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6643800" y="500040"/>
                <a:ext cx="224928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4786200" y="571680"/>
                <a:ext cx="171468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5"/>
              <p:cNvSpPr txBox="1"/>
              <p:nvPr/>
            </p:nvSpPr>
            <p:spPr>
              <a:xfrm>
                <a:off x="2786040" y="571680"/>
                <a:ext cx="178596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6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Областью определения  какой из  данных функций  не является множество всех действительных чисел?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          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Прямоугольник 4"/>
          <p:cNvSpPr/>
          <p:nvPr/>
        </p:nvSpPr>
        <p:spPr>
          <a:xfrm>
            <a:off x="214200" y="428760"/>
            <a:ext cx="2857680" cy="1500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оугольник 8"/>
          <p:cNvSpPr/>
          <p:nvPr/>
        </p:nvSpPr>
        <p:spPr>
          <a:xfrm>
            <a:off x="4929120" y="357120"/>
            <a:ext cx="1643040" cy="2428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9"/>
          <p:cNvSpPr/>
          <p:nvPr/>
        </p:nvSpPr>
        <p:spPr>
          <a:xfrm>
            <a:off x="3143160" y="428760"/>
            <a:ext cx="1643040" cy="2357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Прямоугольник 10"/>
          <p:cNvSpPr/>
          <p:nvPr/>
        </p:nvSpPr>
        <p:spPr>
          <a:xfrm>
            <a:off x="6715080" y="285840"/>
            <a:ext cx="2214720" cy="2000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8"/>
              <p:cNvSpPr txBox="1"/>
              <p:nvPr/>
            </p:nvSpPr>
            <p:spPr>
              <a:xfrm>
                <a:off x="428760" y="428760"/>
                <a:ext cx="24764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3"/>
              <p:cNvSpPr txBox="1"/>
              <p:nvPr/>
            </p:nvSpPr>
            <p:spPr>
              <a:xfrm>
                <a:off x="7072200" y="500040"/>
                <a:ext cx="16066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5000760" y="500040"/>
                <a:ext cx="150948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5"/>
              <p:cNvSpPr txBox="1"/>
              <p:nvPr/>
            </p:nvSpPr>
            <p:spPr>
              <a:xfrm>
                <a:off x="3143160" y="571680"/>
                <a:ext cx="167004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7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График какой функции не имеет общих точек с осью абсцисс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Прямоугольник 4"/>
          <p:cNvSpPr/>
          <p:nvPr/>
        </p:nvSpPr>
        <p:spPr>
          <a:xfrm>
            <a:off x="214200" y="357120"/>
            <a:ext cx="2857680" cy="1500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оугольник 8"/>
          <p:cNvSpPr/>
          <p:nvPr/>
        </p:nvSpPr>
        <p:spPr>
          <a:xfrm>
            <a:off x="4929120" y="357120"/>
            <a:ext cx="1643040" cy="2428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Прямоугольник 9"/>
          <p:cNvSpPr/>
          <p:nvPr/>
        </p:nvSpPr>
        <p:spPr>
          <a:xfrm>
            <a:off x="3143160" y="357120"/>
            <a:ext cx="1643040" cy="235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оугольник 10"/>
          <p:cNvSpPr/>
          <p:nvPr/>
        </p:nvSpPr>
        <p:spPr>
          <a:xfrm>
            <a:off x="6715080" y="500040"/>
            <a:ext cx="2214720" cy="2000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8"/>
              <p:cNvSpPr txBox="1"/>
              <p:nvPr/>
            </p:nvSpPr>
            <p:spPr>
              <a:xfrm>
                <a:off x="285840" y="500040"/>
                <a:ext cx="24764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3"/>
              <p:cNvSpPr txBox="1"/>
              <p:nvPr/>
            </p:nvSpPr>
            <p:spPr>
              <a:xfrm>
                <a:off x="7000920" y="642960"/>
                <a:ext cx="16066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5000760" y="500040"/>
                <a:ext cx="150948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5"/>
              <p:cNvSpPr txBox="1"/>
              <p:nvPr/>
            </p:nvSpPr>
            <p:spPr>
              <a:xfrm>
                <a:off x="3255840" y="426960"/>
                <a:ext cx="1444680" cy="21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8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Заголовок 1"/>
          <p:cNvSpPr/>
          <p:nvPr/>
        </p:nvSpPr>
        <p:spPr>
          <a:xfrm>
            <a:off x="142920" y="357120"/>
            <a:ext cx="8715240" cy="60721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6- летнему  Коле Лобачевскому учитель предложил сложить числа от 1 до 100. Через 1 минуту он назвал верный ответ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ложите  этим же способом цифры на диске телефона. Полученную сумму разделите на 15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Пятый раунд 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«Разные  вопросы»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 4 вопроса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по 60 секунд на вопрос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1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01040" cy="7858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                      2                    3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2714400" cy="357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500280" y="1071720"/>
            <a:ext cx="2643480" cy="364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6357960" y="2714760"/>
            <a:ext cx="2428920" cy="1857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6357960" y="1143000"/>
            <a:ext cx="2428920" cy="1571760"/>
          </a:xfrm>
          <a:prstGeom prst="rect">
            <a:avLst/>
          </a:prstGeom>
          <a:ln w="0">
            <a:noFill/>
          </a:ln>
        </p:spPr>
      </p:pic>
      <p:sp>
        <p:nvSpPr>
          <p:cNvPr id="63" name="Заголовок 1"/>
          <p:cNvSpPr/>
          <p:nvPr/>
        </p:nvSpPr>
        <p:spPr>
          <a:xfrm>
            <a:off x="214200" y="4786200"/>
            <a:ext cx="8715600" cy="1785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 кем из них произошел  следующий случа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«…На камзоле продрались локти. Повстречавший его придворный щеголь ехидно заметил по этому поводу: - Ученость выглядывает оттуда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 Нисколько, сударь, - немедленно ответил он, глупость заглядывает туда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85480" y="4142880"/>
            <a:ext cx="8715240" cy="24289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акое  из  слов  «локоть», «дюйм», «фут» и  «фунт»  не является  единицей  измерения длины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Прямоугольник 4"/>
          <p:cNvSpPr/>
          <p:nvPr/>
        </p:nvSpPr>
        <p:spPr>
          <a:xfrm>
            <a:off x="285840" y="285840"/>
            <a:ext cx="2786040" cy="1643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локот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8"/>
          <p:cNvSpPr/>
          <p:nvPr/>
        </p:nvSpPr>
        <p:spPr>
          <a:xfrm>
            <a:off x="3500280" y="285840"/>
            <a:ext cx="3071880" cy="1643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дюй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оугольник 9"/>
          <p:cNvSpPr/>
          <p:nvPr/>
        </p:nvSpPr>
        <p:spPr>
          <a:xfrm>
            <a:off x="1357200" y="2214720"/>
            <a:ext cx="3500640" cy="1500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фу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Прямоугольник 10"/>
          <p:cNvSpPr/>
          <p:nvPr/>
        </p:nvSpPr>
        <p:spPr>
          <a:xfrm>
            <a:off x="5572080" y="2143080"/>
            <a:ext cx="2643120" cy="15001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фу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2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85480" y="4142880"/>
            <a:ext cx="8715240" cy="24289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Расположите 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единицы  длины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в порядке убывания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Прямоугольник 4"/>
          <p:cNvSpPr/>
          <p:nvPr/>
        </p:nvSpPr>
        <p:spPr>
          <a:xfrm>
            <a:off x="214200" y="428760"/>
            <a:ext cx="2786040" cy="1643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локот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8"/>
          <p:cNvSpPr/>
          <p:nvPr/>
        </p:nvSpPr>
        <p:spPr>
          <a:xfrm>
            <a:off x="3929040" y="285840"/>
            <a:ext cx="3071880" cy="1643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дюй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9"/>
          <p:cNvSpPr/>
          <p:nvPr/>
        </p:nvSpPr>
        <p:spPr>
          <a:xfrm>
            <a:off x="1214280" y="2286000"/>
            <a:ext cx="3500640" cy="1500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фу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10"/>
          <p:cNvSpPr/>
          <p:nvPr/>
        </p:nvSpPr>
        <p:spPr>
          <a:xfrm>
            <a:off x="5786280" y="2143080"/>
            <a:ext cx="2643480" cy="15001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фу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Ответ на 2 вопрос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358120" cy="4286160"/>
          </a:xfrm>
          <a:prstGeom prst="rect">
            <a:avLst/>
          </a:prstGeom>
          <a:ln w="0">
            <a:noFill/>
          </a:ln>
        </p:spPr>
      </p:pic>
      <p:sp>
        <p:nvSpPr>
          <p:cNvPr id="263" name="Заголовок 1"/>
          <p:cNvSpPr/>
          <p:nvPr/>
        </p:nvSpPr>
        <p:spPr>
          <a:xfrm>
            <a:off x="285840" y="5429160"/>
            <a:ext cx="8715240" cy="10717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Локоть≈46 см, фут≈30 см, дюйм≈2,5 см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3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8372520" cy="857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                   2                     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214200" y="1357200"/>
            <a:ext cx="2786040" cy="2428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3143160" y="1357200"/>
            <a:ext cx="2714760" cy="23576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"/>
          <p:cNvPicPr/>
          <p:nvPr/>
        </p:nvPicPr>
        <p:blipFill>
          <a:blip r:embed="rId3"/>
          <a:stretch/>
        </p:blipFill>
        <p:spPr>
          <a:xfrm>
            <a:off x="6072120" y="1357200"/>
            <a:ext cx="2714760" cy="2357640"/>
          </a:xfrm>
          <a:prstGeom prst="rect">
            <a:avLst/>
          </a:prstGeom>
          <a:ln w="0">
            <a:noFill/>
          </a:ln>
        </p:spPr>
      </p:pic>
      <p:sp>
        <p:nvSpPr>
          <p:cNvPr id="269" name="Заголовок 1"/>
          <p:cNvSpPr/>
          <p:nvPr/>
        </p:nvSpPr>
        <p:spPr>
          <a:xfrm>
            <a:off x="214200" y="3857760"/>
            <a:ext cx="8643960" cy="27860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оворят, что Тортила отдала золотой ключик Буратино не так просто, к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ссказал Алексей Толстой, а совсем иначе. Она вынесла три коробочки: красную, синюю и зелёну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 красной коробочке было написано: 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«Здесь лежит золотой ключик»,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иней – 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«Непустая коробочка», на зелёной – «Здесь сидит змея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тила прочла надписи и сказала: «Действительно, в одной коробоч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ежит золотой ключик, в другой змея, а одна коробочка пуста. Но все надпи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еверны.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де лежит золотой ключик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4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3 минуты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14200" y="428760"/>
            <a:ext cx="8786880" cy="62150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2" marL="1119960" indent="-2239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Из слова «арифметика» нужно составить как можно больше слов.       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lvl="2" marL="1119960" indent="-2239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Каждую букву разрешается использовать столько раз, сколько она встречается в этом слове, т.е. буквы «а» и «и» - по два раза, а остальные – по одному. Тот, кто назовет последнее слово, - победит.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lvl="2" marL="1119960" indent="-2239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На выполнение задания дается 3 минуты.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Шестой  раунд 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по 3 минуты на вопрос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3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42560" y="499680"/>
            <a:ext cx="8715240" cy="5715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lvl="2" marL="1143000" indent="-228600" algn="just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 algn="just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Назовите песни, в которых участвуют числа или математические термины 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обеждает тот, кто последним назовет песню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твечают команды по очереди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14200" y="357120"/>
            <a:ext cx="8786880" cy="58579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Назовите пословицы и поговорки, в которых участвуют числа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обеждает тот, кто последним назовет пословицу или поговорку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Спасибо командам 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за  участие  в  игре 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086680" cy="7146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                    2                  3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2714400" cy="3571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3500280" y="1071720"/>
            <a:ext cx="2643480" cy="364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6357960" y="2714760"/>
            <a:ext cx="2428920" cy="1857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4"/>
          <a:stretch/>
        </p:blipFill>
        <p:spPr>
          <a:xfrm>
            <a:off x="6357960" y="1143000"/>
            <a:ext cx="2428920" cy="157176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1"/>
          <p:cNvSpPr/>
          <p:nvPr/>
        </p:nvSpPr>
        <p:spPr>
          <a:xfrm>
            <a:off x="214200" y="4786200"/>
            <a:ext cx="8715600" cy="1785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то из этих людей сказал: «Человек подобен дроби, числитель которой есть то, что человек представляет собой, а знаменатель – то, что он думает о себе. Чем большего мнения о себе человек, тем больше знаменатель, а значит, тем меньше дробь»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4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5:42:50Z</dcterms:created>
  <dc:creator>Быкова</dc:creator>
  <dc:description/>
  <dc:language>en-US</dc:language>
  <cp:lastModifiedBy>Быкова</cp:lastModifiedBy>
  <dcterms:modified xsi:type="dcterms:W3CDTF">2010-04-11T09:22:36Z</dcterms:modified>
  <cp:revision>131</cp:revision>
  <dc:subject/>
  <dc:title>Брейн – ринг  по математике в старших классах</dc:title>
</cp:coreProperties>
</file>