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46C7-30D2-467C-835D-9AEE50EE66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D6AF-B11D-4CCD-ABDD-C8849C6419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43F-B8F5-4C5E-B54F-2ABADC5E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7AF-C21C-4A7B-9381-E3073E3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5B7-1DF8-40DE-9B7E-369344F0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99F-F7F3-4231-8114-853C7279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0C4-F3F0-4AD9-BF90-C07A60CC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521-08C0-4DE1-BA6C-98033677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7CF-ED4C-4753-84BD-92D2FF61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728-3CC9-4A4C-94CA-9096D3CC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E07-4C66-455F-94F5-71E473E5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E27-E69E-4037-A48C-3B35A0A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79F-4E12-4F5E-A516-593F3B2E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C38-AEEE-4E0D-B55A-7C911D9A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CB5-4FD1-490F-845E-66385905CD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Брейн – ринг 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по математике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9 – 10 классы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86480" cy="7142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214200" y="492912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у из этих людей  принадлежат слова: «Вдохновение нужно в геометрии, как и в поэзии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429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у из них принадлежат сло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О сколько нам открытий чудных готовит просвещенья круг! И опыт – сын ошибок трудных, и гений – парадоксов друг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28684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милиями этих людей называют города.  Какого города до сих пор н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Второй  раунд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Четырехугольники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4 вопроса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ой четырехугольник по очень важному признаку является лишним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00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из этих фигур обладает наибольшим количеством свойств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08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40096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2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рвый  раунд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Русская  литература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ля какого четырехугольника имеет смысл выражение: «Найдите среднюю линию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17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звание  какой фигуры в переводе с греческого языка означает «обеденный столик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26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2 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Трети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Древние математики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8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42920" y="4429080"/>
            <a:ext cx="8858160" cy="22147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Пифагор             Архимед            Фалес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Кто  из  этих  ученых  был   дважды   олимпийским чемпионом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1"/>
          <p:cNvSpPr/>
          <p:nvPr/>
        </p:nvSpPr>
        <p:spPr>
          <a:xfrm>
            <a:off x="214200" y="4429080"/>
            <a:ext cx="871560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ифагор                  Архимед                     Фа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каким ученым произошел такой случа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ченый, наблюдая звезды, упал в колодец, а стоящая рядом женщина посмеялась над ним, сказав: «Хочет знать, что делается на небе, а что у него под ногами, не видит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142920" y="4429080"/>
            <a:ext cx="885816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Пифагор            Архимед          Фалес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Кому из этих ученых принадлежат слова: «Числа правят миром»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53" name="Заголовок 1"/>
          <p:cNvSpPr/>
          <p:nvPr/>
        </p:nvSpPr>
        <p:spPr>
          <a:xfrm>
            <a:off x="142920" y="4429080"/>
            <a:ext cx="885816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ифагор                    Архимед                  Фа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из этих ученых сформулировал следующие теоре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ртикальные углы ра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р/б треугольнике углы при основании ра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иаметр делит круг пополам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1"/>
          <p:cNvSpPr/>
          <p:nvPr/>
        </p:nvSpPr>
        <p:spPr>
          <a:xfrm>
            <a:off x="285840" y="357120"/>
            <a:ext cx="8501040" cy="6286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ксиома параллельных эт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ве прямые параллельные третьей –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ве прямые перпендикулярные третьей -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рез точку, не лежащую на прямой, можно провести на плоскости не более одной прямой , параллельной да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142920" y="4357800"/>
            <a:ext cx="8643960" cy="2214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Н.И.Лобачевский            Евкл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сположите ученых в хронологическом порядке слева напра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607212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357720" y="114300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7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142920" y="4357800"/>
            <a:ext cx="8643960" cy="2214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Н.И.Лобачевский            Евкл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то из этих ученых  в возрасте 24 лет был уже профессором университе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607212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3357720" y="114300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8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358120" cy="9288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2714400" cy="35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500280" y="1571760"/>
            <a:ext cx="264348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6357960" y="314316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6357960" y="1571760"/>
            <a:ext cx="2428920" cy="15714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214200" y="5214960"/>
            <a:ext cx="8715600" cy="14288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Кто из них является автором учебника для детей под названием «Арифметика» 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857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2  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142920" y="4357800"/>
            <a:ext cx="878688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         Евклид                    Н.И.Лобаче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му из этих ученых принадлежат слова : «Математика – царица наук, арифметика- царица математ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328608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500880" y="121428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Четверты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Алгебра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8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6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85480" y="4071600"/>
            <a:ext cx="8715240" cy="25002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из  этих  функций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142920" y="1571760"/>
            <a:ext cx="207180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221472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435780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6500880" y="1500120"/>
            <a:ext cx="2500200" cy="2143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285840" y="1857240"/>
                <a:ext cx="17143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2286000" y="1785960"/>
                <a:ext cx="19112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357800" y="1785960"/>
                <a:ext cx="200016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6357960" y="1714680"/>
                <a:ext cx="257184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85480" y="5143680"/>
            <a:ext cx="8715240" cy="1428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  парабола 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14200" y="135720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3214800" y="1428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2143080" y="3357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6286680" y="278604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285840" y="135720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2357280" y="3286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6715080" y="278604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429000" y="1500120"/>
                <a:ext cx="26020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ершина какой параболы находится в точке с координатами (0, 3)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8584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364320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1428840" y="2214720"/>
            <a:ext cx="350028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0"/>
          <p:cNvSpPr/>
          <p:nvPr/>
        </p:nvSpPr>
        <p:spPr>
          <a:xfrm>
            <a:off x="5572080" y="221472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57120" y="28584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1928880" y="2143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607212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сью симметрии какой параболы является прямая   х = - 7 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21420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357192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1357200" y="2214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5572080" y="214308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285840" y="42876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714680" y="2143080"/>
                <a:ext cx="2700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14376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из  данных  формул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142920" y="500040"/>
            <a:ext cx="2500200" cy="2000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4714920" y="428760"/>
            <a:ext cx="178596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2714760" y="428760"/>
            <a:ext cx="192852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10"/>
          <p:cNvSpPr/>
          <p:nvPr/>
        </p:nvSpPr>
        <p:spPr>
          <a:xfrm>
            <a:off x="6643800" y="428760"/>
            <a:ext cx="2214360" cy="2428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8"/>
              <p:cNvSpPr txBox="1"/>
              <p:nvPr/>
            </p:nvSpPr>
            <p:spPr>
              <a:xfrm>
                <a:off x="285840" y="571680"/>
                <a:ext cx="2219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6643800" y="500040"/>
                <a:ext cx="22492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4786200" y="571680"/>
                <a:ext cx="17146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2786040" y="571680"/>
                <a:ext cx="17859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Областью определения  какой из  данных функций  не является множество всех действительных чисел?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214200" y="42876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9"/>
          <p:cNvSpPr/>
          <p:nvPr/>
        </p:nvSpPr>
        <p:spPr>
          <a:xfrm>
            <a:off x="3143160" y="428760"/>
            <a:ext cx="164304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10"/>
          <p:cNvSpPr/>
          <p:nvPr/>
        </p:nvSpPr>
        <p:spPr>
          <a:xfrm>
            <a:off x="6715080" y="2858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428760" y="428760"/>
                <a:ext cx="2476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7072200" y="50004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143160" y="571680"/>
                <a:ext cx="167004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7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фик какой функции не имеет общих точек с осью абсцисс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214200" y="35712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9"/>
          <p:cNvSpPr/>
          <p:nvPr/>
        </p:nvSpPr>
        <p:spPr>
          <a:xfrm>
            <a:off x="3143160" y="357120"/>
            <a:ext cx="1643040" cy="235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6715080" y="5000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285840" y="500040"/>
                <a:ext cx="2476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7000920" y="64296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3255840" y="426960"/>
                <a:ext cx="144468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8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Заголовок 1"/>
          <p:cNvSpPr/>
          <p:nvPr/>
        </p:nvSpPr>
        <p:spPr>
          <a:xfrm>
            <a:off x="142920" y="357120"/>
            <a:ext cx="8715240" cy="6072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6- летнему  Коле Лобачевскому учитель предложил сложить числа от 1 до 100. Через 1 минуту он назвал верный отве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ложите  этим же способом цифры на диске телефона. Полученную сумму разделите на 15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яты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Разные  вопросы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4 вопроса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6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0104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  2  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кем из них произошел  следующий случа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…На камзоле продрались локти. Повстречавший его придворный щеголь ехидно заметил по этому поводу: - Ученость выглядывает оттуд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 Нисколько, сударь, - немедленно ответил он, глупость заглядывает туд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85480" y="4142880"/>
            <a:ext cx="8715240" cy="2428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ое  из  слов  «локоть», «дюйм», «фут» и  «фунт»  не является  единицей  измерения длины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285840" y="28584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око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3500280" y="285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юй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1357200" y="2214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5572080" y="214308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480" y="4142880"/>
            <a:ext cx="8715240" cy="2428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сположите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единицы  длины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в порядке убывани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21420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око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8"/>
          <p:cNvSpPr/>
          <p:nvPr/>
        </p:nvSpPr>
        <p:spPr>
          <a:xfrm>
            <a:off x="3929040" y="285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юй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1214280" y="228600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5786280" y="2143080"/>
            <a:ext cx="264348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Ответ на 2 вопрос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4286160"/>
          </a:xfrm>
          <a:prstGeom prst="rect">
            <a:avLst/>
          </a:prstGeom>
          <a:ln w="0">
            <a:noFill/>
          </a:ln>
        </p:spPr>
      </p:pic>
      <p:sp>
        <p:nvSpPr>
          <p:cNvPr id="263" name="Заголовок 1"/>
          <p:cNvSpPr/>
          <p:nvPr/>
        </p:nvSpPr>
        <p:spPr>
          <a:xfrm>
            <a:off x="285840" y="5429160"/>
            <a:ext cx="8715240" cy="10717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Локоть≈46 см, фут≈30 см, дюйм≈2,5 см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37252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2   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3143160" y="1357200"/>
            <a:ext cx="2714760" cy="2357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6072120" y="1357200"/>
            <a:ext cx="2714760" cy="235764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"/>
          <p:cNvSpPr/>
          <p:nvPr/>
        </p:nvSpPr>
        <p:spPr>
          <a:xfrm>
            <a:off x="214200" y="3857760"/>
            <a:ext cx="8643960" cy="2786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ворят, что Тортила отдала золотой ключик Буратино не так просто,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сказал Алексей Толстой, а совсем иначе. Она вынесла три коробочки: красную, синюю и зелёну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красной коробочке было написано: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«Здесь лежит золотой ключик»,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ней –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«Непустая коробочка», на зелёной – «Здесь сидит зме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тила прочла надписи и сказала: «Действительно, в одной короб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жит золотой ключик, в другой змея, а одна коробочка пуста. Но все над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верны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де лежит золотой ключи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3 минуты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14200" y="428760"/>
            <a:ext cx="8786880" cy="6215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Из слова «арифметика» нужно составить как можно больше слов.      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Каждую букву разрешается использовать столько раз, сколько она встречается в этом слове, т.е. буквы «а» и «и» - по два раза, а остальные – по одному. Тот, кто назовет последнее слово, - победит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На выполнение задания дается 3 минуты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Шестой  раунд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3 минуты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42560" y="499680"/>
            <a:ext cx="8715240" cy="5715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lvl="2" marL="1143000" indent="-228600" algn="just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just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зовите песни, в которых участвуют числа или математические термины 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беждает тот, кто последним назовет песню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чают команды по очереди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4200" y="357120"/>
            <a:ext cx="8786880" cy="5857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зовите пословицы и поговорки, в которых участвуют числ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беждает тот, кто последним назовет пословицу или поговорку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пасибо командам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за  участие  в  игре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086680" cy="7146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то из этих людей сказал: «Человек подобен дроби, числитель которой есть то, что человек представляет собой, а знаменатель – то, что он думает о себе. Чем большего мнения о себе человек, тем больше знаменатель, а значит, тем меньше дробь»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5:42:50Z</dcterms:created>
  <dc:creator>Быкова</dc:creator>
  <dc:description/>
  <dc:language>en-US</dc:language>
  <cp:lastModifiedBy>Быкова</cp:lastModifiedBy>
  <dcterms:modified xsi:type="dcterms:W3CDTF">2010-04-11T09:22:36Z</dcterms:modified>
  <cp:revision>131</cp:revision>
  <dc:subject/>
  <dc:title>Брейн – ринг  по математике в старших классах</dc:title>
</cp:coreProperties>
</file>