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0FF-5EBF-477D-8416-A7C85AAEA7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C624-17DB-4A1B-8BAB-C564D6AA46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F00-EDDC-42EA-96AA-C75A22A8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70F-CEC0-4C01-8CC4-66102ECB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7C9-2B35-4E0E-87CD-83B2A032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B02-C762-4696-BA84-0B943253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0F5-6672-4A24-B0EF-E59002A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954-9F80-4DE8-91BC-A0B2743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8D3-1F3C-4DBA-9AC5-1908D83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71A-EA6C-44DE-94F7-F857DD4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A45-8477-451E-A228-5EB1587F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B01-F917-4BEE-80F9-BD9FA5D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01E-B65A-411E-9CC7-B369E28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D98-6D01-4613-BAB0-039BB06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AE5-E9B5-4195-9B70-4A775BED72D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Брейн – ринг 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по математике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9 – 10 классы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86480" cy="7142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214200" y="492912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этих людей  принадлежат слова: «Вдохновение нужно в геометрии, как и в поэзии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9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у из них принадлежат сло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О сколько нам открытий чудных готовит просвещенья круг! И опыт – сын ошибок трудных, и гений – парадоксов друг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амилиями этих людей называют города.  Какого города до сих пор н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Второ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Четырехугольн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й четырехугольник по очень важному признаку является лишни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из этих фигур обладает наибольшим количеством свойств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08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2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рвый  раунд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усская  литерату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6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ля какого четырехугольника имеет смысл выражение: «Найдите среднюю линию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17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звание  какой фигуры в переводе с греческого языка означает «обеденный столик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26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2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Трети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Древние математики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2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42920" y="4429080"/>
            <a:ext cx="8858160" cy="2214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Пифагор             Архимед            Фалес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то  из  этих  ученых  был   дважды   олимпийским чемпионом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214200" y="4429080"/>
            <a:ext cx="871560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Архимед   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каким ученым произошел такой случ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еный, наблюдая звезды, упал в колодец, а стоящая рядом женщина посмеялась над ним, сказав: «Хочет знать, что делается на небе, а что у него под ногами, не видит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Пифагор            Архимед          Фалес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: «Числа правят миром»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5840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3143160" y="1000080"/>
            <a:ext cx="2714760" cy="335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6000840" y="100008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142920" y="4429080"/>
            <a:ext cx="885816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фагор                    Архимед                  Фа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из этих ученых сформулировал следующие теоре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ртикальные углы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р/б треугольнике углы при основании ра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иаметр делит круг пополам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285840" y="357120"/>
            <a:ext cx="8501040" cy="6286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ксиома параллельных эт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араллельные третьей –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ве прямые перпендикулярные третьей -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рез точку, не лежащую на прямой, можно провести на плоскости не более одной прямой , параллельной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положите ученых в хронологическом порядке слева напра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2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42920" y="4357800"/>
            <a:ext cx="8643960" cy="2214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Н.И.Лобачевский            Евкл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то из этих ученых  в возрасте 24 лет был уже профессором университе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07212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357720" y="114300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358120" cy="928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271440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500280" y="1571760"/>
            <a:ext cx="264348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357960" y="314316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6357960" y="1571760"/>
            <a:ext cx="2428920" cy="15714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214200" y="5214960"/>
            <a:ext cx="8715600" cy="142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Кто из них является автором учебника для детей под названием «Арифметика» 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857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  2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42920" y="4357800"/>
            <a:ext cx="8786880" cy="2286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.Ф.Гаусс                                Евклид                    Н.И.Лобаче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му из этих ученых принадлежат слова : «Математика – царица наук, арифметика- царица математ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2571480" cy="3000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286080" y="114300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500880" y="1214280"/>
            <a:ext cx="23572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етвер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Алгебра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8 вопросов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85480" y="4071600"/>
            <a:ext cx="8715240" cy="25002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этих  функций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42920" y="1571760"/>
            <a:ext cx="2071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221472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435780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500880" y="1500120"/>
            <a:ext cx="250020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85840" y="1857240"/>
                <a:ext cx="1714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2286000" y="1785960"/>
                <a:ext cx="19112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357800" y="1785960"/>
                <a:ext cx="20001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6357960" y="1714680"/>
                <a:ext cx="2571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1             2             3           4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85480" y="5143680"/>
            <a:ext cx="8715240" cy="1428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  парабола 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14200" y="135720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3214800" y="1428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2143080" y="3357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6286680" y="278604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285840" y="135720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2357280" y="3286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6715080" y="278604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429000" y="1500120"/>
                <a:ext cx="2602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ершина какой параболы находится в точке с координатами (0, 3)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8584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364320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1428840" y="221472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0"/>
          <p:cNvSpPr/>
          <p:nvPr/>
        </p:nvSpPr>
        <p:spPr>
          <a:xfrm>
            <a:off x="5572080" y="221472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57120" y="28584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928880" y="2143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607212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сью симметрии какой параболы является прямая   х = - 7 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57192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285840" y="42876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714680" y="2143080"/>
                <a:ext cx="2700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14376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ая  из  данных  формул  лишня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142920" y="500040"/>
            <a:ext cx="2500200" cy="2000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4714920" y="428760"/>
            <a:ext cx="178596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2714760" y="428760"/>
            <a:ext cx="192852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6643800" y="428760"/>
            <a:ext cx="2214360" cy="242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285840" y="571680"/>
                <a:ext cx="2219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6643800" y="500040"/>
                <a:ext cx="22492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4786200" y="571680"/>
                <a:ext cx="17146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2786040" y="571680"/>
                <a:ext cx="1785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Областью определения  какой из  данных функций  не является множество всех действительных чисел?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14200" y="42876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3143160" y="428760"/>
            <a:ext cx="164304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6715080" y="2858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428760" y="428760"/>
                <a:ext cx="2476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7072200" y="50004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143160" y="571680"/>
                <a:ext cx="167004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7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фик какой функции не имеет общих точек с осью абсцисс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214200" y="35712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9"/>
          <p:cNvSpPr/>
          <p:nvPr/>
        </p:nvSpPr>
        <p:spPr>
          <a:xfrm>
            <a:off x="3143160" y="357120"/>
            <a:ext cx="164304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10"/>
          <p:cNvSpPr/>
          <p:nvPr/>
        </p:nvSpPr>
        <p:spPr>
          <a:xfrm>
            <a:off x="6715080" y="5000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285840" y="500040"/>
                <a:ext cx="2476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7000920" y="64296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255840" y="426960"/>
                <a:ext cx="14446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8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Заголовок 1"/>
          <p:cNvSpPr/>
          <p:nvPr/>
        </p:nvSpPr>
        <p:spPr>
          <a:xfrm>
            <a:off x="142920" y="357120"/>
            <a:ext cx="8715240" cy="6072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- летнему  Коле Лобачевскому учитель предложил сложить числа от 1 до 100. Через 1 минуту он назвал верный отв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ложите  этим же способом цифры на диске телефона. Полученную сумму разделите на 15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ятый раунд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Разные  вопросы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4 вопроса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60 секунд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  2  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кем из них произошел  следующий случа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…На камзоле продрались локти. Повстречавший его придворный щеголь ехидно заметил по этому поводу: - Ученость выглядывает отту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 Нисколько, сударь, - немедленно ответил он, глупость заглядывает туд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е  из  слов  «локоть», «дюйм», «фут» и  «фунт»  не является  единицей  измерения длины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85840" y="28584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350028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2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4142880"/>
            <a:ext cx="8715240" cy="2428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сположите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диницы  длины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в порядке убыва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око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3929040" y="285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юй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214280" y="228600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5786280" y="2143080"/>
            <a:ext cx="264348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фу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Ответ на 2 вопрос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4286160"/>
          </a:xfrm>
          <a:prstGeom prst="rect">
            <a:avLst/>
          </a:prstGeom>
          <a:ln w="0">
            <a:noFill/>
          </a:ln>
        </p:spPr>
      </p:pic>
      <p:sp>
        <p:nvSpPr>
          <p:cNvPr id="263" name="Заголовок 1"/>
          <p:cNvSpPr/>
          <p:nvPr/>
        </p:nvSpPr>
        <p:spPr>
          <a:xfrm>
            <a:off x="285840" y="5429160"/>
            <a:ext cx="8715240" cy="1071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Локоть≈46 см, фут≈30 см, дюйм≈2,5 см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6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37252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                   2                     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3143160" y="1357200"/>
            <a:ext cx="2714760" cy="235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6072120" y="1357200"/>
            <a:ext cx="2714760" cy="235764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"/>
          <p:cNvSpPr/>
          <p:nvPr/>
        </p:nvSpPr>
        <p:spPr>
          <a:xfrm>
            <a:off x="214200" y="3857760"/>
            <a:ext cx="8643960" cy="2786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ворят, что Тортила отдала золотой ключик Буратино не так просто,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казал Алексей Толстой, а совсем иначе. Она вынесла три коробочки: красную, синюю и зелён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красной коробочке было написано: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Здесь лежит золотой ключик»,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ней –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«Непустая коробочка», на зелёной – «Здесь сидит зме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тила прочла надписи и сказала: «Действительно, в одной короб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жит золотой ключик, в другой змея, а одна коробочка пуста. Но все над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верны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лежит золотой ключи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3 минуты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14200" y="428760"/>
            <a:ext cx="8786880" cy="6215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Из слова «арифметика» нужно составить как можно больше слов.     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Каждую букву разрешается использовать столько раз, сколько она встречается в этом слове, т.е. буквы «а» и «и» - по два раза, а остальные – по одному. Тот, кто назовет последнее слово, - победит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На выполнение задания дается 3 минуты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Шестой  раунд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о 3 минуты на вопрос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2560" y="499680"/>
            <a:ext cx="8715240" cy="5715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just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есни, в которых участвуют числа или математические термины 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есню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чают команды по очереди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4200" y="357120"/>
            <a:ext cx="8786880" cy="5857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зовите пословицы и поговорки, в которых участвуют числ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беждает тот, кто последним назовет пословицу или поговорк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пасибо командам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за  участие  в  игре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86680" cy="714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                    2                 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714400" cy="357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500280" y="1071720"/>
            <a:ext cx="2643480" cy="36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357960" y="271476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357960" y="114300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14200" y="4786200"/>
            <a:ext cx="8715600" cy="1785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то из этих людей сказал: «Человек подобен дроби, числитель которой есть то, что человек представляет собой, а знаменатель – то, что он думает о себе. Чем большего мнения о себе человек, тем больше знаменатель, а значит, тем меньше дробь»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20 секунд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5:42:50Z</dcterms:created>
  <dc:creator>Быкова</dc:creator>
  <dc:description/>
  <dc:language>en-US</dc:language>
  <cp:lastModifiedBy>Быкова</cp:lastModifiedBy>
  <dcterms:modified xsi:type="dcterms:W3CDTF">2010-04-11T09:22:36Z</dcterms:modified>
  <cp:revision>131</cp:revision>
  <dc:subject/>
  <dc:title>Брейн – ринг  по математике в старших классах</dc:title>
</cp:coreProperties>
</file>