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408-129A-41F5-BD0F-FDB8A3D2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9FD-B698-48FF-A893-21BC5DF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520-698E-4113-8D51-B30E0CA2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855-EADF-4434-8F8A-B9AB7061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621B-38D6-472D-8C84-79A96608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82F-C906-4C83-8213-0A02B46F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515-DEF0-4417-8093-B9A81F55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1DDD-D8A7-43B6-98D9-F11A39A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236E-C3D9-4FBC-AD53-27BE48E9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3EF5-CBBB-41EE-965A-490EFE2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5F7D-A4E4-4BAA-A972-F8695BB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9A2-50FE-4B39-8145-6A356AC7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CDB-49EF-41F2-A18B-908BB4E1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8575-BC60-4586-9557-8842B0D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EE63-3D0F-4712-BA71-64F3E35D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8273-D757-460A-BB13-5C2E71A4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69D-B0A6-49A5-AAC8-4B69843A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FFCB-3C87-4764-89E1-CBF9E321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4DD8-C8C4-4A5E-8309-B5582B6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2285-1668-4BEF-9E28-12255A0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2EC7-5089-49B4-97CB-7BBB196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61A9-22D8-4D3E-A975-D1FBE47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F9C-A5B3-47A5-B961-809A3AD2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65B6-8614-4331-A807-47619AA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979F-8B50-48B9-A5C7-355738D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2430-41D9-4E6D-BA84-7DB8A8D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343B-2B82-4F8C-92A6-E3E67B2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BD21-2A6B-442D-991C-92EEA8B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2B13-8E79-4B10-9B4B-0C9838C7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4861-D2F3-4F33-9555-09CBBDBC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3E4-3D07-4E32-97A3-0C07FE0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8B2-0A47-428A-8E1D-B17992C4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CD5-E5C0-40D9-B6FE-7267F97D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DF4-4931-482B-AF7C-D08D3FC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730-46BD-4236-A28C-6928B67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3E5-BB45-4037-840C-146F937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D070-B20E-4AE3-BC4B-0BEE85080F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730-7940-4136-8B71-571ACFD95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E48-22CA-40D4-92E3-9471CF3A62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br>
              <a:rPr sz="4400"/>
            </a:b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0" y="27428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9.11.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ного руководителя и воспитанников,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приоритетную ро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рганизации которой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играет педаг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форма фронталь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спитательной работы, представляющая собой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пециально органи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 внеурочное время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ого руко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обучающимися класса с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целью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одействия формированию классного коллектива и развитию его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огащение сознания обучающихся знаниями о природе, обществе, челов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ирование у детей навыков и умений мыслительной и практиче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эмоционально-чувственной сферы и ценностных отношений личности ребён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990033"/>
                </a:solidFill>
                <a:latin typeface="Arial"/>
              </a:rPr>
              <a:t>Содействие становлению и проявлению субъективности и  индивидуальности обучающегося, его творческих способносте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классного коллектива как благоприятной среды развития и жизнедеятельности школьн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Просвети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риент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Направля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Форм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0389"/>
                </a:solidFill>
                <a:latin typeface="Arial"/>
              </a:rPr>
              <a:t>О чём говорят на классных ча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бо всё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одержание классных часов строить так, чтобы постепенно переходить от предметной информации к её оценке, от общих оценок – к развёрнутым сужд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должен вносить нужные коррективы, ставить дополнительные вопросы, акцентировать внимание на важных моментах, размышлять вместе с детьми и помочь им найти правильные решения  данной 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их вниманием и при его снижении использовать интересный по содержанию материал или поставить острый вопрос, использовать музыкальную паузу, сменить вид деятельно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ОДНО ИЗ НАИБОЛЕЕ РАСПРОСТРАН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 ОРГАНИЗАЦИИ ФРОНТАЛЬНОЙ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И.Болдыр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лассный час не должен проводиться в назидательном тоне, классный руководитель не должен подавлять инициативу обучающихся в ходе классного часа, их желание высказать свое мнение, выступить с кри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ждому обучающемуся дается право участвовать в подготовке и проведении того классного часа, который чем-то для него интерес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1676160"/>
            <a:ext cx="7792920" cy="38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Преимущества хорошо организованного </a:t>
            </a:r>
            <a:br>
              <a:rPr sz="3600"/>
            </a:b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Преимущества хорошо организованного и продуманного классного часа очевидны. Классный час, или лучше его называть час общения, играет очень большую роль в жизни учащихся, если он задуман интересно и необычно. Преимущество первое. В рамках классного часа можно общаться одновременно со всеми учащимися класса, слышать их мнение по проблеме разговора, наблюдать за их реакцией.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Преимущество второе. Результативность классного часа состоит и в том, что он может влиять как на мнение большинства учащихся, так и на мнение небольшой группы ребят. Иногда, в ходе индивидуальной работы с учеником, учитель часами не может добиться такого успеха, который можно получить в ходе классного часа. Ведь для ребят, особенно подростков, мнение сверстников бывает важнее мнения самого авториттного взрослого."/>
          <p:cNvPicPr/>
          <p:nvPr/>
        </p:nvPicPr>
        <p:blipFill>
          <a:blip r:embed="rId1"/>
          <a:stretch/>
        </p:blipFill>
        <p:spPr>
          <a:xfrm>
            <a:off x="304920" y="11448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Классный руководитель с помощью классного часа создает определенные условия, с помощью которых он может спрогнозировать результативность воспитательной работы. Преимущество третье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Типы классных  час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, беседа, 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 с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«гостем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нтересным человеком, писателем, политиком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ами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, беседа, лекции специал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ение газетного и журнального материала с последующим обсуж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уждение конкретных собы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кетирование и анализ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роизведениями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еды «за круглым столом», «мозговая ата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Формы классного ча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ассное собр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еда (этическая, нравствен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пу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и с интересны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кторины по различным областям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ку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гры-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итательские конференци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называть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рганизованной ценностно-ориентированной деятельностью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особствующей формированию у школьников системы отношений к окружающ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Е.Щур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ремя для общения классного руководителя со своим коллектив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гда он использует разнообразные приемы, средства и способы организации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Е.В.Тит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Классный ча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нашем понимании это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не какая-то определенная форма работы, а час классного руковод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 самая «клеточка» воспитательного процесса, которая позволяет школьному педагогу найти </a:t>
            </a:r>
            <a:r>
              <a:rPr b="0" lang="ru-RU" sz="2400" spc="-1" strike="noStrike">
                <a:solidFill>
                  <a:srgbClr val="e41f1a"/>
                </a:solidFill>
                <a:latin typeface="Arial"/>
              </a:rPr>
              <a:t>время для общения с воспитанни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крыто провозгласить и высветить запланированное отношение к определенным ценностям, позволяет сделать воспитательное воздействие систематическим и регулярным, а сам процесс воспитания – не хаотичным и случайным, а управляемым и целенаправле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.И.Маленков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м час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нимается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твед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ному руководителю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для проведения воспитательной рабо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 обучающимися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0" lang="ru-RU" sz="3200" spc="-1" strike="noStrike">
                <a:solidFill>
                  <a:srgbClr val="e41f1a"/>
                </a:solidFill>
                <a:latin typeface="Arial"/>
              </a:rPr>
              <a:t>внеурочн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й работы, и в отличие от урока ему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не должны быть присущи академизм и поучающий тип педагогического взаимодействи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организации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ронтальной (массово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итательной работы с детьми, но важно помнить и то, что при подготовке и проведении классного ча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озможно использование и групповых, и индивидуальных форм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форма воспитательной работы, однако  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не   все педагогические контакты классного руководителя с коллективом обучающихся можно считать классными часам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1-28T12:5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