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BE3-896C-426D-93D6-17980D9E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BBF-6444-47B6-9ED7-A00CB89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E85-EDAD-4CA0-BFBC-97C70BEE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978-93F4-4CF0-AA52-12C98F91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6FEB-C3D6-4B0F-86DD-F932A8D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A2A-3C37-4386-966F-29B8C90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F2D-6E0D-45A2-95F8-021006B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6F5E-1E9E-4143-95A4-E719077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5470-E4AE-4B4C-BC2C-AE7BF97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847-236F-413C-9D32-1590FDA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031-372A-43ED-B920-7E34769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321-F2F9-417C-9A0F-CD58FEE3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20E-7078-486A-A854-1B0323A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B1F-7218-47BD-921D-14FC5C1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B619-13F6-4998-A7F7-3378E34B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80CB-E724-4E04-9A9C-6E8F1360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84A-EA87-4621-A927-BA8F2E57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94B9-8FA8-47F9-A689-ACFBEA13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73A1-0C5E-4781-9F99-94A8DF9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A26B-33AD-451E-BFB0-9F93BA2B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17B9-7680-4B0D-8D04-8C2E110E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96B0-9D63-4045-AB09-90563A1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294-EF3D-4E77-B74F-5BC33FB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23FB-E695-45E0-849F-FF5D163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0DFD-A61D-49F1-8B3A-DD659AC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C082-D554-40A8-AE15-03A5835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13E4-27D6-44EF-A5CA-AFFDEDD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E13F-1370-4E47-A4AB-E45CE30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3199-1202-4E99-89DB-07B7C8BF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3BB6-7609-4A65-A60D-733CECF7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6CA-FE48-46CB-AA94-C191A4D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F74-D16F-4196-B566-D558C68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1CC-2784-40BA-B114-EE61076D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20C-45FF-4693-A958-EE57756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161-C63E-4C8F-BA8B-1AC52BC5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CD2-EFBF-4719-9055-CFA9033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A82-03F6-4634-8BB8-2868673858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C71-CAAA-4EE0-B544-9A3C7BA98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C0D5-5F6A-4472-A82B-6F50090BD5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br>
              <a:rPr sz="4400"/>
            </a:b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0" y="27428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иче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9.11.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ного руководителя и воспитанников,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приоритетную ро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рганизации которой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играет педаг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форма фронталь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спитательной работы, представляющая собой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пециально организуем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 внеурочное время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классного руко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обучающимися класса с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целью</a:t>
            </a:r>
            <a:r>
              <a:rPr b="0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содействия формированию классного коллектива и развитию его ч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Обогащение сознания обучающихся знаниями о природе, обществе, челов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ирование у детей навыков и умений мыслительной и практическ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эмоционально-чувственной сферы и ценностных отношений личности ребён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990033"/>
                </a:solidFill>
                <a:latin typeface="Arial"/>
              </a:rPr>
              <a:t>Содействие становлению и проявлению субъективности и  индивидуальности обучающегося, его творческих способносте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0389"/>
                </a:solidFill>
                <a:latin typeface="Arial"/>
              </a:rPr>
              <a:t>Педагогические задач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Arial"/>
              </a:rPr>
              <a:t>Формирование классного коллектива как благоприятной среды развития и жизнедеятельности школьник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Просвети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риент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Направля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Форм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ФУНК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0389"/>
                </a:solidFill>
                <a:latin typeface="Arial"/>
              </a:rPr>
              <a:t>О чём говорят на классных ча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Обо всё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одержание классных часов строить так, чтобы постепенно переходить от предметной информации к её оценке, от общих оценок – к развёрнутым сужд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должен вносить нужные коррективы, ставить дополнительные вопросы, акцентировать внимание на важных моментах, размышлять вместе с детьми и помочь им найти правильные решения  данной 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их вниманием и при его снижении использовать интересный по содержанию материал или поставить острый вопрос, использовать музыкальную паузу, сменить вид деятельно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ОДНО ИЗ НАИБОЛЕЕ РАСПРОСТРАН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ОРМ ОРГАНИЗАЦИИ ФРОНТАЛЬНОЙ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И.Болдыр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лассный час не должен проводиться в назидательном тоне, классный руководитель не должен подавлять инициативу обучающихся в ходе классного часа, их желание высказать свое мнение, выступить с крит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аждому обучающемуся дается право участвовать в подготовке и проведении того классного часа, который чем-то для него интерес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1676160"/>
            <a:ext cx="7792920" cy="38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Преимущества хорошо организованного </a:t>
            </a:r>
            <a:br>
              <a:rPr sz="3600"/>
            </a:b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Преимущества хорошо организованного и продуманного классного часа очевидны. Классный час, или лучше его называть час общения, играет очень большую роль в жизни учащихся, если он задуман интересно и необычно. Преимущество первое. В рамках классного часа можно общаться одновременно со всеми учащимися класса, слышать их мнение по проблеме разговора, наблюдать за их реакцией.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Преимущество второе. Результативность классного часа состоит и в том, что он может влиять как на мнение большинства учащихся, так и на мнение небольшой группы ребят. Иногда, в ходе индивидуальной работы с учеником, учитель часами не может добиться такого успеха, который можно получить в ходе классного часа. Ведь для ребят, особенно подростков, мнение сверстников бывает важнее мнения самого авториттного взрослого."/>
          <p:cNvPicPr/>
          <p:nvPr/>
        </p:nvPicPr>
        <p:blipFill>
          <a:blip r:embed="rId1"/>
          <a:stretch/>
        </p:blipFill>
        <p:spPr>
          <a:xfrm>
            <a:off x="304920" y="11448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Классный руководитель с помощью классного часа создает определенные условия, с помощью которых он может спрогнозировать результативность воспитательной работы. Преимущество третье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Типы классных  час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, беседа, 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 классного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упл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 с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«гостем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нтересным человеком, писателем, политиком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ами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з, беседа, лекции специал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ение газетного и журнального материала с последующим обсуж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уждение конкретных собы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8431"/>
                </a:solidFill>
                <a:latin typeface="Arial"/>
              </a:rPr>
              <a:t>Методы и прием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кетирование и анализ результ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роизведениями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еды «за круглым столом», «мозговая ата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Формы классного ча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лассное собр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еда (этическая, нравствен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пу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и с интересны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кторины по различным областям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иску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В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гры-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итательские конференци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называть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рганизованной ценностно-ориентированной деятельностью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особствующей формированию у школьников системы отношений к окружающ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.Е.Щур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й ч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ремя для общения классного руководителя со своим коллектив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гда он использует разнообразные приемы, средства и способы организации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Е.В.Тит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ЧТО ТАКОЕ КЛАССНЫЙ ЧАС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Классный ча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нашем понимании это </a:t>
            </a:r>
            <a:r>
              <a:rPr b="1" lang="ru-RU" sz="2400" spc="-1" strike="noStrike">
                <a:solidFill>
                  <a:srgbClr val="e41f1a"/>
                </a:solidFill>
                <a:latin typeface="Arial"/>
              </a:rPr>
              <a:t>не какая-то определенная форма работы, а час классного руковод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 самая «клеточка» воспитательного процесса, которая позволяет школьному педагогу найти </a:t>
            </a:r>
            <a:r>
              <a:rPr b="0" lang="ru-RU" sz="2400" spc="-1" strike="noStrike">
                <a:solidFill>
                  <a:srgbClr val="e41f1a"/>
                </a:solidFill>
                <a:latin typeface="Arial"/>
              </a:rPr>
              <a:t>время для общения с воспитанни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крыто провозгласить и высветить запланированное отношение к определенным ценностям, позволяет сделать воспитательное воздействие систематическим и регулярным, а сам процесс воспитания – не хаотичным и случайным, а управляемым и целенаправлен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.И.Маленков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8431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классным час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нимается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специально отвед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ному руководителю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для проведения воспитательной рабо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 обучающимися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</a:t>
            </a:r>
            <a:r>
              <a:rPr b="0" lang="ru-RU" sz="3200" spc="-1" strike="noStrike">
                <a:solidFill>
                  <a:srgbClr val="e41f1a"/>
                </a:solidFill>
                <a:latin typeface="Arial"/>
              </a:rPr>
              <a:t>внеурочн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й работы, и в отличие от урока ему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не должны быть присущи академизм и поучающий тип педагогического взаимодействи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форма организации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фронтальной (массово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итательной работы с детьми, но важно помнить и то, что при подготовке и проведении классного ча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41f1a"/>
                </a:solidFill>
                <a:latin typeface="Arial"/>
              </a:rPr>
              <a:t>возможно использование и групповых, и индивидуальных форм воспитательной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8431"/>
                </a:solidFill>
                <a:latin typeface="Arial"/>
              </a:rPr>
              <a:t>Характерные черты классного ча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гиб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своему составу и структуре форма воспитательной работы, однако   </a:t>
            </a: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не   все педагогические контакты классного руководителя с коллективом обучающихся можно считать классными часами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41f1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1-28T12:5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