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995-B15A-4A66-AFF2-DD0EA417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688-CFE0-4965-BA37-B7657A15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558-C6E2-4D27-93C3-DFB918F2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FBE-85E2-4EDA-B25A-7B3B2407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7ED3-278C-471C-ACB2-3F4E1AA1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7B8A-7214-4794-9EBB-4EACE744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702D-ABAF-4EB1-BA4F-B04EEC40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83B4-9795-4E27-A7D3-4DE20DA9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54DB-8E99-4A07-A50E-00E01FC3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85AF-A6AB-4F6B-A2C0-6A47D6DB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EF9D-4DDD-4142-83B3-CBD6E40F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9DD-6D69-4BA7-8A4F-1463CF36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5581-9893-4E02-A312-F8B31D82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FC5F-77E6-4EE7-A3ED-A446CB9B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EB72-ED7B-4760-8C96-0D78458C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83EF-604F-45A7-8EFA-E0DFCE8C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94C6-F000-468E-8FCE-07DBC14F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19CB-2828-42A8-A904-6E5826F0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EA7F-C479-4EC1-8D57-442EC03D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9E8A-C8D4-4946-BB3C-19485FC3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2844-5F6F-45F1-8E0E-FEF48E1A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3494-22FA-4CEC-AA68-7610876C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0A5-8A09-4358-9676-6ED0D209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7AD3-A7E5-4A93-9CB0-C22CE3D4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014D-9541-4D73-B39D-739AE7C4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89AC-2EFA-4A2F-8F9C-F5EBF97C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E720-0030-43F2-AAAE-CE255017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855C-D373-4138-881F-1C861E1B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3761-826E-4614-897F-E2B1368A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279AD-0147-4EEC-B6C8-0EE27819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716-1322-4929-88ED-66B5E9CE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338-F9EE-4D28-897A-6F6C5A84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BD4-58C4-4EA3-8199-FCF18EED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F68-CE3C-409F-A215-E37BB0BC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B7E-DABF-48EE-A389-04F9E4D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1B8-97EF-4305-A702-F26B8269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E845-D320-4EC4-938C-D0A04E48E2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BD96-CBDB-416B-85AA-6E015C388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9A7F-EE84-4D08-90DC-040417F7C7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460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br>
              <a:rPr sz="4400"/>
            </a:b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0" y="27428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9.11.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форма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ассного руководителя и воспитанников,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приоритетную ро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рганизации которой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играет педаг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гиб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своему составу и структуре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форма фронталь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спитательной работы, представляющая собой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специально организуем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 внеурочное время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общение</a:t>
            </a:r>
            <a:r>
              <a:rPr b="0" lang="ru-RU" sz="2800" spc="-1" strike="noStrike">
                <a:solidFill>
                  <a:srgbClr val="e41f1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классного руко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обучающимися класса с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целью</a:t>
            </a:r>
            <a:r>
              <a:rPr b="0" lang="ru-RU" sz="2800" spc="-1" strike="noStrike">
                <a:solidFill>
                  <a:srgbClr val="e41f1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содействия формированию классного коллектива и развитию его чл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Педагогические задач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Обогащение сознания обучающихся знаниями о природе, обществе, челове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Формирование у детей навыков и умений мыслительной и практическ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Педагогические задач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Arial"/>
              </a:rPr>
              <a:t>Формирование эмоционально-чувственной сферы и ценностных отношений личности ребён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990033"/>
                </a:solidFill>
                <a:latin typeface="Arial"/>
              </a:rPr>
              <a:t>Содействие становлению и проявлению субъективности и  индивидуальности обучающегося, его творческих способносте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Педагогические задач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Arial"/>
              </a:rPr>
              <a:t>Формирование классного коллектива как благоприятной среды развития и жизнедеятельности школьн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ФУНК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Просветитель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Ориент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Направля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Форм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ФУНК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0389"/>
                </a:solidFill>
                <a:latin typeface="Arial"/>
              </a:rPr>
              <a:t>О чём говорят на классных ча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Обо всём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одержание классных часов строить так, чтобы постепенно переходить от предметной информации к её оценке, от общих оценок – к развёрнутым сужде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В процессе обсуждения поставленных вопросов классный руководитель должен быть очень внимателен к выступлениям обучающихся, должен вносить нужные коррективы, ставить дополнительные вопросы, акцентировать внимание на важных моментах, размышлять вместе с детьми и помочь им найти правильные решения  данной 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Необходимо учитывать психологические особенности восприятия материала обучающимися, следить за их вниманием и при его снижении использовать интересный по содержанию материал или поставить острый вопрос, использовать музыкальную паузу, сменить вид деятельност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ОДНО ИЗ НАИБОЛЕЕ РАСПРОСТРАН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ФОРМ ОРГАНИЗАЦИИ ФРОНТАЛЬНОЙ ВОСПИТАТЕЛЬНОЙ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.И.Болдыр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Классный час не должен проводиться в назидательном тоне, классный руководитель не должен подавлять инициативу обучающихся в ходе классного часа, их желание высказать свое мнение, выступить с крит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аждому обучающемуся дается право участвовать в подготовке и проведении того классного часа, который чем-то для него интересе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50720" y="1676160"/>
            <a:ext cx="7792920" cy="38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Преимущества хорошо организованного </a:t>
            </a:r>
            <a:br>
              <a:rPr sz="3600"/>
            </a:b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4724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Преимущества хорошо организованного и продуманного классного часа очевидны. Классный час, или лучше его называть час общения, играет очень большую роль в жизни учащихся, если он задуман интересно и необычно. Преимущество первое. В рамках классного часа можно общаться одновременно со всеми учащимися класса, слышать их мнение по проблеме разговора, наблюдать за их реакцией."/>
          <p:cNvPicPr/>
          <p:nvPr/>
        </p:nvPicPr>
        <p:blipFill>
          <a:blip r:embed="rId1"/>
          <a:stretch/>
        </p:blipFill>
        <p:spPr>
          <a:xfrm>
            <a:off x="228600" y="17136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Преимущество второе. Результативность классного часа состоит и в том, что он может влиять как на мнение большинства учащихся, так и на мнение небольшой группы ребят. Иногда, в ходе индивидуальной работы с учеником, учитель часами не может добиться такого успеха, который можно получить в ходе классного часа. Ведь для ребят, особенно подростков, мнение сверстников бывает важнее мнения самого авториттного взрослого."/>
          <p:cNvPicPr/>
          <p:nvPr/>
        </p:nvPicPr>
        <p:blipFill>
          <a:blip r:embed="rId1"/>
          <a:stretch/>
        </p:blipFill>
        <p:spPr>
          <a:xfrm>
            <a:off x="304920" y="11448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Классный руководитель с помощью классного часа создает определенные условия, с помощью которых он может спрогнозировать результативность воспитательной работы. Преимущество третье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8431"/>
                </a:solidFill>
                <a:latin typeface="Arial"/>
              </a:rPr>
              <a:t>Типы классных  час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, беседа, сообщение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  классного руководите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упление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пециали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еча с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«гостем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интересным человеком, писателем, политиком и др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ние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амих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8431"/>
                </a:solidFill>
                <a:latin typeface="Arial"/>
              </a:rPr>
              <a:t>Методы и прием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, беседа, лекции специал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ение газетного и журнального материала с последующим обсужд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суждение конкретных событ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8431"/>
                </a:solidFill>
                <a:latin typeface="Arial"/>
              </a:rPr>
              <a:t>Методы и прием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кетирование и анализ результа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произведениями искус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седы «за круглым столом», «мозговая ата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Формы классного ча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лассное собр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еседа (этическая, нравственна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испу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тречи с интересными люд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кторины по различным областям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иску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гры-путеше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итательские конференции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называть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пециально организованной ценностно-ориентированной деятельностью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пособствующей формированию у школьников системы отношений к окружающ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.Е.Щурк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время для общения классного руководителя со своим коллектив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огда он использует разнообразные приемы, средства и способы организации взаимо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Е.В.Тит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37124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41f1a"/>
                </a:solidFill>
                <a:latin typeface="Arial"/>
              </a:rPr>
              <a:t>Классный ча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нашем понимании это </a:t>
            </a:r>
            <a:r>
              <a:rPr b="1" lang="ru-RU" sz="2400" spc="-1" strike="noStrike">
                <a:solidFill>
                  <a:srgbClr val="e41f1a"/>
                </a:solidFill>
                <a:latin typeface="Arial"/>
              </a:rPr>
              <a:t>не какая-то определенная форма работы, а час классного руковод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 самая «клеточка» воспитательного процесса, которая позволяет школьному педагогу найти </a:t>
            </a:r>
            <a:r>
              <a:rPr b="0" lang="ru-RU" sz="2400" spc="-1" strike="noStrike">
                <a:solidFill>
                  <a:srgbClr val="e41f1a"/>
                </a:solidFill>
                <a:latin typeface="Arial"/>
              </a:rPr>
              <a:t>время для общения с воспитанни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крыто провозгласить и высветить запланированное отношение к определенным ценностям, позволяет сделать воспитательное воздействие систематическим и регулярным, а сам процесс воспитания – не хаотичным и случайным, а управляемым и целенаправлен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.И.Маленков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8431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м час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нимается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пециально отведенное врем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лассному руководителю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для проведения воспитательной рабо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 обучающимися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форма </a:t>
            </a:r>
            <a:r>
              <a:rPr b="0" lang="ru-RU" sz="3200" spc="-1" strike="noStrike">
                <a:solidFill>
                  <a:srgbClr val="e41f1a"/>
                </a:solidFill>
                <a:latin typeface="Arial"/>
              </a:rPr>
              <a:t>внеурочно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й работы, и в отличие от урока ему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не должны быть присущи академизм и поучающий тип педагогического взаимодействия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форма организации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фронтальной (массовой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итательной работы с детьми, но важно помнить и то, что при подготовке и проведении классного ча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возможно использование и групповых, и индивидуальных форм воспитательной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гиб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своему составу и структуре форма воспитательной работы, однако  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не   все педагогические контакты классного руководителя с коллективом обучающихся можно считать классными часами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11-28T12:59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