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B69-CDD9-492E-8FDD-300D39AE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5C7-3EEC-4E05-8584-A10A8528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FB4-40C5-481C-8D7D-7784D688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A74-8A89-42B4-93CC-0B168F8E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7F06-C96D-417A-B560-29745813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D67D-A59F-4160-B400-B51E16E0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03EA-FF14-4673-957C-10291760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5394-7361-4420-B471-B1FE8C17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BFDE-88BD-46DE-ADFB-8B95DB55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C46F-E888-4DDD-8EE0-E8DA22B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BA5-C03B-45CD-82F7-E54BE6EE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927-9F90-4319-A3A3-2C9D5CD4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24EB-7F8F-425E-8BC2-5CFA7412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0039-E647-4893-97EC-FB76190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FFCE-1D96-48D9-8E1D-25CC342B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F475-C3C4-4405-AD59-D466CF62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280-7846-4EEB-8A10-C79531F2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536B-8098-4F85-A64B-8AD8E522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DA00-B576-45EF-9A5D-2AAF2F1D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643E-27EC-4997-A32D-AEE9FFFF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5021-DC0A-4017-B6E4-422D6D8F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65E7-1248-43D3-A626-9359F4EF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F42-807B-4E2D-BFA3-26CC2A9B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295A-E35C-4AC9-94DF-7719E3B6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931A-CB0F-4878-BC25-2B6B083D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32654-2CEA-4392-BC40-2BCD2C25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4C13-296C-4004-94F8-B8DF4B5B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E54A-8C4F-4094-8354-3F44BA5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1B2A-1F2D-4B06-A0EA-A6EC7119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7C48-046D-4D68-8173-9006B34D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4F87-143F-4421-97E2-E4FC3F62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3B40-E4AC-45F0-B614-E56D28E3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8CBD-E155-40CC-957C-17222F2B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42C-207B-4EFB-82ED-D33D395D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19FD-45B3-4F2E-84FA-305A546F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82EB-9BBA-4DA1-A5F4-0CBF590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CA02-C64B-4F3C-B124-2843EFB2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52F8-6392-4B05-81A1-CB3E83E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C4DB-9E40-4382-9164-3CD68AD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2DC8-61C3-4313-B545-CFF6E8C5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F81B-D270-44E6-ADD3-002E7EDA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2E139-8923-481D-8FDF-A1237E04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E771-A796-4EC3-9A30-AED7BDB6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1DAB-814D-4084-89F4-AE775307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47B-EC72-4FC1-99A1-C014C28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2D43-CC10-4B3D-92EB-7F386A35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236E-F59F-4956-9D16-69F60118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51394-40CE-4BF3-814C-96A35BB2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48E88-F9AE-450A-9C5E-8BDFB1BF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C625-51D3-4145-885F-759A37BE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E59B6-D3E0-411B-AB76-FDC6E35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25F4-5A7D-4F94-A360-B0E025CF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5CAD4-7965-4CE0-9B57-8B7FE1F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D0BBF-0A96-49A0-8771-E72C17C1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075C-39CE-47C4-9B83-6B85CC3E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62A-7EE8-42D8-99A5-7D30C9AD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26A68-887B-4F6C-B601-9BF69D23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E0FB6-CB2F-4F9B-83B5-DF756B9E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19CF8-B388-4741-82E8-C3BB394E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90F8-5AA2-4DDA-A9A7-2BDFEE7D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BCA81-1724-4507-8846-B054FF32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AD13A-1AB9-4C37-8522-958D11C4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3B689-094C-4466-9C49-E67093B5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19A79-9527-405E-9395-E4525DE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883E8-3EF6-444B-8496-0D95C97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A8354-3E99-49DB-8473-8418ECA3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BA4-2C50-46C0-8E70-5457A58A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7B029-902F-42B8-A79F-62402394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1583-B146-49DB-94CC-9D932FC3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D3266-0E30-4D98-8653-41F949BF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A197A-A561-40FA-A3D8-82BE0F73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7C792-B25D-4E89-B2ED-CF932DCD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06F12-1E91-484E-ABD5-89247FDB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AB15-9E16-4F4A-8A31-24E17BCA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6955-B681-4756-B157-71DF681D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F8298-22BA-4BC0-8DBE-667163B5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E145E-CC35-4419-AE43-32A57923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59A-9207-4F18-BD4E-61620622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E5E10-715D-48F5-B134-AD87CDAA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2C1A3-6C6A-44B2-AA22-69E929C3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BC318-B661-4658-9B93-02BDEF41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48A8-5ED0-4501-8427-5DA99FDD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B2587-589B-43A3-8A72-47DA6B72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1AFFF-1316-4660-9BF4-24AF4F6A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A5EC2-0C1F-43BD-902C-1E75E63E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19A81-BFBC-42E7-A6D7-675017C1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470A8-FD3D-43EB-A035-4934DD3E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51C8B-7614-4A18-A25D-5836D440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D5C-46EE-4233-B8A2-108CF01C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49882-8FDB-4806-943B-E2EBEA8F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A39EF-6D3B-4F41-B435-BA5586C5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F0584-4D9A-4F1E-949D-9164EA17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F5C3C-DE76-4994-AF9A-9331FF9E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B3A58-2612-4F7C-B821-53D68985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93F14-CBAC-492F-809F-94D3312F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C743B-D8DE-42E7-B003-FE6B40A2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D163-04B6-4959-83CF-5DBDF88C4A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AD91-3E80-43FB-9B40-AFA9AFCF4D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EC64-3343-446C-BE75-A4B5185643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C2D-3C4E-4718-8B71-2DC5BAEF75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8CD5-98D2-4068-8D90-F926CB8D35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B1B7-EAC8-4E51-BD6B-81525E6AD9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9841-4CF3-488B-AD70-D5A309EC01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88D9-0489-4558-B4DA-340F0188B3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0000"/>
                </a:solidFill>
                <a:latin typeface="Lucida Sans Unicode"/>
              </a:rPr>
              <a:t>«Числа правят миром!»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0000"/>
                </a:solidFill>
                <a:latin typeface="Lucida Sans Unicode"/>
              </a:rPr>
              <a:t>                     </a:t>
            </a:r>
            <a:r>
              <a:rPr b="0" i="1" lang="ru-RU" sz="4100" spc="-1" strike="noStrike">
                <a:solidFill>
                  <a:srgbClr val="ff0000"/>
                </a:solidFill>
                <a:latin typeface="Lucida Sans Unicode"/>
              </a:rPr>
              <a:t>Пифагор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5716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 получившемся числе зачеркните три цифры таким образом, чтобы число являлось максимальным и, кроме того было кратны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2»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5»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10»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4»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25» 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2»  -  967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5»  -  9675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10»  - 9670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4»  -  960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Lucida Sans Unicode"/>
              </a:rPr>
              <a:t>«25»  - 9675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ите уравнения и определите каким признакам делимости удовлетворяют корни уравнен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5у + 50 = 17у + 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               делится на  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х – 15 = 3х +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               делится на  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8х – 17 = 3(х – 3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              делится на 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9(х – 5) = 7(х + 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              делится на 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2у = 18у – 5(-2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              делится на 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2, делится на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15, делится на 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8,  делится на 4 и на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 = 40, делится на 2; 4; 5;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= 25,  делится на 5 и на 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 ТЕПЕРЬ, РЕБЯТА, ВСТАЛИ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ЫСТРО РУКИ ВВЕРХ ПОДНЯЛ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ТОРОНЫ, ВПЕРЕД, НАЗАД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ЕРНУЛИСЬ ВПРАВО, ВЛЕВО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ИХО СЕЛИ, ВНОВЬ ЗА ДЕЛ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1.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вестно, что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ечетные числа и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&gt;b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акими числами четными или нечетными являются следующие чис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  -  b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a 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2a + 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2.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Укажите наибольшее натуральное число, кратное 5, находящееся в промежутке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[755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; 758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тное, нечетное, нечетно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сло 145*0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сстановить это число так, чтобы оно удовлетворяло признакам делимости на 2, 4, 5, 10, 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5716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2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5 и на 10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4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Lucida Sans Unicode"/>
              </a:rPr>
              <a:t>Сформулируйте признак делимости на 25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* 5 * *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Lucida Sans Unicode"/>
              </a:rPr>
              <a:t>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5 * 3 *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* 0 2 0 * 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твет должен быть кратным 5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_ * 0 2 * 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5 5 * 3 *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* 5 3 *      Ответ должен быть кратным 2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реди данных чисел выберите те, которые при делении на 5 дают одинаковые остатк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6, 43, 58, 62, 69, 73, 87, 9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45700 (две последние цифры 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572 +5633=10502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0269 – 55735 = 453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3.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3, 58, 73, 98 (остаток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7785360" cy="1092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85800" y="1257480"/>
            <a:ext cx="7772400" cy="48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          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- Я ДОВОЛЕН СВОЕЙ РАБОТОЙ НА УРО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           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- НА УРОКЕ Я РАБОТАЛ НЕ ПЛОХО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               </a:t>
            </a:r>
            <a:r>
              <a:rPr b="0" lang="ru-RU" sz="2000" spc="-1" strike="noStrike">
                <a:solidFill>
                  <a:srgbClr val="464646"/>
                </a:solidFill>
                <a:latin typeface="Lucida Sans Unicode"/>
              </a:rPr>
              <a:t>- НА УРОКЕ МНЕ БЫЛО ТРУДНО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Овал 5"/>
          <p:cNvSpPr/>
          <p:nvPr/>
        </p:nvSpPr>
        <p:spPr>
          <a:xfrm>
            <a:off x="785880" y="1357200"/>
            <a:ext cx="1000080" cy="1000080"/>
          </a:xfrm>
          <a:prstGeom prst="ellipse">
            <a:avLst/>
          </a:prstGeom>
          <a:solidFill>
            <a:srgbClr val="00b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7"/>
          <p:cNvSpPr/>
          <p:nvPr/>
        </p:nvSpPr>
        <p:spPr>
          <a:xfrm>
            <a:off x="785880" y="2500200"/>
            <a:ext cx="1000080" cy="100008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9"/>
          <p:cNvSpPr/>
          <p:nvPr/>
        </p:nvSpPr>
        <p:spPr>
          <a:xfrm>
            <a:off x="785880" y="3643200"/>
            <a:ext cx="985680" cy="92880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682560" y="566640"/>
            <a:ext cx="8089920" cy="1298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-Ваше домашнее задание будет похоже на     задание 4 из нашей классной работы. Придумать выражения со звездочками, но чтобы ответы были кратны 2, 5, 10, 4, 25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365040" y="298440"/>
            <a:ext cx="8102520" cy="9939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1357200"/>
            <a:ext cx="7772400" cy="345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ff"/>
                </a:solidFill>
                <a:latin typeface="Lucida Sans Unicode"/>
              </a:rPr>
              <a:t>Закрепить признаки делимости, развивать умение решать задания с применением признаков делимости, развивать умение логически мыслить, поддерживать в классе дружескую атмосферу, воспитывать чувство коллективизм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682560" y="1682640"/>
            <a:ext cx="778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2560" y="208080"/>
            <a:ext cx="8053560" cy="1090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14284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Используя  признаки делимости укажите из данных чисел те, которы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1.  Кратные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2. Кратные 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3. Кратные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4. Кратные 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5. Кратные 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428760" y="1357200"/>
          <a:ext cx="7772400" cy="350532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318, 120, 62, 48, 80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5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205, 120, 45, 125, 175, 80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1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20, 80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20, 48, 8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ратные </a:t>
            </a:r>
            <a:r>
              <a:rPr b="1" i="1" lang="ru-RU" sz="2700" spc="-1" strike="noStrike">
                <a:solidFill>
                  <a:srgbClr val="ff0000"/>
                </a:solidFill>
                <a:latin typeface="Lucida Sans Unicode"/>
              </a:rPr>
              <a:t>25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125, 175, 5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и кратны ни 2, ни 5, ни 10, ни 4, ни 25:    </a:t>
            </a:r>
            <a:r>
              <a:rPr b="1" i="1" lang="ru-RU" sz="2700" spc="-1" strike="noStrike">
                <a:solidFill>
                  <a:srgbClr val="008000"/>
                </a:solidFill>
                <a:latin typeface="Lucida Sans Unicode"/>
              </a:rPr>
              <a:t>17,  33,  121,  9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аны цифры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8, 2, 9, 1, 6, 7, 0, 3, 5, 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Из этих цифр нужно зачеркнуть три таким образом, чтобы оставшиеся составили максимальное числ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Перестановка цифр не допускается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Lucida Sans Unicode"/>
              </a:rPr>
              <a:t>9670354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237960" y="281160"/>
            <a:ext cx="8425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0:43:50Z</dcterms:created>
  <dc:creator>Смирнова  Людмила  Викторовна</dc:creator>
  <dc:description/>
  <dc:language>en-US</dc:language>
  <cp:lastModifiedBy>Пользователь Windows</cp:lastModifiedBy>
  <dcterms:modified xsi:type="dcterms:W3CDTF">2019-03-15T00:34:44Z</dcterms:modified>
  <cp:revision>20</cp:revision>
  <dc:subject/>
  <dc:title>Признаки  делимости   на 2, 5, 10, 4, 25</dc:title>
</cp:coreProperties>
</file>