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D0AA-7332-4626-A5AD-3BFCD92A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015-6ADA-4F03-B4F6-3D7CA10B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E48B-4213-40DB-96DC-D53914BF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04DA-ED51-46A7-9BF3-CCD3293A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5CA6-1661-40DC-916A-18293399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C4E0-C8BB-4130-B53C-C7097C94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6331-EE3E-41D0-8EBC-346C78CB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2AC7-C9A7-4FFF-8CA9-8759C70E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D1C8-9B2E-4337-A060-45B3C9D6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3763-2CA7-4F3E-94EC-B3CE49A4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95FC-2187-4FB5-9DA5-99C41AC6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E01D-AC38-45E7-BF1B-8605CE18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1D8F-813E-48DD-91C7-078B5BAF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5C6B-FB08-436F-9D01-D3AA10B1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4713-7992-466A-AB44-E94B1265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8EF6-F9BB-4BFD-BD21-9BF566A6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7724-06BD-4A0A-A9F3-17025B9A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AAF40-6769-4EF4-8D0A-1C66EF06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4B5D6-8FD5-46D8-8249-B42BE772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9A94C-A99D-4592-91AC-FB25D7DE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625BD-3DAC-414E-947B-3D2BB776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3F1D1-B744-4870-B5E8-ED1CC109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99BE-56A0-4F0C-AE20-E9234ED9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FFA47-2857-4A84-B41D-2084AD87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40ADC-15D8-423F-820D-1FFFB0DC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B1DD7-FD1E-4617-91AB-DBD9C93B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DFAEE-FD93-4F14-90C2-7F20C8D1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6FA2C-5729-46E8-ABAD-518D31FE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0CD0E-B043-4B43-AC00-44CEA526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400E4-6DA4-4DB9-825E-EE9AE7B9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0C5E8-1548-4184-B3BD-C17EBCC5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7A07C-4745-4F13-A6B4-82228F9F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4F476-8036-46BC-9FC4-7A6EC679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D5F-F180-4F2A-A6B1-D7D0AD5C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DF39B-600E-42E4-8FB9-E077BB38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78FBA-F081-45FD-B66F-CA3B0F2B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CEDDD-5CA8-4C3D-8FF1-EE681A6B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7E748-F886-4C07-86C1-47A503D2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8F5E8-8E3C-427B-961E-660A23FA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B40BC-9DE8-41C7-8744-A57376A1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469D3-F61B-49EE-89FA-324E90CB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8C23D-F718-4BFA-B26E-E40ED81E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7CF99-ABEE-4FC2-8F69-B87E53F4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AC817-5269-46A9-9B81-B8FF8C84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8218-857D-46DF-A360-9BD06234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02B99-F617-46FB-86E0-0B1EA4D5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6334F-E987-41EC-95FF-D10CB393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C09F6-AABA-41A7-B7A0-ACCA3015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DAFA3-D137-40EE-991D-1C348F87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18248-A0D2-489E-A8EB-DA418AFD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FD400-9FDE-4292-8C5D-62328839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06B21-36C5-4458-8DB3-CF514E6C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95A06-61F7-49C3-9C72-A480C9F9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08BA9-E866-4A07-9FD7-3B6FBD75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BD248-6303-4AEE-8E42-2AFA7335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807-6C50-4DBB-8B59-39896961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3C913-FEC7-421D-AE91-BD301CF0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3D7D0-C727-4AB4-BE4D-7F1D96EE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B3A73-4040-4707-9251-D0E9B991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78FAE-CE7D-4242-B21F-A9ABB802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A4225-3C68-40F6-A36E-82A2701F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4AEB9-3C85-4283-B232-BF473190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45B82-454E-4B8E-A0F6-4DE05021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B2B36-2F6B-4A84-B49C-815847CF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42950-B4AD-44FE-926B-103257A7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8AFF4-1E39-4D90-A254-26B4D7E2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AE3E-ACA6-40B8-8826-7D2215EB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127E1-D7FC-4C79-85AE-A0D21076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97F15-B253-41F3-AAE3-E01ABE47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F7BFF-5C38-452E-A1A4-3BEB129D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6337B-48D5-4584-8B22-2EBC7AD2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1A31F-0A5B-4848-967D-DD057007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E2F67-270A-429C-A5B7-3E7B7B77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566E7-E914-4C3F-BA2C-47AD2685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F5C45-128C-4362-BB81-BF30677E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5DAC6-E733-48DE-8966-39C9DA48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161E3-972E-43E0-98D2-D6DB4FF8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A7A6-B2F4-40C2-BD77-014200DD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D287D-E5A3-44A6-B221-01A81FC3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18A85-31A5-4498-B7C5-A14D0B2A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61401-3792-45BA-A4F0-8C002B2E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83646-DA5C-4129-83E3-CB3D4CB4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85483-6A63-4006-9608-9D966C35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87C49-D3B9-4FAC-A846-D6A9A7FE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B1FD9-BDD0-44FB-9AE2-407AA8E5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EA489-B41A-4BAA-8FFB-0A03F02E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C5CEE-FBB7-4F23-A203-EB725751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8BB2D-5D13-4B7A-BD4D-BEC59942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DC64-BAD6-4629-8B38-44F0BDBA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093F4-683B-4BA4-A355-541BA8D9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5EA65-85B3-43BB-AB31-0096EA89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05E8F-CBED-4115-89A8-C5EA1A0C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AF952-65A7-4515-AC72-074F8F9B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CE058-AFF0-4561-B784-9A44B59E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369B1-DBD6-4619-9CDA-3C477996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03377-17BD-4962-9176-D07B96B6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69B3-429B-4EB1-9120-9FF8F42CF8D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22A7-185F-4F70-8578-6DAF85F5D32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2F66-0DCC-4514-B8B9-F43ACF40545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C81C-DFDA-4510-810C-6B270C7190C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A02C-6CD0-4B4F-8AF7-0162923FEC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6F62-EF62-425A-A5E0-E3A2609561D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3453-A9F3-43F5-99F9-2539173E731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11E7-E7D5-40B2-AD2F-A7702018A4B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85800" y="928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ff0000"/>
                </a:solidFill>
                <a:latin typeface="Lucida Sans Unicode"/>
              </a:rPr>
              <a:t>«Числа правят миром!»</a:t>
            </a:r>
            <a:endParaRPr b="0" lang="en-US" sz="5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ff0000"/>
                </a:solidFill>
                <a:latin typeface="Lucida Sans Unicode"/>
              </a:rPr>
              <a:t>                     </a:t>
            </a:r>
            <a:r>
              <a:rPr b="0" i="1" lang="ru-RU" sz="4100" spc="-1" strike="noStrike">
                <a:solidFill>
                  <a:srgbClr val="ff0000"/>
                </a:solidFill>
                <a:latin typeface="Lucida Sans Unicode"/>
              </a:rPr>
              <a:t>Пифагор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57168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В получившемся числе зачеркните три цифры таким образом, чтобы число являлось максимальным и, кроме того было кратны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«2» 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«5» 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«10» 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«4»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«25» -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Lucida Sans Unicode"/>
              </a:rPr>
              <a:t>«2»  -  9674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Lucida Sans Unicode"/>
              </a:rPr>
              <a:t>«5»  -  9675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Lucida Sans Unicode"/>
              </a:rPr>
              <a:t>«10»  - 9670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Lucida Sans Unicode"/>
              </a:rPr>
              <a:t>«4»  -  9604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Lucida Sans Unicode"/>
              </a:rPr>
              <a:t>«25»  - 9675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шите уравнения и определите каким признакам делимости удовлетворяют корни уравнений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5у + 50 = 17у + 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=                делится на  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х – 15 = 3х + 4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 =                делится на  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8х – 17 = 3(х – 35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 =               делится на _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9(х – 5) = 7(х + 5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 =               делится на _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2у = 18у – 5(-20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=               делится на _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= 2, делится на 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 = 15, делится на 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 = 8,  делится на 4 и на 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 = 40, делится на 2; 4; 5; 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= 25,  делится на 5 и на 2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 ТЕПЕРЬ, РЕБЯТА, ВСТАЛИ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ЫСТРО РУКИ ВВЕРХ ПОДНЯЛИ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СТОРОНЫ, ВПЕРЕД, НАЗАД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ВЕРНУЛИСЬ ВПРАВО, ВЛЕВО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ИХО СЕЛИ, ВНОВЬ ЗА ДЕЛО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aecd"/>
                </a:solidFill>
                <a:latin typeface="Lucida Sans Unicode"/>
              </a:rPr>
              <a:t>1.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вестно, что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а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нечетные числа и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&gt;b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Какими числами четными или нечетными являются следующие числ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a  -  b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a 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2a + 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aecd"/>
                </a:solidFill>
                <a:latin typeface="Lucida Sans Unicode"/>
              </a:rPr>
              <a:t>2. </a:t>
            </a: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Укажите наибольшее натуральное число, кратное 5, находящееся в промежутке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[755</a:t>
            </a: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; 758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етное, нечетное, нечетно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5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исло 145*0*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сстановить это число так, чтобы оно удовлетворяло признакам делимости на 2, 4, 5, 10, 2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5716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Lucida Sans Unicode"/>
              </a:rPr>
              <a:t>Сформулируйте признак делимости на 2?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Lucida Sans Unicode"/>
              </a:rPr>
              <a:t>Сформулируйте признак делимости на 5 и на 10?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Lucida Sans Unicode"/>
              </a:rPr>
              <a:t>Сформулируйте признак делимости на 4?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Lucida Sans Unicode"/>
              </a:rPr>
              <a:t>Сформулируйте признак делимости на 25?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* 5 * *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ru-RU" sz="2400" spc="-1" strike="noStrike" u="sng" baseline="30000">
                <a:solidFill>
                  <a:srgbClr val="000000"/>
                </a:solidFill>
                <a:uFillTx/>
                <a:latin typeface="Lucida Sans Unicode"/>
              </a:rPr>
              <a:t>+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5 * 3 *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* 0 2 0 *    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твет должен быть кратным 5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_ * 0 2 * 9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5 5 * 3 *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* 5 3 *      Ответ должен быть кратным 2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реди данных чисел выберите те, которые при делении на 5 дают одинаковые остатки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36, 43, 58, 62, 69, 73, 87, 9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45700 (две последние цифры 0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572 +5633=10502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0269 – 55735 = 453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aecd"/>
                </a:solidFill>
                <a:latin typeface="Lucida Sans Unicode"/>
              </a:rPr>
              <a:t>3.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3, 58, 73, 98 (остаток 3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493560" y="133200"/>
            <a:ext cx="7785360" cy="10922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685800" y="1257480"/>
            <a:ext cx="7772400" cy="481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              </a:t>
            </a: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- Я ДОВОЛЕН СВОЕЙ РАБОТОЙ НА УРОК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               </a:t>
            </a: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- НА УРОКЕ Я РАБОТАЛ НЕ ПЛОХО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               </a:t>
            </a: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- НА УРОКЕ МНЕ БЫЛО ТРУДНО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Овал 5"/>
          <p:cNvSpPr/>
          <p:nvPr/>
        </p:nvSpPr>
        <p:spPr>
          <a:xfrm>
            <a:off x="785880" y="1357200"/>
            <a:ext cx="1000080" cy="1000080"/>
          </a:xfrm>
          <a:prstGeom prst="ellipse">
            <a:avLst/>
          </a:prstGeom>
          <a:solidFill>
            <a:srgbClr val="00b05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Овал 7"/>
          <p:cNvSpPr/>
          <p:nvPr/>
        </p:nvSpPr>
        <p:spPr>
          <a:xfrm>
            <a:off x="785880" y="2500200"/>
            <a:ext cx="1000080" cy="100008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Овал 9"/>
          <p:cNvSpPr/>
          <p:nvPr/>
        </p:nvSpPr>
        <p:spPr>
          <a:xfrm>
            <a:off x="785880" y="3643200"/>
            <a:ext cx="985680" cy="928800"/>
          </a:xfrm>
          <a:prstGeom prst="ellipse">
            <a:avLst/>
          </a:prstGeom>
          <a:solidFill>
            <a:srgbClr val="ff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682560" y="566640"/>
            <a:ext cx="8089920" cy="129852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-Ваше домашнее задание будет похоже на     задание 4 из нашей классной работы. Придумать выражения со звездочками, но чтобы ответы были кратны 2, 5, 10, 4, 25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365040" y="298440"/>
            <a:ext cx="8102520" cy="9939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1357200"/>
            <a:ext cx="7772400" cy="345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ff"/>
                </a:solidFill>
                <a:latin typeface="Lucida Sans Unicode"/>
              </a:rPr>
              <a:t>Закрепить признаки делимости, развивать умение решать задания с применением признаков делимости, развивать умение логически мыслить, поддерживать в классе дружескую атмосферу, воспитывать чувство коллективизм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682560" y="1682640"/>
            <a:ext cx="77850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682560" y="208080"/>
            <a:ext cx="8053560" cy="10904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85800" y="142848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Используя  признаки делимости укажите из данных чисел те, которые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1.  Кратные 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2. Кратные 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3. Кратные 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4. Кратные 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5. Кратные 2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428760" y="1357200"/>
          <a:ext cx="7772400" cy="3505320"/>
        </p:xfrm>
        <a:graphic>
          <a:graphicData uri="http://schemas.openxmlformats.org/drawingml/2006/table">
            <a:tbl>
              <a:tblPr/>
              <a:tblGrid>
                <a:gridCol w="1109520"/>
                <a:gridCol w="1111320"/>
                <a:gridCol w="1109520"/>
                <a:gridCol w="1111320"/>
                <a:gridCol w="1109520"/>
                <a:gridCol w="1111320"/>
                <a:gridCol w="1109880"/>
              </a:tblGrid>
              <a:tr h="16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ратные </a:t>
            </a:r>
            <a:r>
              <a:rPr b="1" i="1" lang="ru-RU" sz="2700" spc="-1" strike="noStrike">
                <a:solidFill>
                  <a:srgbClr val="ff0000"/>
                </a:solidFill>
                <a:latin typeface="Lucida Sans Unicode"/>
              </a:rPr>
              <a:t>2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 318, 120, 62, 48, 80, 5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ратные </a:t>
            </a:r>
            <a:r>
              <a:rPr b="1" i="1" lang="ru-RU" sz="2700" spc="-1" strike="noStrike">
                <a:solidFill>
                  <a:srgbClr val="ff0000"/>
                </a:solidFill>
                <a:latin typeface="Lucida Sans Unicode"/>
              </a:rPr>
              <a:t>5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 205, 120, 45, 125, 175, 80, 5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ратные </a:t>
            </a:r>
            <a:r>
              <a:rPr b="1" i="1" lang="ru-RU" sz="2700" spc="-1" strike="noStrike">
                <a:solidFill>
                  <a:srgbClr val="ff0000"/>
                </a:solidFill>
                <a:latin typeface="Lucida Sans Unicode"/>
              </a:rPr>
              <a:t>10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 120, 80, 5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ратные </a:t>
            </a:r>
            <a:r>
              <a:rPr b="1" i="1" lang="ru-RU" sz="2700" spc="-1" strike="noStrike">
                <a:solidFill>
                  <a:srgbClr val="ff0000"/>
                </a:solidFill>
                <a:latin typeface="Lucida Sans Unicode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 120, 48, 8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ратные </a:t>
            </a:r>
            <a:r>
              <a:rPr b="1" i="1" lang="ru-RU" sz="2700" spc="-1" strike="noStrike">
                <a:solidFill>
                  <a:srgbClr val="ff0000"/>
                </a:solidFill>
                <a:latin typeface="Lucida Sans Unicode"/>
              </a:rPr>
              <a:t>25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 125, 175, 5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и кратны ни 2, ни 5, ни 10, ни 4, ни 25:    </a:t>
            </a:r>
            <a:r>
              <a:rPr b="1" i="1" lang="ru-RU" sz="2700" spc="-1" strike="noStrike">
                <a:solidFill>
                  <a:srgbClr val="008000"/>
                </a:solidFill>
                <a:latin typeface="Lucida Sans Unicode"/>
              </a:rPr>
              <a:t>17,  33,  121,  9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аны цифры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8, 2, 9, 1, 6, 7, 0, 3, 5, 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Из этих цифр нужно зачеркнуть три таким образом, чтобы оставшиеся составили максимальное число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Перестановка цифр не допускается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Lucida Sans Unicode"/>
              </a:rPr>
              <a:t>9670354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237960" y="281160"/>
            <a:ext cx="84250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0:43:50Z</dcterms:created>
  <dc:creator>Смирнова  Людмила  Викторовна</dc:creator>
  <dc:description/>
  <dc:language>en-US</dc:language>
  <cp:lastModifiedBy>Пользователь Windows</cp:lastModifiedBy>
  <dcterms:modified xsi:type="dcterms:W3CDTF">2019-03-15T00:34:44Z</dcterms:modified>
  <cp:revision>20</cp:revision>
  <dc:subject/>
  <dc:title>Признаки  делимости   на 2, 5, 10, 4, 25</dc:title>
</cp:coreProperties>
</file>