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C44A-5FCF-4347-B4D8-DF8909289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8AE0-3CCD-42B1-B1D4-F9BAC854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E7C7-1B19-4676-BB34-7EA988A3E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54A9-3F78-459E-B9FA-CB699C668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955E-4416-4A95-B2AB-1E147FB4A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38DD-B519-437E-9A24-28E40F20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0DB4-B80E-4B03-B708-9E689AF4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0EAE-7AFA-473E-A356-66A893BB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15CD-788E-4F6C-BB76-DD857BB5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C20C-04B3-4D95-B5FC-2C44ADC0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2950-B8F7-4D29-A05A-6E44A59F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3EF3-5651-4DC9-A3A2-028D0F5E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22E1-8989-4924-A5F5-E3806D47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C6B3-CC5A-46F3-B6FD-14FFEC2D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CD13-1E9F-4ABE-87EF-EB2B8DD3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8BFC-D189-4AE0-8F7B-95F44BF8E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A0C0-82F0-4154-B74D-75A6B05DC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30939-E546-4605-92A6-02F73F155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8FC2A-F4BA-4152-9EB6-66958B57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FF032-20B2-4625-9857-91C4E6EB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E4DE6-9D5B-477B-A074-7F5392EB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E82C5-A9C9-4ABB-ADBB-2D1D1B3C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50AA-58AC-4F83-B555-A4E64202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E2EB7-DFA5-4FEC-9ED6-A3ADC8F3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4E654-99FC-4DBB-BEEB-E3E9FFAD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FD64D-8EAF-45F3-87C0-3FA55BAE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B33C5-C35B-4930-BBED-372F0015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DB3AD-DBE1-43E8-8FE2-D7DCABB1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E15CE-7D1B-49B3-B2FB-BA75031D2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1E33E-E694-49DF-A302-62E59360C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01FDB-0183-416C-9A6E-73D640011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A191D-23F6-4506-9838-F01F66C4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E1FAB-8B5A-4562-B754-0A0ADFB0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46AE-9928-4959-B1ED-FC6C83D3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5FA16-9F2A-44BE-AD58-161FD589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52DCA-3582-410F-95ED-B7D55E6F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BA4AE-2853-4CA1-A206-E377683D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F5723-988A-4297-A4DB-40F244A9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F7A09-32A4-4FBA-A4A3-01435B04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990F2-41CD-40E9-85FD-EB4BDD6B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9DB56-2913-4529-8E4D-10432ACF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7234A-782C-448B-B94B-F25A529F4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E81BC-2DE1-4585-A28F-D399E305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50D67-8637-4EDD-8CFD-8A104A969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EA67-F19C-4FB7-949F-4CC3D9B3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B681D-D034-438C-9BF1-3417E876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44BF1-953D-42F2-9111-E1773CE7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7DA4E-7811-4DFD-9EC7-BA1C2883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088E3-2CB9-454D-BA50-C9309E2A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18B39-D789-4762-9455-43AA1AA8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FC00D-C0B4-4607-8AD7-9263DDF6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448B9-7FF3-4E40-ABF4-A955CE43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E17F4-955F-4A8B-BCC6-C7FC1048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3DEBF-1BB4-4F1F-A49F-FD9819CA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27888-E6BB-473B-A850-20F40CB3C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1CAC-D070-42C2-A90F-366C6D53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948C2-99F6-422E-AD79-7CCB44882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3DC95-F78C-4B29-8A04-178C94DCE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188C3-4F5B-4D4F-8BD8-26D3615F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9F6D2-7FBA-4668-8B44-1417AE7E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3C6AA-2D1E-4550-8E7D-F6A86C7C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C5EC4-26E5-4885-AFD4-7F6E03BC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988B7-03E4-40F3-A768-A47E4C58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5518E-AEDB-4137-851E-D50EEEA4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62D7B-C117-4E76-8BCD-1E53098F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B5129-7A1F-4228-911D-660698D7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67C8-3ED0-467F-96FB-3A515032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EF3CE-A1A4-4196-B0CB-2761FDE8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A00CC-A255-4327-B433-0366A2874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8EC7D-EC54-4073-BB53-C3E30F124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30ADE-6709-460E-9DD7-A8C741E57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A298C-3A03-40A3-A34E-3723CE8C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91529-3889-4C97-AB2D-7D6CA178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4F40C-8281-410F-BD8E-FADE3241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5F9BA-DB66-426A-BA72-A40EEFD8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5D25F-5208-4C95-82F5-5F509D2E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E43D7-23DE-4726-B7D0-6A2F9944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8B85-8E73-4FD7-A881-0B2913DE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8DFFB-FAC4-4F4E-91F6-3BB5ECC8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C4223-ECAA-4B2B-9547-173561C8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DB82A-0FDA-4785-BE7D-1F56A5EC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627F6-EB44-4F22-9BBD-4D926E606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0482C-37E0-477D-83AA-D5F04EE4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87A04-B9C3-4A9B-B735-7DC98C0E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30C02-1F08-4642-B2C0-7E154746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BF34E-7D96-43EB-9545-3C1A951D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6B3C6-A5B6-4C45-8B3F-51C8CDF1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38287-56B7-4BBD-93D5-C8FAF8DC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B69C-AD00-4DE9-92AC-EE12CB82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99C7A-2590-48DA-B3B9-C26DBAEA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6F990-9339-40EA-9883-A9CC5082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A9D9B-0A45-4962-8AB0-FD30251C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FF569-5436-4185-8F2E-896E62EC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F7F6F-91E2-4A55-BD6F-FE48BB40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FE61E-A593-425C-A27F-D815F634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58F80-1A0E-40BD-9EC0-850D50559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46ED-78BF-4C00-BBFB-686CC76EE42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C3BD-CF08-4D01-937F-CC420BE12C0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A721-AFA2-45C8-82E9-9071C1DF87A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1908-55EF-42C2-9525-A75A9DD0EE1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6974-D6D1-44B8-A53B-C7875221B29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30E3-D74C-4F31-9708-D41707C60DC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C5BB-0729-40B5-A8EE-6383B2F9EAF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15D1-FE56-4A24-BD80-6CB238C6C9B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685800" y="9288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ff0000"/>
                </a:solidFill>
                <a:latin typeface="Lucida Sans Unicode"/>
              </a:rPr>
              <a:t>«Числа правят миром!»</a:t>
            </a:r>
            <a:endParaRPr b="0" lang="en-US" sz="5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ff0000"/>
                </a:solidFill>
                <a:latin typeface="Lucida Sans Unicode"/>
              </a:rPr>
              <a:t>                     </a:t>
            </a:r>
            <a:r>
              <a:rPr b="0" i="1" lang="ru-RU" sz="4100" spc="-1" strike="noStrike">
                <a:solidFill>
                  <a:srgbClr val="ff0000"/>
                </a:solidFill>
                <a:latin typeface="Lucida Sans Unicode"/>
              </a:rPr>
              <a:t>Пифагор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57168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В получившемся числе зачеркните три цифры таким образом, чтобы число являлось максимальным и, кроме того было кратны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«2» 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«5» 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«10» 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«4»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«25» -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Lucida Sans Unicode"/>
              </a:rPr>
              <a:t>«2»  -  9674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Lucida Sans Unicode"/>
              </a:rPr>
              <a:t>«5»  -  9675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Lucida Sans Unicode"/>
              </a:rPr>
              <a:t>«10»  - 9670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Lucida Sans Unicode"/>
              </a:rPr>
              <a:t>«4»  -  9604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Lucida Sans Unicode"/>
              </a:rPr>
              <a:t>«25»  - 9675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шите уравнения и определите каким признакам делимости удовлетворяют корни уравнений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5у + 50 = 17у + 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 =                делится на  _______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7х – 15 = 3х + 4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х =                делится на  _______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8х – 17 = 3(х – 35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х =               делится на ________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9(х – 5) = 7(х + 5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х =               делится на ________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2у = 18у – 5(-20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 =               делится на ________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 = 2, делится на 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Х = 15, делится на 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Х = 8,  делится на 4 и на 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Х = 40, делится на 2; 4; 5; 1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 = 25,  делится на 5 и на 2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 ТЕПЕРЬ, РЕБЯТА, ВСТАЛИ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ЫСТРО РУКИ ВВЕРХ ПОДНЯЛИ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СТОРОНЫ, ВПЕРЕД, НАЗАД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ВЕРНУЛИСЬ ВПРАВО, ВЛЕВО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ИХО СЕЛИ, ВНОВЬ ЗА ДЕЛО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faecd"/>
                </a:solidFill>
                <a:latin typeface="Lucida Sans Unicode"/>
              </a:rPr>
              <a:t>1.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звестно, что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а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нечетные числа и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а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&gt;b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Какими числами четными или нечетными являются следующие числа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a  -  b</a:t>
            </a: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a b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2a + b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faecd"/>
                </a:solidFill>
                <a:latin typeface="Lucida Sans Unicode"/>
              </a:rPr>
              <a:t>2. </a:t>
            </a: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Укажите наибольшее натуральное число, кратное 5, находящееся в промежутке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[755</a:t>
            </a: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; 758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Четное, нечетное, нечетно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75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Число 145*0*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осстановить это число так, чтобы оно удовлетворяло признакам делимости на 2, 4, 5, 10, 2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5716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64646"/>
                </a:solidFill>
                <a:latin typeface="Lucida Sans Unicode"/>
              </a:rPr>
              <a:t>Сформулируйте признак делимости на 2?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64646"/>
                </a:solidFill>
                <a:latin typeface="Lucida Sans Unicode"/>
              </a:rPr>
              <a:t>Сформулируйте признак делимости на 5 и на 10?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64646"/>
                </a:solidFill>
                <a:latin typeface="Lucida Sans Unicode"/>
              </a:rPr>
              <a:t>Сформулируйте признак делимости на 4?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64646"/>
                </a:solidFill>
                <a:latin typeface="Lucida Sans Unicode"/>
              </a:rPr>
              <a:t>Сформулируйте признак делимости на 25?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* 5 * *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1" lang="ru-RU" sz="2400" spc="-1" strike="noStrike" u="sng" baseline="30000">
                <a:solidFill>
                  <a:srgbClr val="000000"/>
                </a:solidFill>
                <a:uFillTx/>
                <a:latin typeface="Lucida Sans Unicode"/>
              </a:rPr>
              <a:t>+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5 * 3 *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* 0 2 0 *       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Ответ должен быть кратным 5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_ * 0 2 * 9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5 5 * 3 *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* 5 3 *      Ответ должен быть кратным 2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реди данных чисел выберите те, которые при делении на 5 дают одинаковые остатки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36, 43, 58, 62, 69, 73, 87, 9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45700 (две последние цифры 0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572 +5633=10502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0269 – 55735 = 453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faecd"/>
                </a:solidFill>
                <a:latin typeface="Lucida Sans Unicode"/>
              </a:rPr>
              <a:t>3.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3, 58, 73, 98 (остаток 3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493560" y="133200"/>
            <a:ext cx="7785360" cy="109224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685800" y="1257480"/>
            <a:ext cx="7772400" cy="481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Lucida Sans Unicode"/>
              </a:rPr>
              <a:t>              </a:t>
            </a:r>
            <a:r>
              <a:rPr b="0" lang="ru-RU" sz="2000" spc="-1" strike="noStrike">
                <a:solidFill>
                  <a:srgbClr val="464646"/>
                </a:solidFill>
                <a:latin typeface="Lucida Sans Unicode"/>
              </a:rPr>
              <a:t>- Я ДОВОЛЕН СВОЕЙ РАБОТОЙ НА УРОК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Lucida Sans Unicode"/>
              </a:rPr>
              <a:t>               </a:t>
            </a:r>
            <a:r>
              <a:rPr b="0" lang="ru-RU" sz="2000" spc="-1" strike="noStrike">
                <a:solidFill>
                  <a:srgbClr val="464646"/>
                </a:solidFill>
                <a:latin typeface="Lucida Sans Unicode"/>
              </a:rPr>
              <a:t>- НА УРОКЕ Я РАБОТАЛ НЕ ПЛОХО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Lucida Sans Unicode"/>
              </a:rPr>
              <a:t>               </a:t>
            </a:r>
            <a:r>
              <a:rPr b="0" lang="ru-RU" sz="2000" spc="-1" strike="noStrike">
                <a:solidFill>
                  <a:srgbClr val="464646"/>
                </a:solidFill>
                <a:latin typeface="Lucida Sans Unicode"/>
              </a:rPr>
              <a:t>- НА УРОКЕ МНЕ БЫЛО ТРУДНО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Овал 5"/>
          <p:cNvSpPr/>
          <p:nvPr/>
        </p:nvSpPr>
        <p:spPr>
          <a:xfrm>
            <a:off x="785880" y="1357200"/>
            <a:ext cx="1000080" cy="1000080"/>
          </a:xfrm>
          <a:prstGeom prst="ellipse">
            <a:avLst/>
          </a:prstGeom>
          <a:solidFill>
            <a:srgbClr val="00b05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Овал 7"/>
          <p:cNvSpPr/>
          <p:nvPr/>
        </p:nvSpPr>
        <p:spPr>
          <a:xfrm>
            <a:off x="785880" y="2500200"/>
            <a:ext cx="1000080" cy="1000080"/>
          </a:xfrm>
          <a:prstGeom prst="ellipse">
            <a:avLst/>
          </a:prstGeom>
          <a:solidFill>
            <a:srgbClr val="ff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Овал 9"/>
          <p:cNvSpPr/>
          <p:nvPr/>
        </p:nvSpPr>
        <p:spPr>
          <a:xfrm>
            <a:off x="785880" y="3643200"/>
            <a:ext cx="985680" cy="928800"/>
          </a:xfrm>
          <a:prstGeom prst="ellipse">
            <a:avLst/>
          </a:prstGeom>
          <a:solidFill>
            <a:srgbClr val="ff0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682560" y="566640"/>
            <a:ext cx="8089920" cy="129852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685800" y="171432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-Ваше домашнее задание будет похоже на     задание 4 из нашей классной работы. Придумать выражения со звездочками, но чтобы ответы были кратны 2, 5, 10, 4, 25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1" descr=""/>
          <p:cNvPicPr/>
          <p:nvPr/>
        </p:nvPicPr>
        <p:blipFill>
          <a:blip r:embed="rId1"/>
          <a:stretch/>
        </p:blipFill>
        <p:spPr>
          <a:xfrm>
            <a:off x="365040" y="298440"/>
            <a:ext cx="8102520" cy="99396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685800" y="1357200"/>
            <a:ext cx="7772400" cy="345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ff"/>
                </a:solidFill>
                <a:latin typeface="Lucida Sans Unicode"/>
              </a:rPr>
              <a:t>Закрепить признаки делимости, развивать умение решать задания с применением признаков делимости, развивать умение логически мыслить, поддерживать в классе дружескую атмосферу, воспитывать чувство коллективизм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Заголовок 1" descr=""/>
          <p:cNvPicPr/>
          <p:nvPr/>
        </p:nvPicPr>
        <p:blipFill>
          <a:blip r:embed="rId1"/>
          <a:stretch/>
        </p:blipFill>
        <p:spPr>
          <a:xfrm>
            <a:off x="682560" y="1682640"/>
            <a:ext cx="778500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682560" y="208080"/>
            <a:ext cx="8053560" cy="10904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685800" y="142848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Используя  признаки делимости укажите из данных чисел те, которые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1.  Кратные 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2. Кратные 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3. Кратные 1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4. Кратные 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5. Кратные 2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428760" y="1357200"/>
          <a:ext cx="7772400" cy="3505320"/>
        </p:xfrm>
        <a:graphic>
          <a:graphicData uri="http://schemas.openxmlformats.org/drawingml/2006/table">
            <a:tbl>
              <a:tblPr/>
              <a:tblGrid>
                <a:gridCol w="1109520"/>
                <a:gridCol w="1111320"/>
                <a:gridCol w="1109520"/>
                <a:gridCol w="1111320"/>
                <a:gridCol w="1109520"/>
                <a:gridCol w="1111320"/>
                <a:gridCol w="1109880"/>
              </a:tblGrid>
              <a:tr h="167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ратные </a:t>
            </a:r>
            <a:r>
              <a:rPr b="1" i="1" lang="ru-RU" sz="2700" spc="-1" strike="noStrike">
                <a:solidFill>
                  <a:srgbClr val="ff0000"/>
                </a:solidFill>
                <a:latin typeface="Lucida Sans Unicode"/>
              </a:rPr>
              <a:t>2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: 318, 120, 62, 48, 80, 5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ратные </a:t>
            </a:r>
            <a:r>
              <a:rPr b="1" i="1" lang="ru-RU" sz="2700" spc="-1" strike="noStrike">
                <a:solidFill>
                  <a:srgbClr val="ff0000"/>
                </a:solidFill>
                <a:latin typeface="Lucida Sans Unicode"/>
              </a:rPr>
              <a:t>5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: 205, 120, 45, 125, 175, 80, 5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ратные </a:t>
            </a:r>
            <a:r>
              <a:rPr b="1" i="1" lang="ru-RU" sz="2700" spc="-1" strike="noStrike">
                <a:solidFill>
                  <a:srgbClr val="ff0000"/>
                </a:solidFill>
                <a:latin typeface="Lucida Sans Unicode"/>
              </a:rPr>
              <a:t>10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: 120, 80, 5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ратные </a:t>
            </a:r>
            <a:r>
              <a:rPr b="1" i="1" lang="ru-RU" sz="2700" spc="-1" strike="noStrike">
                <a:solidFill>
                  <a:srgbClr val="ff0000"/>
                </a:solidFill>
                <a:latin typeface="Lucida Sans Unicode"/>
              </a:rPr>
              <a:t>4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: 120, 48, 8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ратные </a:t>
            </a:r>
            <a:r>
              <a:rPr b="1" i="1" lang="ru-RU" sz="2700" spc="-1" strike="noStrike">
                <a:solidFill>
                  <a:srgbClr val="ff0000"/>
                </a:solidFill>
                <a:latin typeface="Lucida Sans Unicode"/>
              </a:rPr>
              <a:t>25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: 125, 175, 5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и кратны ни 2, ни 5, ни 10, ни 4, ни 25:    </a:t>
            </a:r>
            <a:r>
              <a:rPr b="1" i="1" lang="ru-RU" sz="2700" spc="-1" strike="noStrike">
                <a:solidFill>
                  <a:srgbClr val="008000"/>
                </a:solidFill>
                <a:latin typeface="Lucida Sans Unicode"/>
              </a:rPr>
              <a:t>17,  33,  121,  9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аны цифры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Lucida Sans Unicode"/>
              </a:rPr>
              <a:t>8, 2, 9, 1, 6, 7, 0, 3, 5, 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Из этих цифр нужно зачеркнуть три таким образом, чтобы оставшиеся составили максимальное число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Перестановка цифр не допускается.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Lucida Sans Unicode"/>
              </a:rPr>
              <a:t>9670354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Rectangle 2" descr=""/>
          <p:cNvPicPr/>
          <p:nvPr/>
        </p:nvPicPr>
        <p:blipFill>
          <a:blip r:embed="rId1"/>
          <a:stretch/>
        </p:blipFill>
        <p:spPr>
          <a:xfrm>
            <a:off x="237960" y="281160"/>
            <a:ext cx="84250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20:43:50Z</dcterms:created>
  <dc:creator>Смирнова  Людмила  Викторовна</dc:creator>
  <dc:description/>
  <dc:language>en-US</dc:language>
  <cp:lastModifiedBy>Пользователь Windows</cp:lastModifiedBy>
  <dcterms:modified xsi:type="dcterms:W3CDTF">2019-03-15T00:34:44Z</dcterms:modified>
  <cp:revision>20</cp:revision>
  <dc:subject/>
  <dc:title>Признаки  делимости   на 2, 5, 10, 4, 25</dc:title>
</cp:coreProperties>
</file>