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D389-D44C-4395-97BC-BB56CCCD72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0FB1-6509-46ED-928D-0038201DAD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468-856E-45F2-B9BB-1F8DD715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7E10-34B1-4AC5-A80A-6615B72C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BD4-3C96-427D-A47A-8361BDA7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1BA-E313-4CAC-AB56-13EE1F9E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42E7-9DFB-43BB-B954-5DDA6445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F9EF-5EB7-416E-BCF9-5DBD923E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C82F-90DD-4C82-94DB-5B99394A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90D9-DC60-49E5-B6FD-A14D6654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2029-738F-476E-993D-D83503BC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4382-E5CC-4F74-A8D5-16D2B4FE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819A-3289-49D9-8291-2E3B5621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A08-7AE4-41C5-AFCC-22CB424A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5035-ABCB-4EC2-A5C8-8AC7E2D0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69FF-97AC-47AC-B29C-9D49ABE5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BC85-BFBF-4F91-9862-D715CDB1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40CC-8F2C-46D7-9222-651BEA44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66E7-F0FC-4B35-A950-454407F7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3A572-22B7-4991-9882-028A0683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86B71-7D2D-4C74-88AC-E05266D7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B4C10-42D6-4FD8-9D85-1CA26068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F53C-6550-44E5-86F6-93C84247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7FCA4-DEB2-42D7-9568-737D3DDF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AAF-AFCE-40EF-A57D-086B75BE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31CB-8388-4C47-85F4-29FAEABB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23910-FB7F-4D80-A08E-9EFFBFC8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C6A72-3726-427E-A175-9F3789D1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CCA20-B955-428D-A184-DAAF8739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E6BD-E53C-48FD-911E-00445B99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E36D-9221-40FC-9092-FEFEBB36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6C6D0-6002-472C-B68E-4622E82B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F25F2-CE7D-4BD4-A007-6A57F06A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36A7D-4EB6-43E2-BE78-5C6DD88E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4EC03-B3CE-469B-841E-B3659254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A9E-D207-44FF-9C50-B37518E3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F7B92-D226-4AEA-ADA7-5C41A528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47EB-F20C-46D3-9AFB-41680877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FA948-94D6-40ED-91FF-33B1F4C0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E82FC-7C0D-4896-9ED6-B4602742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A03A4-56F8-4A61-A382-18E6775B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7A51-49D1-41D8-AB67-812A069F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07360-EF63-4F7F-92D3-5EB9C62C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445AA-098E-4DBC-95E4-1658950E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7275A-A1A6-4306-81C3-2941C2F5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C0293-3B59-4B04-A938-1035AF84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A66-45F5-4A7B-B0B9-6B4C312C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7A460-81DA-47DF-A0D3-E51E5D7E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12B0C-C3CE-4484-933E-BF42B793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8EE4C-F193-4C7E-8DCC-5B82D56D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A305E-4168-4FDD-8EA0-A7805575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F704D-077B-4685-AAC6-59CCD5FD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5E851-008F-45AE-8641-D1104C8A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0B897-C046-42A4-8391-5955A6FE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E25AF-1030-4F24-A64F-19463F14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B903A-CA9B-4DA7-8C6C-78CE9BE2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53904-8E65-4EE2-A3B5-8F63FCA0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344-9D67-404D-841A-174FF22C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44689-A52E-4F1A-84D8-C7719E99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2CE-C281-442B-813D-6F2432D2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180-0A38-4D65-A7A6-14985740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548-4AD9-4050-95FA-23E784BB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3EC5-AB92-4FC8-980D-DF50F0287B4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56AE-D134-4217-BE3B-8BDBC40B9CB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C164-B08E-46B4-87E5-A1AE5E4CD54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DB98-69E6-48A3-9729-D48967E7DCC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2C8C-8B2F-43C6-9540-A91B3844D26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"/>
          <p:cNvSpPr/>
          <p:nvPr/>
        </p:nvSpPr>
        <p:spPr>
          <a:xfrm>
            <a:off x="270000" y="1341360"/>
            <a:ext cx="825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Либеральные реформ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"/>
              </a:rPr>
              <a:t>1860-1870-х год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350280" y="260280"/>
            <a:ext cx="54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2)Городская (1870 г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324000" y="1413000"/>
            <a:ext cx="7812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С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Введение городского само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"/>
          <p:cNvSpPr/>
          <p:nvPr/>
        </p:nvSpPr>
        <p:spPr>
          <a:xfrm>
            <a:off x="324000" y="371628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Распорядительные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органы: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городские ду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Исполнительные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органы: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городские уп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Во главе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Думы и Управы –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городской 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C:\Users\1\Documents\Новая папка\gorod.gif"/>
          <p:cNvPicPr/>
          <p:nvPr/>
        </p:nvPicPr>
        <p:blipFill>
          <a:blip r:embed="rId1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2"/>
          <p:cNvSpPr/>
          <p:nvPr/>
        </p:nvSpPr>
        <p:spPr>
          <a:xfrm>
            <a:off x="539640" y="1484280"/>
            <a:ext cx="8209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Компетенция городского само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 только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хозяйственны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 не имели политической силы и находились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под контролем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губерн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385920" y="333360"/>
            <a:ext cx="52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3)Судебная (1864 г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6775920" y="616572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.И.Зару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24000" y="765000"/>
            <a:ext cx="7777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утверждены новые Судебные уст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 новые формы судоустройства и судо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Картинки по запросу зарудный с и"/>
          <p:cNvPicPr/>
          <p:nvPr/>
        </p:nvPicPr>
        <p:blipFill>
          <a:blip r:embed="rId1"/>
          <a:stretch/>
        </p:blipFill>
        <p:spPr>
          <a:xfrm>
            <a:off x="6327720" y="2944800"/>
            <a:ext cx="2755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C:\Users\1\Documents\Новая папка\ооо.jpg"/>
          <p:cNvPicPr/>
          <p:nvPr/>
        </p:nvPicPr>
        <p:blipFill>
          <a:blip r:embed="rId1"/>
          <a:stretch/>
        </p:blipFill>
        <p:spPr>
          <a:xfrm>
            <a:off x="1835280" y="0"/>
            <a:ext cx="568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1042920" y="26028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судопроизво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611280" y="1125360"/>
            <a:ext cx="8532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венство всех перед зак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яз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висимость и несменяемость су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ность некоторых судебных орг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зделение судебной и административной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езумпция невино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здание суда присяж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чреждена адвок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4) Реформы в области образования и цензуры (1863-186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"/>
          <p:cNvSpPr/>
          <p:nvPr/>
        </p:nvSpPr>
        <p:spPr>
          <a:xfrm>
            <a:off x="395280" y="112536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mbria"/>
              </a:rPr>
              <a:t>Суть: изменение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539640" y="1844640"/>
            <a:ext cx="73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увеличение сети начальных и средних учре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реорганизована система среднего образования (классические и реальные гимназ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расширение  автономии университ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демократизация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возникновение Высших женских к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539640" y="558972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1865 – «Временные правила» - упразднение предварительной ценз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Вертикальный свиток 3"/>
          <p:cNvGrpSpPr/>
          <p:nvPr/>
        </p:nvGrpSpPr>
        <p:grpSpPr>
          <a:xfrm>
            <a:off x="701640" y="304920"/>
            <a:ext cx="7454880" cy="6297480"/>
            <a:chOff x="701640" y="304920"/>
            <a:chExt cx="7454880" cy="6297480"/>
          </a:xfrm>
        </p:grpSpPr>
        <p:pic>
          <p:nvPicPr>
            <p:cNvPr id="295" name="Вертикальный свиток 3" descr=""/>
            <p:cNvPicPr/>
            <p:nvPr/>
          </p:nvPicPr>
          <p:blipFill>
            <a:blip r:embed="rId1"/>
            <a:stretch/>
          </p:blipFill>
          <p:spPr>
            <a:xfrm>
              <a:off x="701640" y="304920"/>
              <a:ext cx="7454880" cy="629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530360" y="1106640"/>
              <a:ext cx="5796000" cy="50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Cambria"/>
                </a:rPr>
                <a:t>ПРОГИМНАЗИ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mbria"/>
                </a:rPr>
                <a:t>общеобразовательное учреждение.  появлялись в городах, где не было гимназий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mbria"/>
                </a:rPr>
                <a:t>В прогимназии было четыре класса образования, соответствовавших четырём младшим классам гимназии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24000" y="1413000"/>
          <a:ext cx="8424720" cy="5003640"/>
        </p:xfrm>
        <a:graphic>
          <a:graphicData uri="http://schemas.openxmlformats.org/drawingml/2006/table">
            <a:tbl>
              <a:tblPr/>
              <a:tblGrid>
                <a:gridCol w="2808000"/>
                <a:gridCol w="3313080"/>
                <a:gridCol w="2303640"/>
              </a:tblGrid>
              <a:tr h="10760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одители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лассические гимназ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еальные училищ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воряне и чиновни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п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уховные 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рестья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Rectangle 1"/>
          <p:cNvSpPr/>
          <p:nvPr/>
        </p:nvSpPr>
        <p:spPr>
          <a:xfrm>
            <a:off x="611280" y="24480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учащихся в 1874 г. (в процент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8" descr="Картинки по запросу д а милютин"/>
          <p:cNvPicPr/>
          <p:nvPr/>
        </p:nvPicPr>
        <p:blipFill>
          <a:blip r:embed="rId1"/>
          <a:stretch/>
        </p:blipFill>
        <p:spPr>
          <a:xfrm>
            <a:off x="6291360" y="3144960"/>
            <a:ext cx="2388960" cy="371952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"/>
          <p:cNvSpPr/>
          <p:nvPr/>
        </p:nvSpPr>
        <p:spPr>
          <a:xfrm>
            <a:off x="530280" y="260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5) Военная реформа (1861-187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2"/>
          <p:cNvSpPr/>
          <p:nvPr/>
        </p:nvSpPr>
        <p:spPr>
          <a:xfrm>
            <a:off x="324000" y="1052640"/>
            <a:ext cx="65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ведение новых воинских уста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сширена сеть военно-учебных заведений (Военно-юридическая и Морская Академ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здана система военных окру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существлено перевооружение ар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ведена всеобщая воинская повинность (с 1 января 1874 г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"/>
          <p:cNvSpPr/>
          <p:nvPr/>
        </p:nvSpPr>
        <p:spPr>
          <a:xfrm>
            <a:off x="6684840" y="609300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.А.Милю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684360" y="5013360"/>
            <a:ext cx="2808000" cy="93672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муж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2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125360"/>
            <a:ext cx="77724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mbria"/>
              </a:rPr>
              <a:t>Насколько либеральными были реформы 1860-1870-х годов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рок службы зависел от уровня образования призывник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206064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 начальным образованием (4 года)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о средним образованием (1,5 года)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 высшим образованием (6 месяцев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4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mbria"/>
              </a:rPr>
              <a:t>Насколько либеральными были реформы 1860-1870-х годов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1)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mbria"/>
              </a:rPr>
              <a:t>Индивидуальное сообщение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«Личность Александра </a:t>
            </a:r>
            <a:r>
              <a:rPr b="0" lang="fi-FI" sz="3600" spc="-1" strike="noStrike">
                <a:solidFill>
                  <a:srgbClr val="000000"/>
                </a:solidFill>
                <a:latin typeface="Perpetua"/>
              </a:rPr>
              <a:t>II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2) Задание на выбор: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А) Составить кроссворд с новыми терминами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*Б) Найти мнения ученых, историков о реформах 1860-1870- х годов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26920" y="1916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mbria"/>
              </a:rPr>
              <a:t>С чем были связаны грандиозные преобразования во многих отраслях?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318600" y="260280"/>
            <a:ext cx="50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Земская (1864 г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6595560" y="60930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А.Милю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324000" y="692280"/>
            <a:ext cx="8424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С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оздание в уездах и губерниях выбо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рганов местного самоуправления (земст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468360" y="3500280"/>
            <a:ext cx="622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Распорядительные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земские органы: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об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Исполнительные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земские органы: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уп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155520" y="-1608120"/>
            <a:ext cx="268596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155520" y="-1608120"/>
            <a:ext cx="268596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Картинки по запросу н а милютин"/>
          <p:cNvPicPr/>
          <p:nvPr/>
        </p:nvPicPr>
        <p:blipFill>
          <a:blip r:embed="rId1"/>
          <a:stretch/>
        </p:blipFill>
        <p:spPr>
          <a:xfrm>
            <a:off x="6364440" y="3133800"/>
            <a:ext cx="2315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3132000" y="692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8"/>
          <p:cNvSpPr/>
          <p:nvPr/>
        </p:nvSpPr>
        <p:spPr>
          <a:xfrm>
            <a:off x="1835280" y="530064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урия городских обы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9"/>
          <p:cNvSpPr/>
          <p:nvPr/>
        </p:nvSpPr>
        <p:spPr>
          <a:xfrm>
            <a:off x="324000" y="530064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урия землевладель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0"/>
          <p:cNvSpPr/>
          <p:nvPr/>
        </p:nvSpPr>
        <p:spPr>
          <a:xfrm>
            <a:off x="4572000" y="5445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у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ресть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4286880" y="450864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ельский с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2"/>
          <p:cNvSpPr/>
          <p:nvPr/>
        </p:nvSpPr>
        <p:spPr>
          <a:xfrm>
            <a:off x="4162680" y="256536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Уездный съе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3"/>
          <p:cNvSpPr/>
          <p:nvPr/>
        </p:nvSpPr>
        <p:spPr>
          <a:xfrm>
            <a:off x="4215600" y="350028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олостной с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4"/>
          <p:cNvSpPr/>
          <p:nvPr/>
        </p:nvSpPr>
        <p:spPr>
          <a:xfrm>
            <a:off x="539640" y="119700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ем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5"/>
          <p:cNvSpPr/>
          <p:nvPr/>
        </p:nvSpPr>
        <p:spPr>
          <a:xfrm>
            <a:off x="6372360" y="1268280"/>
            <a:ext cx="243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емские уп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6"/>
          <p:cNvSpPr/>
          <p:nvPr/>
        </p:nvSpPr>
        <p:spPr>
          <a:xfrm>
            <a:off x="2228760" y="260280"/>
            <a:ext cx="45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Земские орг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Прямая со стрелкой 18"/>
          <p:cNvCxnSpPr/>
          <p:nvPr/>
        </p:nvCxnSpPr>
        <p:spPr>
          <a:xfrm flipH="1">
            <a:off x="2410560" y="836280"/>
            <a:ext cx="505800" cy="43236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2" name="Прямая со стрелкой 19"/>
          <p:cNvCxnSpPr/>
          <p:nvPr/>
        </p:nvCxnSpPr>
        <p:spPr>
          <a:xfrm>
            <a:off x="6156000" y="836640"/>
            <a:ext cx="440280" cy="44208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3" name="Прямая со стрелкой 23"/>
          <p:cNvCxnSpPr/>
          <p:nvPr/>
        </p:nvCxnSpPr>
        <p:spPr>
          <a:xfrm flipV="1">
            <a:off x="1186920" y="2421000"/>
            <a:ext cx="1080" cy="2737080"/>
          </a:xfrm>
          <a:prstGeom prst="straightConnector1">
            <a:avLst/>
          </a:prstGeom>
          <a:ln w="4428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4" name="Прямая со стрелкой 30"/>
          <p:cNvCxnSpPr/>
          <p:nvPr/>
        </p:nvCxnSpPr>
        <p:spPr>
          <a:xfrm flipV="1">
            <a:off x="2987280" y="2491560"/>
            <a:ext cx="1080" cy="2737800"/>
          </a:xfrm>
          <a:prstGeom prst="straightConnector1">
            <a:avLst/>
          </a:prstGeom>
          <a:ln w="4428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5" name="Прямая со стрелкой 33"/>
          <p:cNvCxnSpPr/>
          <p:nvPr/>
        </p:nvCxnSpPr>
        <p:spPr>
          <a:xfrm flipH="1" flipV="1">
            <a:off x="5435640" y="4941360"/>
            <a:ext cx="30600" cy="54648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266" name="Прямая со стрелкой 37"/>
          <p:cNvCxnSpPr/>
          <p:nvPr/>
        </p:nvCxnSpPr>
        <p:spPr>
          <a:xfrm flipV="1">
            <a:off x="5435280" y="3933000"/>
            <a:ext cx="1080" cy="57564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267" name="Прямая со стрелкой 40"/>
          <p:cNvCxnSpPr>
            <a:endCxn id="256" idx="2"/>
          </p:cNvCxnSpPr>
          <p:nvPr/>
        </p:nvCxnSpPr>
        <p:spPr>
          <a:xfrm flipV="1">
            <a:off x="5435280" y="3026880"/>
            <a:ext cx="37080" cy="54648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268" name="Прямая со стрелкой 44"/>
          <p:cNvCxnSpPr/>
          <p:nvPr/>
        </p:nvCxnSpPr>
        <p:spPr>
          <a:xfrm flipH="1" flipV="1">
            <a:off x="3347640" y="2060280"/>
            <a:ext cx="1512000" cy="505440"/>
          </a:xfrm>
          <a:prstGeom prst="straightConnector1">
            <a:avLst/>
          </a:prstGeom>
          <a:ln w="38160">
            <a:solidFill>
              <a:srgbClr val="af340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684360" y="1700280"/>
          <a:ext cx="7848360" cy="38415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1217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9 губерн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ездные собр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убернские собр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дворян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1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4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п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рестьян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8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ч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,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1"/>
          <p:cNvSpPr/>
          <p:nvPr/>
        </p:nvSpPr>
        <p:spPr>
          <a:xfrm>
            <a:off x="250920" y="622800"/>
            <a:ext cx="84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ловный состав земских гласных в 1865—1867 гг. (в процент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468360" y="333360"/>
            <a:ext cx="867564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entury Gothic"/>
              </a:rPr>
              <a:t>Зем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 занимались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хозяйственными вопросами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местного 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не имели политической си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 находились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под контролем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губерн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финансовая опора –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местные сб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- куриальная система строилась по сословному призна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476360" y="609300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Мясоедов. «Земство обеда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Картинки по запросу земство обедает"/>
          <p:cNvPicPr/>
          <p:nvPr/>
        </p:nvPicPr>
        <p:blipFill>
          <a:blip r:embed="rId1"/>
          <a:stretch/>
        </p:blipFill>
        <p:spPr>
          <a:xfrm>
            <a:off x="730080" y="1052640"/>
            <a:ext cx="772956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476360" y="609300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ск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Картинки по запросу земская школа"/>
          <p:cNvPicPr/>
          <p:nvPr/>
        </p:nvPicPr>
        <p:blipFill>
          <a:blip r:embed="rId1"/>
          <a:stretch/>
        </p:blipFill>
        <p:spPr>
          <a:xfrm>
            <a:off x="1042920" y="1133640"/>
            <a:ext cx="731700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8:51:34Z</dcterms:created>
  <dc:creator>1</dc:creator>
  <dc:description/>
  <dc:language>en-US</dc:language>
  <cp:lastModifiedBy>Оля</cp:lastModifiedBy>
  <dcterms:modified xsi:type="dcterms:W3CDTF">2019-03-25T18:10:02Z</dcterms:modified>
  <cp:revision>68</cp:revision>
  <dc:subject/>
  <dc:title>Слайд 1</dc:title>
</cp:coreProperties>
</file>