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123-7368-4AF7-87C2-57246442AA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8CD-28FE-4D1D-AE94-63B2B05B3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2C9-8AF0-4572-8E38-03B03CCF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387-C993-477C-9B79-6D71B88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6D0-3E72-4082-862B-6945C75A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D54-FB29-4528-97AE-705AF7F0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06F6-94F2-4E61-A652-6F9DC69B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CA89-2CDE-4A3D-ADAB-A3DBF4E3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4C9-4FE2-46A2-B188-F04F29A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DD60-2223-40B9-A3E2-2877F0CA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952-9CFE-4FD7-892B-BBFC5C76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50A2-6CFA-44F8-9478-116A6AD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BD0-CFE5-4E0B-B584-3FA1A33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B50-9C6B-4753-B7DD-309A612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63CA-D749-433A-B7EA-C4833AE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E10A-D4DE-4796-97AD-45D1872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B87C-D6AF-4CF1-8B32-885AA05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695-9370-4E3E-9851-8DB0B205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0F1-6560-413E-A689-921E5CB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3884-2A26-4299-B6FE-FC75B4AA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FE09-021C-4D13-8F17-1727B87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2C7E-8DF8-49F9-9F8D-3FB6DA3D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B745-7657-495C-A9A3-4CE7B84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FE2B-8550-49AC-8F49-0D70D1B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2BD-45FC-4F05-B0D0-88260786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6173-8266-4FB3-A806-897D6235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F2B9-9B57-4C52-B288-CD23AD5C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D06C-4B2B-401F-A690-966D509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93B4-7EA2-4082-8680-24C1BB1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19E0-1F8D-4EE8-BF79-037C1687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5D1A-8E49-4EC1-83EE-B27A1F13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A8B4-927C-42EC-8224-6F6775A0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3554-9FBB-46EE-991B-B3D6CB0F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AEC2-B1A1-4BD6-91DB-941FC89A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747F-7EDD-487C-827C-8B79510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5E9-3C46-4892-A4FB-7640DE8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8173-1B41-4F30-8019-DAD28C81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AE1F-E8D4-4BBF-94D1-EE0D8D6F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D506-6EF8-4304-83C1-F36E1BDA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EAE8-33C6-47D7-8F86-43E5943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8002-564D-426B-8AD3-9A0E9D0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1D21-CB6C-40C1-B7CB-09E27C7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B61E-494A-452F-8529-3804D844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9027-299D-4B90-82DE-73780310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0BA8-E877-4853-A01B-A02490C3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9608-81B3-4683-9E4A-BFDD0F0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86A-2F46-4280-8B7C-438D8E9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82A8-7132-4940-BF34-824FA632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3E34-FFB6-4D85-A257-823FE34E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592A-BD70-4EE6-9110-415C06D8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1804-8738-4021-A815-1C2A3CF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2334-1873-4595-A18A-5F3CE5B7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706F-0237-4CA3-9F83-0F76A07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A21D-0890-4664-912F-A5C3BF4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099F-0396-4B3E-8143-CD70955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0CCE-40EF-4ECA-95EF-67F784C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BA9E-4543-49C9-A452-C76F6A36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42A-7F61-45B1-B546-2C1F0BE6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1CCE-0860-4E29-A9D6-70CCA434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DD6-C6D4-47C7-9EA0-9D6FF411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9DF-5717-4E63-B782-F78D067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5A2-BA80-411D-AABD-70A29D3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E8D-7DA9-4BFD-B562-CD7AC3F0AB4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2A7-C255-49FC-B1E2-372AB241A71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3F3-3DDA-4E5C-AA45-9E35BDC7BE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127-F024-4BBC-87D1-7422BCC1AF8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BF4-B7C3-4675-818C-62B86B2B56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270000" y="1341360"/>
            <a:ext cx="825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Либеральные рефор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1860-1870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350280" y="26028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2)Городская (1870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24000" y="1413000"/>
            <a:ext cx="781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ведение городск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24000" y="3716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д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Во главе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умы и Управы –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ородской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1\Documents\Новая папка\gorod.gif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39640" y="1484280"/>
            <a:ext cx="8209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Компетенция город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тольк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е имели политической силы и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385920" y="33336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3)Судебн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6775920" y="616572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.И.Зару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24000" y="765000"/>
            <a:ext cx="777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утверждены новые Судебные уст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овые формы судоустройства и судо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Картинки по запросу зарудный с и"/>
          <p:cNvPicPr/>
          <p:nvPr/>
        </p:nvPicPr>
        <p:blipFill>
          <a:blip r:embed="rId1"/>
          <a:stretch/>
        </p:blipFill>
        <p:spPr>
          <a:xfrm>
            <a:off x="6327720" y="2944800"/>
            <a:ext cx="2755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1\Documents\Новая папка\ооо.jpg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1042920" y="26028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судопроиз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11280" y="112536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венство всех перед зак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яз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ость и несменяемость су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ность некоторых судебных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деление судебной и административ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зумпция невино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здание суда прися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чреждена адво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4) Реформы в области образования и цензуры (1863-18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395280" y="11253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Суть: изменение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539640" y="184464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увеличение сети начальных и средних учре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еорганизована система среднего образования (классические и реальные гимн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асширение  автономии университ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демократизация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возникновение Высших женских к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39640" y="558972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1865 – «Временные правила» - упразднение предварительной ценз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Вертикальный свиток 3"/>
          <p:cNvGrpSpPr/>
          <p:nvPr/>
        </p:nvGrpSpPr>
        <p:grpSpPr>
          <a:xfrm>
            <a:off x="701640" y="304920"/>
            <a:ext cx="7454880" cy="6297480"/>
            <a:chOff x="701640" y="304920"/>
            <a:chExt cx="7454880" cy="6297480"/>
          </a:xfrm>
        </p:grpSpPr>
        <p:pic>
          <p:nvPicPr>
            <p:cNvPr id="295" name="Вертикальный свиток 3" descr=""/>
            <p:cNvPicPr/>
            <p:nvPr/>
          </p:nvPicPr>
          <p:blipFill>
            <a:blip r:embed="rId1"/>
            <a:stretch/>
          </p:blipFill>
          <p:spPr>
            <a:xfrm>
              <a:off x="701640" y="304920"/>
              <a:ext cx="7454880" cy="62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530360" y="1106640"/>
              <a:ext cx="5796000" cy="50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ПРОГИМНАЗ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общеобразовательное учреждение.  появлялись в городах, где не было гимназ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В прогимназии было четыре класса образования, соответствовавших четырём младшим классам гимназии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24000" y="1413000"/>
          <a:ext cx="8424720" cy="5003640"/>
        </p:xfrm>
        <a:graphic>
          <a:graphicData uri="http://schemas.openxmlformats.org/drawingml/2006/table">
            <a:tbl>
              <a:tblPr/>
              <a:tblGrid>
                <a:gridCol w="2808000"/>
                <a:gridCol w="3313080"/>
                <a:gridCol w="2303640"/>
              </a:tblGrid>
              <a:tr h="107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одител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лассические гимназ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альные училищ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 и чиновн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уховные 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611280" y="2448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учащихся в 1874 г. (в процен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8" descr="Картинки по запросу д а милютин"/>
          <p:cNvPicPr/>
          <p:nvPr/>
        </p:nvPicPr>
        <p:blipFill>
          <a:blip r:embed="rId1"/>
          <a:stretch/>
        </p:blipFill>
        <p:spPr>
          <a:xfrm>
            <a:off x="6291360" y="3144960"/>
            <a:ext cx="2388960" cy="37195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530280" y="260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5) Военная реформа (1861-187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324000" y="1052640"/>
            <a:ext cx="65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ведение новых воинских уст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ширена сеть военно-учебных заведений (Военно-юридическая и Морская Академ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на система военных о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уществлено перевооружение ар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ведена всеобщая воинская повинность (с 1 января 1874 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6684840" y="60930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.А.Милю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84360" y="5013360"/>
            <a:ext cx="2808000" cy="9367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рок службы зависел от уровня образования призывник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206064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начальным образованием (4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 средним образованием (1,5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высшим образованием (6 месяцев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Индивидуальное сообщение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Личность Александра </a:t>
            </a:r>
            <a:r>
              <a:rPr b="0" lang="fi-FI" sz="3600" spc="-1" strike="noStrike">
                <a:solidFill>
                  <a:srgbClr val="000000"/>
                </a:solidFill>
                <a:latin typeface="Perpetua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2) Задание на выбор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А) Составить кроссворд с новыми терминам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*Б) Найти мнения ученых, историков о реформах 1860-1870- х годо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92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С чем были связаны грандиозные преобразования во многих отраслях?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318600" y="260280"/>
            <a:ext cx="50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емск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595560" y="6093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324000" y="69228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здание в уездах и губерниях выб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рганов местного самоуправления (земст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68360" y="3500280"/>
            <a:ext cx="62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Картинки по запросу н а милютин"/>
          <p:cNvPicPr/>
          <p:nvPr/>
        </p:nvPicPr>
        <p:blipFill>
          <a:blip r:embed="rId1"/>
          <a:stretch/>
        </p:blipFill>
        <p:spPr>
          <a:xfrm>
            <a:off x="6364440" y="3133800"/>
            <a:ext cx="231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13200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1835280" y="5300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городских обы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324000" y="5300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землевладе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4572000" y="5445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ресть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4286880" y="450864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ельски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4162680" y="256536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ездный с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4215600" y="350028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лостно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539640" y="119700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5"/>
          <p:cNvSpPr/>
          <p:nvPr/>
        </p:nvSpPr>
        <p:spPr>
          <a:xfrm>
            <a:off x="6372360" y="1268280"/>
            <a:ext cx="24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уп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6"/>
          <p:cNvSpPr/>
          <p:nvPr/>
        </p:nvSpPr>
        <p:spPr>
          <a:xfrm>
            <a:off x="2228760" y="260280"/>
            <a:ext cx="45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Земские орг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18"/>
          <p:cNvCxnSpPr/>
          <p:nvPr/>
        </p:nvCxnSpPr>
        <p:spPr>
          <a:xfrm flipH="1">
            <a:off x="2410560" y="836280"/>
            <a:ext cx="505800" cy="43236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2" name="Прямая со стрелкой 19"/>
          <p:cNvCxnSpPr/>
          <p:nvPr/>
        </p:nvCxnSpPr>
        <p:spPr>
          <a:xfrm>
            <a:off x="6156000" y="836640"/>
            <a:ext cx="440280" cy="4420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3" name="Прямая со стрелкой 23"/>
          <p:cNvCxnSpPr/>
          <p:nvPr/>
        </p:nvCxnSpPr>
        <p:spPr>
          <a:xfrm flipV="1">
            <a:off x="1186920" y="2421000"/>
            <a:ext cx="1080" cy="273708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4" name="Прямая со стрелкой 30"/>
          <p:cNvCxnSpPr/>
          <p:nvPr/>
        </p:nvCxnSpPr>
        <p:spPr>
          <a:xfrm flipV="1">
            <a:off x="2987280" y="2491560"/>
            <a:ext cx="1080" cy="273780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5" name="Прямая со стрелкой 33"/>
          <p:cNvCxnSpPr/>
          <p:nvPr/>
        </p:nvCxnSpPr>
        <p:spPr>
          <a:xfrm flipH="1" flipV="1">
            <a:off x="5435640" y="4941360"/>
            <a:ext cx="3060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6" name="Прямая со стрелкой 37"/>
          <p:cNvCxnSpPr/>
          <p:nvPr/>
        </p:nvCxnSpPr>
        <p:spPr>
          <a:xfrm flipV="1">
            <a:off x="5435280" y="3933000"/>
            <a:ext cx="1080" cy="5756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7" name="Прямая со стрелкой 40"/>
          <p:cNvCxnSpPr>
            <a:endCxn id="256" idx="2"/>
          </p:cNvCxnSpPr>
          <p:nvPr/>
        </p:nvCxnSpPr>
        <p:spPr>
          <a:xfrm flipV="1">
            <a:off x="5435280" y="3026880"/>
            <a:ext cx="3708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 flipH="1" flipV="1">
            <a:off x="3347640" y="2060280"/>
            <a:ext cx="1512000" cy="5054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1700280"/>
          <a:ext cx="7848360" cy="38415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217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 губер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ездны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убернски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1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"/>
          <p:cNvSpPr/>
          <p:nvPr/>
        </p:nvSpPr>
        <p:spPr>
          <a:xfrm>
            <a:off x="250920" y="622800"/>
            <a:ext cx="84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ловный состав земских гласных в 1865—1867 гг. (в процен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68360" y="333360"/>
            <a:ext cx="86756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Зем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занима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ми вопросам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местн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не имели политической си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финансовая опора 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местные сб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куриальная система строилась по сословному призн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Мясоедов. «Земство обед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Картинки по запросу земство обедает"/>
          <p:cNvPicPr/>
          <p:nvPr/>
        </p:nvPicPr>
        <p:blipFill>
          <a:blip r:embed="rId1"/>
          <a:stretch/>
        </p:blipFill>
        <p:spPr>
          <a:xfrm>
            <a:off x="730080" y="1052640"/>
            <a:ext cx="77295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ск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Картинки по запросу земская школа"/>
          <p:cNvPicPr/>
          <p:nvPr/>
        </p:nvPicPr>
        <p:blipFill>
          <a:blip r:embed="rId1"/>
          <a:stretch/>
        </p:blipFill>
        <p:spPr>
          <a:xfrm>
            <a:off x="1042920" y="1133640"/>
            <a:ext cx="7317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8:51:34Z</dcterms:created>
  <dc:creator>1</dc:creator>
  <dc:description/>
  <dc:language>en-US</dc:language>
  <cp:lastModifiedBy>Оля</cp:lastModifiedBy>
  <dcterms:modified xsi:type="dcterms:W3CDTF">2019-03-25T18:10:02Z</dcterms:modified>
  <cp:revision>68</cp:revision>
  <dc:subject/>
  <dc:title>Слайд 1</dc:title>
</cp:coreProperties>
</file>