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4104-52EE-46A3-8BD8-F1EB406A0C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D2B-B606-4753-AA8E-57B199EB36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C0C-8F49-4768-A3CF-A0CBE5B8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E37-C7EA-45CA-BBEF-4143C54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2CB-4413-428C-90D6-C885A456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577-FF6F-4BEB-9FF9-AFF3FE6F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3F9-36E0-48B6-AD8F-01E85CAB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D839-48D5-4439-B3B0-B160382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AB71-F34B-4CDE-9691-B38DA327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CDF-F36D-43AC-8689-5245037D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00B3-6EA9-43BC-902B-4A0CF079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644C-07FD-4328-9D50-DDEEFF8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24CF-60D8-4D03-B47D-9BED70C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BC7-78B4-43B6-9DE9-9534663C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E85A-CF9B-4CAA-BFC9-E2A8B2D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B007-A243-4A91-A5A7-12B29A9D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875-D61A-45BC-91A6-CF97933B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622C-3CA6-4EAC-B059-BB2325AD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E3F9-7457-4D42-A61E-D92EBA13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9B08-6764-45DA-BBD5-B969E14A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113A-6578-43CF-A699-E3782570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79FE-D36A-496B-952B-9EDBFD18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AEDF-4B5D-46C5-96B5-1B50B98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6420-260C-43E5-90D8-4E6B7C85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5EA-769C-4B80-95EE-121465B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C025-4515-4BB1-8CC9-2ADB3C0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F385-0C0F-4BB7-A8E4-50D88739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1147C-3097-4696-8B92-1A17485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CD78-FDE0-4659-865B-584604D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88B3-BD72-425E-AF5B-4893912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0447-DFFE-47DB-ADA7-0915F281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F3E7-D5C9-47A0-B7A4-F2400E23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F91A-9525-420B-95F6-394648F4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50A6-89E7-4818-B51B-558B7A9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CF35-2FF2-42AF-9BDD-D5A121B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995-6304-4EF2-AE11-0DCB826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95AD-853D-42F9-B816-9D737604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9BC8-E1C8-455E-A21A-FED3DE5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D625-A170-4A94-97E5-5242CB22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FD6D-FDB6-47FE-80E9-7CF3120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3E33-2B63-4571-84C4-08FD3557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7951-B2DA-43A6-9F40-136F28E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8A46-D8A2-4F28-8712-5AFC859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9539-A022-4452-B562-7942812E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AFE6-1CB7-49E1-BD5B-47D74F20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2B33-A7E1-4C0B-9558-A38893B8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4D6-8B39-4821-A38D-AD0BD2D1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6E66C-FE89-4CD0-A24A-4B2233D4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5B9D-D0D6-4041-8C82-D81541C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5998A-FC88-4CEC-AA85-9CB638AA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F9C9D-6554-4415-BE32-A6E63DC5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8396-5E99-4886-A9D3-D16BFEE7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ACA0E-D318-4DE0-9CE5-38C5C97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7459-9914-4337-AAFC-7A09C32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E3A3-72E9-49C9-A7BB-349DB1D8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61A8F-68AC-4E70-AA12-D5947C48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75FB-57D1-4679-B039-6FE1F05D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41C-7EFB-4006-B3B5-1D629022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70698-7B5A-4315-9222-7EC2D72C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9A3-D9E2-4D61-8536-73B145A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34C-80DF-45E5-9B35-44A2E40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0E3-AE4F-4E67-AFFD-1B47736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9D47-75D4-4A13-8C91-783DAA0C632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9126-2B74-4C95-A4B1-773A21BE324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8EA9-A95D-4857-B8BC-50EEF67740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393C-4C03-472D-A9FB-A36EDC83B3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8A11-7A2D-41F3-A1FE-5F8306C89D3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270000" y="1341360"/>
            <a:ext cx="825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Либеральные рефор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1860-1870-х го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350280" y="260280"/>
            <a:ext cx="54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2)Городская (1870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24000" y="1413000"/>
            <a:ext cx="7812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ведение городск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324000" y="37162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споряд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ородские д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Ис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ородские у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Во главе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умы и Управы –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ородской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1\Documents\Новая папка\gorod.gif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2"/>
          <p:cNvSpPr/>
          <p:nvPr/>
        </p:nvSpPr>
        <p:spPr>
          <a:xfrm>
            <a:off x="539640" y="1484280"/>
            <a:ext cx="8209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Компетенция город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тольк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хозяйствен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е имели политической силы и находи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под контролем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уберн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385920" y="33336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3)Судебная (1864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6775920" y="616572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.И.Зару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24000" y="765000"/>
            <a:ext cx="7777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утверждены новые Судебные уст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овые формы судоустройства и судо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Картинки по запросу зарудный с и"/>
          <p:cNvPicPr/>
          <p:nvPr/>
        </p:nvPicPr>
        <p:blipFill>
          <a:blip r:embed="rId1"/>
          <a:stretch/>
        </p:blipFill>
        <p:spPr>
          <a:xfrm>
            <a:off x="6327720" y="2944800"/>
            <a:ext cx="2755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1\Documents\Новая папка\ооо.jpg"/>
          <p:cNvPicPr/>
          <p:nvPr/>
        </p:nvPicPr>
        <p:blipFill>
          <a:blip r:embed="rId1"/>
          <a:stretch/>
        </p:blipFill>
        <p:spPr>
          <a:xfrm>
            <a:off x="1835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1042920" y="26028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судопроиз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611280" y="1125360"/>
            <a:ext cx="85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венство всех перед зак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яз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ость и несменяемость су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ность некоторых судебных ор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деление судебной и административн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зумпция невино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здание суда прися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чреждена адвок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4) Реформы в области образования и цензуры (1863-18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395280" y="112536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Суть: изменение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539640" y="184464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увеличение сети начальных и средних учре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реорганизована система среднего образования (классические и реальные гимназ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расширение  автономии университ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демократизация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возникновение Высших женских к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539640" y="558972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1865 – «Временные правила» - упразднение предварительной ценз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Вертикальный свиток 3"/>
          <p:cNvGrpSpPr/>
          <p:nvPr/>
        </p:nvGrpSpPr>
        <p:grpSpPr>
          <a:xfrm>
            <a:off x="701640" y="304920"/>
            <a:ext cx="7454880" cy="6297480"/>
            <a:chOff x="701640" y="304920"/>
            <a:chExt cx="7454880" cy="6297480"/>
          </a:xfrm>
        </p:grpSpPr>
        <p:pic>
          <p:nvPicPr>
            <p:cNvPr id="295" name="Вертикальный свиток 3" descr=""/>
            <p:cNvPicPr/>
            <p:nvPr/>
          </p:nvPicPr>
          <p:blipFill>
            <a:blip r:embed="rId1"/>
            <a:stretch/>
          </p:blipFill>
          <p:spPr>
            <a:xfrm>
              <a:off x="701640" y="304920"/>
              <a:ext cx="7454880" cy="62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530360" y="1106640"/>
              <a:ext cx="5796000" cy="50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ПРОГИМНАЗ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общеобразовательное учреждение.  появлялись в городах, где не было гимназий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В прогимназии было четыре класса образования, соответствовавших четырём младшим классам гимназии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24000" y="1413000"/>
          <a:ext cx="8424720" cy="5003640"/>
        </p:xfrm>
        <a:graphic>
          <a:graphicData uri="http://schemas.openxmlformats.org/drawingml/2006/table">
            <a:tbl>
              <a:tblPr/>
              <a:tblGrid>
                <a:gridCol w="2808000"/>
                <a:gridCol w="3313080"/>
                <a:gridCol w="2303640"/>
              </a:tblGrid>
              <a:tr h="1076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одител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лассические гимназ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альные училищ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воряне и чиновн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п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уховные 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естья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1"/>
          <p:cNvSpPr/>
          <p:nvPr/>
        </p:nvSpPr>
        <p:spPr>
          <a:xfrm>
            <a:off x="611280" y="24480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учащихся в 1874 г. (в процент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8" descr="Картинки по запросу д а милютин"/>
          <p:cNvPicPr/>
          <p:nvPr/>
        </p:nvPicPr>
        <p:blipFill>
          <a:blip r:embed="rId1"/>
          <a:stretch/>
        </p:blipFill>
        <p:spPr>
          <a:xfrm>
            <a:off x="6291360" y="3144960"/>
            <a:ext cx="2388960" cy="37195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530280" y="260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5) Военная реформа (1861-187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"/>
          <p:cNvSpPr/>
          <p:nvPr/>
        </p:nvSpPr>
        <p:spPr>
          <a:xfrm>
            <a:off x="324000" y="1052640"/>
            <a:ext cx="65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ведение новых воинских уста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ширена сеть военно-учебных заведений (Военно-юридическая и Морская Академ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на система военных о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уществлено перевооружение ар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ведена всеобщая воинская повинность (с 1 января 1874 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6684840" y="60930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.А.Милю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84360" y="5013360"/>
            <a:ext cx="2808000" cy="9367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муж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2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Насколько либеральными были реформы 1860-1870-х годов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рок службы зависел от уровня образования призывник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206064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 начальным образованием (4 года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о средним образованием (1,5 года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 высшим образованием (6 месяцев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Насколько либеральными были реформы 1860-1870-х годов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1)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mbria"/>
              </a:rPr>
              <a:t>Индивидуальное сообщение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Личность Александра </a:t>
            </a:r>
            <a:r>
              <a:rPr b="0" lang="fi-FI" sz="3600" spc="-1" strike="noStrike">
                <a:solidFill>
                  <a:srgbClr val="000000"/>
                </a:solidFill>
                <a:latin typeface="Perpetua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2) Задание на выбор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А) Составить кроссворд с новыми терминам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*Б) Найти мнения ученых, историков о реформах 1860-1870- х годов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92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С чем были связаны грандиозные преобразования во многих отраслях?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318600" y="260280"/>
            <a:ext cx="50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емская (1864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595560" y="6093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А.Милю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324000" y="692280"/>
            <a:ext cx="842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здание в уездах и губерниях выбо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рганов местного самоуправления (земст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468360" y="3500280"/>
            <a:ext cx="62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споряд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земские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Ис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земские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55520" y="-1608120"/>
            <a:ext cx="268596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155520" y="-1608120"/>
            <a:ext cx="268596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Картинки по запросу н а милютин"/>
          <p:cNvPicPr/>
          <p:nvPr/>
        </p:nvPicPr>
        <p:blipFill>
          <a:blip r:embed="rId1"/>
          <a:stretch/>
        </p:blipFill>
        <p:spPr>
          <a:xfrm>
            <a:off x="6364440" y="3133800"/>
            <a:ext cx="2315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13200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1835280" y="5300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 городских обы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324000" y="53006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 землевладе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4572000" y="5445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ресть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4286880" y="450864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ельский 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4162680" y="256536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ездный съ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3"/>
          <p:cNvSpPr/>
          <p:nvPr/>
        </p:nvSpPr>
        <p:spPr>
          <a:xfrm>
            <a:off x="4215600" y="350028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лостной 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539640" y="119700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м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5"/>
          <p:cNvSpPr/>
          <p:nvPr/>
        </p:nvSpPr>
        <p:spPr>
          <a:xfrm>
            <a:off x="6372360" y="1268280"/>
            <a:ext cx="243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мские уп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6"/>
          <p:cNvSpPr/>
          <p:nvPr/>
        </p:nvSpPr>
        <p:spPr>
          <a:xfrm>
            <a:off x="2228760" y="260280"/>
            <a:ext cx="45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Земские орг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18"/>
          <p:cNvCxnSpPr/>
          <p:nvPr/>
        </p:nvCxnSpPr>
        <p:spPr>
          <a:xfrm flipH="1">
            <a:off x="2410560" y="836280"/>
            <a:ext cx="505800" cy="43236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2" name="Прямая со стрелкой 19"/>
          <p:cNvCxnSpPr/>
          <p:nvPr/>
        </p:nvCxnSpPr>
        <p:spPr>
          <a:xfrm>
            <a:off x="6156000" y="836640"/>
            <a:ext cx="440280" cy="4420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3" name="Прямая со стрелкой 23"/>
          <p:cNvCxnSpPr/>
          <p:nvPr/>
        </p:nvCxnSpPr>
        <p:spPr>
          <a:xfrm flipV="1">
            <a:off x="1186920" y="2421000"/>
            <a:ext cx="1080" cy="273708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4" name="Прямая со стрелкой 30"/>
          <p:cNvCxnSpPr/>
          <p:nvPr/>
        </p:nvCxnSpPr>
        <p:spPr>
          <a:xfrm flipV="1">
            <a:off x="2987280" y="2491560"/>
            <a:ext cx="1080" cy="273780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5" name="Прямая со стрелкой 33"/>
          <p:cNvCxnSpPr/>
          <p:nvPr/>
        </p:nvCxnSpPr>
        <p:spPr>
          <a:xfrm flipH="1" flipV="1">
            <a:off x="5435640" y="4941360"/>
            <a:ext cx="30600" cy="5464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6" name="Прямая со стрелкой 37"/>
          <p:cNvCxnSpPr/>
          <p:nvPr/>
        </p:nvCxnSpPr>
        <p:spPr>
          <a:xfrm flipV="1">
            <a:off x="5435280" y="3933000"/>
            <a:ext cx="1080" cy="5756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7" name="Прямая со стрелкой 40"/>
          <p:cNvCxnSpPr>
            <a:endCxn id="256" idx="2"/>
          </p:cNvCxnSpPr>
          <p:nvPr/>
        </p:nvCxnSpPr>
        <p:spPr>
          <a:xfrm flipV="1">
            <a:off x="5435280" y="3026880"/>
            <a:ext cx="37080" cy="5464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8" name="Прямая со стрелкой 44"/>
          <p:cNvCxnSpPr/>
          <p:nvPr/>
        </p:nvCxnSpPr>
        <p:spPr>
          <a:xfrm flipH="1" flipV="1">
            <a:off x="3347640" y="2060280"/>
            <a:ext cx="1512000" cy="5054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84360" y="1700280"/>
          <a:ext cx="7848360" cy="38415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217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9 губер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ездные собр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убернские собр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вор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1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п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есть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8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ч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"/>
          <p:cNvSpPr/>
          <p:nvPr/>
        </p:nvSpPr>
        <p:spPr>
          <a:xfrm>
            <a:off x="250920" y="622800"/>
            <a:ext cx="84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ловный состав земских гласных в 1865—1867 гг. (в процен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468360" y="333360"/>
            <a:ext cx="86756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entury Gothic"/>
              </a:rPr>
              <a:t>Зем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занима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хозяйственными вопросами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местного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не имели политической си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аходи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под контролем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уберн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финансовая опора –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местные сб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куриальная система строилась по сословному призна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476360" y="6093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Мясоедов. «Земство обед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Картинки по запросу земство обедает"/>
          <p:cNvPicPr/>
          <p:nvPr/>
        </p:nvPicPr>
        <p:blipFill>
          <a:blip r:embed="rId1"/>
          <a:stretch/>
        </p:blipFill>
        <p:spPr>
          <a:xfrm>
            <a:off x="730080" y="1052640"/>
            <a:ext cx="77295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76360" y="6093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ск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Картинки по запросу земская школа"/>
          <p:cNvPicPr/>
          <p:nvPr/>
        </p:nvPicPr>
        <p:blipFill>
          <a:blip r:embed="rId1"/>
          <a:stretch/>
        </p:blipFill>
        <p:spPr>
          <a:xfrm>
            <a:off x="1042920" y="1133640"/>
            <a:ext cx="73170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8:51:34Z</dcterms:created>
  <dc:creator>1</dc:creator>
  <dc:description/>
  <dc:language>en-US</dc:language>
  <cp:lastModifiedBy>Оля</cp:lastModifiedBy>
  <dcterms:modified xsi:type="dcterms:W3CDTF">2019-03-25T18:10:02Z</dcterms:modified>
  <cp:revision>68</cp:revision>
  <dc:subject/>
  <dc:title>Слайд 1</dc:title>
</cp:coreProperties>
</file>