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User" initials="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11-27T20:43:13.078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23FD-E5E9-4BF8-BB74-F14A1C8E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DADB-173A-4E73-9440-43222F8A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2D38-CD96-4F2D-9058-57558E8D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9614-3419-442A-86F6-BF3388CE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AB7D-7A1B-4EAF-BCB8-7B33EC22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4609-0101-4227-A73D-150654FC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4EA7-1C50-4E7B-91C0-206D9434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8854-CAA4-4EF0-B9FC-6D73550A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3F2C-9531-43FD-A0A7-7B3C1A35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E517-F8FB-46CD-8900-BC2946EC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EF2C-556A-4176-B71C-A0A5DA59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993E-0EC1-461D-94A2-646475F3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D4B3-D9ED-4ACF-BC37-6D064AD2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FAA1-9CCC-46A8-9F82-A2D3E2B9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8EA5-5024-4E8B-B9A2-CC3C8D69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DF42-AB6E-479A-B3C9-1218C876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5EDF-7D8F-488B-9B55-7AD81985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2BEE-B392-483C-9670-B200BD4F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3926-190B-4B92-A400-7DC2F01E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B2F9-A0C4-40DF-8A56-F10401FE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9DDA-9081-444D-9114-39EAB3D6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424-59BA-4331-9E08-00FFC734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F883-BE3D-4C7E-8E6A-5A943E69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599C-267F-4A43-8800-AA0F7D82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7957-90CB-4AA8-B756-AB747B39D8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E8F4-F902-46B0-ABC8-67484FF600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urgenev.org.ru/pic/ivan.jp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8000" y="692280"/>
            <a:ext cx="67788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«Тайна Евгения Базарова или последний романтик».</a:t>
            </a:r>
            <a:br>
              <a:rPr sz="4400"/>
            </a:b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По роману И.С.Тургенева  «Отцы и дети»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556000" y="3962520"/>
            <a:ext cx="56736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И.С.Тургенев. Художник С.Иванов- Райков. 1915. Х., м. 35х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500280"/>
            <a:ext cx="21225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Изменение мировоззрения героя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 я вот думаю: я вот лежу здесь под стогом… Узенькое местечко, которое я занимаю, до того крохотно в сравнении с остальным пространством, где меня нет и где дела до меня нет; и часть времени, которую мне удалось прожить, так ничтожна перед вечностью, где меня не было и не будет… А в этом атоме, в этой математической точке кровь обращается, мозг работает, чего-то хочет тоже… Что за безобразие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Изменение мировоззрения геро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ихорадка работы с него соскочила и заменилась тоскливой скукой и глухим беспокойством. Странная усталость замечалась во всех его движениях, даже походка его, твёрдая и стремительно смелая, изменилас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Как раскрывается Базаров в смерти?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Я нужен России… Нет, видно, не нужен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Со мной кончено. Попал под колесо. И выходит, что нечего думать о будущем. Старая штука смерть, а каждому внове… И ведь тоже думал: обломаю дел много, не умру, куда! задача есть, ведь я гигант! А теперь вся задача гиганта – как бы умереть прилично, хотя никому до этого дела нет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Как раскрывается Базаров в смерти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Он сделался человеком, вместо того чтобы быть воплощением теории нигилизма, и, как человек, он выразил желание видеть любимую женщину» (Д.И.Писаре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Умереть так, как умер Базаров, - всё равно что сделать великий подвиг…» (Д.И.Писаре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2" descr="Левитан"/>
          <p:cNvPicPr/>
          <p:nvPr/>
        </p:nvPicPr>
        <p:blipFill>
          <a:blip r:embed="rId1"/>
          <a:stretch/>
        </p:blipFill>
        <p:spPr>
          <a:xfrm>
            <a:off x="900000" y="404640"/>
            <a:ext cx="7620120" cy="5362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3"/>
          <p:cNvSpPr/>
          <p:nvPr/>
        </p:nvSpPr>
        <p:spPr>
          <a:xfrm>
            <a:off x="1187280" y="6165720"/>
            <a:ext cx="71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витан И. И.  «Над вечным покое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Какой же путь проходит Евгений Базаров?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гилизм геро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овь героя → изменение мировоззр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является мысль о ничтожестве человеческой жизни. Базаров ощущает себя «атомом», «математической точкой» перед лицом ве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ерть геро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Он сделался человеком, вместо того чтобы быть воплощением теории нигилизма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исарев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 чем тайна Базаров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967280" cy="5157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66760" y="5373720"/>
            <a:ext cx="848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заров – «герой времени, когда общественные силы гибели и возрождения,  старого и нового» противостоят друг другу, действуют одновре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BAZAROV"/>
          <p:cNvPicPr/>
          <p:nvPr/>
        </p:nvPicPr>
        <p:blipFill>
          <a:blip r:embed="rId1"/>
          <a:stretch/>
        </p:blipFill>
        <p:spPr>
          <a:xfrm>
            <a:off x="4716360" y="2421000"/>
            <a:ext cx="2387880" cy="338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Цель работы: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смотреть «тайну» Евгения Базарова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84360" y="2924280"/>
            <a:ext cx="37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Базаров остался для многих загадкой: я сам не могу хорошенько себе представить, как я его написал»      (И.С.Тургене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игилизм геро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тегия поведения  Базарова в начале книги – нигилизм, то есть отрицание всего, что не укладывается в рамки его представлений о единственно правильном, упрощённом устройстве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5" descr="j0235241"/>
          <p:cNvPicPr/>
          <p:nvPr/>
        </p:nvPicPr>
        <p:blipFill>
          <a:blip r:embed="rId1"/>
          <a:stretch/>
        </p:blipFill>
        <p:spPr>
          <a:xfrm>
            <a:off x="5003640" y="2133720"/>
            <a:ext cx="3924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игилизм геро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Р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ауки вообщ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тической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ус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в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тик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j0297749"/>
          <p:cNvPicPr/>
          <p:nvPr/>
        </p:nvPicPr>
        <p:blipFill>
          <a:blip r:embed="rId1"/>
          <a:stretch/>
        </p:blipFill>
        <p:spPr>
          <a:xfrm>
            <a:off x="5140440" y="2212920"/>
            <a:ext cx="319860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игилизм геро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теперешнее время полезнее всего отрицание - мы отрица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рода – не храм, а мастерская, и человек в ней работ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рядочный химик в двадцать раз полезнее всякого поэ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фаэль гроша медного не стои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ы с тобой те же лягушки, только что на ногах ходи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Левитан_Осенний день Сокольники"/>
          <p:cNvPicPr/>
          <p:nvPr/>
        </p:nvPicPr>
        <p:blipFill>
          <a:blip r:embed="rId1"/>
          <a:stretch/>
        </p:blipFill>
        <p:spPr>
          <a:xfrm>
            <a:off x="1619280" y="0"/>
            <a:ext cx="5070600" cy="6669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7164360" y="227664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7000920" y="2368440"/>
            <a:ext cx="167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Испытание любовью» - одно из главных испытаний для героя в романах Турген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848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стреча с Одинцовой. Любовь в жизни героя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разговорах с Анной Сергеевной он ещё больше прежнего высказывал своё равнодушное презрение ко всему романтическому; а оставшись наедине, он с негодованием сознавал романтика в самом себе… Он ловил самого себя на всякого рода «постыдных»  мыслях, точно бес его дразни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Так знайте же, что я люблю вас глупо, безумно…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Васильев"/>
          <p:cNvPicPr/>
          <p:nvPr/>
        </p:nvPicPr>
        <p:blipFill>
          <a:blip r:embed="rId1"/>
          <a:stretch/>
        </p:blipFill>
        <p:spPr>
          <a:xfrm>
            <a:off x="2303640" y="1035000"/>
            <a:ext cx="4536720" cy="47894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7164360" y="5661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цена под сто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3:27:51Z</dcterms:created>
  <dc:creator>User</dc:creator>
  <dc:description/>
  <dc:language>en-US</dc:language>
  <cp:lastModifiedBy>Home</cp:lastModifiedBy>
  <dcterms:modified xsi:type="dcterms:W3CDTF">2019-03-25T17:37:45Z</dcterms:modified>
  <cp:revision>58</cp:revision>
  <dc:subject/>
  <dc:title>Путь Евгения Базарова (По роману И.С.Тургенева  «Отцы и дети»)</dc:title>
</cp:coreProperties>
</file>