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11-27T20:43:13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484-9956-40C9-B141-543B407A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F50-D9CE-480A-BD90-CF373B0D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BE5-03B3-400F-A36A-632F61E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B1A-D463-4E3D-BD6D-F63F58D3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0391-D162-4E65-B2C6-74AFE7FC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2F55-1247-4045-BE7F-3918898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AB2-FC8A-404E-A516-BA1A6339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8239-0D5C-4F91-A3B7-61C2D72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7F9-244F-4565-B97C-271B6FE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515C-C814-4E8D-A85A-A14E372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AA7-CF51-44AE-A807-45A81F3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FC4-7F7D-44AD-B120-C972594C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B0E-7C0C-4280-BA2E-295AD72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9E75-8004-4F52-A8EC-6B57B3B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A453-AC90-4AFA-8314-7365E44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C00D-EBA3-47B0-B2DE-26FA86BA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62C-C065-4D50-8FE5-B20F8BDB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787-7E38-4F17-A88C-040979D9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EF3-43FB-49EE-ADDA-1BDBF53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B96-AAF6-455B-AC99-EEE784C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ED0-74DB-4B06-A80F-36EE802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9BA-1D25-498C-B89F-A517F49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03C-6B04-4983-B082-2A4F886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2C8-03E9-4DB9-83F3-CE6CC8C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B7C-4A40-4FCB-A725-4222C8E1AD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28EC-6C6E-42C7-AF68-D4E21D0BA9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urgenev.org.ru/pic/ivan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67788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«Тайна Евгения Базарова или последний романтик».</a:t>
            </a:r>
            <a:br>
              <a:rPr sz="4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По роману И.С.Тургенева  «Отцы и дети»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56000" y="3962520"/>
            <a:ext cx="5673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И.С.Тургенев. Художник С.Иванов- Райков. 1915. Х., м. 35х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500280"/>
            <a:ext cx="2122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я вот думаю: я вот лежу здесь под стогом… Узенькое местечко, которое я занимаю, до того крохотно в сравнении с остальным пространством, где меня нет и где дела до меня нет; и часть времени, которую мне удалось прожить, так ничтожна перед вечностью, где меня не было и не будет… А в этом атоме, в этой математической точке кровь обращается, мозг работает, чего-то хочет тоже… Что за безобразие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хорадка работы с него соскочила и заменилась тоскливой скукой и глухим беспокойством. Странная усталость замечалась во всех его движениях, даже походка его, твёрдая и стремительно смелая, измен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Я нужен России… Нет, видно, не нуже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 мной кончено. Попал под колесо. И выходит, что нечего думать о будущем. Старая штука смерть, а каждому внове… И ведь тоже думал: обломаю дел много, не умру, куда! задача есть, ведь я гигант! А теперь вся задача гиганта – как бы умереть прилично, хотя никому до этого дела н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, и, как человек, он выразил желание видеть любимую женщину» (Д.И.Писар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мереть так, как умер Базаров, - всё равно что сделать великий подвиг…» (Д.И.Писаре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Левитан"/>
          <p:cNvPicPr/>
          <p:nvPr/>
        </p:nvPicPr>
        <p:blipFill>
          <a:blip r:embed="rId1"/>
          <a:stretch/>
        </p:blipFill>
        <p:spPr>
          <a:xfrm>
            <a:off x="900000" y="404640"/>
            <a:ext cx="7620120" cy="536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1187280" y="616572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тан И. И.  «Над вечным поко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кой же путь проходит Евгений Базаров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гилизм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героя → изменение мировозз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ется мысль о ничтожестве человеческой жизни. Базаров ощущает себя «атомом», «математической точкой» перед лицом в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ь ге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исаре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чем тайна Базаров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967280" cy="515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66760" y="5373720"/>
            <a:ext cx="84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аров – «герой времени, когда общественные силы гибели и возрождения,  старого и нового» противостоят друг другу, действуют 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AZAROV"/>
          <p:cNvPicPr/>
          <p:nvPr/>
        </p:nvPicPr>
        <p:blipFill>
          <a:blip r:embed="rId1"/>
          <a:stretch/>
        </p:blipFill>
        <p:spPr>
          <a:xfrm>
            <a:off x="4716360" y="2421000"/>
            <a:ext cx="2387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ь работы: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смотреть «тайну» Евгения Базаро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92428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азаров остался для многих загадкой: я сам не могу хорошенько себе представить, как я его написал»      (И.С.Турген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поведения  Базарова в начале книги – нигилизм, то есть отрицание всего, что не укладывается в рамки его представлений о единственно правильном, упрощённом устройстве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j0235241"/>
          <p:cNvPicPr/>
          <p:nvPr/>
        </p:nvPicPr>
        <p:blipFill>
          <a:blip r:embed="rId1"/>
          <a:stretch/>
        </p:blipFill>
        <p:spPr>
          <a:xfrm>
            <a:off x="5003640" y="2133720"/>
            <a:ext cx="39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уки вообщ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j0297749"/>
          <p:cNvPicPr/>
          <p:nvPr/>
        </p:nvPicPr>
        <p:blipFill>
          <a:blip r:embed="rId1"/>
          <a:stretch/>
        </p:blipFill>
        <p:spPr>
          <a:xfrm>
            <a:off x="5140440" y="2212920"/>
            <a:ext cx="31986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теперешнее время полезнее всего отрицание - мы отриц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рода – не храм, а мастерская, и человек в ней рабо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фаэль гроша медного не сто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 с тобой те же лягушки, только что на ногах ход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евитан_Осенний день Сокольники"/>
          <p:cNvPicPr/>
          <p:nvPr/>
        </p:nvPicPr>
        <p:blipFill>
          <a:blip r:embed="rId1"/>
          <a:stretch/>
        </p:blipFill>
        <p:spPr>
          <a:xfrm>
            <a:off x="1619280" y="0"/>
            <a:ext cx="5070600" cy="6669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164360" y="2276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000920" y="2368440"/>
            <a:ext cx="16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спытание любовью» - одно из главных испытаний для героя в романах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стреча с Одинцовой. Любовь в жизни геро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азговорах с Анной Сергеевной он ещё больше прежнего высказывал своё равнодушное презрение ко всему романтическому; а оставшись наедине, он с негодованием сознавал романтика в самом себе… Он ловил самого себя на всякого рода «постыдных»  мыслях, точно бес его драз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Так знайте же, что я люблю вас глупо, безумно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Васильев"/>
          <p:cNvPicPr/>
          <p:nvPr/>
        </p:nvPicPr>
        <p:blipFill>
          <a:blip r:embed="rId1"/>
          <a:stretch/>
        </p:blipFill>
        <p:spPr>
          <a:xfrm>
            <a:off x="2303640" y="1035000"/>
            <a:ext cx="4536720" cy="4789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 под ст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3:27:51Z</dcterms:created>
  <dc:creator>User</dc:creator>
  <dc:description/>
  <dc:language>en-US</dc:language>
  <cp:lastModifiedBy>Home</cp:lastModifiedBy>
  <dcterms:modified xsi:type="dcterms:W3CDTF">2019-03-25T17:37:45Z</dcterms:modified>
  <cp:revision>58</cp:revision>
  <dc:subject/>
  <dc:title>Путь Евгения Базарова (По роману И.С.Тургенева  «Отцы и дети»)</dc:title>
</cp:coreProperties>
</file>