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11-27T20:43:13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1A0-CC89-4185-B35C-FD97329F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3BF-0159-4AFC-86AD-D9D10348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DC2-905E-4CAD-92BA-9D1C03B1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ADD-E16E-4C6D-BAF4-D67EF0F7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5D62-C8D0-49AE-9FFC-55EB53A7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5B43-5472-4B2A-A38A-D7061F2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A2A-6534-4F0E-88EA-60707B1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5B6-9DFF-4E63-A755-99753F2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5380-F84A-4258-BC54-8FE9703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D4E6-4E11-4FC1-8D3F-9074869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FEAA-996F-4E97-A1EB-3CDA598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3D4-FF8F-420B-8E8F-B34A26D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068C-CB84-4D61-86E7-8ECCDF1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B0C2-CCC4-42B7-84A1-EF9E76B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4CE-18A3-40B0-97A8-A1DAFDAD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52CA-FEDF-4D5A-8850-E0890E4F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F6E-9B3E-4303-83AD-A3DE886A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8BB-1787-4F25-995C-5AC62D2F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C8D-98D8-4D6B-9CEA-DDA84A0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CFB-7F07-461E-9E96-BD199CE9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8F8-DE09-43E9-AEDB-21B16EA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872-BABA-4A27-B410-27350B2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679-5C7C-487A-B645-14B3E3A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984-AD50-4898-A61F-4D1445F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F11-89C0-44E2-8E5F-5981242FFC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226-FF1D-48E4-A53F-F974C429DA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urgenev.org.ru/pic/ivan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67788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«Тайна Евгения Базарова или последний романтик».</a:t>
            </a:r>
            <a:br>
              <a:rPr sz="4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По роману И.С.Тургенева  «Отцы и дети»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56000" y="3962520"/>
            <a:ext cx="5673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И.С.Тургенев. Художник С.Иванов- Райков. 1915. Х., м. 35х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500280"/>
            <a:ext cx="2122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я вот думаю: я вот лежу здесь под стогом… Узенькое местечко, которое я занимаю, до того крохотно в сравнении с остальным пространством, где меня нет и где дела до меня нет; и часть времени, которую мне удалось прожить, так ничтожна перед вечностью, где меня не было и не будет… А в этом атоме, в этой математической точке кровь обращается, мозг работает, чего-то хочет тоже… Что за безобразие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зменение мировоззрения геро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хорадка работы с него соскочила и заменилась тоскливой скукой и глухим беспокойством. Странная усталость замечалась во всех его движениях, даже походка его, твёрдая и стремительно смелая, измен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Я нужен России… Нет, видно, не нуже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 мной кончено. Попал под колесо. И выходит, что нечего думать о будущем. Старая штука смерть, а каждому внове… И ведь тоже думал: обломаю дел много, не умру, куда! задача есть, ведь я гигант! А теперь вся задача гиганта – как бы умереть прилично, хотя никому до этого дела н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раскрывается Базаров в смерт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, и, как человек, он выразил желание видеть любимую женщину» (Д.И.Писар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мереть так, как умер Базаров, - всё равно что сделать великий подвиг…» (Д.И.Писаре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Левитан"/>
          <p:cNvPicPr/>
          <p:nvPr/>
        </p:nvPicPr>
        <p:blipFill>
          <a:blip r:embed="rId1"/>
          <a:stretch/>
        </p:blipFill>
        <p:spPr>
          <a:xfrm>
            <a:off x="900000" y="404640"/>
            <a:ext cx="7620120" cy="536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1187280" y="616572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тан И. И.  «Над вечным поко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кой же путь проходит Евгений Базаров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гилизм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героя → изменение мировозз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ется мысль о ничтожестве человеческой жизни. Базаров ощущает себя «атомом», «математической точкой» перед лицом в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ь ге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н сделался человеком, вместо того чтобы быть воплощением теории нигилизм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исарев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чем тайна Базаров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967280" cy="5157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66760" y="5373720"/>
            <a:ext cx="84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аров – «герой времени, когда общественные силы гибели и возрождения,  старого и нового» противостоят друг другу, действуют 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BAZAROV"/>
          <p:cNvPicPr/>
          <p:nvPr/>
        </p:nvPicPr>
        <p:blipFill>
          <a:blip r:embed="rId1"/>
          <a:stretch/>
        </p:blipFill>
        <p:spPr>
          <a:xfrm>
            <a:off x="4716360" y="2421000"/>
            <a:ext cx="2387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Цель работы: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смотреть «тайну» Евгения Базаро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92428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азаров остался для многих загадкой: я сам не могу хорошенько себе представить, как я его написал»      (И.С.Турген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поведения  Базарова в начале книги – нигилизм, то есть отрицание всего, что не укладывается в рамки его представлений о единственно правильном, упрощённом устройстве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j0235241"/>
          <p:cNvPicPr/>
          <p:nvPr/>
        </p:nvPicPr>
        <p:blipFill>
          <a:blip r:embed="rId1"/>
          <a:stretch/>
        </p:blipFill>
        <p:spPr>
          <a:xfrm>
            <a:off x="5003640" y="2133720"/>
            <a:ext cx="39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уки вообщ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j0297749"/>
          <p:cNvPicPr/>
          <p:nvPr/>
        </p:nvPicPr>
        <p:blipFill>
          <a:blip r:embed="rId1"/>
          <a:stretch/>
        </p:blipFill>
        <p:spPr>
          <a:xfrm>
            <a:off x="5140440" y="2212920"/>
            <a:ext cx="31986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гилизм геро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теперешнее время полезнее всего отрицание - мы отриц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рода – не храм, а мастерская, и человек в ней работ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фаэль гроша медного не сто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 с тобой те же лягушки, только что на ногах ход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Левитан_Осенний день Сокольники"/>
          <p:cNvPicPr/>
          <p:nvPr/>
        </p:nvPicPr>
        <p:blipFill>
          <a:blip r:embed="rId1"/>
          <a:stretch/>
        </p:blipFill>
        <p:spPr>
          <a:xfrm>
            <a:off x="1619280" y="0"/>
            <a:ext cx="5070600" cy="6669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164360" y="227664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000920" y="2368440"/>
            <a:ext cx="16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спытание любовью» - одно из главных испытаний для героя в романах Турге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стреча с Одинцовой. Любовь в жизни геро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азговорах с Анной Сергеевной он ещё больше прежнего высказывал своё равнодушное презрение ко всему романтическому; а оставшись наедине, он с негодованием сознавал романтика в самом себе… Он ловил самого себя на всякого рода «постыдных»  мыслях, точно бес его дразн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Так знайте же, что я люблю вас глупо, безумно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Васильев"/>
          <p:cNvPicPr/>
          <p:nvPr/>
        </p:nvPicPr>
        <p:blipFill>
          <a:blip r:embed="rId1"/>
          <a:stretch/>
        </p:blipFill>
        <p:spPr>
          <a:xfrm>
            <a:off x="2303640" y="1035000"/>
            <a:ext cx="4536720" cy="4789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 под ст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3:27:51Z</dcterms:created>
  <dc:creator>User</dc:creator>
  <dc:description/>
  <dc:language>en-US</dc:language>
  <cp:lastModifiedBy>Home</cp:lastModifiedBy>
  <dcterms:modified xsi:type="dcterms:W3CDTF">2019-03-25T17:37:45Z</dcterms:modified>
  <cp:revision>58</cp:revision>
  <dc:subject/>
  <dc:title>Путь Евгения Базарова (По роману И.С.Тургенева  «Отцы и дети»)</dc:title>
</cp:coreProperties>
</file>