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50F8-B354-40C5-AD5D-22292CEC0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E334-6C8F-48FC-8934-4FCD7497A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8DCF-ADB6-4F06-9673-BC62A103C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46C2-4584-46D6-9585-67533F647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D2F7E-87E8-420B-9216-744ADFCF3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5DED3-F42A-46E8-B17E-02C4EF377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3302D-76E7-4D3D-984A-E91A91B22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7BF7E-4F81-42AE-B7B3-1AD8858A4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8F483-6DAD-43B4-94BF-4058A763D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83283-363F-45E5-836C-F9B485C0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958E4-168D-48B0-B544-25B0DFAB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0C99-D7E3-4FBB-8162-AA7E1B4A6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32ABE-EECB-4FA8-AB72-5866A60A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48EC7-7707-466F-AF44-72A2A4EE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423DB-7187-4B6C-8C98-1FBDD22FC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84C74-641F-4C86-B490-017654400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DC616-455C-4DEE-87EC-A35E6CCD2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FFDB-2B61-41D4-8309-8A25F159A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6765-D8D4-45D5-8073-279C10EC2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822F-05B4-4D43-BDD4-04A40CC1E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1637-6BD1-48B1-B57B-451CEBD96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B6CA-BB5B-4953-8632-2A6CC072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F228-BA53-47E7-B1E3-4EDB1EBB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2DDF-CB47-48AB-AC53-19C32464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A28A8-80D3-4244-ABE3-6A49E456E0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E9D1D-2F43-4CFD-9475-FD7ACA7A5A0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14240" y="499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4 ноября –</a:t>
            </a:r>
            <a:br>
              <a:rPr sz="5400"/>
            </a:b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 день народного единств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Picture 2" descr="E:\презентация 4 ноября\1 слайд.jpg"/>
          <p:cNvPicPr/>
          <p:nvPr/>
        </p:nvPicPr>
        <p:blipFill>
          <a:blip r:embed="rId1"/>
          <a:stretch/>
        </p:blipFill>
        <p:spPr>
          <a:xfrm>
            <a:off x="0" y="2492280"/>
            <a:ext cx="4340160" cy="37944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E:\презентация 4 ноября\слайд 1.jpg"/>
          <p:cNvPicPr/>
          <p:nvPr/>
        </p:nvPicPr>
        <p:blipFill>
          <a:blip r:embed="rId2"/>
          <a:stretch/>
        </p:blipFill>
        <p:spPr>
          <a:xfrm>
            <a:off x="4859280" y="2492280"/>
            <a:ext cx="4284720" cy="3816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свобождение Москв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292360" y="5805000"/>
            <a:ext cx="351324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ой с поляк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4" descr="img103"/>
          <p:cNvPicPr/>
          <p:nvPr/>
        </p:nvPicPr>
        <p:blipFill>
          <a:blip r:embed="rId1"/>
          <a:stretch/>
        </p:blipFill>
        <p:spPr>
          <a:xfrm>
            <a:off x="324000" y="1197000"/>
            <a:ext cx="4422600" cy="56610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" descr="бой с поляками"/>
          <p:cNvPicPr/>
          <p:nvPr/>
        </p:nvPicPr>
        <p:blipFill>
          <a:blip r:embed="rId2"/>
          <a:stretch/>
        </p:blipFill>
        <p:spPr>
          <a:xfrm>
            <a:off x="4859280" y="1197000"/>
            <a:ext cx="4033800" cy="4392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4 ноября(22 октября)-</a:t>
            </a:r>
            <a:br>
              <a:rPr sz="2800"/>
            </a:b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День Казанской иконы Божьей Матери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4000" y="544500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1649 году указом цар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лексея Михайловича был объявлен государственным праздник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4" descr="икона 2"/>
          <p:cNvPicPr/>
          <p:nvPr/>
        </p:nvPicPr>
        <p:blipFill>
          <a:blip r:embed="rId1"/>
          <a:stretch/>
        </p:blipFill>
        <p:spPr>
          <a:xfrm>
            <a:off x="395280" y="1916280"/>
            <a:ext cx="4032360" cy="34574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икона 3"/>
          <p:cNvPicPr/>
          <p:nvPr/>
        </p:nvPicPr>
        <p:blipFill>
          <a:blip r:embed="rId2"/>
          <a:stretch/>
        </p:blipFill>
        <p:spPr>
          <a:xfrm>
            <a:off x="4500720" y="1916280"/>
            <a:ext cx="4319280" cy="34574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Казанская икона Божьей Матер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1" name="Picture 4" descr="икона"/>
          <p:cNvPicPr/>
          <p:nvPr/>
        </p:nvPicPr>
        <p:blipFill>
          <a:blip r:embed="rId1"/>
          <a:stretch/>
        </p:blipFill>
        <p:spPr>
          <a:xfrm>
            <a:off x="1979640" y="1197000"/>
            <a:ext cx="5113440" cy="5373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Благодарность</a:t>
            </a:r>
            <a:br>
              <a:rPr sz="4000"/>
            </a:b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 Минину и Пожарскому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3" name="Picture 4" descr="в защиту 2"/>
          <p:cNvPicPr/>
          <p:nvPr/>
        </p:nvPicPr>
        <p:blipFill>
          <a:blip r:embed="rId1"/>
          <a:stretch/>
        </p:blipFill>
        <p:spPr>
          <a:xfrm>
            <a:off x="2340000" y="1484280"/>
            <a:ext cx="4537080" cy="5373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610920" y="5300280"/>
            <a:ext cx="784836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абл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4012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Минина и Пожарског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8" descr="i"/>
          <p:cNvPicPr/>
          <p:nvPr/>
        </p:nvPicPr>
        <p:blipFill>
          <a:blip r:embed="rId1"/>
          <a:stretch/>
        </p:blipFill>
        <p:spPr>
          <a:xfrm>
            <a:off x="1332000" y="404640"/>
            <a:ext cx="6624720" cy="4680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Народ победил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1612 год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1812 го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1941 го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4" descr="107"/>
          <p:cNvPicPr/>
          <p:nvPr/>
        </p:nvPicPr>
        <p:blipFill>
          <a:blip r:embed="rId1"/>
          <a:stretch/>
        </p:blipFill>
        <p:spPr>
          <a:xfrm>
            <a:off x="3276720" y="1628640"/>
            <a:ext cx="5256000" cy="4824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714240" y="5084640"/>
            <a:ext cx="8105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ctr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 2005 года Россия отмечает праздник в память о событиях  1612 год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2" descr="E:\презентация 4 ноября\слайд2.png"/>
          <p:cNvPicPr/>
          <p:nvPr/>
        </p:nvPicPr>
        <p:blipFill>
          <a:blip r:embed="rId1"/>
          <a:stretch/>
        </p:blipFill>
        <p:spPr>
          <a:xfrm>
            <a:off x="1619280" y="285840"/>
            <a:ext cx="6048360" cy="47275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Кто правил Россией 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 середине 16 - начале 17 века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95280" y="1557000"/>
            <a:ext cx="835344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ередина 16 ве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в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розный                                                   Столица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ск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95280" y="3573360"/>
            <a:ext cx="842472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нец 16-го – начало 17-го ве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едор Иванович                              Борис Годунов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олица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ск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5" descr="1-web"/>
          <p:cNvPicPr/>
          <p:nvPr/>
        </p:nvPicPr>
        <p:blipFill>
          <a:blip r:embed="rId1"/>
          <a:stretch/>
        </p:blipFill>
        <p:spPr>
          <a:xfrm>
            <a:off x="3419640" y="1916280"/>
            <a:ext cx="1728720" cy="16570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i"/>
          <p:cNvPicPr/>
          <p:nvPr/>
        </p:nvPicPr>
        <p:blipFill>
          <a:blip r:embed="rId2"/>
          <a:stretch/>
        </p:blipFill>
        <p:spPr>
          <a:xfrm>
            <a:off x="1403280" y="4437000"/>
            <a:ext cx="1557360" cy="1800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i"/>
          <p:cNvPicPr/>
          <p:nvPr/>
        </p:nvPicPr>
        <p:blipFill>
          <a:blip r:embed="rId3"/>
          <a:stretch/>
        </p:blipFill>
        <p:spPr>
          <a:xfrm>
            <a:off x="6084720" y="4437000"/>
            <a:ext cx="1451160" cy="1800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Россия в начале 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XVII </a:t>
            </a: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век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3" name="Picture 5" descr="img099"/>
          <p:cNvPicPr/>
          <p:nvPr/>
        </p:nvPicPr>
        <p:blipFill>
          <a:blip r:embed="rId1"/>
          <a:stretch/>
        </p:blipFill>
        <p:spPr>
          <a:xfrm>
            <a:off x="1187280" y="1141560"/>
            <a:ext cx="6840720" cy="5543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Смутное врем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598 – пресечение династии Калиты. Начало правления Бориса Годуно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601-1603 – неурожай и массовый голод в Росс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605-смерть царя Бориса Годунова. Воцарение Лжедмитрия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606-1607 – крестьянское восстание под руководством И. Болотнико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607- начало военных действий Лжедмитрия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609 – втягивание в гражданскую войну Швеции и Польши. Начало польской интервен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6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1613 – «Семибоярщина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611-1612 – первое и второе ополчения, освобождавшие Москву от польских интервен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613 – установление династии Романовы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На защиту Родины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7" name="Picture 3" descr="в защиту 1"/>
          <p:cNvPicPr/>
          <p:nvPr/>
        </p:nvPicPr>
        <p:blipFill>
          <a:blip r:embed="rId1"/>
          <a:stretch/>
        </p:blipFill>
        <p:spPr>
          <a:xfrm>
            <a:off x="0" y="3809880"/>
            <a:ext cx="4932360" cy="27878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" descr="в защиту 3"/>
          <p:cNvPicPr/>
          <p:nvPr/>
        </p:nvPicPr>
        <p:blipFill>
          <a:blip r:embed="rId2"/>
          <a:stretch/>
        </p:blipFill>
        <p:spPr>
          <a:xfrm>
            <a:off x="0" y="1125360"/>
            <a:ext cx="4932360" cy="25275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7" descr="5a14d72e305d"/>
          <p:cNvPicPr/>
          <p:nvPr/>
        </p:nvPicPr>
        <p:blipFill>
          <a:blip r:embed="rId3"/>
          <a:stretch/>
        </p:blipFill>
        <p:spPr>
          <a:xfrm>
            <a:off x="5113440" y="1125360"/>
            <a:ext cx="4030560" cy="54356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38275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Кузьма 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Минин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15640" y="5876640"/>
            <a:ext cx="280980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упе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4" descr="Минин 1"/>
          <p:cNvPicPr/>
          <p:nvPr/>
        </p:nvPicPr>
        <p:blipFill>
          <a:blip r:embed="rId1"/>
          <a:stretch/>
        </p:blipFill>
        <p:spPr>
          <a:xfrm>
            <a:off x="684360" y="1557360"/>
            <a:ext cx="3382920" cy="41767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Минин 2"/>
          <p:cNvPicPr/>
          <p:nvPr/>
        </p:nvPicPr>
        <p:blipFill>
          <a:blip r:embed="rId2"/>
          <a:stretch/>
        </p:blipFill>
        <p:spPr>
          <a:xfrm>
            <a:off x="4716360" y="0"/>
            <a:ext cx="486108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4356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Дмитрий Пожарский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6560" y="6237360"/>
            <a:ext cx="3024360" cy="62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няз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4" descr="пожарский 2"/>
          <p:cNvPicPr/>
          <p:nvPr/>
        </p:nvPicPr>
        <p:blipFill>
          <a:blip r:embed="rId1"/>
          <a:stretch/>
        </p:blipFill>
        <p:spPr>
          <a:xfrm>
            <a:off x="755640" y="1989000"/>
            <a:ext cx="3456000" cy="4104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пожарский 1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99640" y="-360"/>
            <a:ext cx="3095640" cy="1268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Иван</a:t>
            </a:r>
            <a:br>
              <a:rPr sz="4800"/>
            </a:b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Сусанин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0" y="5805360"/>
            <a:ext cx="457200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естьян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5" descr="сусанин 1"/>
          <p:cNvPicPr/>
          <p:nvPr/>
        </p:nvPicPr>
        <p:blipFill>
          <a:blip r:embed="rId1"/>
          <a:stretch/>
        </p:blipFill>
        <p:spPr>
          <a:xfrm>
            <a:off x="539640" y="1413000"/>
            <a:ext cx="3311640" cy="41767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" descr="сусанин 2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03:22:36Z</dcterms:created>
  <dc:creator>admin</dc:creator>
  <dc:description/>
  <dc:language>en-US</dc:language>
  <cp:lastModifiedBy>Home</cp:lastModifiedBy>
  <dcterms:modified xsi:type="dcterms:W3CDTF">2019-03-26T06:20:40Z</dcterms:modified>
  <cp:revision>23</cp:revision>
  <dc:subject/>
  <dc:title>4 ноября –  день народного единства</dc:title>
</cp:coreProperties>
</file>