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7FD-96E6-4BBC-8924-1E36E227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96F-7CA4-4561-A1C2-E193927B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F9D-5AB3-4F1B-8B5B-1BBBD195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F56-CB02-495F-B12A-E4FC546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3E77-465A-47CE-9DE0-61C6CD0C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23A-CCCA-4306-831C-7206242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AF5-5A09-47F9-B5CE-603DFE7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D38-B035-4F38-B5B9-C4A0EE47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F895-6736-456E-BF6B-591592FA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3134-BD22-4E97-B32D-0B92D13D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302D-5A2B-4E7F-B35A-3BADF32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AA5-5D82-4B5D-BE99-A34B6B46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8510-0DBF-4EE7-A80C-BF2B3A6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44B2-41C5-482B-A7C5-A9AFFE7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C04E-703E-4F5E-A153-E8191AB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FED0-5BAD-4549-9792-904EA86F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1B9B-2296-4297-9EC8-A13E4CB2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B07-8B3C-4685-90CE-3A68A28D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598-4614-4476-BAF4-E5FF5CD4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847-BF9F-45B0-8E90-97BDFAD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F3D-28CA-439D-807C-9D4CC49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31A-A1D1-4B19-B3DA-641833E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39F-3627-48ED-A451-4824BB28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DD7-7F1F-440A-B391-8835DA9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F55F-B249-46FE-99C1-7B5B51313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0389-1C21-4B3E-B8DA-E36395E3A3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4 ноября –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 день народного единст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2" descr="E:\презентация 4 ноября\1 слайд.jpg"/>
          <p:cNvPicPr/>
          <p:nvPr/>
        </p:nvPicPr>
        <p:blipFill>
          <a:blip r:embed="rId1"/>
          <a:stretch/>
        </p:blipFill>
        <p:spPr>
          <a:xfrm>
            <a:off x="0" y="2492280"/>
            <a:ext cx="4340160" cy="379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E:\презентация 4 ноября\слайд 1.jpg"/>
          <p:cNvPicPr/>
          <p:nvPr/>
        </p:nvPicPr>
        <p:blipFill>
          <a:blip r:embed="rId2"/>
          <a:stretch/>
        </p:blipFill>
        <p:spPr>
          <a:xfrm>
            <a:off x="4859280" y="2492280"/>
            <a:ext cx="42847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вобождение Моск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292360" y="5805000"/>
            <a:ext cx="3513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й с поля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img103"/>
          <p:cNvPicPr/>
          <p:nvPr/>
        </p:nvPicPr>
        <p:blipFill>
          <a:blip r:embed="rId1"/>
          <a:stretch/>
        </p:blipFill>
        <p:spPr>
          <a:xfrm>
            <a:off x="324000" y="1197000"/>
            <a:ext cx="4422600" cy="566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бой с поляками"/>
          <p:cNvPicPr/>
          <p:nvPr/>
        </p:nvPicPr>
        <p:blipFill>
          <a:blip r:embed="rId2"/>
          <a:stretch/>
        </p:blipFill>
        <p:spPr>
          <a:xfrm>
            <a:off x="4859280" y="1197000"/>
            <a:ext cx="4033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4 ноября(22 октября)-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ень Казанской иконы Божьей Матер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54450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649 году указом ц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ексея Михайловича был объявлен государственным праздн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икона 2"/>
          <p:cNvPicPr/>
          <p:nvPr/>
        </p:nvPicPr>
        <p:blipFill>
          <a:blip r:embed="rId1"/>
          <a:stretch/>
        </p:blipFill>
        <p:spPr>
          <a:xfrm>
            <a:off x="395280" y="1916280"/>
            <a:ext cx="4032360" cy="3457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икона 3"/>
          <p:cNvPicPr/>
          <p:nvPr/>
        </p:nvPicPr>
        <p:blipFill>
          <a:blip r:embed="rId2"/>
          <a:stretch/>
        </p:blipFill>
        <p:spPr>
          <a:xfrm>
            <a:off x="4500720" y="1916280"/>
            <a:ext cx="43192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занская икона Божьей Матер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икона"/>
          <p:cNvPicPr/>
          <p:nvPr/>
        </p:nvPicPr>
        <p:blipFill>
          <a:blip r:embed="rId1"/>
          <a:stretch/>
        </p:blipFill>
        <p:spPr>
          <a:xfrm>
            <a:off x="1979640" y="1197000"/>
            <a:ext cx="511344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Благодарность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Минину и Пожарскому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в защиту 2"/>
          <p:cNvPicPr/>
          <p:nvPr/>
        </p:nvPicPr>
        <p:blipFill>
          <a:blip r:embed="rId1"/>
          <a:stretch/>
        </p:blipFill>
        <p:spPr>
          <a:xfrm>
            <a:off x="234000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10920" y="530028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б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нина и Пожар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i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род победил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612 год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812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94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107"/>
          <p:cNvPicPr/>
          <p:nvPr/>
        </p:nvPicPr>
        <p:blipFill>
          <a:blip r:embed="rId1"/>
          <a:stretch/>
        </p:blipFill>
        <p:spPr>
          <a:xfrm>
            <a:off x="3276720" y="1628640"/>
            <a:ext cx="525600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5084640"/>
            <a:ext cx="8105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2005 года Россия отмечает праздник в память о событиях  161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E:\презентация 4 ноября\слайд2.png"/>
          <p:cNvPicPr/>
          <p:nvPr/>
        </p:nvPicPr>
        <p:blipFill>
          <a:blip r:embed="rId1"/>
          <a:stretch/>
        </p:blipFill>
        <p:spPr>
          <a:xfrm>
            <a:off x="1619280" y="285840"/>
            <a:ext cx="604836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то правил Россией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ередине 16 - начале 17 ве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55700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едина 16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зный                                                   Столиц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3573360"/>
            <a:ext cx="8424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ц 16-го – начало 17-го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ор Иванович                              Борис Годунов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лиц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1-web"/>
          <p:cNvPicPr/>
          <p:nvPr/>
        </p:nvPicPr>
        <p:blipFill>
          <a:blip r:embed="rId1"/>
          <a:stretch/>
        </p:blipFill>
        <p:spPr>
          <a:xfrm>
            <a:off x="3419640" y="1916280"/>
            <a:ext cx="1728720" cy="165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"/>
          <p:cNvPicPr/>
          <p:nvPr/>
        </p:nvPicPr>
        <p:blipFill>
          <a:blip r:embed="rId2"/>
          <a:stretch/>
        </p:blipFill>
        <p:spPr>
          <a:xfrm>
            <a:off x="1403280" y="443700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"/>
          <p:cNvPicPr/>
          <p:nvPr/>
        </p:nvPicPr>
        <p:blipFill>
          <a:blip r:embed="rId3"/>
          <a:stretch/>
        </p:blipFill>
        <p:spPr>
          <a:xfrm>
            <a:off x="6084720" y="4437000"/>
            <a:ext cx="14511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оссия в начале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XVII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img099"/>
          <p:cNvPicPr/>
          <p:nvPr/>
        </p:nvPicPr>
        <p:blipFill>
          <a:blip r:embed="rId1"/>
          <a:stretch/>
        </p:blipFill>
        <p:spPr>
          <a:xfrm>
            <a:off x="1187280" y="1141560"/>
            <a:ext cx="6840720" cy="554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утное врем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98 – пресечение династии Калиты. Начало правления Бориса Году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1-1603 – неурожай и массовый голод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5-смерть царя Бориса Годунова. Воцарение Лжедми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6-1607 – крестьянское восстание под руководством И. Болотник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7- начало военных действий Лжедми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9 – втягивание в гражданскую войну Швеции и Польши. Начало польской интер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1613 – «Семибоярщин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1-1612 – первое и второе ополчения, освобождавшие Москву от польских интерв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3 – установление династии Роман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 защиту Родин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3" descr="в защиту 1"/>
          <p:cNvPicPr/>
          <p:nvPr/>
        </p:nvPicPr>
        <p:blipFill>
          <a:blip r:embed="rId1"/>
          <a:stretch/>
        </p:blipFill>
        <p:spPr>
          <a:xfrm>
            <a:off x="0" y="3809880"/>
            <a:ext cx="4932360" cy="278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в защиту 3"/>
          <p:cNvPicPr/>
          <p:nvPr/>
        </p:nvPicPr>
        <p:blipFill>
          <a:blip r:embed="rId2"/>
          <a:stretch/>
        </p:blipFill>
        <p:spPr>
          <a:xfrm>
            <a:off x="0" y="1125360"/>
            <a:ext cx="4932360" cy="2527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5a14d72e305d"/>
          <p:cNvPicPr/>
          <p:nvPr/>
        </p:nvPicPr>
        <p:blipFill>
          <a:blip r:embed="rId3"/>
          <a:stretch/>
        </p:blipFill>
        <p:spPr>
          <a:xfrm>
            <a:off x="5113440" y="1125360"/>
            <a:ext cx="403056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узьм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5640" y="5876640"/>
            <a:ext cx="28098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Минин 1"/>
          <p:cNvPicPr/>
          <p:nvPr/>
        </p:nvPicPr>
        <p:blipFill>
          <a:blip r:embed="rId1"/>
          <a:stretch/>
        </p:blipFill>
        <p:spPr>
          <a:xfrm>
            <a:off x="684360" y="1557360"/>
            <a:ext cx="3382920" cy="41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Минин 2"/>
          <p:cNvPicPr/>
          <p:nvPr/>
        </p:nvPicPr>
        <p:blipFill>
          <a:blip r:embed="rId2"/>
          <a:stretch/>
        </p:blipFill>
        <p:spPr>
          <a:xfrm>
            <a:off x="4716360" y="0"/>
            <a:ext cx="4861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435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митрий Пожарс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560" y="6237360"/>
            <a:ext cx="302436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пожарский 2"/>
          <p:cNvPicPr/>
          <p:nvPr/>
        </p:nvPicPr>
        <p:blipFill>
          <a:blip r:embed="rId1"/>
          <a:stretch/>
        </p:blipFill>
        <p:spPr>
          <a:xfrm>
            <a:off x="755640" y="1989000"/>
            <a:ext cx="3456000" cy="410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пожарский 1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309564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ван</a:t>
            </a:r>
            <a:br>
              <a:rPr sz="48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сан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5805360"/>
            <a:ext cx="4572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сусанин 1"/>
          <p:cNvPicPr/>
          <p:nvPr/>
        </p:nvPicPr>
        <p:blipFill>
          <a:blip r:embed="rId1"/>
          <a:stretch/>
        </p:blipFill>
        <p:spPr>
          <a:xfrm>
            <a:off x="539640" y="1413000"/>
            <a:ext cx="3311640" cy="417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сусанин 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3:22:36Z</dcterms:created>
  <dc:creator>admin</dc:creator>
  <dc:description/>
  <dc:language>en-US</dc:language>
  <cp:lastModifiedBy>Home</cp:lastModifiedBy>
  <dcterms:modified xsi:type="dcterms:W3CDTF">2019-03-26T06:20:40Z</dcterms:modified>
  <cp:revision>23</cp:revision>
  <dc:subject/>
  <dc:title>4 ноября –  день народного единства</dc:title>
</cp:coreProperties>
</file>