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092-4F66-485D-8E74-18671195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108-92DD-4AC1-974D-F1AA97FB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861-56E9-437E-B252-4725C1FD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4E4-2FBB-4633-A918-61B92CD2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64B8-2D5C-4A85-ABE1-1F216241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24F7-9351-4E72-895C-0E4621DB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6DC8-5BBB-451F-9D3A-37A2D334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1D5D-9785-4E96-8248-1BC863E3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E304-2A48-4843-A7D3-90893641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1338-CFD0-4A9C-B167-2E653F1F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28CB-7922-4ABB-93F6-A7FE83A5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603-CDB3-4352-8C76-4ED16F22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B573-8D92-40C3-BE74-951692FA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5515-D388-4378-9BE2-C3E5991A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7DCD-360B-4032-9E95-04DBB89C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CBF6-5103-405C-87A6-C2105A4C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44A5-EBD0-4893-8431-E6396D75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B3F-E989-4326-B09D-5C3DDC79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A2A-2128-43CE-86D4-BCA33681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440-97B0-43BC-8C24-998EE251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BAF-E5EE-4DB1-8F70-F9D15288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B8B-67A6-445A-A6F9-2F85D152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DE3-C6FF-44D0-AA84-6A44D65B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1B8-D389-4F24-B7C6-AE368D86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2D37-8886-482A-A2F6-036F0537B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151D-C59C-4AD4-BDC2-023891E904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4 ноября –</a:t>
            </a:r>
            <a:br>
              <a:rPr sz="5400"/>
            </a:b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 день народного единст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2" descr="E:\презентация 4 ноября\1 слайд.jpg"/>
          <p:cNvPicPr/>
          <p:nvPr/>
        </p:nvPicPr>
        <p:blipFill>
          <a:blip r:embed="rId1"/>
          <a:stretch/>
        </p:blipFill>
        <p:spPr>
          <a:xfrm>
            <a:off x="0" y="2492280"/>
            <a:ext cx="4340160" cy="3794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E:\презентация 4 ноября\слайд 1.jpg"/>
          <p:cNvPicPr/>
          <p:nvPr/>
        </p:nvPicPr>
        <p:blipFill>
          <a:blip r:embed="rId2"/>
          <a:stretch/>
        </p:blipFill>
        <p:spPr>
          <a:xfrm>
            <a:off x="4859280" y="2492280"/>
            <a:ext cx="428472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вобождение Москв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292360" y="5805000"/>
            <a:ext cx="35132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й с поля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img103"/>
          <p:cNvPicPr/>
          <p:nvPr/>
        </p:nvPicPr>
        <p:blipFill>
          <a:blip r:embed="rId1"/>
          <a:stretch/>
        </p:blipFill>
        <p:spPr>
          <a:xfrm>
            <a:off x="324000" y="1197000"/>
            <a:ext cx="4422600" cy="566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бой с поляками"/>
          <p:cNvPicPr/>
          <p:nvPr/>
        </p:nvPicPr>
        <p:blipFill>
          <a:blip r:embed="rId2"/>
          <a:stretch/>
        </p:blipFill>
        <p:spPr>
          <a:xfrm>
            <a:off x="4859280" y="1197000"/>
            <a:ext cx="40338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4 ноября(22 октября)-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День Казанской иконы Божьей Матер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000" y="544500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649 году указом ца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ексея Михайловича был объявлен государственным праздни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икона 2"/>
          <p:cNvPicPr/>
          <p:nvPr/>
        </p:nvPicPr>
        <p:blipFill>
          <a:blip r:embed="rId1"/>
          <a:stretch/>
        </p:blipFill>
        <p:spPr>
          <a:xfrm>
            <a:off x="395280" y="1916280"/>
            <a:ext cx="4032360" cy="3457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икона 3"/>
          <p:cNvPicPr/>
          <p:nvPr/>
        </p:nvPicPr>
        <p:blipFill>
          <a:blip r:embed="rId2"/>
          <a:stretch/>
        </p:blipFill>
        <p:spPr>
          <a:xfrm>
            <a:off x="4500720" y="1916280"/>
            <a:ext cx="431928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занская икона Божьей Матер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4" descr="икона"/>
          <p:cNvPicPr/>
          <p:nvPr/>
        </p:nvPicPr>
        <p:blipFill>
          <a:blip r:embed="rId1"/>
          <a:stretch/>
        </p:blipFill>
        <p:spPr>
          <a:xfrm>
            <a:off x="1979640" y="1197000"/>
            <a:ext cx="511344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Благодарность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Минину и Пожарскому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4" descr="в защиту 2"/>
          <p:cNvPicPr/>
          <p:nvPr/>
        </p:nvPicPr>
        <p:blipFill>
          <a:blip r:embed="rId1"/>
          <a:stretch/>
        </p:blipFill>
        <p:spPr>
          <a:xfrm>
            <a:off x="2340000" y="1484280"/>
            <a:ext cx="453708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10920" y="5300280"/>
            <a:ext cx="7848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бл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инина и Пожарск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8" descr="i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род победил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612 год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812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941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107"/>
          <p:cNvPicPr/>
          <p:nvPr/>
        </p:nvPicPr>
        <p:blipFill>
          <a:blip r:embed="rId1"/>
          <a:stretch/>
        </p:blipFill>
        <p:spPr>
          <a:xfrm>
            <a:off x="3276720" y="1628640"/>
            <a:ext cx="525600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14240" y="5084640"/>
            <a:ext cx="8105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 2005 года Россия отмечает праздник в память о событиях  1612 г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E:\презентация 4 ноября\слайд2.png"/>
          <p:cNvPicPr/>
          <p:nvPr/>
        </p:nvPicPr>
        <p:blipFill>
          <a:blip r:embed="rId1"/>
          <a:stretch/>
        </p:blipFill>
        <p:spPr>
          <a:xfrm>
            <a:off x="1619280" y="285840"/>
            <a:ext cx="6048360" cy="4727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то правил Россией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ередине 16 - начале 17 ве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155700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редина 16 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в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озный                                                   Столица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3573360"/>
            <a:ext cx="8424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ец 16-го – начало 17-го 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ор Иванович                              Борис Годунов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лица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1-web"/>
          <p:cNvPicPr/>
          <p:nvPr/>
        </p:nvPicPr>
        <p:blipFill>
          <a:blip r:embed="rId1"/>
          <a:stretch/>
        </p:blipFill>
        <p:spPr>
          <a:xfrm>
            <a:off x="3419640" y="1916280"/>
            <a:ext cx="1728720" cy="1657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i"/>
          <p:cNvPicPr/>
          <p:nvPr/>
        </p:nvPicPr>
        <p:blipFill>
          <a:blip r:embed="rId2"/>
          <a:stretch/>
        </p:blipFill>
        <p:spPr>
          <a:xfrm>
            <a:off x="1403280" y="4437000"/>
            <a:ext cx="1557360" cy="1800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"/>
          <p:cNvPicPr/>
          <p:nvPr/>
        </p:nvPicPr>
        <p:blipFill>
          <a:blip r:embed="rId3"/>
          <a:stretch/>
        </p:blipFill>
        <p:spPr>
          <a:xfrm>
            <a:off x="6084720" y="4437000"/>
            <a:ext cx="14511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оссия в начале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XVII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5" descr="img099"/>
          <p:cNvPicPr/>
          <p:nvPr/>
        </p:nvPicPr>
        <p:blipFill>
          <a:blip r:embed="rId1"/>
          <a:stretch/>
        </p:blipFill>
        <p:spPr>
          <a:xfrm>
            <a:off x="1187280" y="1141560"/>
            <a:ext cx="6840720" cy="5543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мутное врем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98 – пресечение династии Калиты. Начало правления Бориса Годун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1-1603 – неурожай и массовый голод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5-смерть царя Бориса Годунова. Воцарение Лжедмитр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6-1607 – крестьянское восстание под руководством И. Болотник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7- начало военных действий Лжедмитр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9 – втягивание в гражданскую войну Швеции и Польши. Начало польской интер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1613 – «Семибоярщин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11-1612 – первое и второе ополчения, освобождавшие Москву от польских интерв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13 – установление династии Роман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 защиту Родины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3" descr="в защиту 1"/>
          <p:cNvPicPr/>
          <p:nvPr/>
        </p:nvPicPr>
        <p:blipFill>
          <a:blip r:embed="rId1"/>
          <a:stretch/>
        </p:blipFill>
        <p:spPr>
          <a:xfrm>
            <a:off x="0" y="3809880"/>
            <a:ext cx="4932360" cy="2787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в защиту 3"/>
          <p:cNvPicPr/>
          <p:nvPr/>
        </p:nvPicPr>
        <p:blipFill>
          <a:blip r:embed="rId2"/>
          <a:stretch/>
        </p:blipFill>
        <p:spPr>
          <a:xfrm>
            <a:off x="0" y="1125360"/>
            <a:ext cx="4932360" cy="2527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5a14d72e305d"/>
          <p:cNvPicPr/>
          <p:nvPr/>
        </p:nvPicPr>
        <p:blipFill>
          <a:blip r:embed="rId3"/>
          <a:stretch/>
        </p:blipFill>
        <p:spPr>
          <a:xfrm>
            <a:off x="5113440" y="1125360"/>
            <a:ext cx="4030560" cy="543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2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узьма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ин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5640" y="5876640"/>
            <a:ext cx="28098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Минин 1"/>
          <p:cNvPicPr/>
          <p:nvPr/>
        </p:nvPicPr>
        <p:blipFill>
          <a:blip r:embed="rId1"/>
          <a:stretch/>
        </p:blipFill>
        <p:spPr>
          <a:xfrm>
            <a:off x="684360" y="1557360"/>
            <a:ext cx="3382920" cy="417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Минин 2"/>
          <p:cNvPicPr/>
          <p:nvPr/>
        </p:nvPicPr>
        <p:blipFill>
          <a:blip r:embed="rId2"/>
          <a:stretch/>
        </p:blipFill>
        <p:spPr>
          <a:xfrm>
            <a:off x="4716360" y="0"/>
            <a:ext cx="4861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4356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митрий Пожарск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6560" y="6237360"/>
            <a:ext cx="302436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пожарский 2"/>
          <p:cNvPicPr/>
          <p:nvPr/>
        </p:nvPicPr>
        <p:blipFill>
          <a:blip r:embed="rId1"/>
          <a:stretch/>
        </p:blipFill>
        <p:spPr>
          <a:xfrm>
            <a:off x="755640" y="1989000"/>
            <a:ext cx="3456000" cy="410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пожарский 1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309564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ван</a:t>
            </a:r>
            <a:br>
              <a:rPr sz="48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усан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5805360"/>
            <a:ext cx="4572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сусанин 1"/>
          <p:cNvPicPr/>
          <p:nvPr/>
        </p:nvPicPr>
        <p:blipFill>
          <a:blip r:embed="rId1"/>
          <a:stretch/>
        </p:blipFill>
        <p:spPr>
          <a:xfrm>
            <a:off x="539640" y="1413000"/>
            <a:ext cx="3311640" cy="4176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сусанин 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3:22:36Z</dcterms:created>
  <dc:creator>admin</dc:creator>
  <dc:description/>
  <dc:language>en-US</dc:language>
  <cp:lastModifiedBy>Home</cp:lastModifiedBy>
  <dcterms:modified xsi:type="dcterms:W3CDTF">2019-03-26T06:20:40Z</dcterms:modified>
  <cp:revision>23</cp:revision>
  <dc:subject/>
  <dc:title>4 ноября –  день народного единства</dc:title>
</cp:coreProperties>
</file>