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795A-E6D4-41E8-9D64-FCA7D883B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9C93-DDAE-4437-A046-229353EF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0B73-5CCE-4A7A-8BBC-AC01507EC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915F-B0FD-4C6D-9B4A-059651C15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658F1-8339-4928-93DC-819985F9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B2611-2525-413E-8D03-C7B18528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417A0-ABA4-4A17-B443-E7430B5E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8B6F4-A970-4A7E-B404-DFD8B209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6B2E8-6CB4-468F-A700-869374B6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D49EC-E8ED-49EC-B3A5-4DD2EDF6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416DB-C159-43ED-8A46-7F465644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8FBE-61C6-4473-8F15-8571556D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B681D-CA23-4F97-90B7-D177C5C9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677DD-7626-4D34-8EB4-42A8F090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FDB93-3414-4D36-A554-C6E2E0A1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AEDC6-7679-45D7-BA56-22CC6AE86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C3C54-4D34-4DB3-9945-46FA717C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E2AC0-377D-498B-B157-F233FF42D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BD547-4071-41E7-B1D6-D8C0F414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11AC6-A756-477C-BD0F-AB19C578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2BBA1-DD35-49AA-8513-5759B47D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E0D34-8A6F-40E5-8FA4-B38C9655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F969-12B4-4C28-A960-84186291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110AE-D38D-48F4-976A-8DA7B85E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78686-1D74-484A-81CB-185A3305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E9BA8-2DC7-49F8-A0DC-41EE5EB2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87057-59F6-46C3-862F-3D245B18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215FE-46A8-4A89-94EE-6D80E333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6F6B8-D23D-4C6F-A78B-F356EA394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773A4-2F17-43F4-AF61-CDEEBDC5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9EA596-6C0D-46BF-90F6-CCA3BA59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C63BDB-2503-496E-BE63-02C5D877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3FF99D-85E8-4BAF-AFB8-F6BE9C3B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6424-AC0A-4494-893B-3F05383C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870017-7555-409E-80B1-DFFC917C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9A6CB6-399A-4E4C-ADA4-9C8E0F38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8B8BF7-E43F-4459-A086-55D31190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612888-07C7-44A0-B756-C2638F1D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3B4B04-0F8C-471A-A533-D1E8521D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0B0FF0-F236-4E20-B5DC-3088EA64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1164F6-E504-4B6D-BBB0-4AF296B4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CD7BA4-154C-47CE-8158-9BB2ABB9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967B73-95E8-42DE-9382-8AC9335C2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5029-2E0E-4475-AD6A-50254FA0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BF11-7028-4367-B38F-D1F4803F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0323-0E37-4F5F-9173-BB34FE7E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9209-BEB8-4D8A-AF38-8EB1253A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E0F1-F61D-4D4B-90FC-B2E3ED38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0468-6C71-42B9-8F45-F9DD8BB6B7B8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A98C-68A1-4B9D-B323-C7DFBF03BAB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D2FF-C0CD-4967-8023-33BAF1F09E1D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EFDD-450D-4BAB-9169-BA9F4C442C50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1" descr=""/>
          <p:cNvPicPr/>
          <p:nvPr/>
        </p:nvPicPr>
        <p:blipFill>
          <a:blip r:embed="rId1"/>
          <a:stretch/>
        </p:blipFill>
        <p:spPr>
          <a:xfrm>
            <a:off x="414360" y="158760"/>
            <a:ext cx="8547120" cy="3479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Documents and Settings\Admin\Рабочий стол\Заруба\1085.jpg"/>
          <p:cNvPicPr/>
          <p:nvPr/>
        </p:nvPicPr>
        <p:blipFill>
          <a:blip r:embed="rId2"/>
          <a:stretch/>
        </p:blipFill>
        <p:spPr>
          <a:xfrm>
            <a:off x="2340000" y="3933720"/>
            <a:ext cx="4286160" cy="24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Проблематика трагедии «Фауст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Он не был сторонником революционных преобразований, но ясно понимал, что начинается новая эпоха всемирной истории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Каково место человека в новой эпохе,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Segoe Print"/>
              </a:rPr>
              <a:t>смысл его жизни</a:t>
            </a: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, его призвание – разрешение этого философского вопроса становится идейной задачей Гете в "Фаусте"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Автор ставит проблему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Segoe Print"/>
              </a:rPr>
              <a:t>активного и пассивного разума</a:t>
            </a: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. Для понимания этой проблемы важен "Пролог на небе", где дана предыстория событий, развертывающихся в трагедии: спор о Фаусте между богом и чертом и предсказания благополучной развязки трагедии. Пролог открывается гимном гармонии Вселенной, движение которой непостижимо и таинственно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Проблематика трагедии «Фауст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Мефистофель в своем монологе в «Прологе на небе» представляет человека как смешного и несчастного чудака, разум которого пассивен. Но среди людей он выделяет доктора Фауста, "не такого, как все". Это одинокий печальный мечтатель, наделенный активным, ищущим разумом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Гете в трагедии "Фауст"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Segoe Print"/>
              </a:rPr>
              <a:t>прославляет активный человеческий разум, искания которого направлены на благо людей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Противостояние Бога и Мефистофел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В  уста господа,  каким  он  представлен  в  "Прологе  на  небе",  Гете   вкладывает собственные воззрения на человека - свою веру в  оптимистическое  разрешение человеческой истори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Мефистофель же утверждает, что на земле дарит лишь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                               </a:t>
            </a: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...беспросветный мрак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                        </a:t>
            </a: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И человеку бедному так худо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                        </a:t>
            </a: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Что даже я щажу его покуда, -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Противостояние Бога и Мефистофел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Господь  выдвигает  в  противовес  жалким,  погрязшим в ничтожестве людям, о которых говорит Мефистофель, ревностного правдоискателя Фауста. 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Убежденный  в  верности своей  игры,  он  заявляет  господу,  что  берется  отбить  у   него   этого "сумасброда"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Господь принимает вызов Мефистофеля. Он  уверен  не  только  в том, что Фауст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                      </a:t>
            </a: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Чутьем, по собственной охоте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                      </a:t>
            </a: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...вырвется из тупика, -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но  и  в  том,  что  Мефистофель  своими  происками  лишь  поможет  упорному правдоискателю достигнуть высшей истины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Образ Фауста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С Фаустом Гете знакомит нас уже в первой сцене первого действия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Фауст стар годами, но не умом, и силы его для исканий еще не иссякли. Он говорит: </a:t>
            </a: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"Мне хочется борьбы, готов я с бурей биться!"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Оказавшись бессильным познать тайну мироздания и место человека в нем с помощью науки, волшебства, магии, доктор Фауст решает умереть. Он уже подносит чашу с ядом к своим устам, но раздается пасхальный звон. Фауст опускает чашу: не религия, не вера останавливает его ("Не имею веры! Могу ли верить я?"). Он вспоминает о своей юност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О нет! Не сделаю я рокового шага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Воспоминанием все муки смягчены!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О звуки дивные, плывете надо мною!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Я слезы лью, мирюсь я с жизнию земною!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Фауст идет к людям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Образ Фауста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Мефистофель говорит, что Фауст не такой, как все люди, и Гете проверяет своего героя через взаимоотношения с народом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Во II сцене ("У городских ворот«) Фауст со своим учеником Вагнером наблюдает за народом, и каждый по-разному к ним относится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Фауст чувствует себя человеком среди крестьян, потому что он лечил их во время эпидемий. Народ благодарит его: "Ученый муж, ты многих спас; живи ж сто лет, спасая нас!»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Вагнер предполагает, что доктор должен быть счастливым человеком, потому что он известный ученый и его так любит народ. Но он не может понять неудовлетворенности Фауста своими знаниями, его скептицизм и печали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Образ Фауста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Сцены III и IV вводят нас в кабинет доктора Фауста. Придя с народного гуляния, он садится за работу – перевод Евангелия с латинского языка на немецкий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Фауст дает свободный перевод Евангелия сообразно со своим мировоззрением материалиста, человека активно умного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Segoe Print"/>
              </a:rPr>
              <a:t>«Вначале было СЛОВО» – «Вначале было ДЕЛО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Образ Мефистофел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Какова в трагедии роль Мефистофеля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Он своим отрицанием все разрушает и тем самым заставляет ищущий разум Фауста стремиться к созиданию, искать положительную истину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Segoe Print"/>
              </a:rPr>
              <a:t>"Я отрицаю все – и в этом суть моя ... " -  "Вот это все – моя стихия»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Но отрицание, разрушение, зло, которое символизирует Мефистофель, не всесильны, и он сам признает это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Цель сделк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Сцена IV дополняет наше представление о Мефистофеле. Вот он перед Фаустом уже не в виде пуделя или студента, а в облике бравого франта. Мефистофель хочет выиграть пари, заключенное с богом: повести Фауста за собой "путем превратным" и завладеть его душой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Условия ставит Фауст. Он хочет земных радостей: "Здесь, на земле, живут мои стремления, под солнцем, здесь, мои мучения"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Главное условие, которое ставит Фауст, – быть довольным собой; </a:t>
            </a:r>
            <a:r>
              <a:rPr b="1" lang="ru-RU" sz="1800" spc="-1" strike="noStrike">
                <a:solidFill>
                  <a:srgbClr val="00b0f0"/>
                </a:solidFill>
                <a:latin typeface="Segoe Print"/>
              </a:rPr>
              <a:t>"И буду я собой доволен сам ... тогда воскликну я: "Мгновенье, прекрасно ты, продлись, постой!".</a:t>
            </a: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Мефистофель соглашается с Фаустом и ставит свое условие: скрепить договор кровью)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Образ Мефистофел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Как характеризует Мефистофеля его разговор с учеником Фауста Вагнером?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Мефистофель умный, злой и насмешливый. Кажется, что он разговаривает с учеником серьезно, предлагая ему на выбор различные факультеты университета, но на самом деле он издевается над зубрежкой, он советует ученику заучивать то, что ему будет твердить учитель, "слово в слово, лишь то, что в книге, – ничего другого.")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Segoe Print"/>
              </a:rPr>
              <a:t>«Суха, мой друг, теория везде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Segoe Print"/>
              </a:rPr>
              <a:t>А древо жизни пышно зеленеет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1374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Segoe Print"/>
              </a:rPr>
              <a:t>«Гёте – это Гомер, это прототип поэта нашего времени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В. Г. Белинский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Образы Фауста и Мефистофел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Гете противопоставляет двух активно умных людей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Фауст ищет истину созидания и стремится принести добро людям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Мефистофель несет зло и разрушени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Тема любви трагедии «Фауст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В своей трагедии Гете уделяет много места теме любви, как источника нравственного перевоспитания своего героя. Именно через любовь к Маргарите, а потом к Елене он дорисовывает облик Фауст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Тема любви в трагедии «Фауст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Маргарита (Гретхен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В нескольких сценах 1 части Гете рассказывает о трагической судьбе Маргариты, ставшей, по замыслу Мефистофеля, жертвой Фауст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Совращение девушки продумано чертом. Фауст якобы случайно знакомится с Маргаритой, он хочет ее проводить, но она убегает. Мефистофель подкладывает ей подарок, он попадает в руки пастора (священнослужителя). Второй подарок Маргарита утаивает от матери и, по совету Марты, соглашается тайно встретиться с Фаустом. Так Мефистофель совращает наивную, чистую девушку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Тема любви в трагедии «Фауст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Маргарита (Гретхен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Маргарита воспитана в домостроевских (строгих) традициях, основанных на вере. Фауста привлекает в Маргарите, прежде всего ее спокойная и ясная душа, искренность. Он не замечает того, что она вместе с тем пассивная представительница мещанской среды. Маргарита не ищет сама и не помогает Фаусту искать выход из ненавистного ему обывательского мира, напротив, она привязывает его к нему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Тема любви в трагедии «Фауст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Маргарита (Гретхен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Какова Маргарита по первому впечатлению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Скромная труженица. Фауст называет ее ангелом, прекрасной. Он сразу говорит ей, что ценит в ней "невинность, простоту, смиренье, скромность чувств невинную ... "). Фауст говорит Маргарите о своей любви, о том, что их "счастье будет бесконечно, а блаженство вечно". Но в этот момент он заблуждается. В любви к ней он не находит счастья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Из его уст рвутся трагические слова, говорящие о его неудовлетворенности: "Для человека, вижу я теперь, нет совершенного", а чуть позднее: "В душе моей давно огонь не блещет"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Тема любви в трагедии «Фауст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Маргарита (Гретхен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В сцене 19 Гете вводит новый персонаж – брата Маргариты, солдата Валентина. Валентин страдает от своего бессилия перед молвой, которая осудила Маргариту за незаконную любовь к Фаусту. Валентин страдает еще и потому, что раньше он мог гордиться своей сестрой, а теперь ему стыдно за нее. Умирая, он говорит Марго об ожидающей ее трагичной участи: грешницу ждет всеобщее презрение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И как мастерски Гете только в двух репликах Маргариты подтверждает ее согласие с братом. Сначала она говорит: "О боже! Брат мой, что такое?" После его монолога – </a:t>
            </a: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"О муки ада! Брат мой, брат!"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Гете вкладывает эти слова в ее уста согласно средневековому поверью: праведники обращаются за помощью к силам небесным, грешники – к силам ада. Так Марго признала перед людьми свой грех. Это же подтверждает сцена 20: под давлением угрызений совести Марго падает без сознания в соборе</a:t>
            </a:r>
            <a:r>
              <a:rPr b="1" lang="ru-RU" sz="2400" spc="-1" strike="noStrike">
                <a:solidFill>
                  <a:srgbClr val="ffffff"/>
                </a:solidFill>
                <a:latin typeface="Segoe Print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Тема любви в трагедии «Фауст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Маргарита (Гретхен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Виновен ли Фауст в трагедии Гретхен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Фауст всегда исчезает в самый трагический для Маргариты момент: он бросает ее с тяжело раненым братом; дает яд ее матери; в тот момент, когда она должна решать судьбу их ребенка; в тюрьме перед казнью. Все это подтверждает эгоизм Фауста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Любовь к Маргарите не могла "окрылять" Фауста на искания, потому что она была ограниченным человеком. Ее удовлетворяло то малое, что она имела, не стремилась к другому, лучшему. В умственном отношении она была ниже Фауста и не могла его понять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Эпизод с Маргаритой важен был для Гете потому, что он смог показать, как в любви к обыкновенной, ограниченной девушке Фауст не нашел смысла своей жизни и не сказал своих "вещих слов"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Тема любви в трагедии «Фауст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Маргарита (Гретхен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Тюрьма. Фауст - свидетель последней ночи Гретхен перед  казнью.  Теперь он готов веем пожертвовать ей, быть может и тем наивысшим - своими поисками. Но она безумна, она не дает увести себя из темницы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Многое в этой последней сцене первой части трагедии - от сцены  безумия Офелии в "Гамлете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Здесь - впервые в западноевропейской литературе - поставлены друг  перед другом  эта  полная  беззащитность  девушки  из  народа  и  это  беспощадное полновластье карающего ее феодального государств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Тема любви в трагедии «Фауст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Маргарита (Гретхен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Виновен ли Фауст в трагедии Гретхен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Автор показал, что из-за Фауста, лишенного чувства долга перед любимой, погибает Маргарита. В любви он был эгоистом, думая только о себе, поэтому потерял свое счастье и свою любимую. В этом эпизоде Гете, несомненно, осуждает своего героя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Тема любви в трагедии «Фауст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Маргарита (Гретхен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Но для Фауста предсмертная агония Маргариты имеет очистительное  значение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Теперь он любит Гретхен чистой, сострадательной любовью. Но  -слишком поздно.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Одно бесспорно: сделать из Фауста беззаботного  "ценителя  красоток"  и тем отвлечь его от поисков  высоких  идеалов  Мефистофелю  не  удалось. Мефистофель должен взяться за новые козни. 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Голос  свыше:  "Спасена!"  -  не только нравственное оправдание Маргариты, но и предвестник  оптимистического разрешения трагеди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14200" y="1052640"/>
            <a:ext cx="59421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Самым грандиозным созданием Гёте бесспорно является его трагедия «Фауст», над которой он работал в течение всей жизни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Основные даты творческой истории «Фауста»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1774—1775 — «Urfaust» (Прафауст)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1790 — издание «Фауста» в виде «отрывка»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1806 — окончание первой части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1808 — выход в свет первой части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1825 — начало работы над второй частью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1826 — окончание «Елены» (первый набросок — 1799)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1830 — «Классическая Вальпургиева ночь»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1831 — «Филемон и Бавкида», окончание «Фауста»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4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81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C:\Documents and Settings\Admin\Рабочий стол\486px-Goethe_(Stieler_1828) (1).jpg"/>
          <p:cNvPicPr/>
          <p:nvPr/>
        </p:nvPicPr>
        <p:blipFill>
          <a:blip r:embed="rId2"/>
          <a:stretch/>
        </p:blipFill>
        <p:spPr>
          <a:xfrm>
            <a:off x="6370560" y="1847880"/>
            <a:ext cx="2633760" cy="3236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Испытание деньгами и славой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Вторая часть "Фауста". Пять больших актов,  связанных  между  собой  не столько  внешним,   сюжетным   единством,   сколько   внутренним   единством драматической идеи и волевого устремления героя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Фауст снова  может  продолжать  свои  мучительные   поиски.   Мефистофель,   ранее познакомивший Фауста с "малым светом", теперь вводит его  в  "большой",  где думает его прельстить блестящей служебной карьерой. Мы при дворе  на  высшей ступени иерархической лестницы Священной Римской импери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Испытание деньгами и славой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Сцена "Императорский дворец" заметно перекликается с "Погребом Ауэрбаха в Лейпциге". Как там, при вступлении в "малый свет", в  общении  с  простыми людьми, с частными лицами, так здесь, при вступлении в  "большой  свет",  на поприще бытия исторического, Мефистофель начинает с  фокусов,  с  обольщения умов непонятными чудесами. Но императорский двор требует  фокусов  не  столь невинного свойства, как те, пущенные в ход в  компании  пирующих  студентов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Любой  пустяк,  любая  пошлость  приобретают  здесь  политическое  значение, принимают государственные масштабы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Тема любви. Значение образа Елены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в трагедии «Фауст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С  "наследственной  щедростью"  одаривает  он  приближенных   бумажными деньгами и требует от Фауста новых увеселений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Тот обещает  ему  вызвать  из царства мертвых легендарных Елену  и  Париса.  Для  этого  он  спускается  в царство таинственных Матерей, хранящих прообразы всего сущего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Для императора и его приближенных, собравшихся в слабо освещенном зале, все это не более чем сеанс салонной магии. Не то для Фауста. Он рвется всеми помыслами к прекраснейшей из женщин, ибо видит в ней совершенное  порождение природы и человеческой культуры: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                      </a:t>
            </a: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Узнав ее, нельзя уж отступиться!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Фауст хочет отнять Елену у призрачного  Париса.  Но  -  громовой  удар; дерзновенный падает без чувств, духи исчезают в тумане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Тема любви. Значение образа Елены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в трагедии «Фауст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Теперь герой одержим идеей найти прекрасную Елену. Его ждёт долгий путь через толщи эпох. Этот путь пролегает через его бывшую рабочую мастерскую, куда перенесёт его в забытьи Мефистофель. Мы вновь встретимся с усердным Вагнером, дожидающимся возвращения учителя. На сей раз учёный педант занят созданьем в колбе искусственного человека, твёрдо полагая, что «прежнее детей прижитье — для нас нелепость, сданная в архив». На глазах усмехающегося Мефистофеля из колбы рождается Гомункул, страдающий от двойственности собственной природы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Тема любви. Значение образа Елены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в трагедии «Фауст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Когда наконец упорный Фауст разыщет прекрасную Елену и соединится с нею и у них родится ребёнок, отмеченный гениальностью, — контраст между этим прекрасным плодом живой любви и несчастным Гомункулом выявится с особой силой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Однако прекрасный Эвфорион недолго проживёт на земле. Его манят борьба и вызов стихиям. «Я не зритель посторонний, а участник битв земных», — заявляет он родителям. Он уносится ввысь и исчезает, оставляя в воздухе светящийся след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Тема любви. Значение образа Елены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в трагедии «Фауст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Истинный смысл всей  темы  Елены  раскрывается  в  финале  действия,  в эпизоде  с  Эвфорионом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В общении с Еленой Фауст перестает тосковать по бесконечному. Он мог бы уже теперь "возвеличить миг", если бы его  счастье  не  было  только  лживым сном.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Гибель  Эвфориона, дерзнувшего   вопреки   родительской   воле   покинуть   отцовский    замок, восстанавливает в этом заколдованном царстве законы времени и тлена,  и  они вмиг рассеивают лживые чары. </a:t>
            </a:r>
            <a:r>
              <a:rPr b="1" lang="ru-RU" sz="1800" spc="-1" strike="noStrike">
                <a:solidFill>
                  <a:srgbClr val="00b0f0"/>
                </a:solidFill>
                <a:latin typeface="Segoe Print"/>
              </a:rPr>
              <a:t>"Елена обнимает Фауста, телесное исчезает"</a:t>
            </a: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Тема любви. Значение образа Елены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в трагедии «Фауст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Философский   смысл,   который вкладывает поэт в этот драматический эпизод, сводится  к  следующему:  можно укрыться от  времени,  наслаждаясь  однажды  созданной  красотой,  но  такое "пребывание в эстетическом" может  быть  только  пассивным,  созерцательным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Художник, сам творящий искусство, - всегда борец среди борцов своего времени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Итог жизненных исканий Фауст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Далее Фауст помогает императору, которому дела с ценными бумагами вышли боком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После Фауст жаждет приступить к осуществлению своего заветного замысла, однако ему мешает пустяк. На месте будущей плотины стоит хижина старых бедняков — Филемона и Бавкиды. Упрямые старики не желают поменять своё жилище. Тогда Мефистофель расправляется с ними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Испытывая в очередной раз горечь от непоправимости случившегося, Фауст восклицает: «Я мену предлагал со мной, а не насилье, не разбой. За глухоту к моим словам проклятье вам, проклятье вам!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Итог жизненных исканий Фауст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Эта жизнь во имя обогащения не по сердцу гуманисту Фаусту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Он испытывает усталость. Он снова стар и чувствует, что жизнь опять подходит к концу. Все его стремленья сосредоточены теперь в достижении мечты о плотине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Его ждёт ещё один удар — Фауст слепнет. Но им овладевает неистовая радость и энергия — он понимает, что заветная цель уже брезжит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Незрячему Фаусту невдомёк, что Мефистофель сыграл с ним коварную штуку. Вокруг Фауста копошатся в земле не строители, а лемуры, злые духи. По указке дьявола они роют Фаусту могилу. Герой между тем исполнен счастья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Итог жизненных исканий Фауст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Пройдя череду испытаний, он видит перед собою не разрушение, а грядущее созидание, к которому он думает теперь приступить: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Вот мысль, которой весь я предан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Итог всего, что ум скопил: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Лишь тот, кем бой за жизнь изведан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Жизнь и свободу заслужил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Так именно, вседневно, ежегодно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Трудясь, борясь, опасностью шутя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Пускай живут муж, старец и дитя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Народ свободный на земле свободной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Увидеть я б хотел в такие дн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Тогда бы мог воскликнуть я: "Мгновенье!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О, как прекрасно ты, повремени!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Воплощены следы моих борений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И не сотрутся никогда они"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И, это торжество предвосхищая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Segoe Print"/>
              </a:rPr>
              <a:t>Я высший миг сейчас переживаю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Связь трагедии «Фауст» с эпохой Просвещени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Print"/>
              </a:rPr>
              <a:t>Просветители боролись за свободу, равенство и справедливость для всех сословий в будущем буржуазном обществ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Print"/>
              </a:rPr>
              <a:t>"Религия, понимание природы, общество, государственный строй – все было подвергнуто самой беспощадной критике ... ", – писал Ф.Энгельс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Print"/>
              </a:rPr>
              <a:t>Просвещение в Германии, на родине Гете, носило умеренный характер. С конца XV</a:t>
            </a:r>
            <a:r>
              <a:rPr b="0" lang="en-US" sz="1800" spc="-1" strike="noStrike">
                <a:solidFill>
                  <a:srgbClr val="ffffff"/>
                </a:solidFill>
                <a:latin typeface="Segoe Print"/>
              </a:rPr>
              <a:t>I</a:t>
            </a:r>
            <a:r>
              <a:rPr b="0" lang="ru-RU" sz="1800" spc="-1" strike="noStrike">
                <a:solidFill>
                  <a:srgbClr val="ffffff"/>
                </a:solidFill>
                <a:latin typeface="Segoe Print"/>
              </a:rPr>
              <a:t> века Германия стала отставать в своем экономическом развитии от других европейских стран (перемещение торговых путей к Атлантическому океану). 30-ти летняя война (1618 – 1648 гг.), а затем междоусобные войны окончательно разорили ее экономику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Print"/>
              </a:rPr>
              <a:t>Германия представляла собой политически раздробленную страну. В ее состав входило более трехсот самостоятельных владений. В немецких княжествах царил жестокий режим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Итог жизненных исканий Фауст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Теперь он понимает, что не власть, не богатство, не слава, даже не обладание самой прекрасной на земле женщиной дарует подлинно высший миг существования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Только общее деяние, одинаково нужное всем и осознанное каждым, может придать жизни высшую полноту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Так протягивается смысловой мост к открытию, сделанному Фаустом ещё до встречи с Мефистофелем: </a:t>
            </a:r>
            <a:r>
              <a:rPr b="1" lang="ru-RU" sz="1800" spc="-1" strike="noStrike">
                <a:solidFill>
                  <a:srgbClr val="00b0f0"/>
                </a:solidFill>
                <a:latin typeface="Segoe Print"/>
              </a:rPr>
              <a:t>«В начале было дело». </a:t>
            </a: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Он понимает, </a:t>
            </a:r>
            <a:r>
              <a:rPr b="1" lang="ru-RU" sz="1800" spc="-1" strike="noStrike">
                <a:solidFill>
                  <a:srgbClr val="00b0f0"/>
                </a:solidFill>
                <a:latin typeface="Segoe Print"/>
              </a:rPr>
              <a:t>«лишь тот, кем бой за жизнь изведан, жизнь и свободу заслужил»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Итог жизненных исканий Фауст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Этот гениальный предсмертный монолог обретенного пути возвращает нас  к сцене в ночь перед пасхой из первой части трагедии, когда  Фауст,  умиленный народным ликованием,  отказывается  испить  чашу  с  ядом.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И  здесь,  перед смертью, Фауста охватывает то же чувство  единения  с  народом,  но  уже  не смутное, а до конца ясное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Итог жизненных исканий Фауст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Фауст произносит сокровенные слова о том, что он переживает свой высший миг и что </a:t>
            </a:r>
            <a:r>
              <a:rPr b="1" lang="ru-RU" sz="2000" spc="-1" strike="noStrike">
                <a:solidFill>
                  <a:srgbClr val="00b0f0"/>
                </a:solidFill>
                <a:latin typeface="Segoe Print"/>
              </a:rPr>
              <a:t>«народ свободный на земле свободной»</a:t>
            </a: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 представляется ему такой грандиозной картиной, что он мог бы остановить это мгновени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Итог жизненных исканий Фауст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Фауст падает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Но по сути он не побежден, ибо его упоение мигом не  куплено  ценою  отказа  от  бесконечного совершенствования  человечества  и  человека.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Настоящее  и  будущее   здесь сливаются в некоем высшем единстве;  "две  души"  Фауста,  созерцательная  и действенная, воссоединяются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Segoe Print"/>
              </a:rPr>
              <a:t>"В начале было дело"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Оно-то и привело Фауста к познанию высшей цели человеческого развития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Итог жизненных исканий Фауст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В последнюю минуту ангелы уносят душу Фауста прямо перед носом дьявола. Впервые Мефистофелю изменяет самообладание, он неистовствует и проклинает сам себя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Мефистофель,  делавший  ставку   на   "конечность"   Фаустовой   жизни, оказывается посрамленным, ибо Фаусту, по мысли  Гете,  удается  жить  жизнью всего человечества, включая грядущие поколения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Душа Фауста спасена, а значит, его жизнь в конечном счёте оправдана. За гранью земного существования его душа встречается с душой Гретхен, которая становится его проводником в ином мир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Итог жизненных исканий Фауст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Но почему Фауст в миг своего высшего прозрения выведен слепцом?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Гете был величайшим реалистом и никому не хотел  внушить, что грандиозное видение Фауста где-то на земле уже  стало  реальностью.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То, что открывается незрячим глазам Фауста, - это не настоящее, это  -  будуще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Фауст видит неизбежный путь развития окружающей его действительности. Но это видение будущего не лежит на поверхности,  воспринимается  не  чувственно  - глазами,  а   ясновидящим   разумом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Итог жизненных исканий Фауст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Мефистофель,  делавший  ставку   на   "конечность"   Фаустовой   жизни, оказывается посрамленным, ибо Фаусту, по мысли  Гете,  удается  жить  жизнью всего человечества, включая грядущие поколения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Итог жизненных исканий Фауст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Великий оптимизм заложен в  "Фауста"  Гете, это безграничная вера в лучшее будущее человечеств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94920" y="691920"/>
            <a:ext cx="8280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egoe Print"/>
              </a:rPr>
              <a:t>Тема «Фауста» сопровождала Гёте почти всю жизнь. Он посвятил этой теме почти 60 лет, с 1773 по 1891 годы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egoe Print"/>
              </a:rPr>
              <a:t>Его Фауст образец творческой личности. Его стремление к знаниям, к самоусовершенствованию, к общественной деятельности - пример живущим поколениям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50920" y="1125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В «Фаусте» оказались органически слиты самые разные элементы - начало драмы, лирики и эпос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«Фауст» включает с себя элементы, различные и по своей художественной природе: реально - бытовые,лирические трагические, фантастические. 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Интимная лирика, гражданский пафос, философские раздумья, острая сатира, описание природы, народный  юмор всё  это  есть в Фаусте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57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Связь трагедии «Фауст» с эпохой Просвещени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Князья, утопая в разврате и удовольствии, представляли неограниченную власть своим министрам и чиновникам, которые получали возможность угнетать несчастный народ безжалостно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В Германии не было такой общественной силы, которая могла бы противостоять феодально-абсолютистскому режиму. Ни народ, ни немецкие буржуа не могли активно включиться в политическую борьбу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В этих условиях в Германии особенно обострялось национальное чувство, стремление возродить героический дух немецкого народа и национальную немецкую культуру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Связь трагедии «Фауст» с эпохой Просвещени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Гете не искал выхода из сложившихся условий в борьбе народных масс. Он видел выход только в личной деятельности и в нравственном перевоспитании человека, в развитии в нем чувства коллективизма и отказа от эгоистических, собственнических интересов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Идея "Фауста" владела сознанием Гете всю его жизнь (с 1774 г. – 1830 г.). Это говорит о том, что ему был близок образ искателя истины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Связь трагедии «Фауст» с эпохой Просвещени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Гетевский "Фауст" - глубоко национальная драма.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Национален  уже  самый душевный  конфликт  ее  героя,  строптивого   Фауста,   восставшего   против прозябания в гнусной немецкой действительности во  имя  свободы  действия  и мысли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Print"/>
              </a:rPr>
              <a:t>Таковы были стремления не только людей  мятежного  XVI  века;  те  же мечты владели сознанием и всего поколения "Бури и натиска", вместе с которым Гете выступил на литературном поприщ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Прототип Фауст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Смелость этого замысла заключалась уже в том,  что  предметом  «Фауста» служил не один какой-либо жизненный конфликт, а последовательная, неизбежная цепь глубоких конфликтов на протяжении единого жизненного пут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Такой план трагедии, противоречивший всем принятым  правилам  драматического искусства, позволил Гете вложить в "Фауста" всю свою  житейскую  мудрость  и большую часть исторического опыта своего времен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Сам образ Фауста -  не  оригинальное  изобретение  Гете.  Этот  образ возник в недрах народного  творчества  и  только  позднее  вошел  в  книжную литературу.      Герой народной легенды, доктор Иоганн Фауст  -  лицо  историческое.  Он скитался по городам протестантской Германии  в  бурную  эпоху  Реформации  и крестьянских войн. Был ли он только ловким шарлатаном,  или  вправду  ученым врачом и смелым естествоиспытателем, пока не установлено. 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78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Композиция трагедии «Фауст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Свою трагедию "Фауст" Гете построил очень своеобразно. Она имеет две композиции: внешнюю и внутреннюю. Внешняя композиция: два пролога (пролог в театре и пролог на небе) и две част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Внутренняя композиция основана на резком контрасте верхов и низов общества. В первой части Гете показывает жизнь третьего сословия в маленьком немецком городке в эпоху средневековья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Во второй части Гете знакомит читателей с жизнью верхов общества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Print"/>
              </a:rPr>
              <a:t>Гете обличает "мир" верхов. Он не изображает и не упоминает ни одного исторического события, но все идеи, выраженные в трагедии, соотносятся с эпохой Гете, эпохой больших революционных сдвигов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</dc:creator>
  <dc:description/>
  <dc:language>en-US</dc:language>
  <cp:lastModifiedBy>Учитель</cp:lastModifiedBy>
  <dcterms:modified xsi:type="dcterms:W3CDTF">2015-10-14T19:02:35Z</dcterms:modified>
  <cp:revision>43</cp:revision>
  <dc:subject/>
  <dc:title>Фауст</dc:title>
</cp:coreProperties>
</file>