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18F-89AF-4EB4-A757-ED55547F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08B-33B6-4A09-944A-85E1283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314-2BA8-418B-915F-984F359C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D78-6CE9-44FD-A898-0DC36747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9A14F-CBEE-49DD-96DA-667F4BA5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276B4-F338-4F6F-81E9-AC3847FB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4A946-1A7C-4C93-94E3-C84DAF2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A1406-C0E2-468C-BC5D-82A77E5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4C179-8C4B-44D6-8396-895C6919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4758-CDA7-4A89-8893-E76D8387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1C4CA-2A1E-4210-9EBF-B3977F3B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54E-F7D9-4BBF-935C-7702A34F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58274-6F96-4581-88C1-4C710FF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590C7-B08A-4C96-A326-3345D9C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B2F6F-2A03-449F-B4F5-D26070B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7CA90-9140-4AE0-8331-9681E9E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C81A7-61F6-4B76-9C04-67AE74F7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6872-6CDF-4265-9C13-54B12084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CCA0-E229-4E1E-B8D3-63578541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5CE0-98F8-4BBA-9F87-9E8478C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1D33-9D5D-445F-AC44-6856D461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830F-2FFB-4E5A-92D9-92C7C63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7B5-9215-4F67-9E48-84829FC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296F-57D7-4FF3-B3B0-B34D0AB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D43E-C0DE-4618-B7A0-345BEA74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4C55-DF31-4C2B-8004-7AF62AA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6CAD-719B-4A3F-838E-1D3D9D5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F06D-6C4B-4AC2-B2D0-94DADA7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EBD0-EFDA-4025-A24A-B8177D5C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3E2A-1C98-4E0C-A6B8-C9F6C571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6859B-0F50-4D7B-8DFB-7405F357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39709-D7BE-4883-9B7A-5FED687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6985C-BCA1-4894-98AB-7CEA066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8F3-9376-4630-8BD4-F05965B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E612F-8384-40F6-8088-1764C4A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C0271-E67A-4DC3-9E97-BFCC5BB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A13FD-AD40-4104-AFF8-6BBB3748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65C6B-831F-49A5-8548-0AE0ACF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CCE8E-93C6-4C72-ADD6-56146E9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E2162-85B4-4C79-B9B2-EEDA798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01F19-A367-40EB-8338-3E74988F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25F43-CB9E-4050-B5ED-6303890F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4B422-1F84-4AEB-8F64-8BB6B3E1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523-F152-46FE-ABAA-A0DF04B2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5ED-CBAC-46ED-B282-8703445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D5D-3445-4C7A-B2F3-5C7B5A4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764-A467-4F93-A9F7-5EE305E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43B-72B5-437C-856A-43F8DD9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4AF-F72D-4630-A884-0A3511DACFF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9560-52CB-480D-A01C-86378F5C6DC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0A8-E077-4741-A939-0CAD29432C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B8EC-41EC-4CF7-9616-BDA5A2C67AF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14360" y="158760"/>
            <a:ext cx="8547120" cy="3479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Заруба\1085.jpg"/>
          <p:cNvPicPr/>
          <p:nvPr/>
        </p:nvPicPr>
        <p:blipFill>
          <a:blip r:embed="rId2"/>
          <a:stretch/>
        </p:blipFill>
        <p:spPr>
          <a:xfrm>
            <a:off x="2340000" y="393372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не был сторонником революционных преобразований, но ясно понимал, что начинается новая эпоха всемирной истори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о место человека в новой эпохе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смысл его жизни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, его призвание – разрешение этого философского вопроса становится идейной задачей Гете в "Фаусте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Автор ставит проблему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активного и пассивного разума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 Для понимания этой проблемы важен "Пролог на небе", где дана предыстория событий, развертывающихся в трагедии: спор о Фаусте между богом и чертом и предсказания благополучной развязки трагедии. Пролог открывается гимном гармонии Вселенной, движение которой непостижимо и таинственн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в своем монологе в «Прологе на небе» представляет человека как смешного и несчастного чудака, разум которого пассивен. Но среди людей он выделяет доктора Фауста, "не такого, как все". Это одинокий печальный мечтатель, наделенный активным, ищущим разум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 трагедии "Фауст"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Segoe Print"/>
              </a:rPr>
              <a:t>прославляет активный человеческий разум, искания которого направлены на благо люде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 уста господа,  каким  он  представлен  в  "Прологе  на  небе",  Гете   вкладывает собственные воззрения на человека - свою веру в  оптимистическое  разрешение человеческой исто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же утверждает, что на земле дарит лиш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беспросветный мра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человеку бедному так худ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то даже я щажу его покуд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 выдвигает  в  противовес  жалким,  погрязшим в ничтожестве людям, о которых говорит Мефистофель, ревностного правдоискателя Фауста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Убежденный  в  верности своей  игры,  он  заявляет  господу,  что  берется  отбить  у   него   этого "сумасброда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принимает вызов Мефистофеля. Он  уверен  не  только  в том, что Фаус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утьем, по собственной охот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вырвется из тупик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 и  в  том,  что  Мефистофель  своими  происками  лишь  поможет  упорному правдоискателю достигнуть высшей ист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Фаустом Гете знакомит нас уже в первой сцене первого действ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тар годами, но не умом, и силы его для исканий еще не иссякли. Он говорит: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Мне хочется борьбы, готов я с бурей биться!"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казавшись бессильным познать тайну мироздания и место человека в нем с помощью науки, волшебства, магии, доктор Фауст решает умереть. Он уже подносит чашу с ядом к своим устам, но раздается пасхальный звон. Фауст опускает чашу: не религия, не вера останавливает его ("Не имею веры! Могу ли верить я?"). Он вспоминает о своей юно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нет! Не сделаю я рокового шага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споминанием все муки смягчены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звуки дивные, плывете надо 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слезы лью, мирюсь я с жизнию зе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идет к людя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говорит, что Фауст не такой, как все люди, и Гете проверяет своего героя через взаимоотношения с народ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II сцене ("У городских ворот«) Фауст со своим учеником Вагнером наблюдает за народом, и каждый по-разному к ним относи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чувствует себя человеком среди крестьян, потому что он лечил их во время эпидемий. Народ благодарит его: "Ученый муж, ты многих спас; живи ж сто лет, спасая нас!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агнер предполагает, что доктор должен быть счастливым человеком, потому что он известный ученый и его так любит народ. Но он не может понять неудовлетворенности Фауста своими знаниями, его скептицизм и печал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ы III и IV вводят нас в кабинет доктора Фауста. Придя с народного гуляния, он садится за работу – перевод Евангелия с латинского языка на немецк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дает свободный перевод Евангелия сообразно со своим мировоззрением материалиста, человека активно умн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Вначале было СЛОВО» – «Вначале было ДЕЛ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а в трагедии роль Мефистофел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н своим отрицанием все разрушает и тем самым заставляет ищущий разум Фауста стремиться к созиданию, искать положительную исти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Я отрицаю все – и в этом суть моя ... " -  "Вот это все – моя стихия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отрицание, разрушение, зло, которое символизирует Мефистофель, не всесильны, и он сам признает эт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Цель сдел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цена IV дополняет наше представление о Мефистофеле. Вот он перед Фаустом уже не в виде пуделя или студента, а в облике бравого франта. Мефистофель хочет выиграть пари, заключенное с богом: повести Фауста за собой "путем превратным" и завладеть его душ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Условия ставит Фауст. Он хочет земных радостей: "Здесь, на земле, живут мои стремления, под солнцем, здесь, мои мучения"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лавное условие, которое ставит Фауст, – быть довольным собой;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И буду я собой доволен сам ... тогда воскликну я: "Мгновенье, прекрасно ты, продлись, постой!".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соглашается с Фаустом и ставит свое условие: скрепить договор кровью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 характеризует Мефистофеля его разговор с учеником Фауста Вагнером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умный, злой и насмешливый. Кажется, что он разговаривает с учеником серьезно, предлагая ему на выбор различные факультеты университета, но на самом деле он издевается над зубрежкой, он советует ученику заучивать то, что ему будет твердить учитель, "слово в слово, лишь то, что в книге, – ничего другого."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Суха, мой друг, теория везд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А древо жизни пышно зеленеет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137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egoe Print"/>
              </a:rPr>
              <a:t>«Гёте – это Гомер, это прототип поэта нашего времен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. Г. Белински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ы Фауст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противопоставляет двух активно умных люд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Фауст ищет истину созидания и стремится принести добро людя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ефистофель несет зло и разруш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своей трагедии Гете уделяет много места теме любви, как источника нравственного перевоспитания своего героя. Именно через любовь к Маргарите, а потом к Елене он дорисовывает облик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нескольких сценах 1 части Гете рассказывает о трагической судьбе Маргариты, ставшей, по замыслу Мефистофеля, жертвой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Совращение девушки продумано чертом. Фауст якобы случайно знакомится с Маргаритой, он хочет ее проводить, но она убегает. Мефистофель подкладывает ей подарок, он попадает в руки пастора (священнослужителя). Второй подарок Маргарита утаивает от матери и, по совету Марты, соглашается тайно встретиться с Фаустом. Так Мефистофель совращает наивную, чистую девуш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аргарита воспитана в домостроевских (строгих) традициях, основанных на вере. Фауста привлекает в Маргарите, прежде всего ее спокойная и ясная душа, искренность. Он не замечает того, что она вместе с тем пассивная представительница мещанской среды. Маргарита не ищет сама и не помогает Фаусту искать выход из ненавистного ему обывательского мира, напротив, она привязывает его к не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ова Маргарита по первому впечатлению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кромная труженица. Фауст называет ее ангелом, прекрасной. Он сразу говорит ей, что ценит в ней "невинность, простоту, смиренье, скромность чувств невинную ... "). Фауст говорит Маргарите о своей любви, о том, что их "счастье будет бесконечно, а блаженство вечно". Но в этот момент он заблуждается. В любви к ней он не находит счаст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з его уст рвутся трагические слова, говорящие о его неудовлетворенности: "Для человека, вижу я теперь, нет совершенного", а чуть позднее: "В душе моей давно огонь не блещет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сцене 19 Гете вводит новый персонаж – брата Маргариты, солдата Валентина. Валентин страдает от своего бессилия перед молвой, которая осудила Маргариту за незаконную любовь к Фаусту. Валентин страдает еще и потому, что раньше он мог гордиться своей сестрой, а теперь ему стыдно за нее. Умирая, он говорит Марго об ожидающей ее трагичной участи: грешницу ждет всеобщее презрени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как мастерски Гете только в двух репликах Маргариты подтверждает ее согласие с братом. Сначала она говорит: "О боже! Брат мой, что такое?" После его монолога –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О муки ада! Брат мой, брат!"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кладывает эти слова в ее уста согласно средневековому поверью: праведники обращаются за помощью к силам небесным, грешники – к силам ада. Так Марго признала перед людьми свой грех. Это же подтверждает сцена 20: под давлением угрызений совести Марго падает без сознания в соборе</a:t>
            </a: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всегда исчезает в самый трагический для Маргариты момент: он бросает ее с тяжело раненым братом; дает яд ее матери; в тот момент, когда она должна решать судьбу их ребенка; в тюрьме перед казнью. Все это подтверждает эгоизм Фауст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вь к Маргарите не могла "окрылять" Фауста на искания, потому что она была ограниченным человеком. Ее удовлетворяло то малое, что она имела, не стремилась к другому, лучшему. В умственном отношении она была ниже Фауста и не могла его поня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Эпизод с Маргаритой важен был для Гете потому, что он смог показать, как в любви к обыкновенной, ограниченной девушке Фауст не нашел смысла своей жизни и не сказал своих "вещих слов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юрьма. Фауст - свидетель последней ночи Гретхен перед  казнью.  Теперь он готов веем пожертвовать ей, быть может и тем наивысшим - своими поисками. Но она безумна, она не дает увести себя из тем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ногое в этой последней сцене первой части трагедии - от сцены  безумия Офелии в "Гамлет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Здесь - впервые в западноевропейской литературе - поставлены друг  перед другом  эта  полная  беззащитность  девушки  из  народа  и  это  беспощадное полновластье карающего ее феодального государ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Автор показал, что из-за Фауста, лишенного чувства долга перед любимой, погибает Маргарита. В любви он был эгоистом, думая только о себе, поэтому потерял свое счастье и свою любимую. В этом эпизоде Гете, несомненно, осуждает своего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для Фауста предсмертная агония Маргариты имеет очистительное  значен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еперь он любит Гретхен чистой, сострадательной любовью. Но  -слишком поздно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дно бесспорно: сделать из Фауста беззаботного  "ценителя  красоток"  и тем отвлечь его от поисков  высоких  идеалов  Мефистофелю  не  удалось. Мефистофель должен взяться за новые козни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лос  свыше:  "Спасена!"  -  не только нравственное оправдание Маргариты, но и предвестник  оптимистического разрешения трагед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052640"/>
            <a:ext cx="5942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амым грандиозным созданием Гёте бесспорно является его трагедия «Фауст», над которой он работал в течение всей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сновные даты творческой истории «Фауста»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74—1775 — «Urfaust» (Прафауст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90 — издание «Фауста» в виде «отрывка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6 — окончание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8 — выход в свет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5 — начало работы над второй частью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6 — окончание «Елены» (первый набросок — 1799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0 — «Классическая Вальпургиева ночь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1 — «Филемон и Бавкида», окончание «Фауста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Admin\Рабочий стол\486px-Goethe_(Stieler_1828) (1).jpg"/>
          <p:cNvPicPr/>
          <p:nvPr/>
        </p:nvPicPr>
        <p:blipFill>
          <a:blip r:embed="rId2"/>
          <a:stretch/>
        </p:blipFill>
        <p:spPr>
          <a:xfrm>
            <a:off x="6370560" y="1847880"/>
            <a:ext cx="263376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торая часть "Фауста". Пять больших актов,  связанных  между  собой  не столько  внешним,   сюжетным   единством,   сколько   внутренним   единством драматической идеи и волевого устремления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нова  может  продолжать  свои  мучительные   поиски.   Мефистофель,   ранее познакомивший Фауста с "малым светом", теперь вводит его  в  "большой",  где думает его прельстить блестящей служебной карьерой. Мы при дворе  на  высшей ступени иерархической лестницы Священной Римской импе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а "Императорский дворец" заметно перекликается с "Погребом Ауэрбаха в Лейпциге". Как там, при вступлении в "малый свет", в  общении  с  простыми людьми, с частными лицами, так здесь, при вступлении в  "большой  свет",  на поприще бытия исторического, Мефистофель начинает с  фокусов,  с  обольщения умов непонятными чудесами. Но императорский двор требует  фокусов  не  столь невинного свойства, как те, пущенные в ход в  компании  пирующих  студент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й  пустяк,  любая  пошлость  приобретают  здесь  политическое  значение, принимают государственные масштаб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 "наследственной  щедростью"  одаривает  он  приближенных   бумажными деньгами и требует от Фауста новых увеселени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от обещает  ему  вызвать  из царства мертвых легендарных Елену  и  Париса.  Для  этого  он  спускается  в царство таинственных Матерей, хранящих прообразы всего сущ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Для императора и его приближенных, собравшихся в слабо освещенном зале, все это не более чем сеанс салонной магии. Не то для Фауста. Он рвется всеми помыслами к прекраснейшей из женщин, ибо видит в ней совершенное  порождение природы и человеческой культуры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знав ее, нельзя уж отступиться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хочет отнять Елену у призрачного  Париса.  Но  -  громовой  удар; дерзновенный падает без чувств, духи исчезают в туман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герой одержим идеей найти прекрасную Елену. Его ждёт долгий путь через толщи эпох. Этот путь пролегает через его бывшую рабочую мастерскую, куда перенесёт его в забытьи Мефистофель. Мы вновь встретимся с усердным Вагнером, дожидающимся возвращения учителя. На сей раз учёный педант занят созданьем в колбе искусственного человека, твёрдо полагая, что «прежнее детей прижитье — для нас нелепость, сданная в архив». На глазах усмехающегося Мефистофеля из колбы рождается Гомункул, страдающий от двойственности собственной природ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огда наконец упорный Фауст разыщет прекрасную Елену и соединится с нею и у них родится ребёнок, отмеченный гениальностью, — контраст между этим прекрасным плодом живой любви и несчастным Гомункулом выявится с особой сил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днако прекрасный Эвфорион недолго проживёт на земле. Его манят борьба и вызов стихиям. «Я не зритель посторонний, а участник битв земных», — заявляет он родителям. Он уносится ввысь и исчезает, оставляя в воздухе светящийся след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тинный смысл всей  темы  Елены  раскрывается  в  финале  действия,  в эпизоде  с  Эвфорионом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общении с Еленой Фауст перестает тосковать по бесконечному. Он мог бы уже теперь "возвеличить миг", если бы его  счастье  не  было  только  лживым сн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ибель  Эвфориона, дерзнувшего   вопреки   родительской   воле   покинуть   отцовский    замок, восстанавливает в этом заколдованном царстве законы времени и тлена,  и  они вмиг рассеивают лживые чары.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Елена обнимает Фауста, телесное исчезает"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илософский   смысл,   который вкладывает поэт в этот драматический эпизод, сводится  к  следующему:  можно укрыться от  времени,  наслаждаясь  однажды  созданной  красотой,  но  такое "пребывание в эстетическом" может  быть  только  пассивным,  созерцательны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Художник, сам творящий искусство, - всегда борец среди борцов своего време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алее Фауст помогает императору, которому дела с ценными бумагами вышли бок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После Фауст жаждет приступить к осуществлению своего заветного замысла, однако ему мешает пустяк. На месте будущей плотины стоит хижина старых бедняков — Филемона и Бавкиды. Упрямые старики не желают поменять своё жилище. Тогда Мефистофель расправляется с ним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пытывая в очередной раз горечь от непоправимости случившегося, Фауст восклицает: «Я мену предлагал со мной, а не насилье, не разбой. За глухоту к моим словам проклятье вам, проклятье вам!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а жизнь во имя обогащения не по сердцу гуманисту Фаус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испытывает усталость. Он снова стар и чувствует, что жизнь опять подходит к концу. Все его стремленья сосредоточены теперь в достижении мечты о плотин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Его ждёт ещё один удар — Фауст слепнет. Но им овладевает неистовая радость и энергия — он понимает, что заветная цель уже брезжи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езрячему Фаусту невдомёк, что Мефистофель сыграл с ним коварную штуку. Вокруг Фауста копошатся в земле не строители, а лемуры, злые духи. По указке дьявола они роют Фаусту могилу. Герой между тем исполнен счасть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ройдя череду испытаний, он видит перед собою не разрушение, а грядущее созидание, к которому он думает теперь приступить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т мысль, которой весь я пр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тог всего, что ум скопил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Лишь тот, кем бой за жизнь изв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Жизнь и свободу заслужи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ак именно, вседневно, ежегодн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рудясь, борясь, опасностью шут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Пускай живут муж, старец и дит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Народ свободный на земле свобод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видеть я б хотел в такие д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огда бы мог воскликнуть я: "Мгновень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, как прекрасно ты, повремени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площены следы моих боре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не сотрутся никогда они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, это торжество предвосхища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высший миг сейчас пережива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тители боролись за свободу, равенство и справедливость для всех сословий в будущем буржуазном обществ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"Религия, понимание природы, общество, государственный строй – все было подвергнуто самой беспощадной критике ... ", – писал Ф.Энгельс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щение в Германии, на родине Гете, носило умеренный характер. С конца XV</a:t>
            </a:r>
            <a:r>
              <a:rPr b="0" lang="en-US" sz="1800" spc="-1" strike="noStrike">
                <a:solidFill>
                  <a:srgbClr val="ffffff"/>
                </a:solidFill>
                <a:latin typeface="Segoe Print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 века Германия стала отставать в своем экономическом развитии от других европейских стран (перемещение торговых путей к Атлантическому океану). 30-ти летняя война (1618 – 1648 гг.), а затем междоусобные войны окончательно разорили ее экономик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Германия представляла собой политически раздробленную страну. В ее состав входило более трехсот самостоятельных владений. В немецких княжествах царил жестокий реж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он понимает, что не власть, не богатство, не слава, даже не обладание самой прекрасной на земле женщиной дарует подлинно высший миг существ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лько общее деяние, одинаково нужное всем и осознанное каждым, может придать жизни высшую полнот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 протягивается смысловой мост к открытию, сделанному Фаустом ещё до встречи с Мефистофелем: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В начале было дело».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понимает,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лишь тот, кем бой за жизнь изведан, жизнь и свободу заслужил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от гениальный предсмертный монолог обретенного пути возвращает нас  к сцене в ночь перед пасхой из первой части трагедии, когда  Фауст,  умиленный народным ликованием,  отказывается  испить  чашу  с  яд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  здесь,  перед смертью, Фауста охватывает то же чувство  единения  с  народом,  но  уже  не смутное, а до конца ясно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роизносит сокровенные слова о том, что он переживает свой высший миг и что </a:t>
            </a: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народ свободный на земле свободной»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представляется ему такой грандиозной картиной, что он мог бы остановить это мгнов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адае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 сути он не побежден, ибо его упоение мигом не  куплено  ценою  отказа  от  бесконечного совершенствования  человечества  и  человек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стоящее  и  будущее   здесь сливаются в некоем высшем единстве;  "две  души"  Фауста,  созерцательная  и действенная, воссоединяютс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В начале было дело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о-то и привело Фауста к познанию высшей цели человеческого развит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последнюю минуту ангелы уносят душу Фауста прямо перед носом дьявола. Впервые Мефистофелю изменяет самообладание, он неистовствует и проклинает сам себ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уша Фауста спасена, а значит, его жизнь в конечном счёте оправдана. За гранью земного существования его душа встречается с душой Гретхен, которая становится его проводником в ином мир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чему Фауст в миг своего высшего прозрения выведен слепцом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 был величайшим реалистом и никому не хотел  внушить, что грандиозное видение Фауста где-то на земле уже  стало  реальностью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, что открывается незрячим глазам Фауста, - это не настоящее, это  -  будуще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видит неизбежный путь развития окружающей его действительности. Но это видение будущего не лежит на поверхности,  воспринимается  не  чувственно  - глазами,  а   ясновидящим   разум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еликий оптимизм заложен в  "Фауста"  Гете, это безграничная вера в лучшее будущее человече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Тема «Фауста» сопровождала Гёте почти всю жизнь. Он посвятил этой теме почти 60 лет, с 1773 по 1891 годы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«Фаусте» оказались органически слиты самые разные элементы - начало драмы, лирики и эпос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«Фауст» включает с себя элементы, различные и по своей художественной природе: реально - бытовые,лирические трагические, фантастические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нтимная лирика, гражданский пафос, философские раздумья, острая сатира, описание природы, народный  юмор всё  это  есть в Фауст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нязья, утопая в разврате и удовольствии, представляли неограниченную власть своим министрам и чиновникам, которые получали возможность угнетать несчастный народ безжалост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Германии не было такой общественной силы, которая могла бы противостоять феодально-абсолютистскому режиму. Ни народ, ни немецкие буржуа не могли активно включиться в политическую борьб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этих условиях в Германии особенно обострялось национальное чувство, стремление возродить героический дух немецкого народа и национальную немецкую культу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не искал выхода из сложившихся условий в борьбе народных масс. Он видел выход только в личной деятельности и в нравственном перевоспитании человека, в развитии в нем чувства коллективизма и отказа от эгоистических, собственнических интерес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Идея "Фауста" владела сознанием Гете всю его жизнь (с 1774 г. – 1830 г.). Это говорит о том, что ему был близок образ искателя исти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вский "Фауст" - глубоко национальная драм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ционален  уже  самый душевный  конфликт  ее  героя,  строптивого   Фауста,   восставшего   против прозябания в гнусной немецкой действительности во  имя  свободы  действия  и мысл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овы были стремления не только людей  мятежного  XVI  века;  те  же мечты владели сознанием и всего поколения "Бури и натиска", вместе с которым Гете выступил на литературном поприщ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отип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мелость этого замысла заключалась уже в том,  что  предметом  «Фауста» служил не один какой-либо жизненный конфликт, а последовательная, неизбежная цепь глубоких конфликтов на протяжении единого жизненного пу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акой план трагедии, противоречивший всем принятым  правилам  драматического искусства, позволил Гете вложить в "Фауста" всю свою  житейскую  мудрость  и большую часть исторического опыта своего време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ам образ Фауста -  не  оригинальное  изобретение  Гете.  Этот  образ возник в недрах народного  творчества  и  только  позднее  вошел  в  книжную литературу.      Герой народной легенды, доктор Иоганн Фауст  -  лицо  историческое.  Он скитался по городам протестантской Германии  в  бурную  эпоху  Реформации  и крестьянских войн. Был ли он только ловким шарлатаном,  или  вправду  ученым врачом и смелым естествоиспытателем, пока не установлено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Композиция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вою трагедию "Фауст" Гете построил очень своеобразно. Она имеет две композиции: внешнюю и внутреннюю. Внешняя композиция: два пролога (пролог в театре и пролог на небе) и две ча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нутренняя композиция основана на резком контрасте верхов и низов общества. В первой части Гете показывает жизнь третьего сословия в маленьком немецком городке в эпоху средневек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второй части Гете знакомит читателей с жизнью верхов обществ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обличает "мир" верхов. Он не изображает и не упоминает ни одного исторического события, но все идеи, выраженные в трагедии, соотносятся с эпохой Гете, эпохой больших революционных сдвиг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5-10-14T19:02:35Z</dcterms:modified>
  <cp:revision>43</cp:revision>
  <dc:subject/>
  <dc:title>Фауст</dc:title>
</cp:coreProperties>
</file>