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C6D-20D5-4E55-9284-34318413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DAC-97C9-4EFB-AB63-34E12155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FBA-152D-4BDD-A23C-2225135E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345-D173-4DB8-9D44-FCC495CB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32ACC-39A1-4F88-BB9B-2EE7636C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08CCA-9D66-496A-8B44-7FF72AC7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3523D-3248-4E3C-87EB-29B01E1A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7347E-D97F-445A-A2CA-48D214A3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B4683-6096-4BB5-8872-EA99E1E2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E0399-C1B9-40F8-B206-E2D21427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38260-7803-4631-94C0-CE947EB7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C6B-E9CF-4D06-9D23-1CE9A50F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06EDC-05F6-4467-8B70-DB542ACF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8008B-4D8C-4A4D-9555-EC817CC3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6EAD3-DE7A-4F9E-A4A7-98BC342F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EB15A-D807-4912-A0E4-6F91DD1F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E9331-CEAA-4CA6-9D84-6EA18B2C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5A79-B506-4D0E-9D46-81CB5843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8B05-D2B9-4AAC-8192-C79738DE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2E03-886B-4C6B-900B-707B8E92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D5F59-EBDD-4A20-B9EA-59690AED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39FE-DDEF-4DEC-9E61-81E8AE4F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8B2-BC0E-47CF-AB13-8E801064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B7A3-B741-408E-B994-5706CF9C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F5BB-9E5B-4915-B845-29A7086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27D20-D866-4A51-B2AE-00783F7B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7CA4-4082-4A68-9C32-BE978D5D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7FF2A-E416-49B8-B43A-78872CF7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DFB1-48BB-4F36-B690-D4E14C18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8105A-39FD-4F07-A73B-23F524C2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0E46D-633D-402F-8F27-EDF0F3C1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13E71-21A6-4B35-B426-03679784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A1B40-3D22-4A6B-A258-F69B598E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6C1-C71E-444F-B291-1BAE5500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898E2C-BE24-48F8-8DA8-B2CA091E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5C2EA-78A1-480B-A4EC-D5C6FD94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5AF08-9AB9-4F14-BB60-56145A6A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0E9C1-5A2E-4508-A5CF-E954ED26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3CB468-15D1-4E2E-9F6C-BE4B23BB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B91910-FDAD-42C0-9EBA-DFE02DFF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089E7-71FD-4D9A-8ABD-97091392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01794-491D-4E4C-85B9-F39D00EC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3B264-930B-43C9-A9CB-21E8C552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18A-E4FC-4672-BB8B-BA2CC320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D77-FF9B-4769-A570-6A40735D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D10-C629-439B-9442-7675412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828-3077-4156-B8B9-E1D618E6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B7C-FF6A-4D5A-AF77-7FA1F4DE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3DFE-9D4D-4C9D-9B54-8019B074151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0C82-39EA-4726-978F-345D4984495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7F9A-B32D-49B9-B18E-590E428C10F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D807-D615-4A56-A96C-E6DA66E6858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14360" y="158760"/>
            <a:ext cx="8547120" cy="3479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Admin\Рабочий стол\Заруба\1085.jpg"/>
          <p:cNvPicPr/>
          <p:nvPr/>
        </p:nvPicPr>
        <p:blipFill>
          <a:blip r:embed="rId2"/>
          <a:stretch/>
        </p:blipFill>
        <p:spPr>
          <a:xfrm>
            <a:off x="2340000" y="3933720"/>
            <a:ext cx="4286160" cy="24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блематика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н не был сторонником революционных преобразований, но ясно понимал, что начинается новая эпоха всемирной истори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Каково место человека в новой эпохе,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Segoe Print"/>
              </a:rPr>
              <a:t>смысл его жизни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, его призвание – разрешение этого философского вопроса становится идейной задачей Гете в "Фаусте"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Автор ставит проблему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Segoe Print"/>
              </a:rPr>
              <a:t>активного и пассивного разума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. Для понимания этой проблемы важен "Пролог на небе", где дана предыстория событий, развертывающихся в трагедии: спор о Фаусте между богом и чертом и предсказания благополучной развязки трагедии. Пролог открывается гимном гармонии Вселенной, движение которой непостижимо и таинственно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блематика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Мефистофель в своем монологе в «Прологе на небе» представляет человека как смешного и несчастного чудака, разум которого пассивен. Но среди людей он выделяет доктора Фауста, "не такого, как все". Это одинокий печальный мечтатель, наделенный активным, ищущим разумо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ете в трагедии "Фауст"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Segoe Print"/>
              </a:rPr>
              <a:t>прославляет активный человеческий разум, искания которого направлены на благо люде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тивостояние Бога и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  уста господа,  каким  он  представлен  в  "Прологе  на  небе",  Гете   вкладывает собственные воззрения на человека - свою веру в  оптимистическое  разрешение человеческой истор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Мефистофель же утверждает, что на земле дарит лиш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...беспросветный мрак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И человеку бедному так худо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Что даже я щажу его покуда, -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тивостояние Бога и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осподь  выдвигает  в  противовес  жалким,  погрязшим в ничтожестве людям, о которых говорит Мефистофель, ревностного правдоискателя Фауста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Убежденный  в  верности своей  игры,  он  заявляет  господу,  что  берется  отбить  у   него   этого "сумасброда"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осподь принимает вызов Мефистофеля. Он  уверен  не  только  в том, что Фауст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Чутьем, по собственной охот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...вырвется из тупика, -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но  и  в  том,  что  Мефистофель  своими  происками  лишь  поможет  упорному правдоискателю достигнуть высшей исти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Фауст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 Фаустом Гете знакомит нас уже в первой сцене первого действ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стар годами, но не умом, и силы его для исканий еще не иссякли. Он говорит: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"Мне хочется борьбы, готов я с бурей биться!"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Оказавшись бессильным познать тайну мироздания и место человека в нем с помощью науки, волшебства, магии, доктор Фауст решает умереть. Он уже подносит чашу с ядом к своим устам, но раздается пасхальный звон. Фауст опускает чашу: не религия, не вера останавливает его ("Не имею веры! Могу ли верить я?"). Он вспоминает о своей юност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О нет! Не сделаю я рокового шага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Воспоминанием все муки смягчены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О звуки дивные, плывете надо мною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Я слезы лью, мирюсь я с жизнию земною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идет к людя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Фауст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Мефистофель говорит, что Фауст не такой, как все люди, и Гете проверяет своего героя через взаимоотношения с народо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о II сцене ("У городских ворот«) Фауст со своим учеником Вагнером наблюдает за народом, и каждый по-разному к ним относитс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чувствует себя человеком среди крестьян, потому что он лечил их во время эпидемий. Народ благодарит его: "Ученый муж, ты многих спас; живи ж сто лет, спасая нас!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агнер предполагает, что доктор должен быть счастливым человеком, потому что он известный ученый и его так любит народ. Но он не может понять неудовлетворенности Фауста своими знаниями, его скептицизм и печали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Фауст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цены III и IV вводят нас в кабинет доктора Фауста. Придя с народного гуляния, он садится за работу – перевод Евангелия с латинского языка на немецки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дает свободный перевод Евангелия сообразно со своим мировоззрением материалиста, человека активно умн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Segoe Print"/>
              </a:rPr>
              <a:t>«Вначале было СЛОВО» – «Вначале было ДЕЛО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Какова в трагедии роль Мефистофеля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Он своим отрицанием все разрушает и тем самым заставляет ищущий разум Фауста стремиться к созиданию, искать положительную истин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"Я отрицаю все – и в этом суть моя ... " -  "Вот это все – моя стихия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Но отрицание, разрушение, зло, которое символизирует Мефистофель, не всесильны, и он сам признает эт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Цель сдел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Сцена IV дополняет наше представление о Мефистофеле. Вот он перед Фаустом уже не в виде пуделя или студента, а в облике бравого франта. Мефистофель хочет выиграть пари, заключенное с богом: повести Фауста за собой "путем превратным" и завладеть его душо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Условия ставит Фауст. Он хочет земных радостей: "Здесь, на земле, живут мои стремления, под солнцем, здесь, мои мучения"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Главное условие, которое ставит Фауст, – быть довольным собой; </a:t>
            </a: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"И буду я собой доволен сам ... тогда воскликну я: "Мгновенье, прекрасно ты, продлись, постой!".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ефистофель соглашается с Фаустом и ставит свое условие: скрепить договор кровью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ак характеризует Мефистофеля его разговор с учеником Фауста Вагнером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ефистофель умный, злой и насмешливый. Кажется, что он разговаривает с учеником серьезно, предлагая ему на выбор различные факультеты университета, но на самом деле он издевается над зубрежкой, он советует ученику заучивать то, что ему будет твердить учитель, "слово в слово, лишь то, что в книге, – ничего другого."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«Суха, мой друг, теория везде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А древо жизни пышно зеленеет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137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Segoe Print"/>
              </a:rPr>
              <a:t>«Гёте – это Гомер, это прототип поэта нашего времени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. Г. Белински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ы Фауста и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Гете противопоставляет двух активно умных людей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Фауст ищет истину созидания и стремится принести добро людям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Мефистофель несет зло и разруше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 своей трагедии Гете уделяет много места теме любви, как источника нравственного перевоспитания своего героя. Именно через любовь к Маргарите, а потом к Елене он дорисовывает облик Фаус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 нескольких сценах 1 части Гете рассказывает о трагической судьбе Маргариты, ставшей, по замыслу Мефистофеля, жертвой Фаус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Совращение девушки продумано чертом. Фауст якобы случайно знакомится с Маргаритой, он хочет ее проводить, но она убегает. Мефистофель подкладывает ей подарок, он попадает в руки пастора (священнослужителя). Второй подарок Маргарита утаивает от матери и, по совету Марты, соглашается тайно встретиться с Фаустом. Так Мефистофель совращает наивную, чистую девушк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Маргарита воспитана в домостроевских (строгих) традициях, основанных на вере. Фауста привлекает в Маргарите, прежде всего ее спокойная и ясная душа, искренность. Он не замечает того, что она вместе с тем пассивная представительница мещанской среды. Маргарита не ищет сама и не помогает Фаусту искать выход из ненавистного ему обывательского мира, напротив, она привязывает его к нем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акова Маргарита по первому впечатлению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кромная труженица. Фауст называет ее ангелом, прекрасной. Он сразу говорит ей, что ценит в ней "невинность, простоту, смиренье, скромность чувств невинную ... "). Фауст говорит Маргарите о своей любви, о том, что их "счастье будет бесконечно, а блаженство вечно". Но в этот момент он заблуждается. В любви к ней он не находит счасть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Из его уст рвутся трагические слова, говорящие о его неудовлетворенности: "Для человека, вижу я теперь, нет совершенного", а чуть позднее: "В душе моей давно огонь не блещет"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 сцене 19 Гете вводит новый персонаж – брата Маргариты, солдата Валентина. Валентин страдает от своего бессилия перед молвой, которая осудила Маргариту за незаконную любовь к Фаусту. Валентин страдает еще и потому, что раньше он мог гордиться своей сестрой, а теперь ему стыдно за нее. Умирая, он говорит Марго об ожидающей ее трагичной участи: грешницу ждет всеобщее презрение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И как мастерски Гете только в двух репликах Маргариты подтверждает ее согласие с братом. Сначала она говорит: "О боже! Брат мой, что такое?" После его монолога –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"О муки ада! Брат мой, брат!"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ете вкладывает эти слова в ее уста согласно средневековому поверью: праведники обращаются за помощью к силам небесным, грешники – к силам ада. Так Марго признала перед людьми свой грех. Это же подтверждает сцена 20: под давлением угрызений совести Марго падает без сознания в соборе</a:t>
            </a:r>
            <a:r>
              <a:rPr b="1" lang="ru-RU" sz="2400" spc="-1" strike="noStrike">
                <a:solidFill>
                  <a:srgbClr val="ffffff"/>
                </a:solidFill>
                <a:latin typeface="Segoe Prin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иновен ли Фауст в трагедии Гретхен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всегда исчезает в самый трагический для Маргариты момент: он бросает ее с тяжело раненым братом; дает яд ее матери; в тот момент, когда она должна решать судьбу их ребенка; в тюрьме перед казнью. Все это подтверждает эгоизм Фауст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Любовь к Маргарите не могла "окрылять" Фауста на искания, потому что она была ограниченным человеком. Ее удовлетворяло то малое, что она имела, не стремилась к другому, лучшему. В умственном отношении она была ниже Фауста и не могла его понять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Эпизод с Маргаритой важен был для Гете потому, что он смог показать, как в любви к обыкновенной, ограниченной девушке Фауст не нашел смысла своей жизни и не сказал своих "вещих слов"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юрьма. Фауст - свидетель последней ночи Гретхен перед  казнью.  Теперь он готов веем пожертвовать ей, быть может и тем наивысшим - своими поисками. Но она безумна, она не дает увести себя из темниц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ногое в этой последней сцене первой части трагедии - от сцены  безумия Офелии в "Гамлете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Здесь - впервые в западноевропейской литературе - поставлены друг  перед другом  эта  полная  беззащитность  девушки  из  народа  и  это  беспощадное полновластье карающего ее феодального государств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иновен ли Фауст в трагедии Гретхен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Автор показал, что из-за Фауста, лишенного чувства долга перед любимой, погибает Маргарита. В любви он был эгоистом, думая только о себе, поэтому потерял свое счастье и свою любимую. В этом эпизоде Гете, несомненно, осуждает своего геро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Но для Фауста предсмертная агония Маргариты имеет очистительное  значени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Теперь он любит Гретхен чистой, сострадательной любовью. Но  -слишком поздно.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Одно бесспорно: сделать из Фауста беззаботного  "ценителя  красоток"  и тем отвлечь его от поисков  высоких  идеалов  Мефистофелю  не  удалось. Мефистофель должен взяться за новые козни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олос  свыше:  "Спасена!"  -  не только нравственное оправдание Маргариты, но и предвестник  оптимистического разрешения трагед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14200" y="1052640"/>
            <a:ext cx="5942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Самым грандиозным созданием Гёте бесспорно является его трагедия «Фауст», над которой он работал в течение всей жизн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сновные даты творческой истории «Фауста»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774—1775 — «Urfaust» (Прафауст)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790 — издание «Фауста» в виде «отрывка»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06 — окончание первой части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08 — выход в свет первой части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25 — начало работы над второй частью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26 — окончание «Елены» (первый набросок — 1799)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30 — «Классическая Вальпургиева ночь»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31 — «Филемон и Бавкида», окончание «Фауста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81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Documents and Settings\Admin\Рабочий стол\486px-Goethe_(Stieler_1828) (1).jpg"/>
          <p:cNvPicPr/>
          <p:nvPr/>
        </p:nvPicPr>
        <p:blipFill>
          <a:blip r:embed="rId2"/>
          <a:stretch/>
        </p:blipFill>
        <p:spPr>
          <a:xfrm>
            <a:off x="6370560" y="1847880"/>
            <a:ext cx="2633760" cy="3236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спытание деньгами и славо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торая часть "Фауста". Пять больших актов,  связанных  между  собой  не столько  внешним,   сюжетным   единством,   сколько   внутренним   единством драматической идеи и волевого устремления геро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снова  может  продолжать  свои  мучительные   поиски.   Мефистофель,   ранее познакомивший Фауста с "малым светом", теперь вводит его  в  "большой",  где думает его прельстить блестящей служебной карьерой. Мы при дворе  на  высшей ступени иерархической лестницы Священной Римской импер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спытание деньгами и славо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цена "Императорский дворец" заметно перекликается с "Погребом Ауэрбаха в Лейпциге". Как там, при вступлении в "малый свет", в  общении  с  простыми людьми, с частными лицами, так здесь, при вступлении в  "большой  свет",  на поприще бытия исторического, Мефистофель начинает с  фокусов,  с  обольщения умов непонятными чудесами. Но императорский двор требует  фокусов  не  столь невинного свойства, как те, пущенные в ход в  компании  пирующих  студентов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Любой  пустяк,  любая  пошлость  приобретают  здесь  политическое  значение, принимают государственные масштаб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  "наследственной  щедростью"  одаривает  он  приближенных   бумажными деньгами и требует от Фауста новых увеселений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Тот обещает  ему  вызвать  из царства мертвых легендарных Елену  и  Париса.  Для  этого  он  спускается  в царство таинственных Матерей, хранящих прообразы всего суще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Для императора и его приближенных, собравшихся в слабо освещенном зале, все это не более чем сеанс салонной магии. Не то для Фауста. Он рвется всеми помыслами к прекраснейшей из женщин, ибо видит в ней совершенное  порождение природы и человеческой культуры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Узнав ее, нельзя уж отступиться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хочет отнять Елену у призрачного  Париса.  Но  -  громовой  удар; дерзновенный падает без чувств, духи исчезают в туман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еперь герой одержим идеей найти прекрасную Елену. Его ждёт долгий путь через толщи эпох. Этот путь пролегает через его бывшую рабочую мастерскую, куда перенесёт его в забытьи Мефистофель. Мы вновь встретимся с усердным Вагнером, дожидающимся возвращения учителя. На сей раз учёный педант занят созданьем в колбе искусственного человека, твёрдо полагая, что «прежнее детей прижитье — для нас нелепость, сданная в архив». На глазах усмехающегося Мефистофеля из колбы рождается Гомункул, страдающий от двойственности собственной природ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Когда наконец упорный Фауст разыщет прекрасную Елену и соединится с нею и у них родится ребёнок, отмеченный гениальностью, — контраст между этим прекрасным плодом живой любви и несчастным Гомункулом выявится с особой сило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днако прекрасный Эвфорион недолго проживёт на земле. Его манят борьба и вызов стихиям. «Я не зритель посторонний, а участник битв земных», — заявляет он родителям. Он уносится ввысь и исчезает, оставляя в воздухе светящийся след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Истинный смысл всей  темы  Елены  раскрывается  в  финале  действия,  в эпизоде  с  Эвфорионом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 общении с Еленой Фауст перестает тосковать по бесконечному. Он мог бы уже теперь "возвеличить миг", если бы его  счастье  не  было  только  лживым сном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Гибель  Эвфориона, дерзнувшего   вопреки   родительской   воле   покинуть   отцовский    замок, восстанавливает в этом заколдованном царстве законы времени и тлена,  и  они вмиг рассеивают лживые чары. </a:t>
            </a: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"Елена обнимает Фауста, телесное исчезает"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Философский   смысл,   который вкладывает поэт в этот драматический эпизод, сводится  к  следующему:  можно укрыться от  времени,  наслаждаясь  однажды  созданной  красотой,  но  такое "пребывание в эстетическом" может  быть  только  пассивным,  созерцательны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Художник, сам творящий искусство, - всегда борец среди борцов своего времен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Далее Фауст помогает императору, которому дела с ценными бумагами вышли боко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После Фауст жаждет приступить к осуществлению своего заветного замысла, однако ему мешает пустяк. На месте будущей плотины стоит хижина старых бедняков — Филемона и Бавкиды. Упрямые старики не желают поменять своё жилище. Тогда Мефистофель расправляется с ним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Испытывая в очередной раз горечь от непоправимости случившегося, Фауст восклицает: «Я мену предлагал со мной, а не насилье, не разбой. За глухоту к моим словам проклятье вам, проклятье вам!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Эта жизнь во имя обогащения не по сердцу гуманисту Фауст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н испытывает усталость. Он снова стар и чувствует, что жизнь опять подходит к концу. Все его стремленья сосредоточены теперь в достижении мечты о плотине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Его ждёт ещё один удар — Фауст слепнет. Но им овладевает неистовая радость и энергия — он понимает, что заветная цель уже брезжит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езрячему Фаусту невдомёк, что Мефистофель сыграл с ним коварную штуку. Вокруг Фауста копошатся в земле не строители, а лемуры, злые духи. По указке дьявола они роют Фаусту могилу. Герой между тем исполнен счасть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Пройдя череду испытаний, он видит перед собою не разрушение, а грядущее созидание, к которому он думает теперь приступить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Вот мысль, которой весь я предан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Итог всего, что ум скопил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Лишь тот, кем бой за жизнь изведан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Жизнь и свободу заслужи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Так именно, вседневно, ежегодно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Трудясь, борясь, опасностью шутя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Пускай живут муж, старец и дит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Народ свободный на земле свободно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Увидеть я б хотел в такие дн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Тогда бы мог воскликнуть я: "Мгновенье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О, как прекрасно ты, повремени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Воплощены следы моих борений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И не сотрутся никогда они"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И, это торжество предвосхищая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Я высший миг сейчас пережива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Связь трагедии «Фауст» с эпохой Просве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Просветители боролись за свободу, равенство и справедливость для всех сословий в будущем буржуазном обществ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"Религия, понимание природы, общество, государственный строй – все было подвергнуто самой беспощадной критике ... ", – писал Ф.Энгельс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Просвещение в Германии, на родине Гете, носило умеренный характер. С конца XV</a:t>
            </a:r>
            <a:r>
              <a:rPr b="0" lang="en-US" sz="1800" spc="-1" strike="noStrike">
                <a:solidFill>
                  <a:srgbClr val="ffffff"/>
                </a:solidFill>
                <a:latin typeface="Segoe Print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 века Германия стала отставать в своем экономическом развитии от других европейских стран (перемещение торговых путей к Атлантическому океану). 30-ти летняя война (1618 – 1648 гг.), а затем междоусобные войны окончательно разорили ее экономик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Германия представляла собой политически раздробленную страну. В ее состав входило более трехсот самостоятельных владений. В немецких княжествах царил жестокий режи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еперь он понимает, что не власть, не богатство, не слава, даже не обладание самой прекрасной на земле женщиной дарует подлинно высший миг существова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олько общее деяние, одинаково нужное всем и осознанное каждым, может придать жизни высшую полнот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ак протягивается смысловой мост к открытию, сделанному Фаустом ещё до встречи с Мефистофелем: </a:t>
            </a: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«В начале было дело».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н понимает, </a:t>
            </a: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«лишь тот, кем бой за жизнь изведан, жизнь и свободу заслужил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Этот гениальный предсмертный монолог обретенного пути возвращает нас  к сцене в ночь перед пасхой из первой части трагедии, когда  Фауст,  умиленный народным ликованием,  отказывается  испить  чашу  с  ядом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И  здесь,  перед смертью, Фауста охватывает то же чувство  единения  с  народом,  но  уже  не смутное, а до конца ясное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Фауст произносит сокровенные слова о том, что он переживает свой высший миг и что </a:t>
            </a:r>
            <a:r>
              <a:rPr b="1" lang="ru-RU" sz="2000" spc="-1" strike="noStrike">
                <a:solidFill>
                  <a:srgbClr val="00b0f0"/>
                </a:solidFill>
                <a:latin typeface="Segoe Print"/>
              </a:rPr>
              <a:t>«народ свободный на земле свободной»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представляется ему такой грандиозной картиной, что он мог бы остановить это мгновени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Фауст падает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о по сути он не побежден, ибо его упоение мигом не  куплено  ценою  отказа  от  бесконечного совершенствования  человечества  и  человека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астоящее  и  будущее   здесь сливаются в некоем высшем единстве;  "две  души"  Фауста,  созерцательная  и действенная, воссоединяютс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"В начале было дело"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но-то и привело Фауста к познанию высшей цели человеческого развит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 последнюю минуту ангелы уносят душу Фауста прямо перед носом дьявола. Впервые Мефистофелю изменяет самообладание, он неистовствует и проклинает сам себ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ефистофель,  делавший  ставку   на   "конечность"   Фаустовой   жизни, оказывается посрамленным, ибо Фаусту, по мысли  Гете,  удается  жить  жизнью всего человечества, включая грядущие поко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Душа Фауста спасена, а значит, его жизнь в конечном счёте оправдана. За гранью земного существования его душа встречается с душой Гретхен, которая становится его проводником в ином мир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о почему Фауст в миг своего высшего прозрения выведен слепцом?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Гете был величайшим реалистом и никому не хотел  внушить, что грандиозное видение Фауста где-то на земле уже  стало  реальностью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о, что открывается незрячим глазам Фауста, - это не настоящее, это  -  будуще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Фауст видит неизбежный путь развития окружающей его действительности. Но это видение будущего не лежит на поверхности,  воспринимается  не  чувственно  - глазами,  а   ясновидящим   разумо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ефистофель,  делавший  ставку   на   "конечность"   Фаустовой   жизни, оказывается посрамленным, ибо Фаусту, по мысли  Гете,  удается  жить  жизнью всего человечества, включая грядущие поко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еликий оптимизм заложен в  "Фауста"  Гете, это безграничная вера в лучшее будущее человечеств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280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egoe Print"/>
              </a:rPr>
              <a:t>Тема «Фауста» сопровождала Гёте почти всю жизнь. Он посвятил этой теме почти 60 лет, с 1773 по 1891 годы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egoe Print"/>
              </a:rPr>
              <a:t>Его Фауст образец творческой личности. Его стремление к знаниям, к самоусовершенствованию, к общественной деятельности - пример живущим поколениям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 «Фаусте» оказались органически слиты самые разные элементы - начало драмы, лирики и эпос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«Фауст» включает с себя элементы, различные и по своей художественной природе: реально - бытовые,лирические трагические, фантастические.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Интимная лирика, гражданский пафос, философские раздумья, острая сатира, описание природы, народный  юмор всё  это  есть в Фаусте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57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Связь трагедии «Фауст» с эпохой Просве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нязья, утопая в разврате и удовольствии, представляли неограниченную власть своим министрам и чиновникам, которые получали возможность угнетать несчастный народ безжалостно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 Германии не было такой общественной силы, которая могла бы противостоять феодально-абсолютистскому режиму. Ни народ, ни немецкие буржуа не могли активно включиться в политическую борьб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 этих условиях в Германии особенно обострялось национальное чувство, стремление возродить героический дух немецкого народа и национальную немецкую культур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Связь трагедии «Фауст» с эпохой Просве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Гете не искал выхода из сложившихся условий в борьбе народных масс. Он видел выход только в личной деятельности и в нравственном перевоспитании человека, в развитии в нем чувства коллективизма и отказа от эгоистических, собственнических интерес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Идея "Фауста" владела сознанием Гете всю его жизнь (с 1774 г. – 1830 г.). Это говорит о том, что ему был близок образ искателя истин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Связь трагедии «Фауст» с эпохой Просве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Гетевский "Фауст" - глубоко национальная драма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ационален  уже  самый душевный  конфликт  ее  героя,  строптивого   Фауста,   восставшего   против прозябания в гнусной немецкой действительности во  имя  свободы  действия  и мысл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аковы были стремления не только людей  мятежного  XVI  века;  те  же мечты владели сознанием и всего поколения "Бури и натиска", вместе с которым Гете выступил на литературном поприщ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тотип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мелость этого замысла заключалась уже в том,  что  предметом  «Фауста» служил не один какой-либо жизненный конфликт, а последовательная, неизбежная цепь глубоких конфликтов на протяжении единого жизненного пут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Такой план трагедии, противоречивший всем принятым  правилам  драматического искусства, позволил Гете вложить в "Фауста" всю свою  житейскую  мудрость  и большую часть исторического опыта своего времен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ам образ Фауста -  не  оригинальное  изобретение  Гете.  Этот  образ возник в недрах народного  творчества  и  только  позднее  вошел  в  книжную литературу.      Герой народной легенды, доктор Иоганн Фауст  -  лицо  историческое.  Он скитался по городам протестантской Германии  в  бурную  эпоху  Реформации  и крестьянских войн. Был ли он только ловким шарлатаном,  или  вправду  ученым врачом и смелым естествоиспытателем, пока не установлено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Композиция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вою трагедию "Фауст" Гете построил очень своеобразно. Она имеет две композиции: внешнюю и внутреннюю. Внешняя композиция: два пролога (пролог в театре и пролог на небе) и две част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нутренняя композиция основана на резком контрасте верхов и низов общества. В первой части Гете показывает жизнь третьего сословия в маленьком немецком городке в эпоху средневековь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о второй части Гете знакомит читателей с жизнью верхов обществ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ете обличает "мир" верхов. Он не изображает и не упоминает ни одного исторического события, но все идеи, выраженные в трагедии, соотносятся с эпохой Гете, эпохой больших революционных сдвигов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5-10-14T19:02:35Z</dcterms:modified>
  <cp:revision>43</cp:revision>
  <dc:subject/>
  <dc:title>Фауст</dc:title>
</cp:coreProperties>
</file>