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C1A9-7AFB-46A8-9510-33B7AD24478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893A-424A-4F46-BDB2-5ECA7B4A73E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26A3-4336-4D97-9A3E-B611C45D5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3288-EB0D-46FB-8028-E81854DE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D35D-372F-4DAC-B87A-F6887A8CC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CF82-D4EA-47F7-A334-83AF215D5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BF12-A4EC-4BA6-9403-B9A07EF23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8B5B2-D8CB-4222-B7C4-A42892A1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6209-E8C5-4BB0-AF68-6C6C31C4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EC3B-CB26-4787-9B19-C74A4879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AA2C-9A02-48BC-8867-505CE279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C457-DC9E-4B0E-8E12-9AF7A094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03EEA-0829-4D7F-8371-FE92B3BB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027D-636A-4B15-9B63-CAE4C1D6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829D-EDC4-4B6F-BA78-57851E6D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C94A-6D55-4E7F-967B-3E9E40CB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8C085-E258-4E74-B0C0-D18CE060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ABB3-B12C-4709-AE8F-3206F4279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3395-DF63-46CD-8D66-289B2734D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7B221-B9A8-4F54-93DF-056BCBF16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04BEF-C0FB-4CF8-B0B9-AC1911AF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8D15E-485B-43C0-BEA5-29BA9FA5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5AFCB-4DBE-4CF3-95EB-EDFC9D0D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B637E-66F7-4A16-8E80-7D75BD90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F828-F3AC-4FB5-AC01-8CE9E923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CE00E-D1FC-4A3A-90CD-3635A6D0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DA971-5A4F-40C3-8BFD-3D6F4858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6E3A5-707F-4045-91A9-6B631A2C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2CBD2-CE30-4813-AE3D-B6CDEE62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9FF4F-7587-48AA-9D58-BE4B1E59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FCED9-43A3-49C8-BD58-018D18AB6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CD29D-1BE5-406D-8996-1BEC6217B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7424-16A7-457B-B473-BC656BD1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9C6C-0E7A-4EDF-895B-D64ABD32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99CB-4616-47C3-A280-DC67F5CF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0B4A-31CC-42DA-88DF-DF6DF397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C115-C9CB-484A-AFEB-9273A638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8F68-C3D0-478D-8210-F79DA136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369C-A35F-4F88-B5C9-23C0474607E8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1AB5-FF1D-4BEE-85B4-7D044BA222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87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3E91-79E8-4D9C-A7B2-34328B70930C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0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9900"/>
                </a:solidFill>
                <a:latin typeface="Garamond"/>
              </a:rPr>
              <a:t>Иоганн Вольфганг фон Гёте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5775120"/>
            <a:ext cx="8229600" cy="69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1749–1832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2903400" y="1690560"/>
            <a:ext cx="3235320" cy="3808440"/>
          </a:xfrm>
          <a:prstGeom prst="rect">
            <a:avLst/>
          </a:prstGeom>
          <a:ln w="0">
            <a:noFill/>
          </a:ln>
        </p:spPr>
      </p:pic>
      <p:sp>
        <p:nvSpPr>
          <p:cNvPr id="141" name="Скругленный прямоугольник 4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0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Заголовок 1"/>
          <p:cNvSpPr/>
          <p:nvPr/>
        </p:nvSpPr>
        <p:spPr>
          <a:xfrm>
            <a:off x="468360" y="263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Сцены из трагедии И.В. Гёте «Фауст»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Шарль_Гуно_-_Марш_из_оперы_Фауст_(audiopoisk.com).mp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цена 1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л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24000" y="1773360"/>
            <a:ext cx="84960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ад милой барышне служит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ельзя ли мне вас проводить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Я и не барышня и не мила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ойду без спутников домой, как шл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68360" y="1125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О небо, вот так красот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Я в жизни не видал подобно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ак неиспорченно-чис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И как насмешливо-беззлобн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95280" y="907920"/>
            <a:ext cx="822960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агрянец губ, румянец щёк,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Я их вовеки не забуду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есмело покосилась в бок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отупив взор,- какое чудо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 как ответила впопад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ет, это прелесть, это клад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цена 2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д Мар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68360" y="2420640"/>
            <a:ext cx="8229600" cy="29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ообещай мне, Генрих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68360" y="2060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х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сё, что в моих руках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68360" y="981000"/>
            <a:ext cx="8229600" cy="54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ак обстоит с твоею верой в бог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ы добрый человек, каких немного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о в деле веры просто вертопрах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«Гёте – наш патриарх в Германи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А. С. Пушки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«Гёте – это Гомер, это прототип поэта нашего времен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В. Г. Белински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68360" y="11966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Оставь, дитя! У всякого свой толк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ы дорога мне, а за тех, кто дорог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Я жизнь отдам, не изощряясь в спорах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68360" y="220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ет, верить по Писанию твой долг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9528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ой долг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х, уступи хоть на крупицу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вятых даров ты, стало быть, не чтишь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6836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Я чту их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68360" y="105264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о одним рассудком лишь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И тайн святых не жаждешь приобщитьс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ы в церковь не ходил который год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ы в бога веришь л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95280" y="1267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О милая, не трог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аких вопросов. Кто из нас дерзнё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Ответить, не смутясь: «Я верю в бога»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6836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 отповедь схоласта и поп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а этот счёт так искренне глупа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Что кажется насмешкою убого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68360" y="2349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ак ты не веришь значит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95280" y="907920"/>
            <a:ext cx="822960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е коверк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ечей моих, о свет моих очей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то, на проверку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азум ч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казать осмелится: «Я верю»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И. В. Гёте – это целый мир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Он был философ и историк, драматург и поэт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Всё, что он делал, имело успех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Чьё существ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ысокомерно скажет: «Я не верю»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е разберу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Чем друг твой мне не по нутру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6836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ак так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68360" y="907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 чём ваше кумовство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ак можешь ты терпеть его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икто ещё во мне так жив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е возбуждал вражды брезгливой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ак твой противный компаньон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О милочка, не страшен он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Что ж делать, уж такой чудил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95280" y="83664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Я с ним бы дружбы не водил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Едва он в дверь, как всех бурави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Его коварный острый взор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Он так насмешлив и хитё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И ни во что людей не ставит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68360" y="1773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Что он любви вовек не ведал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ак бы написано на нё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53964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не радость в обществе твоём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огда ж ты с ним и мы втроём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оюсь как он бы нас не преда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68360" y="220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О, чуткость ангельских догадок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539640" y="620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не друг твой непобедимо гадок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 соседстве этого шу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ейдёт молитва на уста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И даже кажется, мой милый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Что и тебя я разлюбила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акая в сердце пустот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Его роман в письма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«Страдание юного Вертера»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«Эгмонт» и, конечно, трагед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«Фауст» всемирно известны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68360" y="220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ут верх врождённой неприязн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68360" y="227664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о мне пора домо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Заголовок 1"/>
          <p:cNvSpPr/>
          <p:nvPr/>
        </p:nvSpPr>
        <p:spPr>
          <a:xfrm>
            <a:off x="468360" y="263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2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Гёте по праву называю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Великим гением духовного развития человека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Тема «Фауста» сопровождала Гёте почти всю жизнь. Он посвятил этой теме почти 60 лет, с 1773 по 1891 годы. Его Фауст образец творческой личности. Его стремление к знаниям, к самоусовершенствованию, к общественной деятельности - пример живущим поколениям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Мы представляем Вашему вниманию 2 сценки из трагедии И. В. Гёте «Фауст»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цена 1 «Улиц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Фауст на улице видит прекрасную девушку Маргарет. Он, видевший в каждой юной деве прекрасную Елену, знакомится с нею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Кто помнит о прекрасной Елене, из-за которой разгорелась Троянская война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цена 2 «В саду Март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Маргарет и Фауст ведут разговор о вере в Бога. Она хочет ближе узнать намерения Фауста. Со временем Фауст добьётся любви Маргарет, полюбит её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Давайте вместе посмотрим эти сцены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4T17:29:49Z</dcterms:created>
  <dc:creator>Юлия</dc:creator>
  <dc:description/>
  <dc:language>en-US</dc:language>
  <cp:lastModifiedBy>Owner</cp:lastModifiedBy>
  <dcterms:modified xsi:type="dcterms:W3CDTF">2012-05-30T06:43:09Z</dcterms:modified>
  <cp:revision>9</cp:revision>
  <dc:subject/>
  <dc:title>Иоганн Вольфганг фон Гёте</dc:title>
</cp:coreProperties>
</file>