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ABAD-9DDC-4857-BA05-B5AD60B1412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0E26-18AD-4EA3-955C-44694CEB76C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F9EF-9FC3-4EFC-9E05-B9F3003A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0C5-73E9-499A-86C9-6E5E2111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F86-C7FB-47D5-B6D3-3F15670A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1DF-4A30-4353-A4AC-117E1729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552C-9C32-4071-BE70-C48356A5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22D4-4A2E-424B-B8EE-B2E560DC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3F6B-8F8C-451F-AF28-F96E231F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D8EE-7368-459E-9242-63C9278D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35AB-5C1E-46D6-95C3-BC530C4A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64F7-DBF4-410D-9EA8-24ACFDA7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B9F4-1F74-4D63-81F7-F7DB1930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9D9F-E6DF-4969-B71C-8BDC89D6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224E-2DBF-4193-B117-4AC71CD2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1F8A-0999-431C-99FE-372655FA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EDC0-0E97-4CB8-B103-89448F91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23DA-46B7-4E11-B6B6-56446755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33D0-81DE-43C0-962B-07BC57F4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CCB1E-E192-4372-8575-0778085D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5AD8F-646A-42FB-857C-9F6235DA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32ABA-AC89-4B7E-8842-C75D5635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F85AE-C98C-4837-912F-778ADC70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11E37-38B5-4068-824F-EC772C5F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826-0E40-43BF-866B-87700925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66F54-4840-4A5A-9B2A-74E2FC17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9DC96-080A-4E7D-823B-33CF80A9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CF0ED-7052-42A5-A4CB-BC02F051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CC869-03A7-497E-A411-3497E9BD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2D9BD-E0F3-4B2D-88E9-4E00DAF7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2CBC8-FAAD-4257-9061-8D899BF9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F7D2D-2197-4530-AC82-AE937DA6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0034-B74A-434A-BC70-E3E3C3B3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A15-9979-48E1-95C9-8CF7E48C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30AC-3CC2-4E16-A232-0E8188B7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E53C-345C-41CF-B78F-03E76114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3AC3-96DA-4E59-A619-29A6596F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F023-83B7-400B-918E-7DB944AD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87C0-44B2-49D9-BBC4-8A68912855F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83DE-AF22-41B3-A670-8CE5033CD0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87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D8CD-76D8-471D-970D-99F5C5CBCDA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0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9900"/>
                </a:solidFill>
                <a:latin typeface="Garamond"/>
              </a:rPr>
              <a:t>Иоганн Вольфганг фон Гёт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5775120"/>
            <a:ext cx="8229600" cy="6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1749–183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2903400" y="1690560"/>
            <a:ext cx="3235320" cy="3808440"/>
          </a:xfrm>
          <a:prstGeom prst="rect">
            <a:avLst/>
          </a:prstGeom>
          <a:ln w="0">
            <a:noFill/>
          </a:ln>
        </p:spPr>
      </p:pic>
      <p:sp>
        <p:nvSpPr>
          <p:cNvPr id="141" name="Скругленный прямоугольник 4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Заголовок 1"/>
          <p:cNvSpPr/>
          <p:nvPr/>
        </p:nvSpPr>
        <p:spPr>
          <a:xfrm>
            <a:off x="46836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Сцены из трагедии И.В. Гёте «Фауст»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Шарль_Гуно_-_Марш_из_оперы_Фауст_(audiopoisk.com)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цена 1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24000" y="1773360"/>
            <a:ext cx="84960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ад милой барышне служи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льзя ли мне вас проводи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 и не барышня и не мил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ойду без спутников домой, как ш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68360" y="1125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 небо, вот так красот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 в жизни не видал подобно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 неиспорченно-чи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как насмешливо-беззлобн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95280" y="907920"/>
            <a:ext cx="82296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агрянец губ, румянец щёк,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 их вовеки не забуд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смело покосилась в бок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тупив взор,- какое чуд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 как ответила впопад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т, это прелесть, это клад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цена 2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д Мар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68360" y="2420640"/>
            <a:ext cx="82296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обещай мне, Генрих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68360" y="2060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х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сё, что в моих руках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68360" y="981000"/>
            <a:ext cx="8229600" cy="54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 обстоит с твоею верой в бог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ы добрый человек, каких немного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о в деле веры просто вертопра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«Гёте – наш патриарх в Германи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А. С. Пушки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«Гёте – это Гомер, это прототип поэта нашего времен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В. Г. Белинск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6836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ставь, дитя! У всякого свой тол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ы дорога мне, а за тех, кто дорог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 жизнь отдам, не изощряясь в спора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68360" y="220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т, верить по Писанию твой дол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952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ой долг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х, уступи хоть на крупиц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вятых даров ты, стало быть, не чтиш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 чту и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6836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о одним рассудком лиш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тайн святых не жаждешь приобщитьс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ы в церковь не ходил который год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ы в бога веришь л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95280" y="1267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 милая, не трог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аких вопросов. Кто из нас дерзнё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тветить, не смутясь: «Я верю в бога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6836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 отповедь схоласта и по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 этот счёт так искренне глуп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то кажется насмешкою убого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68360" y="2349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ак ты не веришь значи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95280" y="907920"/>
            <a:ext cx="82296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 коверк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ечей моих, о свет моих оче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то, на проверку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азум ч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казать осмелится: «Я верю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И. В. Гёте – это целый мир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Он был философ и историк, драматург и поэт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Всё, что он делал, имело успех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ьё суще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ысокомерно скажет: «Я не верю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 разберу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ем друг твой мне не по нутр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 так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90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чём ваше кумовств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 можешь ты терпеть ег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икто ещё во мне так жи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 возбуждал вражды брезгливо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 твой противный компаньон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 милочка, не страшен он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то ж делать, уж такой чуди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95280" y="83664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 с ним бы дружбы не водил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два он в дверь, как всех бурав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го коварный острый взо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н так насмешлив и хитё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ни во что людей не ставит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6836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то он любви вовек не ведал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 бы написано на нё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3964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не радость в обществе твоём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огда ж ты с ним и мы втроём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оюсь как он бы нас не преда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68360" y="220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, чуткость ангельских догадок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39640" y="620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не друг твой непобедимо гадо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соседстве этого шу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йдёт молитва на уст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даже кажется, мой милы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то и тебя я разлюбил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акая в сердце пустот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Его роман в письма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«Страдание юного Вертера»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«Эгмонт» и, конечно, трагед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«Фауст» всемирно известн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68360" y="220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ут верх врождённой неприязн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о мне пора домо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Заголовок 1"/>
          <p:cNvSpPr/>
          <p:nvPr/>
        </p:nvSpPr>
        <p:spPr>
          <a:xfrm>
            <a:off x="46836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Гёте по праву называю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Великим гением духовного развития человек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Тема «Фауста» сопровождала Гёте почти всю жизнь. Он посвятил этой теме почти 60 лет, с 1773 по 1891 годы. Его Фауст образец творческой личности. Его стремление к знаниям, к самоусовершенствованию, к общественной деятельности - пример живущим поколения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Мы представляем Вашему вниманию 2 сценки из трагедии И. В. Гёте «Фауст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цена 1 «Улиц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Фауст на улице видит прекрасную девушку Маргарет. Он, видевший в каждой юной деве прекрасную Елену, знакомится с нею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Кто помнит о прекрасной Елене, из-за которой разгорелась Троянская война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цена 2 «В саду Март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Маргарет и Фауст ведут разговор о вере в Бога. Она хочет ближе узнать намерения Фауста. Со временем Фауст добьётся любви Маргарет, полюбит её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Давайте вместе посмотрим эти сцены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7:29:49Z</dcterms:created>
  <dc:creator>Юлия</dc:creator>
  <dc:description/>
  <dc:language>en-US</dc:language>
  <cp:lastModifiedBy>Owner</cp:lastModifiedBy>
  <dcterms:modified xsi:type="dcterms:W3CDTF">2012-05-30T06:43:09Z</dcterms:modified>
  <cp:revision>9</cp:revision>
  <dc:subject/>
  <dc:title>Иоганн Вольфганг фон Гёте</dc:title>
</cp:coreProperties>
</file>