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2F2D-FE14-4B78-BA82-0721E7A7B67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2121-C7DD-457D-8E17-97845A0B90F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BE1-E77D-48AF-ADB3-F8D3CCA8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676B-B0E7-49E5-88EF-C6A36C5B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FC4-4723-4F89-90E2-C8BBB746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92C-0990-4AC7-99A3-FA7700EF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4BEF-8101-443C-A151-AA457F38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E55E-9038-48E0-A9C9-38A6154A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35D0-687C-4C5B-97AB-04277DDC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F42C-D734-49E2-A587-90567F06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A694-7ADC-42F7-870D-9C49A992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8D36-9AA5-4470-946F-CED3193C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16D6-71CA-4853-B1AA-DD04FCA1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2C7-4465-43B1-AACA-475BB32C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65F3-955A-4582-A2E7-451B3F94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5808-19F4-4CC4-8D84-0A21DE44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9800-65B3-4DB8-9603-31A73C99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E3FA-A152-41B1-AA01-5187CC2F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966F-FF4F-47DA-BADE-3D6390CE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A6BA5-8C63-4264-B7EF-B9C1311D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C583E-2C6D-4501-A871-3529DD7E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44F56-5165-4157-B4C7-27E28874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653E6-11C2-4D50-8DC9-9E63D005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36737-1687-4488-B032-6198DB0F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AB9-5BE9-459C-A0D3-F13F5FAF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AD53D-800B-4E95-8E60-4374C4CB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839CC-A9CD-433D-86D9-7B8F211F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DDBF5-61E1-4FBD-9BFC-E411CF15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C7E59-2CDA-4B2E-BD4B-BAADDC39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FB06D-D50C-48D0-B717-FD829C08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19F3C-20F7-401C-8A45-68C1C5D0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04BAC-53CF-4B17-B274-6D0A538B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4C51-5997-4E79-9F75-F2815719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AC0-E751-410A-BC18-EFFA951D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952-3FFE-47A5-92B3-90C9C664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339-2648-4687-88D1-A1B8D1B6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7778-51D2-4C2D-B7B0-C623F3A2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AE8-78D2-40FA-AA7C-423ED125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343D-808D-4C21-8D6D-F2355E879A2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8A5E-F0F3-4195-806A-A31DC2C3DB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8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C9A2-7361-4029-A672-F2C6F9C183B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0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9900"/>
                </a:solidFill>
                <a:latin typeface="Garamond"/>
              </a:rPr>
              <a:t>Иоганн Вольфганг фон Гёт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775120"/>
            <a:ext cx="82296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1749–183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2903400" y="1690560"/>
            <a:ext cx="3235320" cy="3808440"/>
          </a:xfrm>
          <a:prstGeom prst="rect">
            <a:avLst/>
          </a:prstGeom>
          <a:ln w="0">
            <a:noFill/>
          </a:ln>
        </p:spPr>
      </p:pic>
      <p:sp>
        <p:nvSpPr>
          <p:cNvPr id="141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Заголовок 1"/>
          <p:cNvSpPr/>
          <p:nvPr/>
        </p:nvSpPr>
        <p:spPr>
          <a:xfrm>
            <a:off x="46836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Сцены из трагедии И.В. Гёте «Фауст»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Шарль_Гуно_-_Марш_из_оперы_Фауст_(audiopoisk.com)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ена 1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4000" y="1773360"/>
            <a:ext cx="8496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д милой барышне служи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льзя ли мне вас проводи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 и не барышня и не мил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йду без спутников домой, как ш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68360" y="1125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 небо, вот так красот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 в жизни не видал подобн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 неиспорченно-чи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как насмешливо-беззлобн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95280" y="907920"/>
            <a:ext cx="82296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агрянец губ, румянец щёк,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 их вовеки не забуд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смело покосилась в бок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тупив взор,- какое чуд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 как ответила впопад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т, это прелесть, это клад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ена 2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д Мар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68360" y="2420640"/>
            <a:ext cx="82296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обещай мне, Генрих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68360" y="2060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х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сё, что в моих руках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68360" y="981000"/>
            <a:ext cx="8229600" cy="54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 обстоит с твоею верой в бог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ы добрый человек, каких немного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 в деле веры просто вертопра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«Гёте – наш патриарх в Герман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А. С. Пушки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«Гёте – это Гомер, это прототип поэта нашего времен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В. Г. Белинск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6836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ставь, дитя! У всякого свой тол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ы дорога мне, а за тех, кто дорог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 жизнь отдам, не изощряясь в спора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т, верить по Писанию твой дол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952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ой долг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х, уступи хоть на крупиц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вятых даров ты, стало быть, не чтиш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 чту и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 одним рассудком лиш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тайн святых не жаждешь приобщить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ы в церковь не ходил который год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ы в бога веришь л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95280" y="1267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 милая, не трог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аких вопросов. Кто из нас дерзнё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тветить, не смутясь: «Я верю в бога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836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 отповедь схоласта и по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 этот счёт так искренне глуп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то кажется насмешкою убог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68360" y="2349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ак ты не веришь значи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95280" y="907920"/>
            <a:ext cx="82296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 коверк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ечей моих, о свет моих оче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то, на проверк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зум ч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казать осмелится: «Я верю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И. В. Гёте – это целый мир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Он был философ и историк, драматург и поэт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Всё, что он делал, имело успех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ьё суще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ысокомерно скажет: «Я не верю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 разбер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ем друг твой мне не по нутр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 так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чём ваше кумовств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 можешь ты терпеть ег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икто ещё во мне так жи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 возбуждал вражды брезгливо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 твой противный компаньо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 милочка, не страшен он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то ж делать, уж такой чуди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95280" y="83664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 с ним бы дружбы не водил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два он в дверь, как всех бурав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го коварный острый взо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н так насмешлив и хитё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ни во что людей не ставит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6836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то он любви вовек не ведал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 бы написано на нё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3964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не радость в обществе твоё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огда ж ты с ним и мы втроё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оюсь как он бы нас не преда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, чуткость ангельских догадок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39640" y="620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не друг твой непобедимо гадо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соседстве этого шу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йдёт молитва на уст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даже кажется, мой милы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то и тебя я разлюбил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акая в сердце пустот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Его роман в письма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«Страдание юного Вертера»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«Эгмонт» и, конечно, трагед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«Фауст» всемирно известн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ут верх врождённой неприязн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 мне пора дом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Заголовок 1"/>
          <p:cNvSpPr/>
          <p:nvPr/>
        </p:nvSpPr>
        <p:spPr>
          <a:xfrm>
            <a:off x="46836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Гёте по праву называю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Великим гением духовного развития человек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Тема «Фауста» сопровождала Гёте почти всю жизнь. Он посвятил этой теме почти 60 лет, с 1773 по 1891 годы. Его Фауст образец творческой личности. Его стремление к знаниям, к самоусовершенствованию, к общественной деятельности - пример живущим поколения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Мы представляем Вашему вниманию 2 сценки из трагедии И. В. Гёте «Фауст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цена 1 «Улиц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Фауст на улице видит прекрасную девушку Маргарет. Он, видевший в каждой юной деве прекрасную Елену, знакомится с нею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Кто помнит о прекрасной Елене, из-за которой разгорелась Троянская война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цена 2 «В саду Март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Маргарет и Фауст ведут разговор о вере в Бога. Она хочет ближе узнать намерения Фауста. Со временем Фауст добьётся любви Маргарет, полюбит её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Давайте вместе посмотрим эти сцены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7:29:49Z</dcterms:created>
  <dc:creator>Юлия</dc:creator>
  <dc:description/>
  <dc:language>en-US</dc:language>
  <cp:lastModifiedBy>Owner</cp:lastModifiedBy>
  <dcterms:modified xsi:type="dcterms:W3CDTF">2012-05-30T06:43:09Z</dcterms:modified>
  <cp:revision>9</cp:revision>
  <dc:subject/>
  <dc:title>Иоганн Вольфганг фон Гёте</dc:title>
</cp:coreProperties>
</file>