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A214-F619-4715-80F8-95612833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B024-8550-4B92-9191-5F769A68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56EC-B798-4EAE-AD2F-A2F2865F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34B7-5E75-41B9-840F-B3653A9D4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E587-F461-47DE-8B93-4D8DA802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F20C-71E4-4C17-A87C-98F09E8C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ECED-A759-4D3C-BFD0-3FCFFCC3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ED3C-C089-459C-827B-E9E89C77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7AB1-41A5-43F4-B6BA-2C91CF7F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C8B7-F15E-4376-A124-2BDBE1B6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663A-8835-4AFB-999D-C4DCD069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07F7-BC97-4753-A2B7-71958EBA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C9A5-8823-4A25-9D83-4791628E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94A9-FAB3-4405-BD2C-985210EE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D514-40B4-4F6A-9D5D-F665B5F6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23C3-C113-4B3D-A35C-2F06BC66A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A4CB-8CA6-43EB-B291-D597DBA9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50D8-5AD0-42BF-A0E5-434D9720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EE81-FEFD-489A-8C30-DCC81D2D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12D2-8C4B-492A-956E-7FB9A7CE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E23E-9E47-41D1-8F44-B1B148E3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EE40-228A-4B1B-975E-3A4D48B6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08A2-FF58-42E0-9B0F-D4002ED9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742C-9A90-49AF-98C6-A727BEA4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 hidden="1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2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6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Rounded Rectangle 15"/>
          <p:cNvSpPr/>
          <p:nvPr/>
        </p:nvSpPr>
        <p:spPr>
          <a:xfrm>
            <a:off x="228600" y="228600"/>
            <a:ext cx="8695440" cy="6034680"/>
          </a:xfrm>
          <a:prstGeom prst="roundRect">
            <a:avLst>
              <a:gd name="adj" fmla="val 1272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211680" y="5353920"/>
            <a:ext cx="8723160" cy="1331280"/>
            <a:chOff x="211680" y="5353920"/>
            <a:chExt cx="8723160" cy="1331280"/>
          </a:xfrm>
        </p:grpSpPr>
        <p:sp>
          <p:nvSpPr>
            <p:cNvPr id="9" name="Freeform 14"/>
            <p:cNvSpPr/>
            <p:nvPr/>
          </p:nvSpPr>
          <p:spPr>
            <a:xfrm>
              <a:off x="6054840" y="549936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2622240" y="5370840"/>
              <a:ext cx="5551200" cy="851040"/>
            </a:xfrm>
            <a:custGeom>
              <a:avLst/>
              <a:gdLst>
                <a:gd name="textAreaLeft" fmla="*/ 0 w 5551200"/>
                <a:gd name="textAreaRight" fmla="*/ 5551560 w 55512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" name="Freeform 22"/>
            <p:cNvSpPr/>
            <p:nvPr/>
          </p:nvSpPr>
          <p:spPr>
            <a:xfrm>
              <a:off x="2832120" y="5383080"/>
              <a:ext cx="5474520" cy="775080"/>
            </a:xfrm>
            <a:custGeom>
              <a:avLst/>
              <a:gdLst>
                <a:gd name="textAreaLeft" fmla="*/ 0 w 5474520"/>
                <a:gd name="textAreaRight" fmla="*/ 5474880 w 5474520"/>
                <a:gd name="textAreaTop" fmla="*/ 0 h 775080"/>
                <a:gd name="textAreaBottom" fmla="*/ 775440 h 77508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5616360" y="5369760"/>
              <a:ext cx="3312000" cy="651960"/>
            </a:xfrm>
            <a:custGeom>
              <a:avLst/>
              <a:gdLst>
                <a:gd name="textAreaLeft" fmla="*/ 0 w 3312000"/>
                <a:gd name="textAreaRight" fmla="*/ 3312360 w 331200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13" name="Freeform 10"/>
            <p:cNvSpPr/>
            <p:nvPr/>
          </p:nvSpPr>
          <p:spPr>
            <a:xfrm>
              <a:off x="211680" y="5353920"/>
              <a:ext cx="8723160" cy="13312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31280"/>
                <a:gd name="textAreaBottom" fmla="*/ 1331640 h 13312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dt" idx="1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2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sldNum" idx="3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575C22D-B0EE-4D53-8F4A-37E7538EEFF2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ounded Rectangle 13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56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57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8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0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61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бразец текста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4320">
              <a:lnSpc>
                <a:spcPct val="100000"/>
              </a:lnSpc>
              <a:spcBef>
                <a:spcPts val="43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Второй уровень</a:t>
            </a:r>
            <a:endParaRPr b="0" lang="ru-RU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Третий уровень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Четвертый уровень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4" marL="1463040" indent="-228600">
              <a:lnSpc>
                <a:spcPct val="100000"/>
              </a:lnSpc>
              <a:spcBef>
                <a:spcPts val="32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Пятый уровень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9C42A10-B935-4748-BD1E-8234D85200EB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ВН по русскому языку для 5-6 классов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440" cy="147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Учителя русского языка и литера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МБОУ Кочуновской ОО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Жулянова Н.В., Никишина Е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F:\Ветошкино\DSCN3689.JPG"/>
          <p:cNvPicPr/>
          <p:nvPr/>
        </p:nvPicPr>
        <p:blipFill>
          <a:blip r:embed="rId1"/>
          <a:stretch/>
        </p:blipFill>
        <p:spPr>
          <a:xfrm>
            <a:off x="7000920" y="3071880"/>
            <a:ext cx="1782000" cy="2376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G:\Новая папка (2)\DSCN0396.JPG"/>
          <p:cNvPicPr/>
          <p:nvPr/>
        </p:nvPicPr>
        <p:blipFill>
          <a:blip r:embed="rId2"/>
          <a:stretch/>
        </p:blipFill>
        <p:spPr>
          <a:xfrm>
            <a:off x="357120" y="3071880"/>
            <a:ext cx="2071440" cy="21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1 команде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пишите за 2 минуты, как можно больше существительных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2 команде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пишите за 2 минуты, как можно больше прилагательных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то больше?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пределить части речи :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 команде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осадила мама в печь пироги с капустой печь 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 команде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Снежное покрывало  покрыло всё поле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онкурс капитанов .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31" name="Picture 2" descr="G:\Новая папка (2)\DSCN0120.JPG"/>
          <p:cNvPicPr/>
          <p:nvPr/>
        </p:nvPicPr>
        <p:blipFill>
          <a:blip r:embed="rId1"/>
          <a:stretch/>
        </p:blipFill>
        <p:spPr>
          <a:xfrm>
            <a:off x="1357200" y="4357800"/>
            <a:ext cx="2761920" cy="207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G:\Новая папка (2)\DSCN0118.JPG"/>
          <p:cNvPicPr/>
          <p:nvPr/>
        </p:nvPicPr>
        <p:blipFill>
          <a:blip r:embed="rId2"/>
          <a:stretch/>
        </p:blipFill>
        <p:spPr>
          <a:xfrm>
            <a:off x="5000760" y="4357800"/>
            <a:ext cx="278568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Отгадать загадку и определить части речи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« Стоит дом ,кто в него войдёт, тот ум приобретёт»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«Белый зайчик прыгает по чёрному полю . Слёзы проливает. Дети их читают и стирают»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онкурс загадок.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Отгадать загадку и определить части речи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« Стоит дом ,кто в него войдёт, тот ум приобретёт» ( Школа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«Белый зайчик прыгает по чёрному полю . Слёзы проливает. Дети их читают и стирают» (мел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онкурс загадок.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едставителю от каждой команды предлагается за 2 минуты записать на доске слова в таком порядке, чтобы второе слово начиналось с последней буквы первого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чальные слова: Кочуново, Инкино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   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онкурс 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знатоков.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« Учимся писать стихи»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- не спешу – пишу, в тетрадь – пять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- щенка – пока,  помогите -найдите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онкурс поэтов.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38680" indent="-2386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38680" indent="-2386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Чем кончается день и ночь?  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38680" indent="-2386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Чем кончается лето и начинается осень? 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38680" indent="-2386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Что в человеке есть одно, а у вороны вдвое, в лисе не встретиться оно, а в огороде втрое?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38680" indent="-2386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Какое слово состоит из трех слогов, а указывает на 33 буквы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?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38680" indent="-2386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Какое слово состоит из семи одинаковых букв?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38680" indent="-2386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6. Какие сто букв могут остановить движение транспорта?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38680" indent="-2386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7. Какую часть слова можно в земле найти?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38680" indent="-2386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8. Как большой дом сделать маленьким?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38680" indent="-2386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9. Без какой музыкальной ноты нельзя приготовить обед?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38680" indent="-2386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0. Какую строчку нельзя прочитать?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38680" indent="-2386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онкурс эрудитов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254520" indent="-254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4520" indent="-254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Чем кончается день и ночь?   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Ь на конце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4520" indent="-254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Чем кончается лето и начинается осень?   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Буквой О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4520" indent="-254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Что в человеке есть одно, а у вороны вдвое, в лисе не встретиться оно, а в огороде втрое?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Буква О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4520" indent="-254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Какое слово состоит из трех слогов, а указывает на 33 буквы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(аз-бу-ка) (ал-фа-вит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4520" indent="-254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Какое слово состоит из семи одинаковых букв?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семья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4520" indent="-254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6. Какие сто букв могут остановить движение транспорта?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(стоп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4520" indent="-254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7. Какую часть слова можно в земле найти? (корень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4520" indent="-254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8. Как большой дом сделать маленьким?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(добавить суффикс -ик)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4520" indent="-254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9. Без какой музыкальной ноты нельзя приготовить обед?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соль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4520" indent="-254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0. Какую строчку нельзя прочитать?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швейную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4520" indent="-254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онкурс эрудитов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928800" y="257184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се участники записывают слово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ИГРОТЕКА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. Задача: из букв, входящих в это слово, составить как можно больше других слов . Побеждает тот, у кого больше других слов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онкурс « Кто больше»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71920" y="2714760"/>
            <a:ext cx="391392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14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Задание: раскрыть смысл выражений  , которые называют крылатыми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14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РУКОЙ ПОДАТЬ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14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ЧЕРЕЗ ЧАС ПО ЧАЙНОЙ ЛОЖКЕ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14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МОРОЧИТЬ ГОЛОВУ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14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О ВЕСЬ ДУХ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14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ЗАСУЧИВ РУКАВА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14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РИКУСИТЬ ЯЗЫК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онкурс фразеологизмов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49" name="Picture 2" descr="F:\Новая папка (2)\DSCN0388.JPG"/>
          <p:cNvPicPr/>
          <p:nvPr/>
        </p:nvPicPr>
        <p:blipFill>
          <a:blip r:embed="rId1"/>
          <a:stretch/>
        </p:blipFill>
        <p:spPr>
          <a:xfrm>
            <a:off x="4786200" y="3000240"/>
            <a:ext cx="4044240" cy="30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36880" indent="-2368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«Русский язык – настоящий, сильный. Где нужно – строгий, серьезный, где нужно - страстный, где нужно – бойкий и живой». А. Н. Толстой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36880" indent="-2368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«Русский народ создал русский язык – яркий, как радуга после весеннего ливня, меткий, как стрелы, певучий и богатый, задушевный, как песня над колыбелью. Что такое Родина?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36880" indent="-2368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Это весь народ. Это его культура, его язык». А. Н. Толстой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36880" indent="-2368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«Чтобы хорошо писать, надо хорошо знать свой родной язык». М. Горький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Русские писатели о русском языке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516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1640" indent="-25164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Из-за него начинается вражда. Когда тесно, то ему негде упасть (Яблоко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1640" indent="-25164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Он бывает насущный, бывает чужой. Он дружит с солью. По-немецки «брод» (хлеб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1640" indent="-25164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Глупый человек будет искать ее в скошенной траве, а тот, кто волнуется, будет на них сидеть  (игла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1640" indent="-25164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 Ее нужно съесть 16,38 кг, чтобы чему – нибудь научиться. Давным-давно она была на вес золота. Она была только у богатых (соль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16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онкурс « Чёрный ящик»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тгадать слово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Его корень в слове –писать, приставка в слове -рассказать, суффикс в слове- книжка, окончание в слове- вода 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Его корень в слове- вязать, приставка в слове -замолчать , суффикс в слове- сказка, окончание в слове -рыба .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онкурс шарад 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1440" indent="-27144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тгадать слово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1440" indent="-27144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Его корень в слове –писать, приставка в слове -рассказать, суффикс в слове- книжка, окончание в слове- вода .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( РАСПИСКА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1440" indent="-27144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Его корень в слове- вязать, приставка в слове -замолчать , суффикс в слове- сказка, окончание в слове -рыба .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(ЗАВЯЗКА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онкурс шарад 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справь ошибки: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дя, прашу тебя, памаги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ей племянници Оли,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о небудет её наги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й противной школи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вчера за дектант на слова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паставил «два»,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ам сказал, что маю работу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несмок прачитать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раси его, дядя, исправить двойку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аставить мне пять!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то грамотней?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справь ошибки: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дя, прошу тебя, помоги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ей племяннице Оле,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о не будет её ноги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й противной школе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вчера за диктант на слова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поставил «два»,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ам сказал, что мою работу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не смог прочитать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си его, дядя, исправить двойку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ставить мне пять!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то грамотней?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2"/>
                </a:solidFill>
                <a:latin typeface="Candara"/>
              </a:rPr>
              <a:t>М О Л О Д ЦЫ !!!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одведение итогов.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Награждение победителей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244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Деревенский гарнитур для семерых несовершеннолетних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Главное оружие Соловья-разбойника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Тара для чудес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В поле не воин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Царское головное отличие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6.Богатырская цифра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7.Минимум отмеров на один разрез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8.В поле не один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Головной убор, рассчитанный на дурака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Разбойничья цифра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«Нечистая» дюжина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Ведьмолет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Змей по батюшке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Весёлые загадки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244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Деревенский гарнитур для семерых несовершеннолетних.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Лавки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Главное оружие Соловья-разбойника.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Свист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Тара для чудес.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Решето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В поле не воин.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Один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Царское головное отличие.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Корона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6.Богатырская цифра.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Три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7.Минимум отмеров на один разрез.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Семь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8.В поле не один.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Воин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Головной убор, рассчитанный на дурака.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Колпак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Разбойничья цифра.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Сорок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«Нечистая» дюжина.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Тринадцать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Ведьмолет.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Помело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Змей по батюшке.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Горыныч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Весёлые загадки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 Что нового ты узнал сегодня на уроке?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 Чем необычна форма КВН?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 Каков твой личный вклад  в результаты урока?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 Кто заслуживает высоких оценок?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 Твои замечания и предложения?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Рефлексия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38680" indent="-2386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“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Жили два человека, горячо любившие друг друга. И вот один из них позавидовал другому и начал распространять о нем в народе плохой слух: якобы последний живет не по-христиански, делает зло и хищением и ложью приобретает себе славу и честь. Вскоре эта клевета сделала свое дело. От этого человека отвернулись все друзья и знакомые, и он пришел в большую бедность. Впоследствии оклеветавший своего друга раскаялся и пришел просить у него прощения. Но тот ему сказал: "Возьми мешок лебяжьего пуха, в сильную бурю залезь на высокое дерево и вытряхни его, тогда и приходи ко мне". Последний все сделал, как ему было велено, и думал, что этим самым он получил прощение. Но повелевший ему сделать это сказал: "Теперь иди, собери до единой пушинки", на это клеветник ответил: "Это невозможно, потому что ветер разнес пух по всей Вселенной". И сказал ему бывший друг: "Так невозможно и мне вернуть ту славу и честь перед моими ближними, которые ты отнял у меня своей клеветой"”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тча «Слово о словах».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1" name="Rectangle 1"/>
          <p:cNvSpPr/>
          <p:nvPr/>
        </p:nvSpPr>
        <p:spPr>
          <a:xfrm>
            <a:off x="0" y="0"/>
            <a:ext cx="184320" cy="36900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1643760" y="144720"/>
            <a:ext cx="302760" cy="303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63520" indent="-263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 земле насчитывается более 2 000 народов и примерно 6 800 языков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63520" indent="-263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Каждый язык живет своей жизнью и развивается по своим законам, имеет свою историю. Чтобы знать язык, недостаточно знать его орфографию. Но чем больше мы будем знать о нем, тем больше мы будем его любить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63520" indent="-263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 Ребята, как вы поняли эту притчу? В ней заключена цель нашего мероприятия, и мы хотим, чтобы вы сами её сформулировали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Сведения о языке.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2920" indent="-23292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В судействе нет у нас изъяна. </a:t>
            </a:r>
            <a:endParaRPr b="0" lang="ru-RU" sz="4000" spc="-1" strike="noStrike">
              <a:solidFill>
                <a:srgbClr val="073e87"/>
              </a:solidFill>
              <a:latin typeface="Candara"/>
            </a:endParaRPr>
          </a:p>
          <a:p>
            <a:pPr marL="232920" indent="-23292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Арбитры все на высоте.</a:t>
            </a:r>
            <a:endParaRPr b="0" lang="ru-RU" sz="4000" spc="-1" strike="noStrike">
              <a:solidFill>
                <a:srgbClr val="073e87"/>
              </a:solidFill>
              <a:latin typeface="Candara"/>
            </a:endParaRPr>
          </a:p>
          <a:p>
            <a:pPr marL="232920" indent="-23292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Жюри очки считают рьяно…</a:t>
            </a:r>
            <a:endParaRPr b="0" lang="ru-RU" sz="4000" spc="-1" strike="noStrike">
              <a:solidFill>
                <a:srgbClr val="073e87"/>
              </a:solidFill>
              <a:latin typeface="Candara"/>
            </a:endParaRPr>
          </a:p>
          <a:p>
            <a:pPr marL="232920" indent="-23292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А мы представим капитанов</a:t>
            </a:r>
            <a:endParaRPr b="0" lang="ru-RU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Жюри.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усть острей кипит борьба 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ильней соревнование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Успех решает не судьба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А только наши знания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иветствие 1 команды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19" name="Picture 3" descr="F:\Новая папка (2)\DSCN0389.JPG"/>
          <p:cNvPicPr/>
          <p:nvPr/>
        </p:nvPicPr>
        <p:blipFill>
          <a:blip r:embed="rId1"/>
          <a:stretch/>
        </p:blipFill>
        <p:spPr>
          <a:xfrm>
            <a:off x="4857840" y="2143080"/>
            <a:ext cx="39290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оревнуясь вместе с вами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Мы останемся друзьями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усть борьба кипит сильней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 наша дружба крепнет с ней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иветствие 2 команды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22" name="Picture 2" descr="F:\Новая папка (2)\DSCN0390.JPG"/>
          <p:cNvPicPr/>
          <p:nvPr/>
        </p:nvPicPr>
        <p:blipFill>
          <a:blip r:embed="rId1"/>
          <a:stretch/>
        </p:blipFill>
        <p:spPr>
          <a:xfrm>
            <a:off x="5000760" y="2428920"/>
            <a:ext cx="392868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 команда рассказывает  об имени прилагательном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 команда рассказывает об имени существительном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Домашнее задание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Угадай название нашей команды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- название нашей команды обозначает название предмета, отвечает на вопросы  Кто? Что?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- название нашей  команды обозначает признак предмета ,отвечает на вопрос Какой? В предложении бывает второстепенным членом 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Разминка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: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aveform</Template>
  <TotalTime>219</TotalTime>
  <Application>LibreOffice/7.4.7.2$Linux_X86_64 LibreOffice_project/40$Build-2</Application>
  <AppVersion>15.0000</AppVersion>
  <Words>1346</Words>
  <Paragraphs>182</Paragraphs>
  <Company>МОУ СОШ п. Красная Кудрявка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1T11:11:12Z</dcterms:created>
  <dc:creator>Надежда Викторовна</dc:creator>
  <dc:description/>
  <dc:language>en-US</dc:language>
  <cp:lastModifiedBy>Елена Петровна</cp:lastModifiedBy>
  <dcterms:modified xsi:type="dcterms:W3CDTF">2015-11-06T05:15:10Z</dcterms:modified>
  <cp:revision>35</cp:revision>
  <dc:subject/>
  <dc:title>КВН по русскому язык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8</vt:r8>
  </property>
</Properties>
</file>