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D52-9CEE-442B-8134-CC58FC8A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7B4-8D62-4544-983A-366501A2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0F2-63DE-43E3-AD05-DA09B37E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6C1-52F5-4CB2-806F-2744D950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1773-2E9D-4E43-A3CB-21D5C26C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E26-9EB6-498E-BF8B-462E6CAC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802-239F-436D-ADEC-05A5794C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566A-C9EF-4C1B-B762-0B3336B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ACDE-5B68-42FD-8A19-F1C68A5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30BF-1BBB-436E-9BFE-F791DC1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9104-9ECF-435F-AE4F-EE5E9F5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C3B-C7D6-420B-8EF7-F3FDA35F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7062-F76C-45F5-A745-47299F6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38A9-999F-4D5C-AD93-EAA7A1E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0F5-6B8B-48CF-B81D-50528BC3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CF43-B74B-4DC7-A08E-6C4DDBE2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58A7-4D5C-470E-8584-BD4FFADE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902-F6ED-4D6F-9C41-5ED0CE77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B67-AB28-4387-8F95-66909589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FD7-057B-4EFD-9E3E-2F5FEC2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A82-43BC-44AC-9F03-DC798DF0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C05-D0F7-4E65-AD9C-06F3311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84D-A2F9-4B77-8E29-B6F2180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61C-DEE0-425B-8921-937EF76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2BAC0F-2844-4AFF-86AE-FAA7D8A2BD1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B86F20C-32F5-486F-9CEC-219F6A65F66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ВН по русскому языку для 5-6 класс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440" cy="14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Учителя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БОУ Кочуновской О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Жулянова Н.В., Никишина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F:\Ветошкино\DSCN3689.JPG"/>
          <p:cNvPicPr/>
          <p:nvPr/>
        </p:nvPicPr>
        <p:blipFill>
          <a:blip r:embed="rId1"/>
          <a:stretch/>
        </p:blipFill>
        <p:spPr>
          <a:xfrm>
            <a:off x="7000920" y="3071880"/>
            <a:ext cx="1782000" cy="237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G:\Новая папка (2)\DSCN0396.JPG"/>
          <p:cNvPicPr/>
          <p:nvPr/>
        </p:nvPicPr>
        <p:blipFill>
          <a:blip r:embed="rId2"/>
          <a:stretch/>
        </p:blipFill>
        <p:spPr>
          <a:xfrm>
            <a:off x="357120" y="3071880"/>
            <a:ext cx="207144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 команд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ишите за 2 минуты, как можно больше существительных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 команд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ишите за 2 минуты, как можно больше прилагательных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больше?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пределить части речи :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команд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садила мама в печь пироги с капустой печь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оманд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нежное покрывало  покрыло всё пол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капитанов 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1" name="Picture 2" descr="G:\Новая папка (2)\DSCN0120.JPG"/>
          <p:cNvPicPr/>
          <p:nvPr/>
        </p:nvPicPr>
        <p:blipFill>
          <a:blip r:embed="rId1"/>
          <a:stretch/>
        </p:blipFill>
        <p:spPr>
          <a:xfrm>
            <a:off x="1357200" y="4357800"/>
            <a:ext cx="2761920" cy="20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G:\Новая папка (2)\DSCN0118.JPG"/>
          <p:cNvPicPr/>
          <p:nvPr/>
        </p:nvPicPr>
        <p:blipFill>
          <a:blip r:embed="rId2"/>
          <a:stretch/>
        </p:blipFill>
        <p:spPr>
          <a:xfrm>
            <a:off x="5000760" y="4357800"/>
            <a:ext cx="27856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гадать загадку и определить части речи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Стоит дом ,кто в него войдёт, тот ум приобретёт»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Белый зайчик прыгает по чёрному полю . Слёзы проливает. Дети их читают и стирают»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загадок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гадать загадку и определить части речи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Стоит дом ,кто в него войдёт, тот ум приобретёт» ( Школ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Белый зайчик прыгает по чёрному полю . Слёзы проливает. Дети их читают и стирают» (мел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загадок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дставителю от каждой команды предлагается за 2 минуты записать на доске слова в таком порядке, чтобы второе слово начиналось с последней буквы первог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чальные слова: Кочуново, Инкин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знатоков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 Учимся писать стихи»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не спешу – пишу, в тетрадь – пять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щенка – пока,  помогите -найдит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поэтов.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Чем кончается день и ночь? 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м кончается лето и начинается осень?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Что в человеке есть одно, а у вороны вдвое, в лисе не встретиться оно, а в огороде втрое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Какое слово состоит из трех слогов, а указывает на 33 буквы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акое слово состоит из семи одинаковых букв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 Какие сто букв могут остановить движение транспорта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 Какую часть слова можно в земле найти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 Как большой дом сделать маленьким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9. Без какой музыкальной ноты нельзя приготовить обед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0. Какую строчку нельзя прочитать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нкурс эрудит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Чем кончается день и ночь?   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Ь на конце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м кончается лето и начинается осень?   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Буквой 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Что в человеке есть одно, а у вороны вдвое, в лисе не встретиться оно, а в огороде втрое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Буква 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Какое слово состоит из трех слогов, а указывает на 33 буквы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(аз-бу-ка) (ал-фа-вит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Какое слово состоит из семи одинаковых букв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емья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 Какие сто букв могут остановить движение транспорта?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стоп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 Какую часть слова можно в земле найти? (корен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 Как большой дом сделать маленьким?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добавить суффикс -ик)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9. Без какой музыкальной ноты нельзя приготовить обед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л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0. Какую строчку нельзя прочитать?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швейную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4520" indent="-254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нкурс эрудит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28800" y="257184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се участники записывают слов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ГРОТЕК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. Задача: из букв, входящих в это слово, составить как можно больше других слов . Побеждает тот, у кого больше других сл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« Кто больше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71920" y="2714760"/>
            <a:ext cx="39139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Задание: раскрыть смысл выражений  , которые называют крылаты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УКОЙ ПОДАТ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ЧЕРЕЗ ЧАС ПО ЧАЙНОЙ ЛОЖКЕ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ОРОЧИТЬ ГОЛОВУ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 ВЕСЬ ДУХ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ЗАСУЧИВ РУКАВ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КУСИТЬ ЯЗЫК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фразеологизмов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9" name="Picture 2" descr="F:\Новая папка (2)\DSCN0388.JPG"/>
          <p:cNvPicPr/>
          <p:nvPr/>
        </p:nvPicPr>
        <p:blipFill>
          <a:blip r:embed="rId1"/>
          <a:stretch/>
        </p:blipFill>
        <p:spPr>
          <a:xfrm>
            <a:off x="4786200" y="3000240"/>
            <a:ext cx="404424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Русский язык – настоящий, сильный. Где нужно – строгий, серьезный, где нужно - страстный, где нужно – бойкий и живой». А. Н. Толсто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Русский народ создал русский язык – яркий, как радуга после весеннего ливня, меткий, как стрелы, певучий и богатый, задушевный, как песня над колыбелью. Что такое Родина?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то весь народ. Это его культура, его язык». А. Н. Толсто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36880" indent="-236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Чтобы хорошо писать, надо хорошо знать свой родной язык». М. Горький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е писатели о русском языке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Из-за него начинается вражда. Когда тесно, то ему негде упасть (Яблок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Он бывает насущный, бывает чужой. Он дружит с солью. По-немецки «брод» (хлеб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Глупый человек будет искать ее в скошенной траве, а тот, кто волнуется, будет на них сидеть  (игл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 Ее нужно съесть 16,38 кг, чтобы чему – нибудь научиться. Давным-давно она была на вес золота. Она была только у богатых (сол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« Чёрный ящик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гадать слов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 –писать, приставка в слове -рассказать, суффикс в слове- книжка, окончание в слове- вода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- вязать, приставка в слове -замолчать , суффикс в слове- сказка, окончание в слове -рыб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шарад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гадать слово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 –писать, приставка в слове -рассказать, суффикс в слове- книжка, окончание в слове- вод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РАСПИСК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Его корень в слове- вязать, приставка в слове -замолчать , суффикс в слове- сказка, окончание в слове -рыба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ЗАВЯЗК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нкурс шарад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равь ошибки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прашу тебя, пама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ей племянници Оли,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небудет её на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ротивной школ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чера за дектант на слов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аставил «два»,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 сказал, что маю работ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смок прачита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раси его, дядя, исправить двой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аставить мне пя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грамотней?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равь ошибки: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прошу тебя, помо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ей племяннице Оле,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о не будет её ног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ротивной школ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чера за диктант на слов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оставил «два»,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 сказал, что мою работ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не смог прочита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 его, дядя, исправить двой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авить мне пя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грамотней?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/>
                </a:solidFill>
                <a:latin typeface="Candara"/>
              </a:rPr>
              <a:t>М О Л О Д ЦЫ !!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дведение итогов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граждение победителей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Деревенский гарнитур для семерых несовершеннолетних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лавное оружие Соловья-разбойника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Тара для чудес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В поле не воин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Царское головное отличи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Богатырская цифр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Минимум отмеров на один разрез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В поле не один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Головной убор, рассчитанный на дурак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збойничья цифр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Нечистая» дюжин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едьмолет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Змей по батюшке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есёлые загадк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Деревенский гарнитур для семерых несовершеннолетних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Лавки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лавное оружие Соловья-разбойника.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вист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Тара для чудес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Решет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В поле не воин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дин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Царское головное отличие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рона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.Богатырская цифр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ри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.Минимум отмеров на один разрез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ем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.В поле не один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Воин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Головной убор, рассчитанный на дурак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олпак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Разбойничья цифр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рок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«Нечистая» дюжина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ринадцать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едьмолет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Помело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Змей по батюшке. (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Горыныч)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4080" indent="-2440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есёлые загадк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Что нового ты узнал сегодня на уроке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Чем необычна форма КВН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Каков твой личный вклад  в результаты урока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Кто заслуживает высоких оценок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Твои замечания и предложения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флекс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“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Жили два человека, горячо любившие друг друга. И вот один из них позавидовал другому и начал распространять о нем в народе плохой слух: якобы последний живет не по-христиански, делает зло и хищением и ложью приобретает себе славу и честь. Вскоре эта клевета сделала свое дело. От этого человека отвернулись все друзья и знакомые, и он пришел в большую бедность. Впоследствии оклеветавший своего друга раскаялся и пришел просить у него прощения. Но тот ему сказал: "Возьми мешок лебяжьего пуха, в сильную бурю залезь на высокое дерево и вытряхни его, тогда и приходи ко мне". Последний все сделал, как ему было велено, и думал, что этим самым он получил прощение. Но повелевший ему сделать это сказал: "Теперь иди, собери до единой пушинки", на это клеветник ответил: "Это невозможно, потому что ветер разнес пух по всей Вселенной". И сказал ему бывший друг: "Так невозможно и мне вернуть ту славу и честь перед моими ближними, которые ты отнял у меня своей клеветой"”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тча «Слово о словах»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0" y="0"/>
            <a:ext cx="184320" cy="369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643760" y="144720"/>
            <a:ext cx="302760" cy="303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земле насчитывается более 2 000 народов и примерно 6 800 язык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ждый язык живет своей жизнью и развивается по своим законам, имеет свою историю. Чтобы знать язык, недостаточно знать его орфографию. Но чем больше мы будем знать о нем, тем больше мы будем его любить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63520" indent="-2635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Ребята, как вы поняли эту притчу? В ней заключена цель нашего мероприятия, и мы хотим, чтобы вы сами её сформулировал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ведения о языке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В судействе нет у нас изъяна. 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Арбитры все на высоте.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Жюри очки считают рьяно…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32920" indent="-2329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А мы представим капитанов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Жюри.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усть острей кипит борьба 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льней соревнование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спех решает не судьба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только наши знани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ветствие 1 команды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9" name="Picture 3" descr="F:\Новая папка (2)\DSCN0389.JPG"/>
          <p:cNvPicPr/>
          <p:nvPr/>
        </p:nvPicPr>
        <p:blipFill>
          <a:blip r:embed="rId1"/>
          <a:stretch/>
        </p:blipFill>
        <p:spPr>
          <a:xfrm>
            <a:off x="4857840" y="2143080"/>
            <a:ext cx="3929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ревнуясь вместе с вами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ы останемся друзьями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усть борьба кипит сильней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наша дружба крепнет с ней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ветствие 2 команды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2" name="Picture 2" descr="F:\Новая папка (2)\DSCN0390.JPG"/>
          <p:cNvPicPr/>
          <p:nvPr/>
        </p:nvPicPr>
        <p:blipFill>
          <a:blip r:embed="rId1"/>
          <a:stretch/>
        </p:blipFill>
        <p:spPr>
          <a:xfrm>
            <a:off x="5000760" y="2428920"/>
            <a:ext cx="39286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команда рассказывает  об имени прилагательном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команда рассказывает об имени существительном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гадай название нашей команды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- название нашей команды обозначает название предмета, отвечает на вопросы  Кто? Что?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- название нашей  команды обозначает признак предмета ,отвечает на вопрос Какой? В предложении бывает второстепенным членом 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зминка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219</TotalTime>
  <Application>LibreOffice/7.4.7.2$Linux_X86_64 LibreOffice_project/40$Build-2</Application>
  <AppVersion>15.0000</AppVersion>
  <Words>1346</Words>
  <Paragraphs>182</Paragraphs>
  <Company>МОУ СОШ п. Красная Кудрявк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1:11:12Z</dcterms:created>
  <dc:creator>Надежда Викторовна</dc:creator>
  <dc:description/>
  <dc:language>en-US</dc:language>
  <cp:lastModifiedBy>Елена Петровна</cp:lastModifiedBy>
  <dcterms:modified xsi:type="dcterms:W3CDTF">2015-11-06T05:15:10Z</dcterms:modified>
  <cp:revision>35</cp:revision>
  <dc:subject/>
  <dc:title>КВН по рус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8</vt:r8>
  </property>
</Properties>
</file>