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7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5.gif" ContentType="image/gif"/>
  <Override PartName="/ppt/media/image8.png" ContentType="image/png"/>
  <Override PartName="/ppt/media/image11.jpeg" ContentType="image/jpeg"/>
  <Override PartName="/ppt/media/image4.png" ContentType="image/png"/>
  <Override PartName="/ppt/media/image12.wmf" ContentType="image/x-wmf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AD4-949E-48CA-97C6-15D05A42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850-8253-4F37-9DC7-E548306A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A80-F5BD-47A4-BE83-6AADE95D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295-12DE-4C1C-A20A-E3F953FA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4EA9-4A05-4C2D-B22E-A236A618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5C72-4013-49A9-B83A-345E2A54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9F96-832D-4F55-95CF-914ECFB3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EBE1-B38D-40B8-BF1C-F7BFA505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5AE5-0495-4EF4-A65F-C2FD8B68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4A1E-DEC3-4692-9A52-1B12EFE6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B051-CC27-418E-9A64-92FA9AB1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B73-CA97-4A20-AB28-6A2F817B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79AD-4E54-4F90-97D4-E83D47FD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A5F8-ACC8-4F84-BA37-0E173E4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63D0-31F3-44EB-AD04-A982F8FC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A8BE-EB15-40CD-A70B-25EC8F77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CC07-7AE7-4A0E-ABC9-347D37C5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6D89-33C7-47C6-ABA2-6F5E4E64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59AB-9978-4B44-84B1-198A3AE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8ECD-CEE2-4865-9059-C5CFBCA0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C362-EDFF-4C7A-89A0-FD4B2F4E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1D06-C905-4ABE-BA49-FA86E8C7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A35-041D-4DBF-8351-6972A71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68E6-3410-4FC8-9C7A-062CF00F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EAF7-A1CD-4CE3-B85E-77C92ED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4810-AE84-4767-B3E8-B8B4C1CA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B55C-2C8D-408D-A75A-3E3A6010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B7E47-3149-4649-8BAC-39904AF8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6927-C171-46DC-9000-527613F0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0A3D-C06A-4473-8113-DB58691A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4220-2114-4D2B-AC74-7EB3056F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E08B-B285-4443-BA54-EEC93E6F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47268-2305-40EB-A80C-6425055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DA4-95D4-4CD4-AE41-2F365A0B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DAAB-1F63-4A60-92B1-1B16E71C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0415-73BA-4FCE-A4DC-1D005E0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D2648-DEF6-41A7-9E8D-6E2C4239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E569E-8566-4334-949A-655C8AC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E00B-5B04-447D-8240-36B63C03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02AB-31D4-436F-B749-DA680E1D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E7BD-0D89-44F2-B653-F98F2417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27F4-7989-4B07-828C-6A6C5CDB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2B03-B63D-4583-94E7-CF2D9F7A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B22-6502-4358-8EA5-676255F9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B57-AACC-4713-BFEA-EC44972B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A7F-6B2C-4EB4-8431-1332476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FB2-7E2E-4BB9-AEF7-F90FC150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ACC-F446-42EA-B8EE-427CB32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1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5 декабр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ивошей Дмитрий Андрееви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0BB6-3FAF-4238-A63E-C959C4ECD5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1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E09D-9B15-4C78-9A0E-7A1E8F30F3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8FFD-8FD7-4E5D-B41A-A9797FB629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hyperlink" Target="http://tvsh2004.narod.ru/gm/priz2.gif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CreativeBlock BB"/>
              </a:rPr>
              <a:t>Параллелепипед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7" name="Picture 5" descr="anicomp"/>
          <p:cNvPicPr/>
          <p:nvPr/>
        </p:nvPicPr>
        <p:blipFill>
          <a:blip r:embed="rId1"/>
          <a:stretch/>
        </p:blipFill>
        <p:spPr>
          <a:xfrm>
            <a:off x="7308720" y="6922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Картинка 148 из 3055"/>
          <p:cNvPicPr/>
          <p:nvPr/>
        </p:nvPicPr>
        <p:blipFill>
          <a:blip r:embed="rId2"/>
          <a:stretch/>
        </p:blipFill>
        <p:spPr>
          <a:xfrm>
            <a:off x="6340320" y="3263760"/>
            <a:ext cx="239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0"/>
          <p:cNvSpPr/>
          <p:nvPr/>
        </p:nvSpPr>
        <p:spPr>
          <a:xfrm>
            <a:off x="468360" y="1197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араллелепипе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шестигранник, противоположные грани которого попарно параллельн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3276720" y="2781360"/>
            <a:ext cx="3603600" cy="3173400"/>
            <a:chOff x="3276720" y="2781360"/>
            <a:chExt cx="3603600" cy="3173400"/>
          </a:xfrm>
        </p:grpSpPr>
        <p:sp>
          <p:nvSpPr>
            <p:cNvPr id="211" name="AutoShape 15"/>
            <p:cNvSpPr/>
            <p:nvPr/>
          </p:nvSpPr>
          <p:spPr>
            <a:xfrm>
              <a:off x="3276720" y="2781360"/>
              <a:ext cx="3603600" cy="31734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4054320" y="2791080"/>
              <a:ext cx="1080" cy="4590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4044600" y="3439800"/>
              <a:ext cx="0" cy="478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4044600" y="4157280"/>
              <a:ext cx="0" cy="477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H="1">
              <a:off x="6467760" y="5176080"/>
              <a:ext cx="41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 flipH="1">
              <a:off x="5521680" y="5176080"/>
              <a:ext cx="531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 flipH="1">
              <a:off x="4458240" y="5176080"/>
              <a:ext cx="767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 flipH="1">
              <a:off x="4044240" y="5176080"/>
              <a:ext cx="176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4044600" y="4816800"/>
              <a:ext cx="1080" cy="3668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 flipH="1">
              <a:off x="3688560" y="5176080"/>
              <a:ext cx="355320" cy="35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 flipV="1">
              <a:off x="3276720" y="5653440"/>
              <a:ext cx="295560" cy="300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2" name="Picture 37" descr="31m1"/>
          <p:cNvPicPr/>
          <p:nvPr/>
        </p:nvPicPr>
        <p:blipFill>
          <a:blip r:embed="rId1"/>
          <a:stretch/>
        </p:blipFill>
        <p:spPr>
          <a:xfrm flipH="1">
            <a:off x="3211200" y="2163600"/>
            <a:ext cx="857160" cy="66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9" descr="Рисунок15"/>
          <p:cNvPicPr/>
          <p:nvPr/>
        </p:nvPicPr>
        <p:blipFill>
          <a:blip r:embed="rId2"/>
          <a:stretch/>
        </p:blipFill>
        <p:spPr>
          <a:xfrm>
            <a:off x="6022800" y="2708280"/>
            <a:ext cx="2725920" cy="414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1"/>
          <p:cNvSpPr/>
          <p:nvPr/>
        </p:nvSpPr>
        <p:spPr>
          <a:xfrm>
            <a:off x="254160" y="2060640"/>
            <a:ext cx="3095640" cy="1801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33"/>
                </a:solidFill>
                <a:latin typeface="Times New Roman"/>
              </a:rPr>
              <a:t>Параллелепипед име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верш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 рёб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  гран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редел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AutoShape 23"/>
          <p:cNvSpPr/>
          <p:nvPr/>
        </p:nvSpPr>
        <p:spPr>
          <a:xfrm>
            <a:off x="4863960" y="1874880"/>
            <a:ext cx="1436760" cy="40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981" y="47725"/>
                </a:moveTo>
                <a:lnTo>
                  <a:pt x="-1146" y="614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Верш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24"/>
          <p:cNvSpPr/>
          <p:nvPr/>
        </p:nvSpPr>
        <p:spPr>
          <a:xfrm>
            <a:off x="7020000" y="1989000"/>
            <a:ext cx="1436760" cy="40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946" y="83070"/>
                </a:moveTo>
                <a:lnTo>
                  <a:pt x="-1146" y="614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Реб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26"/>
          <p:cNvSpPr/>
          <p:nvPr/>
        </p:nvSpPr>
        <p:spPr>
          <a:xfrm>
            <a:off x="1116000" y="5157720"/>
            <a:ext cx="1436760" cy="40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4776" y="19807"/>
                </a:moveTo>
                <a:lnTo>
                  <a:pt x="22746" y="614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Гра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27"/>
          <p:cNvSpPr/>
          <p:nvPr/>
        </p:nvSpPr>
        <p:spPr>
          <a:xfrm>
            <a:off x="399564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37" descr="31m1"/>
          <p:cNvPicPr/>
          <p:nvPr/>
        </p:nvPicPr>
        <p:blipFill>
          <a:blip r:embed="rId3"/>
          <a:stretch/>
        </p:blipFill>
        <p:spPr>
          <a:xfrm flipH="1">
            <a:off x="4401720" y="291636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7" descr="31m1"/>
          <p:cNvPicPr/>
          <p:nvPr/>
        </p:nvPicPr>
        <p:blipFill>
          <a:blip r:embed="rId4"/>
          <a:stretch/>
        </p:blipFill>
        <p:spPr>
          <a:xfrm>
            <a:off x="4767120" y="4892760"/>
            <a:ext cx="857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376200" y="831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24000" y="134136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stra"/>
              </a:rPr>
              <a:t>Параллелепипеды бываю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</a:t>
            </a:r>
            <a:r>
              <a:rPr b="0" lang="ru-RU" sz="2800" spc="-1" strike="noStrike">
                <a:solidFill>
                  <a:srgbClr val="000000"/>
                </a:solidFill>
                <a:latin typeface="Astra"/>
              </a:rPr>
              <a:t> видов 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6348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1260360" y="4127400"/>
            <a:ext cx="72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stra"/>
              </a:rPr>
              <a:t>Диагонали параллелепипеда пересекают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stra"/>
              </a:rPr>
              <a:t>в одной точ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делит их </a:t>
            </a:r>
            <a:r>
              <a:rPr b="0" lang="ru-RU" sz="2400" spc="-1" strike="noStrike">
                <a:solidFill>
                  <a:srgbClr val="000000"/>
                </a:solidFill>
                <a:latin typeface="Astra"/>
              </a:rPr>
              <a:t>попол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10" descr="37"/>
          <p:cNvPicPr/>
          <p:nvPr/>
        </p:nvPicPr>
        <p:blipFill>
          <a:blip r:embed="rId1"/>
          <a:stretch/>
        </p:blipFill>
        <p:spPr>
          <a:xfrm flipH="1">
            <a:off x="7380000" y="5203800"/>
            <a:ext cx="1368360" cy="1225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dd36efffaaed"/>
          <p:cNvPicPr/>
          <p:nvPr/>
        </p:nvPicPr>
        <p:blipFill>
          <a:blip r:embed="rId2"/>
          <a:stretch/>
        </p:blipFill>
        <p:spPr>
          <a:xfrm>
            <a:off x="250920" y="4508640"/>
            <a:ext cx="1280880" cy="20872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ды и свойства параллелепипе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AutoShape 16"/>
          <p:cNvSpPr/>
          <p:nvPr/>
        </p:nvSpPr>
        <p:spPr>
          <a:xfrm>
            <a:off x="1332000" y="2565360"/>
            <a:ext cx="1657440" cy="1079640"/>
          </a:xfrm>
          <a:prstGeom prst="parallelogram">
            <a:avLst>
              <a:gd name="adj" fmla="val 3837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5364000" y="2637000"/>
            <a:ext cx="144000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766520" y="1916280"/>
            <a:ext cx="13420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кло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582160" y="1916280"/>
            <a:ext cx="9975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ям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284360" y="3645000"/>
            <a:ext cx="3658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нованием служит прямоугольн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177120" y="3645000"/>
            <a:ext cx="3762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нованием служит параллелограм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995640" y="5081760"/>
            <a:ext cx="1828800" cy="1085760"/>
            <a:chOff x="3995640" y="5081760"/>
            <a:chExt cx="1828800" cy="1085760"/>
          </a:xfrm>
        </p:grpSpPr>
        <p:pic>
          <p:nvPicPr>
            <p:cNvPr id="246" name="Picture 12" descr="Картинка 142 из 305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995640" y="5081760"/>
              <a:ext cx="18288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13"/>
            <p:cNvSpPr/>
            <p:nvPr/>
          </p:nvSpPr>
          <p:spPr>
            <a:xfrm flipV="1">
              <a:off x="4500720" y="5297040"/>
              <a:ext cx="647640" cy="576360"/>
            </a:xfrm>
            <a:prstGeom prst="line">
              <a:avLst/>
            </a:prstGeom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4500720" y="5081760"/>
              <a:ext cx="718920" cy="934920"/>
            </a:xfrm>
            <a:prstGeom prst="line">
              <a:avLst/>
            </a:prstGeom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4834080" y="5513400"/>
              <a:ext cx="72720" cy="712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3"/>
            <p:cNvSpPr/>
            <p:nvPr/>
          </p:nvSpPr>
          <p:spPr>
            <a:xfrm>
              <a:off x="4500720" y="5584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H="1">
              <a:off x="4676760" y="5295960"/>
              <a:ext cx="6840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5"/>
            <p:cNvSpPr/>
            <p:nvPr/>
          </p:nvSpPr>
          <p:spPr>
            <a:xfrm>
              <a:off x="4676760" y="5559480"/>
              <a:ext cx="6840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6"/>
            <p:cNvSpPr/>
            <p:nvPr/>
          </p:nvSpPr>
          <p:spPr>
            <a:xfrm>
              <a:off x="5016600" y="5343480"/>
              <a:ext cx="680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28"/>
            <p:cNvSpPr/>
            <p:nvPr/>
          </p:nvSpPr>
          <p:spPr>
            <a:xfrm flipH="1">
              <a:off x="5016240" y="5657760"/>
              <a:ext cx="6804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бъем и площадь боковой поверхности параллелепипе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5761080" cy="4500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5219280" y="5661000"/>
            <a:ext cx="36313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=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a * b + a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*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c + c * b) *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5691240"/>
            <a:ext cx="4316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400" y="-25546"/>
                </a:moveTo>
                <a:lnTo>
                  <a:pt x="25412" y="747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5877000" y="5084640"/>
            <a:ext cx="4316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9406" y="-48496"/>
                </a:moveTo>
                <a:lnTo>
                  <a:pt x="-3812" y="747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7164360" y="3068640"/>
            <a:ext cx="4320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418" y="-13188"/>
                </a:moveTo>
                <a:lnTo>
                  <a:pt x="-3812" y="7477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57200" y="2436840"/>
            <a:ext cx="244476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ъем параллелепипеда равен произведению трех его измер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457200" y="6300720"/>
            <a:ext cx="61992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щадь боковой поверхности равна сумме всех его гран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7020000" y="6300720"/>
            <a:ext cx="1908000" cy="366840"/>
          </a:xfrm>
          <a:custGeom>
            <a:avLst/>
            <a:gdLst>
              <a:gd name="textAreaLeft" fmla="*/ 23760 w 1908000"/>
              <a:gd name="textAreaRight" fmla="*/ 1884240 w 19080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112256" h="21600">
                <a:moveTo>
                  <a:pt x="0" y="0"/>
                </a:moveTo>
                <a:lnTo>
                  <a:pt x="112256" y="0"/>
                </a:lnTo>
                <a:lnTo>
                  <a:pt x="112256" y="21600"/>
                </a:lnTo>
                <a:lnTo>
                  <a:pt x="0" y="21600"/>
                </a:lnTo>
                <a:close/>
              </a:path>
              <a:path fill="lightenLess" w="112256" h="21600">
                <a:moveTo>
                  <a:pt x="0" y="0"/>
                </a:moveTo>
                <a:lnTo>
                  <a:pt x="112256" y="0"/>
                </a:lnTo>
                <a:lnTo>
                  <a:pt x="110857" y="1400"/>
                </a:lnTo>
                <a:lnTo>
                  <a:pt x="1400" y="1400"/>
                </a:lnTo>
                <a:close/>
              </a:path>
              <a:path fill="darken" w="112256" h="21600">
                <a:moveTo>
                  <a:pt x="112256" y="0"/>
                </a:moveTo>
                <a:lnTo>
                  <a:pt x="112256" y="21600"/>
                </a:lnTo>
                <a:lnTo>
                  <a:pt x="110857" y="20200"/>
                </a:lnTo>
                <a:lnTo>
                  <a:pt x="110857" y="1400"/>
                </a:lnTo>
                <a:close/>
              </a:path>
              <a:path fill="darkenLess" w="112256" h="21600">
                <a:moveTo>
                  <a:pt x="112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57" y="20200"/>
                </a:lnTo>
                <a:close/>
              </a:path>
              <a:path fill="lighten" w="112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монст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14" descr=""/>
          <p:cNvPicPr/>
          <p:nvPr/>
        </p:nvPicPr>
        <p:blipFill>
          <a:blip r:embed="rId2"/>
          <a:stretch/>
        </p:blipFill>
        <p:spPr>
          <a:xfrm>
            <a:off x="536400" y="358920"/>
            <a:ext cx="81504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Картинка 150 из 3055"/>
          <p:cNvPicPr/>
          <p:nvPr/>
        </p:nvPicPr>
        <p:blipFill>
          <a:blip r:embed="rId1"/>
          <a:stretch/>
        </p:blipFill>
        <p:spPr>
          <a:xfrm>
            <a:off x="4076640" y="3840120"/>
            <a:ext cx="2745000" cy="2565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upload-1227539887"/>
          <p:cNvPicPr/>
          <p:nvPr/>
        </p:nvPicPr>
        <p:blipFill>
          <a:blip r:embed="rId2"/>
          <a:stretch/>
        </p:blipFill>
        <p:spPr>
          <a:xfrm>
            <a:off x="5530680" y="1430280"/>
            <a:ext cx="2579760" cy="2146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BOOK2"/>
          <p:cNvPicPr/>
          <p:nvPr/>
        </p:nvPicPr>
        <p:blipFill>
          <a:blip r:embed="rId3"/>
          <a:stretch/>
        </p:blipFill>
        <p:spPr>
          <a:xfrm rot="1261800">
            <a:off x="1055160" y="4340160"/>
            <a:ext cx="1943280" cy="1579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Картинка 2 из 10"/>
          <p:cNvPicPr/>
          <p:nvPr/>
        </p:nvPicPr>
        <p:blipFill>
          <a:blip r:embed="rId4"/>
          <a:stretch/>
        </p:blipFill>
        <p:spPr>
          <a:xfrm>
            <a:off x="1055520" y="2217600"/>
            <a:ext cx="3191040" cy="135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лелепипед в нашей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троение параллелепипе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1" name="построение параллелепипеда.avi" descr=""/>
          <p:cNvPicPr/>
          <p:nvPr/>
        </p:nvPicPr>
        <p:blipFill>
          <a:blip r:embed="rId1"/>
          <a:stretch/>
        </p:blipFill>
        <p:spPr>
          <a:xfrm>
            <a:off x="1374840" y="1201680"/>
            <a:ext cx="6033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15450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7"/>
          <p:cNvSpPr/>
          <p:nvPr/>
        </p:nvSpPr>
        <p:spPr>
          <a:xfrm>
            <a:off x="345960" y="981000"/>
            <a:ext cx="73440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Сколько у параллелепипеда верши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45960" y="1674720"/>
            <a:ext cx="761076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Чему равен объем параллелепипеда, если длины его сторон: а = 6, </a:t>
            </a:r>
            <a:r>
              <a:rPr b="1" lang="en-US" sz="2800" spc="-1" strike="noStrike">
                <a:solidFill>
                  <a:srgbClr val="000000"/>
                </a:solidFill>
                <a:latin typeface="Teslic`s Document Cyr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 = 4, с = 3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345960" y="4232160"/>
            <a:ext cx="703584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Чему равна площадь поверх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параллелепипеда, если а=5, </a:t>
            </a:r>
            <a:r>
              <a:rPr b="1" lang="en-US" sz="2800" spc="-1" strike="noStrike">
                <a:solidFill>
                  <a:srgbClr val="000000"/>
                </a:solidFill>
                <a:latin typeface="Teslic`s Document Cyr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=4, с=3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229320" y="2732040"/>
            <a:ext cx="6843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Сколько ребер у параллелепипе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191880" y="3578400"/>
            <a:ext cx="70632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slic`s Document Cyr"/>
              </a:rPr>
              <a:t>Сколько граней у параллелепипе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4:06:52Z</dcterms:created>
  <dc:creator>Пользователь</dc:creator>
  <dc:description/>
  <dc:language>en-US</dc:language>
  <cp:lastModifiedBy>Админ</cp:lastModifiedBy>
  <dcterms:modified xsi:type="dcterms:W3CDTF">2019-03-26T04:51:12Z</dcterms:modified>
  <cp:revision>27</cp:revision>
  <dc:subject/>
  <dc:title>Параллелепипед</dc:title>
</cp:coreProperties>
</file>