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7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5.gif" ContentType="image/gif"/>
  <Override PartName="/ppt/media/image8.png" ContentType="image/png"/>
  <Override PartName="/ppt/media/image11.jpeg" ContentType="image/jpeg"/>
  <Override PartName="/ppt/media/image4.png" ContentType="image/png"/>
  <Override PartName="/ppt/media/image12.wmf" ContentType="image/x-wmf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2FC-1174-41BF-BCCE-ED17DAD5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D45-1D3D-48B9-923C-06ED6792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546-F4FD-43B2-A0CD-3851B4E4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4D6-37BF-4675-B0BD-E00997CF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0905-82F3-4F65-B9CD-3FDA8DCF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D12E-0E22-41B2-A518-8F8A069F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838F-56B0-4476-9909-90418E5F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55CF-E4AB-4F96-8DEF-4EFA33E7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B3D2-4802-440B-986C-71425130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595A-E95C-4A2F-A18E-D19856D7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F27D-1DF1-4723-A7F8-C229EEE5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EB1-F21C-4500-BA47-D36C88C5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B69E-4C20-4474-83A3-001BFF5F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2027-6EFA-41F9-9C59-6C7346D2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3408-8BE9-4977-A49F-C82A5A8F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0D6D-0B2B-4761-A829-A12F7319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9115-609F-497C-8DFD-E0B93ED2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023C-D2D9-4303-AB3F-FEF9CBB2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A089-DD0C-48F6-86C2-1C19F7F7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CDF25-FF6C-4471-9217-8CECA409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DCAD1-D8A6-4E39-8639-BF81649A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6F87-34A0-46D6-A239-9E0B37DD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663-F472-4065-979D-179BEDC6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D33BA-A20A-4CBC-B622-824051DC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D352-6E02-466C-BE19-AADB3263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E5035-9ADF-4396-A96B-D016BBF2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7E529-9B22-4011-A7F2-64159A15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380C9-785E-46D4-B4A6-E55CD97E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8BDE9-1997-4E3C-8019-BBB571C7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FDB95-49EC-4481-8328-0E4082A7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D0D53-FE7B-444B-A9F6-74B5E9EF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B34AC-7316-4673-A429-E26C1BC6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71085-8CF9-46C1-8A76-5CB8BE97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9F4-9AF5-4ABE-9BA7-329A0319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22B28-E39B-4235-BB4E-D5448384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C4264-5A24-4A01-B166-428AC2E1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A135A-515A-423B-955F-620745C4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4746-A57E-44F4-87C7-06C9CCB8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6EF82-C5C4-45F0-8A86-B0D6D4FB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3414F-CC99-497F-B2AE-C87D8091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FEF7F-526C-40DB-9784-75B329CA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4541C-EA14-4808-AA77-D157ADAC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51CC8-1285-434F-ACEA-EE36846E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737-BBD8-4161-922D-DA74793E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EBF-009D-48AD-A8D9-E29D0DDB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86E-4FD6-4DFF-8652-0B8D046F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CD1-68F6-4F36-AE7E-807BB924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32A-5CCF-40FF-8DC8-A1DB2A32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1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5 декабр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ивошей Дмитрий Андрееви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AB86-5FB5-448F-BDEE-3ED28F18F50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1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B2DC-C0F5-430B-A801-E0293A1155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E618-A3CE-4EBC-956E-87BE54FDA91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hyperlink" Target="http://tvsh2004.narod.ru/gm/priz2.gif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CreativeBlock BB"/>
              </a:rPr>
              <a:t>Параллелепипед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7" name="Picture 5" descr="anicomp"/>
          <p:cNvPicPr/>
          <p:nvPr/>
        </p:nvPicPr>
        <p:blipFill>
          <a:blip r:embed="rId1"/>
          <a:stretch/>
        </p:blipFill>
        <p:spPr>
          <a:xfrm>
            <a:off x="7308720" y="69228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Картинка 148 из 3055"/>
          <p:cNvPicPr/>
          <p:nvPr/>
        </p:nvPicPr>
        <p:blipFill>
          <a:blip r:embed="rId2"/>
          <a:stretch/>
        </p:blipFill>
        <p:spPr>
          <a:xfrm>
            <a:off x="6340320" y="3263760"/>
            <a:ext cx="2397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0"/>
          <p:cNvSpPr/>
          <p:nvPr/>
        </p:nvSpPr>
        <p:spPr>
          <a:xfrm>
            <a:off x="468360" y="1197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Параллелепипед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шестигранник, противоположные грани которого попарно параллельн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14"/>
          <p:cNvGrpSpPr/>
          <p:nvPr/>
        </p:nvGrpSpPr>
        <p:grpSpPr>
          <a:xfrm>
            <a:off x="3276720" y="2781360"/>
            <a:ext cx="3603600" cy="3173400"/>
            <a:chOff x="3276720" y="2781360"/>
            <a:chExt cx="3603600" cy="3173400"/>
          </a:xfrm>
        </p:grpSpPr>
        <p:sp>
          <p:nvSpPr>
            <p:cNvPr id="211" name="AutoShape 15"/>
            <p:cNvSpPr/>
            <p:nvPr/>
          </p:nvSpPr>
          <p:spPr>
            <a:xfrm>
              <a:off x="3276720" y="2781360"/>
              <a:ext cx="3603600" cy="31734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4054320" y="2791080"/>
              <a:ext cx="1080" cy="4590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>
              <a:off x="4044600" y="3439800"/>
              <a:ext cx="0" cy="478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>
              <a:off x="4044600" y="4157280"/>
              <a:ext cx="0" cy="477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 flipH="1">
              <a:off x="6467760" y="5176080"/>
              <a:ext cx="41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Line 20"/>
            <p:cNvSpPr/>
            <p:nvPr/>
          </p:nvSpPr>
          <p:spPr>
            <a:xfrm flipH="1">
              <a:off x="5521680" y="5176080"/>
              <a:ext cx="5313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1"/>
            <p:cNvSpPr/>
            <p:nvPr/>
          </p:nvSpPr>
          <p:spPr>
            <a:xfrm flipH="1">
              <a:off x="4458240" y="5176080"/>
              <a:ext cx="767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 flipH="1">
              <a:off x="4044240" y="5176080"/>
              <a:ext cx="176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23"/>
            <p:cNvSpPr/>
            <p:nvPr/>
          </p:nvSpPr>
          <p:spPr>
            <a:xfrm>
              <a:off x="4044600" y="4816800"/>
              <a:ext cx="1080" cy="3668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4"/>
            <p:cNvSpPr/>
            <p:nvPr/>
          </p:nvSpPr>
          <p:spPr>
            <a:xfrm flipH="1">
              <a:off x="3688560" y="5176080"/>
              <a:ext cx="355320" cy="358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25"/>
            <p:cNvSpPr/>
            <p:nvPr/>
          </p:nvSpPr>
          <p:spPr>
            <a:xfrm flipV="1">
              <a:off x="3276720" y="5653440"/>
              <a:ext cx="295560" cy="300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2" name="Picture 37" descr="31m1"/>
          <p:cNvPicPr/>
          <p:nvPr/>
        </p:nvPicPr>
        <p:blipFill>
          <a:blip r:embed="rId1"/>
          <a:stretch/>
        </p:blipFill>
        <p:spPr>
          <a:xfrm flipH="1">
            <a:off x="3211200" y="2163600"/>
            <a:ext cx="857160" cy="667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9" descr="Рисунок15"/>
          <p:cNvPicPr/>
          <p:nvPr/>
        </p:nvPicPr>
        <p:blipFill>
          <a:blip r:embed="rId2"/>
          <a:stretch/>
        </p:blipFill>
        <p:spPr>
          <a:xfrm>
            <a:off x="6022800" y="2708280"/>
            <a:ext cx="2725920" cy="4149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1"/>
          <p:cNvSpPr/>
          <p:nvPr/>
        </p:nvSpPr>
        <p:spPr>
          <a:xfrm>
            <a:off x="254160" y="2060640"/>
            <a:ext cx="3095640" cy="1801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33"/>
                </a:solidFill>
                <a:latin typeface="Times New Roman"/>
              </a:rPr>
              <a:t>Параллелепипед имее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 верш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 рёб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  гран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редел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AutoShape 23"/>
          <p:cNvSpPr/>
          <p:nvPr/>
        </p:nvSpPr>
        <p:spPr>
          <a:xfrm>
            <a:off x="4863960" y="1874880"/>
            <a:ext cx="1436760" cy="40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981" y="47725"/>
                </a:moveTo>
                <a:lnTo>
                  <a:pt x="-1146" y="614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Верш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24"/>
          <p:cNvSpPr/>
          <p:nvPr/>
        </p:nvSpPr>
        <p:spPr>
          <a:xfrm>
            <a:off x="7020000" y="1989000"/>
            <a:ext cx="1436760" cy="40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946" y="83070"/>
                </a:moveTo>
                <a:lnTo>
                  <a:pt x="-1146" y="614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Ребр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26"/>
          <p:cNvSpPr/>
          <p:nvPr/>
        </p:nvSpPr>
        <p:spPr>
          <a:xfrm>
            <a:off x="1116000" y="5157720"/>
            <a:ext cx="1436760" cy="40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4776" y="19807"/>
                </a:moveTo>
                <a:lnTo>
                  <a:pt x="22746" y="614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Гра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Oval 27"/>
          <p:cNvSpPr/>
          <p:nvPr/>
        </p:nvSpPr>
        <p:spPr>
          <a:xfrm>
            <a:off x="399564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37" descr="31m1"/>
          <p:cNvPicPr/>
          <p:nvPr/>
        </p:nvPicPr>
        <p:blipFill>
          <a:blip r:embed="rId3"/>
          <a:stretch/>
        </p:blipFill>
        <p:spPr>
          <a:xfrm flipH="1">
            <a:off x="4401720" y="291636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7" descr="31m1"/>
          <p:cNvPicPr/>
          <p:nvPr/>
        </p:nvPicPr>
        <p:blipFill>
          <a:blip r:embed="rId4"/>
          <a:stretch/>
        </p:blipFill>
        <p:spPr>
          <a:xfrm>
            <a:off x="4767120" y="4892760"/>
            <a:ext cx="8575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5"/>
          <p:cNvSpPr/>
          <p:nvPr/>
        </p:nvSpPr>
        <p:spPr>
          <a:xfrm>
            <a:off x="376200" y="831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324000" y="134136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stra"/>
              </a:rPr>
              <a:t>Параллелепипеды бываю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</a:t>
            </a:r>
            <a:r>
              <a:rPr b="0" lang="ru-RU" sz="2800" spc="-1" strike="noStrike">
                <a:solidFill>
                  <a:srgbClr val="000000"/>
                </a:solidFill>
                <a:latin typeface="Astra"/>
              </a:rPr>
              <a:t> видов 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66348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1260360" y="4127400"/>
            <a:ext cx="72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stra"/>
              </a:rPr>
              <a:t>Диагонали параллелепипеда пересекаютс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stra"/>
              </a:rPr>
              <a:t>в одной точ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делит их </a:t>
            </a:r>
            <a:r>
              <a:rPr b="0" lang="ru-RU" sz="2400" spc="-1" strike="noStrike">
                <a:solidFill>
                  <a:srgbClr val="000000"/>
                </a:solidFill>
                <a:latin typeface="Astra"/>
              </a:rPr>
              <a:t>попол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10" descr="37"/>
          <p:cNvPicPr/>
          <p:nvPr/>
        </p:nvPicPr>
        <p:blipFill>
          <a:blip r:embed="rId1"/>
          <a:stretch/>
        </p:blipFill>
        <p:spPr>
          <a:xfrm flipH="1">
            <a:off x="7380000" y="5203800"/>
            <a:ext cx="1368360" cy="1225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dd36efffaaed"/>
          <p:cNvPicPr/>
          <p:nvPr/>
        </p:nvPicPr>
        <p:blipFill>
          <a:blip r:embed="rId2"/>
          <a:stretch/>
        </p:blipFill>
        <p:spPr>
          <a:xfrm>
            <a:off x="250920" y="4508640"/>
            <a:ext cx="1280880" cy="20872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ды и свойства параллелепипед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AutoShape 16"/>
          <p:cNvSpPr/>
          <p:nvPr/>
        </p:nvSpPr>
        <p:spPr>
          <a:xfrm>
            <a:off x="1332000" y="2565360"/>
            <a:ext cx="1657440" cy="1079640"/>
          </a:xfrm>
          <a:prstGeom prst="parallelogram">
            <a:avLst>
              <a:gd name="adj" fmla="val 3837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5364000" y="2637000"/>
            <a:ext cx="1440000" cy="1079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766520" y="1916280"/>
            <a:ext cx="13420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кло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582160" y="1916280"/>
            <a:ext cx="9975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ям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4284360" y="3645000"/>
            <a:ext cx="36583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нованием служит прямоугольн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177120" y="3645000"/>
            <a:ext cx="37620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нованием служит параллелограм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Group 29"/>
          <p:cNvGrpSpPr/>
          <p:nvPr/>
        </p:nvGrpSpPr>
        <p:grpSpPr>
          <a:xfrm>
            <a:off x="3995640" y="5081760"/>
            <a:ext cx="1828800" cy="1085760"/>
            <a:chOff x="3995640" y="5081760"/>
            <a:chExt cx="1828800" cy="1085760"/>
          </a:xfrm>
        </p:grpSpPr>
        <p:pic>
          <p:nvPicPr>
            <p:cNvPr id="246" name="Picture 12" descr="Картинка 142 из 3055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995640" y="5081760"/>
              <a:ext cx="18288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Line 13"/>
            <p:cNvSpPr/>
            <p:nvPr/>
          </p:nvSpPr>
          <p:spPr>
            <a:xfrm flipV="1">
              <a:off x="4500720" y="5297040"/>
              <a:ext cx="647640" cy="576360"/>
            </a:xfrm>
            <a:prstGeom prst="line">
              <a:avLst/>
            </a:prstGeom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4500720" y="5081760"/>
              <a:ext cx="718920" cy="934920"/>
            </a:xfrm>
            <a:prstGeom prst="line">
              <a:avLst/>
            </a:prstGeom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Oval 22"/>
            <p:cNvSpPr/>
            <p:nvPr/>
          </p:nvSpPr>
          <p:spPr>
            <a:xfrm>
              <a:off x="4834080" y="5513400"/>
              <a:ext cx="72720" cy="712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23"/>
            <p:cNvSpPr/>
            <p:nvPr/>
          </p:nvSpPr>
          <p:spPr>
            <a:xfrm>
              <a:off x="4500720" y="5584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 flipH="1">
              <a:off x="4676760" y="5295960"/>
              <a:ext cx="6840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25"/>
            <p:cNvSpPr/>
            <p:nvPr/>
          </p:nvSpPr>
          <p:spPr>
            <a:xfrm>
              <a:off x="4676760" y="5559480"/>
              <a:ext cx="6840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26"/>
            <p:cNvSpPr/>
            <p:nvPr/>
          </p:nvSpPr>
          <p:spPr>
            <a:xfrm>
              <a:off x="5016600" y="5343480"/>
              <a:ext cx="6804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28"/>
            <p:cNvSpPr/>
            <p:nvPr/>
          </p:nvSpPr>
          <p:spPr>
            <a:xfrm flipH="1">
              <a:off x="5016240" y="5657760"/>
              <a:ext cx="6804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Объем и площадь боковой поверхности параллелепипед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5761080" cy="4500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5219280" y="5661000"/>
            <a:ext cx="36313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=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a * b + a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*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c + c * b) *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5691240"/>
            <a:ext cx="4316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400" y="-25546"/>
                </a:moveTo>
                <a:lnTo>
                  <a:pt x="25412" y="747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5877000" y="5084640"/>
            <a:ext cx="4316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9406" y="-48496"/>
                </a:moveTo>
                <a:lnTo>
                  <a:pt x="-3812" y="747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AutoShape 9"/>
          <p:cNvSpPr/>
          <p:nvPr/>
        </p:nvSpPr>
        <p:spPr>
          <a:xfrm>
            <a:off x="7164360" y="3068640"/>
            <a:ext cx="4320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418" y="-13188"/>
                </a:moveTo>
                <a:lnTo>
                  <a:pt x="-3812" y="747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57200" y="2436840"/>
            <a:ext cx="244476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ъем параллелепипеда равен произведению трех его измер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457200" y="6300720"/>
            <a:ext cx="61992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ощадь боковой поверхности равна сумме всех его гран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13"/>
          <p:cNvSpPr/>
          <p:nvPr/>
        </p:nvSpPr>
        <p:spPr>
          <a:xfrm>
            <a:off x="7020000" y="6300720"/>
            <a:ext cx="1908000" cy="366840"/>
          </a:xfrm>
          <a:custGeom>
            <a:avLst/>
            <a:gdLst>
              <a:gd name="textAreaLeft" fmla="*/ 23760 w 1908000"/>
              <a:gd name="textAreaRight" fmla="*/ 1884240 w 19080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112256" h="21600">
                <a:moveTo>
                  <a:pt x="0" y="0"/>
                </a:moveTo>
                <a:lnTo>
                  <a:pt x="112256" y="0"/>
                </a:lnTo>
                <a:lnTo>
                  <a:pt x="112256" y="21600"/>
                </a:lnTo>
                <a:lnTo>
                  <a:pt x="0" y="21600"/>
                </a:lnTo>
                <a:close/>
              </a:path>
              <a:path fill="lightenLess" w="112256" h="21600">
                <a:moveTo>
                  <a:pt x="0" y="0"/>
                </a:moveTo>
                <a:lnTo>
                  <a:pt x="112256" y="0"/>
                </a:lnTo>
                <a:lnTo>
                  <a:pt x="110857" y="1400"/>
                </a:lnTo>
                <a:lnTo>
                  <a:pt x="1400" y="1400"/>
                </a:lnTo>
                <a:close/>
              </a:path>
              <a:path fill="darken" w="112256" h="21600">
                <a:moveTo>
                  <a:pt x="112256" y="0"/>
                </a:moveTo>
                <a:lnTo>
                  <a:pt x="112256" y="21600"/>
                </a:lnTo>
                <a:lnTo>
                  <a:pt x="110857" y="20200"/>
                </a:lnTo>
                <a:lnTo>
                  <a:pt x="110857" y="1400"/>
                </a:lnTo>
                <a:close/>
              </a:path>
              <a:path fill="darkenLess" w="112256" h="21600">
                <a:moveTo>
                  <a:pt x="112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57" y="20200"/>
                </a:lnTo>
                <a:close/>
              </a:path>
              <a:path fill="lighten" w="112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монстр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Picture 14" descr=""/>
          <p:cNvPicPr/>
          <p:nvPr/>
        </p:nvPicPr>
        <p:blipFill>
          <a:blip r:embed="rId2"/>
          <a:stretch/>
        </p:blipFill>
        <p:spPr>
          <a:xfrm>
            <a:off x="536400" y="358920"/>
            <a:ext cx="81504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0" descr="Картинка 150 из 3055"/>
          <p:cNvPicPr/>
          <p:nvPr/>
        </p:nvPicPr>
        <p:blipFill>
          <a:blip r:embed="rId1"/>
          <a:stretch/>
        </p:blipFill>
        <p:spPr>
          <a:xfrm>
            <a:off x="4076640" y="3840120"/>
            <a:ext cx="2745000" cy="2565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4" descr="upload-1227539887"/>
          <p:cNvPicPr/>
          <p:nvPr/>
        </p:nvPicPr>
        <p:blipFill>
          <a:blip r:embed="rId2"/>
          <a:stretch/>
        </p:blipFill>
        <p:spPr>
          <a:xfrm>
            <a:off x="5530680" y="1430280"/>
            <a:ext cx="2579760" cy="2146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BOOK2"/>
          <p:cNvPicPr/>
          <p:nvPr/>
        </p:nvPicPr>
        <p:blipFill>
          <a:blip r:embed="rId3"/>
          <a:stretch/>
        </p:blipFill>
        <p:spPr>
          <a:xfrm rot="1261800">
            <a:off x="1055160" y="4340160"/>
            <a:ext cx="1943280" cy="1579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Картинка 2 из 10"/>
          <p:cNvPicPr/>
          <p:nvPr/>
        </p:nvPicPr>
        <p:blipFill>
          <a:blip r:embed="rId4"/>
          <a:stretch/>
        </p:blipFill>
        <p:spPr>
          <a:xfrm>
            <a:off x="1055520" y="2217600"/>
            <a:ext cx="3191040" cy="1359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раллелепипед в нашей жизн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строение параллелепипе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1" name="построение параллелепипеда.avi" descr=""/>
          <p:cNvPicPr/>
          <p:nvPr/>
        </p:nvPicPr>
        <p:blipFill>
          <a:blip r:embed="rId1"/>
          <a:stretch/>
        </p:blipFill>
        <p:spPr>
          <a:xfrm>
            <a:off x="1374840" y="1201680"/>
            <a:ext cx="6033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15450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7"/>
          <p:cNvSpPr/>
          <p:nvPr/>
        </p:nvSpPr>
        <p:spPr>
          <a:xfrm>
            <a:off x="345960" y="981000"/>
            <a:ext cx="73440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Сколько у параллелепипеда вершин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45960" y="1674720"/>
            <a:ext cx="7610760" cy="1373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Чему равен объем параллелепипеда, если длины его сторон: а = 6, </a:t>
            </a:r>
            <a:r>
              <a:rPr b="1" lang="en-US" sz="2800" spc="-1" strike="noStrike">
                <a:solidFill>
                  <a:srgbClr val="000000"/>
                </a:solidFill>
                <a:latin typeface="Teslic`s Document Cyr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 = 4, с = 3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345960" y="4232160"/>
            <a:ext cx="7035840" cy="1373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Чему равна площадь поверх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параллелепипеда, если а=5, </a:t>
            </a:r>
            <a:r>
              <a:rPr b="1" lang="en-US" sz="2800" spc="-1" strike="noStrike">
                <a:solidFill>
                  <a:srgbClr val="000000"/>
                </a:solidFill>
                <a:latin typeface="Teslic`s Document Cyr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=4, с=3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229320" y="2732040"/>
            <a:ext cx="68436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Сколько ребер у параллелепипед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191880" y="3578400"/>
            <a:ext cx="70632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Сколько граней у параллелепипед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с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4:06:52Z</dcterms:created>
  <dc:creator>Пользователь</dc:creator>
  <dc:description/>
  <dc:language>en-US</dc:language>
  <cp:lastModifiedBy>Админ</cp:lastModifiedBy>
  <dcterms:modified xsi:type="dcterms:W3CDTF">2019-03-26T04:51:12Z</dcterms:modified>
  <cp:revision>27</cp:revision>
  <dc:subject/>
  <dc:title>Параллелепипед</dc:title>
</cp:coreProperties>
</file>