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7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AEB-207F-4158-AFE1-21637813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B3D-57D1-4AA7-BAC1-A12D371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5BD-9CE9-43B4-8D64-1825F31E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058-58A8-40C5-B0E0-C807A67E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A58C-54A8-4C74-9690-C829A533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6F9-3FE8-47D8-8725-955E842E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31F-F993-460C-835E-E779A4BE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EF7-E7A8-4368-9F74-5CB3E13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BA8D-3324-4C2B-BB1E-E1EB77F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A54E-0DBB-4C04-8CD2-7F620962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568-0AA6-47FD-A18E-20A10B8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3F8-511B-456E-B2EA-F3B393B7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CEE1-5CF4-4707-BD9D-7858976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8E60-3677-4AB3-82F5-83E6309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702-6FB5-4D1F-9D6E-6563796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2715-627F-4FB0-8A61-9549160A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B4FE-9549-47B9-83E0-E04B9615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C201-89C9-45B5-9C16-4DDF9775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8FEA-0875-4146-B445-84473FF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E623-5B8F-48D5-B261-45D500D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8410-A02A-4BAB-9352-8FAFA55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58E9-0130-48A3-BC57-DAD917D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686-0CA1-47CF-B103-6507F4F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8AFF-03BD-4AA6-A041-E4ED5A3F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5147-01C5-4FFD-9896-AA250FB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67DF-BFF4-4CC6-B5AC-9A42720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C20E-9115-4AF0-BD0B-D13193B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E5A4-6BD9-4EA1-A35A-39011C7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599A-6F61-4361-AA87-B539D03F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2D71-15B4-4190-B72E-1E1EE4F6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0736-3427-4380-9FB6-7024421B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CCB8-3D04-439D-B978-F489DCC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F56F-A377-49DA-9044-BF5BC69A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1A0-0BBD-4EA1-A2FB-8DB6FE1A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241E-0C02-49FC-9891-3C41CDE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6219-D308-4AEB-9671-0F33FE02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4DAC-477C-4EEE-809B-210C4AC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1D31-3EB8-459A-A06C-A300E1D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BA7E2-19BE-4649-B3A4-FDDCE26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9F2E-6007-4AD1-8D4B-B39BF80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4AD3-A3AD-451E-BBA9-31C9AF99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0D3A-2281-4B48-941D-BEB7AB64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28F3-5ADB-4610-801B-25C453D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151-5EB9-4ABD-A27C-B6AD835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584-7D4B-4390-AA38-6D35F5C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B32-C707-4F85-B200-B30FA8D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6DB-76D6-4F52-A0FA-A34002BF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D84-AAC3-4C4E-A010-BDD411C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5 декабр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вошей Дмитрий Андрее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C836-9A4E-4502-9CB0-0413BC50CD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90E0-E094-4198-B08E-D754CECFF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50B-2925-454F-827D-8AEDFE9604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tvsh2004.narod.ru/gm/priz2.gif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CreativeBlock BB"/>
              </a:rPr>
              <a:t>Параллелепипед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Picture 5" descr="anicomp"/>
          <p:cNvPicPr/>
          <p:nvPr/>
        </p:nvPicPr>
        <p:blipFill>
          <a:blip r:embed="rId1"/>
          <a:stretch/>
        </p:blipFill>
        <p:spPr>
          <a:xfrm>
            <a:off x="7308720" y="692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Картинка 148 из 3055"/>
          <p:cNvPicPr/>
          <p:nvPr/>
        </p:nvPicPr>
        <p:blipFill>
          <a:blip r:embed="rId2"/>
          <a:stretch/>
        </p:blipFill>
        <p:spPr>
          <a:xfrm>
            <a:off x="6340320" y="3263760"/>
            <a:ext cx="239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"/>
          <p:cNvSpPr/>
          <p:nvPr/>
        </p:nvSpPr>
        <p:spPr>
          <a:xfrm>
            <a:off x="468360" y="1197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араллелепипе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шестигранник, противоположные грани которого попарно параллель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276720" y="2781360"/>
            <a:ext cx="3603600" cy="3173400"/>
            <a:chOff x="3276720" y="2781360"/>
            <a:chExt cx="3603600" cy="3173400"/>
          </a:xfrm>
        </p:grpSpPr>
        <p:sp>
          <p:nvSpPr>
            <p:cNvPr id="211" name="AutoShape 15"/>
            <p:cNvSpPr/>
            <p:nvPr/>
          </p:nvSpPr>
          <p:spPr>
            <a:xfrm>
              <a:off x="3276720" y="2781360"/>
              <a:ext cx="3603600" cy="3173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054320" y="2791080"/>
              <a:ext cx="1080" cy="4590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4044600" y="3439800"/>
              <a:ext cx="0" cy="47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4044600" y="4157280"/>
              <a:ext cx="0" cy="477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H="1">
              <a:off x="6467760" y="5176080"/>
              <a:ext cx="41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5521680" y="5176080"/>
              <a:ext cx="531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 flipH="1">
              <a:off x="4458240" y="5176080"/>
              <a:ext cx="76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4044240" y="5176080"/>
              <a:ext cx="176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4044600" y="4816800"/>
              <a:ext cx="1080" cy="366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 flipH="1">
              <a:off x="3688560" y="5176080"/>
              <a:ext cx="355320" cy="35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 flipV="1">
              <a:off x="3276720" y="5653440"/>
              <a:ext cx="295560" cy="300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2" name="Picture 37" descr="31m1"/>
          <p:cNvPicPr/>
          <p:nvPr/>
        </p:nvPicPr>
        <p:blipFill>
          <a:blip r:embed="rId1"/>
          <a:stretch/>
        </p:blipFill>
        <p:spPr>
          <a:xfrm flipH="1">
            <a:off x="3211200" y="2163600"/>
            <a:ext cx="857160" cy="66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Рисунок15"/>
          <p:cNvPicPr/>
          <p:nvPr/>
        </p:nvPicPr>
        <p:blipFill>
          <a:blip r:embed="rId2"/>
          <a:stretch/>
        </p:blipFill>
        <p:spPr>
          <a:xfrm>
            <a:off x="6022800" y="270828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254160" y="2060640"/>
            <a:ext cx="3095640" cy="1801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Times New Roman"/>
              </a:rPr>
              <a:t>Параллелепипед име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верш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рёб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 гра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4863960" y="187488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81" y="47725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ер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020000" y="198900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946" y="83070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1116000" y="515772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776" y="19807"/>
                </a:moveTo>
                <a:lnTo>
                  <a:pt x="227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27"/>
          <p:cNvSpPr/>
          <p:nvPr/>
        </p:nvSpPr>
        <p:spPr>
          <a:xfrm>
            <a:off x="399564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37" descr="31m1"/>
          <p:cNvPicPr/>
          <p:nvPr/>
        </p:nvPicPr>
        <p:blipFill>
          <a:blip r:embed="rId3"/>
          <a:stretch/>
        </p:blipFill>
        <p:spPr>
          <a:xfrm flipH="1">
            <a:off x="4401720" y="291636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7" descr="31m1"/>
          <p:cNvPicPr/>
          <p:nvPr/>
        </p:nvPicPr>
        <p:blipFill>
          <a:blip r:embed="rId4"/>
          <a:stretch/>
        </p:blipFill>
        <p:spPr>
          <a:xfrm>
            <a:off x="4767120" y="4892760"/>
            <a:ext cx="857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376200" y="831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24000" y="134136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Параллелепипеды бываю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 видов 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6348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260360" y="412740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Диагонали параллелепипеда пересекают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в одной точ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делит их </a:t>
            </a: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попол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10" descr="37"/>
          <p:cNvPicPr/>
          <p:nvPr/>
        </p:nvPicPr>
        <p:blipFill>
          <a:blip r:embed="rId1"/>
          <a:stretch/>
        </p:blipFill>
        <p:spPr>
          <a:xfrm flipH="1">
            <a:off x="7380000" y="5203800"/>
            <a:ext cx="1368360" cy="1225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d36efffaaed"/>
          <p:cNvPicPr/>
          <p:nvPr/>
        </p:nvPicPr>
        <p:blipFill>
          <a:blip r:embed="rId2"/>
          <a:stretch/>
        </p:blipFill>
        <p:spPr>
          <a:xfrm>
            <a:off x="250920" y="4508640"/>
            <a:ext cx="1280880" cy="208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 свойства параллелепипе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AutoShape 16"/>
          <p:cNvSpPr/>
          <p:nvPr/>
        </p:nvSpPr>
        <p:spPr>
          <a:xfrm>
            <a:off x="1332000" y="2565360"/>
            <a:ext cx="1657440" cy="1079640"/>
          </a:xfrm>
          <a:prstGeom prst="parallelogram">
            <a:avLst>
              <a:gd name="adj" fmla="val 383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5364000" y="2637000"/>
            <a:ext cx="144000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766520" y="1916280"/>
            <a:ext cx="1342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кло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582160" y="1916280"/>
            <a:ext cx="9975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ям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84360" y="3645000"/>
            <a:ext cx="3658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рямоугольн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177120" y="3645000"/>
            <a:ext cx="3762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араллелограм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995640" y="5081760"/>
            <a:ext cx="1828800" cy="1085760"/>
            <a:chOff x="3995640" y="5081760"/>
            <a:chExt cx="1828800" cy="1085760"/>
          </a:xfrm>
        </p:grpSpPr>
        <p:pic>
          <p:nvPicPr>
            <p:cNvPr id="246" name="Picture 12" descr="Картинка 142 из 305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95640" y="5081760"/>
              <a:ext cx="18288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13"/>
            <p:cNvSpPr/>
            <p:nvPr/>
          </p:nvSpPr>
          <p:spPr>
            <a:xfrm flipV="1">
              <a:off x="4500720" y="5297040"/>
              <a:ext cx="647640" cy="57636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4500720" y="5081760"/>
              <a:ext cx="718920" cy="93492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834080" y="5513400"/>
              <a:ext cx="72720" cy="712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>
              <a:off x="4500720" y="5584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4676760" y="529596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4676760" y="555948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>
              <a:off x="5016600" y="534348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 flipH="1">
              <a:off x="5016240" y="565776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бъем и площадь боковой поверхности параллелепипе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576108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5219280" y="5661000"/>
            <a:ext cx="3631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=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a * b + a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 + c * b) *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5691240"/>
            <a:ext cx="4316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00" y="-25546"/>
                </a:moveTo>
                <a:lnTo>
                  <a:pt x="254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877000" y="5084640"/>
            <a:ext cx="4316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406" y="-48496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7164360" y="3068640"/>
            <a:ext cx="4320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418" y="-13188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57200" y="2436840"/>
            <a:ext cx="24447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м параллелепипеда равен произведению трех его измер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57200" y="6300720"/>
            <a:ext cx="6199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дь боковой поверхности равна сумме всех его гран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7020000" y="6300720"/>
            <a:ext cx="1908000" cy="366840"/>
          </a:xfrm>
          <a:custGeom>
            <a:avLst/>
            <a:gdLst>
              <a:gd name="textAreaLeft" fmla="*/ 23760 w 1908000"/>
              <a:gd name="textAreaRight" fmla="*/ 1884240 w 19080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112256" h="21600">
                <a:moveTo>
                  <a:pt x="0" y="0"/>
                </a:moveTo>
                <a:lnTo>
                  <a:pt x="112256" y="0"/>
                </a:lnTo>
                <a:lnTo>
                  <a:pt x="112256" y="21600"/>
                </a:lnTo>
                <a:lnTo>
                  <a:pt x="0" y="21600"/>
                </a:lnTo>
                <a:close/>
              </a:path>
              <a:path fill="lightenLess" w="112256" h="21600">
                <a:moveTo>
                  <a:pt x="0" y="0"/>
                </a:moveTo>
                <a:lnTo>
                  <a:pt x="112256" y="0"/>
                </a:lnTo>
                <a:lnTo>
                  <a:pt x="110857" y="1400"/>
                </a:lnTo>
                <a:lnTo>
                  <a:pt x="1400" y="1400"/>
                </a:lnTo>
                <a:close/>
              </a:path>
              <a:path fill="darken" w="112256" h="21600">
                <a:moveTo>
                  <a:pt x="112256" y="0"/>
                </a:moveTo>
                <a:lnTo>
                  <a:pt x="112256" y="21600"/>
                </a:lnTo>
                <a:lnTo>
                  <a:pt x="110857" y="20200"/>
                </a:lnTo>
                <a:lnTo>
                  <a:pt x="110857" y="1400"/>
                </a:lnTo>
                <a:close/>
              </a:path>
              <a:path fill="darkenLess" w="112256" h="21600">
                <a:moveTo>
                  <a:pt x="11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7" y="20200"/>
                </a:lnTo>
                <a:close/>
              </a:path>
              <a:path fill="lighten" w="11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2"/>
          <a:stretch/>
        </p:blipFill>
        <p:spPr>
          <a:xfrm>
            <a:off x="536400" y="358920"/>
            <a:ext cx="8150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Картинка 150 из 3055"/>
          <p:cNvPicPr/>
          <p:nvPr/>
        </p:nvPicPr>
        <p:blipFill>
          <a:blip r:embed="rId1"/>
          <a:stretch/>
        </p:blipFill>
        <p:spPr>
          <a:xfrm>
            <a:off x="4076640" y="3840120"/>
            <a:ext cx="2745000" cy="256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upload-1227539887"/>
          <p:cNvPicPr/>
          <p:nvPr/>
        </p:nvPicPr>
        <p:blipFill>
          <a:blip r:embed="rId2"/>
          <a:stretch/>
        </p:blipFill>
        <p:spPr>
          <a:xfrm>
            <a:off x="5530680" y="1430280"/>
            <a:ext cx="2579760" cy="2146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OOK2"/>
          <p:cNvPicPr/>
          <p:nvPr/>
        </p:nvPicPr>
        <p:blipFill>
          <a:blip r:embed="rId3"/>
          <a:stretch/>
        </p:blipFill>
        <p:spPr>
          <a:xfrm rot="1261800">
            <a:off x="1055160" y="4340160"/>
            <a:ext cx="1943280" cy="1579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Картинка 2 из 10"/>
          <p:cNvPicPr/>
          <p:nvPr/>
        </p:nvPicPr>
        <p:blipFill>
          <a:blip r:embed="rId4"/>
          <a:stretch/>
        </p:blipFill>
        <p:spPr>
          <a:xfrm>
            <a:off x="1055520" y="2217600"/>
            <a:ext cx="3191040" cy="135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лелепипед в нашей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троение параллелепип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1" name="построение параллелепипеда.avi" descr=""/>
          <p:cNvPicPr/>
          <p:nvPr/>
        </p:nvPicPr>
        <p:blipFill>
          <a:blip r:embed="rId1"/>
          <a:stretch/>
        </p:blipFill>
        <p:spPr>
          <a:xfrm>
            <a:off x="1374840" y="1201680"/>
            <a:ext cx="6033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545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345960" y="981000"/>
            <a:ext cx="7344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у параллелепипеда верши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45960" y="1674720"/>
            <a:ext cx="76107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ен объем параллелепипеда, если длины его сторон: а = 6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 = 4, с = 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345960" y="4232160"/>
            <a:ext cx="70358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на площадь поверх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параллелепипеда, если а=5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=4, с=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229320" y="2732040"/>
            <a:ext cx="6843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ребер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191880" y="3578400"/>
            <a:ext cx="7063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граней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06:52Z</dcterms:created>
  <dc:creator>Пользователь</dc:creator>
  <dc:description/>
  <dc:language>en-US</dc:language>
  <cp:lastModifiedBy>Админ</cp:lastModifiedBy>
  <dcterms:modified xsi:type="dcterms:W3CDTF">2019-03-26T04:51:12Z</dcterms:modified>
  <cp:revision>27</cp:revision>
  <dc:subject/>
  <dc:title>Параллелепипед</dc:title>
</cp:coreProperties>
</file>