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ECA8-7EC8-4F9A-AF75-440280FEA1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D75-D60C-4C4C-8685-AA7CDB1E1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0BE-5A03-4ECF-9ED1-344028F5A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989-BD34-4486-9938-5646E9EC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3A4-4688-4F56-8FF3-21F11E2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270-5B69-457C-A46C-3D4BFC3D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B23-FCB1-4935-AF08-B9872BFA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234-9C33-41DB-9E72-8D3CF05C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1982-1A6A-4108-B4D4-5BC17869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70FE-3B22-4138-8169-F94496A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A3C8-5839-48BB-81C7-6205EB64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602E-98D0-4704-A481-85413DD2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F31-444B-4C56-9200-5E87270E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F656-3148-484A-A8BB-4662880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06C-E0D9-48CD-8B91-77D18F4D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9B9-5235-4F28-B905-3B9F7B2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11F-0660-4BE8-85C8-9C980C4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3080-35D4-498B-B46E-76261CA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72D-C790-4569-8E6F-6CDE7F53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CD7D-B45F-4043-AD3A-39211F26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829-D39B-4F8F-9AB7-0599CD4E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CE1-A69B-4138-84A3-CAAD25E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138-EEBA-42A7-9229-E0931A6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FE4-8B6A-438C-BC3B-4F66430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5DB-A637-44E2-93E4-E752AA5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7B9-BA75-4782-B532-0072F9F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5B1-19F3-4AD7-9694-8116C47A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068D-A13D-49C6-9D69-43C2915C86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34C-BCE5-4129-9BB8-BAFC953EB3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30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УЧИМСЯ ЛИ МЫ ДОБРУ У ГОРЬКОГО?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0" y="407160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: ученик  5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Кочуновской ОО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овов Ник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шина Елена Пет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зор произведенийА.М.Горького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ярких произведений  М.Горького является «Песня о Сок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Сокола автор учит нас быть смелыми, выносливыми, уметь постоять за себя. Есть даже такая пословица: «Добро должно быть с кулак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:\Users\user\Desktop\1011039663.jpg"/>
          <p:cNvPicPr/>
          <p:nvPr/>
        </p:nvPicPr>
        <p:blipFill>
          <a:blip r:embed="rId1"/>
          <a:stretch/>
        </p:blipFill>
        <p:spPr>
          <a:xfrm>
            <a:off x="4929120" y="1571760"/>
            <a:ext cx="37861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сказ Максима Горького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«Дед Архип и Лёнька»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герой рассказа – мальчик Лёнька, судьба его глубоко траги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чи нищим скитальцем на чужбине, он был добрым и справедливым мальч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при любых  обстоятельствах надо бороться за жизнь, быть честным и справедливым, помогать и сочувствовать другим, любить природу и свободу, как это делал Лён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од милосердия и волонтёра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Горького появилась мечта о лучшей доле просты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был против дикости, грубости, зл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8 год - Год милосердия и волонтё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ерное, возникла проблема «дефицита» доброт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бра и милосердия всегда не хватает. Проблемы, затронутые Горьким, актуальны и в наш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дет"/>
          <p:cNvPicPr/>
          <p:nvPr/>
        </p:nvPicPr>
        <p:blipFill>
          <a:blip r:embed="rId1"/>
          <a:stretch/>
        </p:blipFill>
        <p:spPr>
          <a:xfrm>
            <a:off x="571680" y="1071720"/>
            <a:ext cx="3500280" cy="26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чало дружб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Максимович Горький и Фёдор Шаляпин познакомились в сентябре 1900 года в Москве, затем встречались в Нижнем Новгороде, когда молодой певец приезжал на гаст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http://www.hrono.ru/img/foto/shlp1901gorki.jpg"/>
          <p:cNvPicPr/>
          <p:nvPr/>
        </p:nvPicPr>
        <p:blipFill>
          <a:blip r:embed="rId1"/>
          <a:stretch/>
        </p:blipFill>
        <p:spPr>
          <a:xfrm>
            <a:off x="1809720" y="2532240"/>
            <a:ext cx="2019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РУЖБА ГОРЬКОГО И ШАЛЯПИНА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ляпин по просьбе Максима Горького давал благотворительные концерты. Деньги от выступлений шли на строительство Народного дома в Нижнем Новгороде, на открытие новых школ для бедных и  другие добры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https://ic.pics.livejournal.com/inbio/39693556/552022/552022_original.jpg"/>
          <p:cNvPicPr/>
          <p:nvPr/>
        </p:nvPicPr>
        <p:blipFill>
          <a:blip r:embed="rId1"/>
          <a:stretch/>
        </p:blipFill>
        <p:spPr>
          <a:xfrm>
            <a:off x="1104840" y="1698480"/>
            <a:ext cx="3429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БЛАГОТВОРИТЕЛЬНОСТЬ В ЖИЗНИ МАКСИМА ГОРЬКОГО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ственная жизнь Максима Горького была бур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встречается с рабочими, колхозниками, читает им свои произведения, беседует о жизни, помогает справиться с 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86200" y="150012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устраивал благотворительные ё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ое внимание уделял бедным детям. 4 января 1901 года ему предстояло провести впервые в Нижнем, а, может быть, и в России, ёлку для 500 беднейших детей родного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а и милосерд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ена в жизни   и в творчестве Алексея Максимовича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действительно учим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ворить доб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к это делали Горький и Шаляпин, можно в любом возра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 (43)"/>
          <p:cNvPicPr/>
          <p:nvPr/>
        </p:nvPicPr>
        <p:blipFill>
          <a:blip r:embed="rId1"/>
          <a:stretch/>
        </p:blipFill>
        <p:spPr>
          <a:xfrm>
            <a:off x="857160" y="2500200"/>
            <a:ext cx="1928880" cy="271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7" name="Picture 6" descr="i?id=216362378-56-72&amp;n=21"/>
          <p:cNvPicPr/>
          <p:nvPr/>
        </p:nvPicPr>
        <p:blipFill>
          <a:blip r:embed="rId2"/>
          <a:stretch/>
        </p:blipFill>
        <p:spPr>
          <a:xfrm rot="495600">
            <a:off x="6765840" y="2592360"/>
            <a:ext cx="1890720" cy="263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8" name="Picture 7" descr="i (42)"/>
          <p:cNvPicPr/>
          <p:nvPr/>
        </p:nvPicPr>
        <p:blipFill>
          <a:blip r:embed="rId3"/>
          <a:stretch/>
        </p:blipFill>
        <p:spPr>
          <a:xfrm rot="20947200">
            <a:off x="3745080" y="2843280"/>
            <a:ext cx="2385720" cy="2819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Содержание исследовательск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571760" y="1928880"/>
            <a:ext cx="65005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. ИЗ БИОГРАФИИ МАКСИМА ГОРЬ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І. ТЕМА ДОБРА И МИЛОСЕРДИЯ В ТВОРЧЕСТВЕ А.М.ГОР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ІІ.ДРУЖБА ГОРЬКОГО И ШАЛЯ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БЛАГОТВОРИТЕЛЬНОСТЬ В ЖИЗНИ МАКСИМА ГОР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429080" y="150012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ша исследовательская работа посвящена Максиму Горькому и тому, как тема добра и милосердия отразилась в его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Users\GusevaYV\Desktop\Горький\gor6.JPG"/>
          <p:cNvPicPr/>
          <p:nvPr/>
        </p:nvPicPr>
        <p:blipFill>
          <a:blip r:embed="rId1"/>
          <a:stretch/>
        </p:blipFill>
        <p:spPr>
          <a:xfrm>
            <a:off x="762120" y="1620720"/>
            <a:ext cx="36208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нашей рабо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наблю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тражена тема «Добра» в жизни и творчестве  Максима Горь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 исследования: жизнь и творчество Алексея Максимовича Горь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горький"/>
          <p:cNvPicPr/>
          <p:nvPr/>
        </p:nvPicPr>
        <p:blipFill>
          <a:blip r:embed="rId1"/>
          <a:stretch/>
        </p:blipFill>
        <p:spPr>
          <a:xfrm>
            <a:off x="1143000" y="2071800"/>
            <a:ext cx="2998800" cy="364320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ем интересна данная 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8 год юбилейный. Максиму Горькому исполнилось 150  лет. Шаляпину 145 лет. Также 2018 год был назван годом милосердия и волонтё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Горького  близко моему учителю, и она смогла заинтересовать  меня. Я захотел как можно глубже  изучить 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ИЗ БИОГРАФИИ МАКСИМА ГОРЬКОГО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тво Горь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 Нижний Новгород – это место, где прошло детство Алексея Пе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ький – внук солдата, разжалованного из офицеров, сын столяра-краснодеревщика Максима Пе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ец писателя работал управляющим пароходной конторой, умер от хол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ь, Варвара Васильевна Каширина— из мещанской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нижний"/>
          <p:cNvPicPr/>
          <p:nvPr/>
        </p:nvPicPr>
        <p:blipFill>
          <a:blip r:embed="rId1"/>
          <a:stretch/>
        </p:blipFill>
        <p:spPr>
          <a:xfrm>
            <a:off x="5143680" y="4429080"/>
            <a:ext cx="3286080" cy="215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ёба писател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84 году Алексей уезжает в Казань, чтобы поступить в университет, но учиться ему там не пришлось. Будущий писатель проходит свои университеты на пристанях, в ночлежках, да и просто -  где прид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воих странствиях писатель рассказывает в трилогии «Детство», «В людях», «Мои университе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i (100)"/>
          <p:cNvPicPr/>
          <p:nvPr/>
        </p:nvPicPr>
        <p:blipFill>
          <a:blip r:embed="rId1"/>
          <a:stretch/>
        </p:blipFill>
        <p:spPr>
          <a:xfrm>
            <a:off x="4857840" y="3857760"/>
            <a:ext cx="3867120" cy="245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АК ЖЕ ТЕМА ДОБРА И МИЛОСЕРДИЯ ОТРАЖЕНА В ТВОРЧЕСТВЕ А.М.ГОРЬКОГО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8" descr="макар"/>
          <p:cNvPicPr/>
          <p:nvPr/>
        </p:nvPicPr>
        <p:blipFill>
          <a:blip r:embed="rId1"/>
          <a:stretch/>
        </p:blipFill>
        <p:spPr>
          <a:xfrm>
            <a:off x="5429160" y="4572000"/>
            <a:ext cx="2714760" cy="200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8" name="Picture 4" descr="изерг"/>
          <p:cNvPicPr/>
          <p:nvPr/>
        </p:nvPicPr>
        <p:blipFill>
          <a:blip r:embed="rId2"/>
          <a:stretch/>
        </p:blipFill>
        <p:spPr>
          <a:xfrm rot="21060600">
            <a:off x="4273200" y="1717200"/>
            <a:ext cx="20844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Picture 14" descr="i?id=184310676-05-72&amp;n=21"/>
          <p:cNvPicPr/>
          <p:nvPr/>
        </p:nvPicPr>
        <p:blipFill>
          <a:blip r:embed="rId3"/>
          <a:stretch/>
        </p:blipFill>
        <p:spPr>
          <a:xfrm>
            <a:off x="571680" y="4572000"/>
            <a:ext cx="15253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0" name="Picture 12" descr="i?id=67377433-31-72&amp;n=21"/>
          <p:cNvPicPr/>
          <p:nvPr/>
        </p:nvPicPr>
        <p:blipFill>
          <a:blip r:embed="rId4"/>
          <a:stretch/>
        </p:blipFill>
        <p:spPr>
          <a:xfrm>
            <a:off x="7061040" y="1500120"/>
            <a:ext cx="2082960" cy="264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1" name="Picture 4" descr="фома"/>
          <p:cNvPicPr/>
          <p:nvPr/>
        </p:nvPicPr>
        <p:blipFill>
          <a:blip r:embed="rId5"/>
          <a:stretch/>
        </p:blipFill>
        <p:spPr>
          <a:xfrm>
            <a:off x="2643120" y="3809880"/>
            <a:ext cx="229572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Picture 7" descr="м г"/>
          <p:cNvPicPr/>
          <p:nvPr/>
        </p:nvPicPr>
        <p:blipFill>
          <a:blip r:embed="rId6"/>
          <a:stretch/>
        </p:blipFill>
        <p:spPr>
          <a:xfrm>
            <a:off x="214200" y="1357200"/>
            <a:ext cx="189252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комство с творчеств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ё знакомство с творчеством Максима Горького началось  со сказки «Воробьишко». Потом я прочитал сказку «Случай с Евсейкой». Автор  с тобой разговаривает и объясняет, как поступать в трудную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3320" y="10285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:\Users\user\Desktop\0706011236180.jpg"/>
          <p:cNvPicPr/>
          <p:nvPr/>
        </p:nvPicPr>
        <p:blipFill>
          <a:blip r:embed="rId1"/>
          <a:stretch/>
        </p:blipFill>
        <p:spPr>
          <a:xfrm>
            <a:off x="5143680" y="2000160"/>
            <a:ext cx="3736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1:50:22Z</dcterms:created>
  <dc:creator>offmaxx</dc:creator>
  <dc:description/>
  <dc:language>en-US</dc:language>
  <cp:lastModifiedBy>Елена Петровна</cp:lastModifiedBy>
  <dcterms:modified xsi:type="dcterms:W3CDTF">2018-11-12T03:36:10Z</dcterms:modified>
  <cp:revision>76</cp:revision>
  <dc:subject/>
  <dc:title>105 лет со дня рождения</dc:title>
</cp:coreProperties>
</file>