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A83F-004F-4FC5-8075-E84E278E30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452B-5E8B-489D-840C-E0817338B4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0C3D-955E-4262-8C5D-9745089553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7DDF-60CB-4C24-BA05-89575655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659C-CD02-4005-ABBB-A3DE531F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A7E-7786-4AD4-85BF-00DDDF87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50EC-6537-4325-9A98-FEAA6B46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4875-3041-4DBB-83A7-EA4EF886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68C6-DFA1-4328-8EDA-2B5B2190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9477-817B-4B06-A446-B5B6EF1C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9993-3AE2-4D69-8118-60031957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3CDA-522D-44B4-A316-01D21F34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B849-D253-430E-9D7A-46510340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6DD3-201C-45C5-8910-6F7A41B4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5B38-D057-4F24-823D-92114D5F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4207-6B7D-4B00-AA0D-EBC1D5A6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B8F5-D4AA-4FE2-91E4-12B3E2E9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1744-26D0-4E46-9B6F-17F20608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9B34-5832-41C4-A855-17B5BDD6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0007-6CD2-47BE-9405-26E4255A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60A6-B14E-4ED9-83B7-5639228C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163-6A64-4687-9A07-28A29435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502-5406-4169-AA90-3470C8C5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2743-BD1D-4DB9-9AAB-59BAAB78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20B-5230-4EA5-BD8A-62F6E0FC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F27-D339-458D-9720-65A383A9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C59-97C6-4EF0-8013-D7C89E40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B40C-291B-486A-A5C0-5F3A6F1FA8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BDAC-7DA8-435E-8A00-19D69ADBD0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62800" cy="30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УЧИМСЯ ЛИ МЫ ДОБРУ У ГОРЬКОГО?</a:t>
            </a:r>
            <a:br>
              <a:rPr sz="4400"/>
            </a:b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286000" y="407160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: ученик  5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Кочуновской ОО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ровов Ники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ишина Елена Петро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зор произведенийА.М.Горького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им из ярких произведений  М.Горького является «Песня о Сокол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примере Сокола автор учит нас быть смелыми, выносливыми, уметь постоять за себя. Есть даже такая пословица: «Добро должно быть с кулакам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C:\Users\user\Desktop\1011039663.jpg"/>
          <p:cNvPicPr/>
          <p:nvPr/>
        </p:nvPicPr>
        <p:blipFill>
          <a:blip r:embed="rId1"/>
          <a:stretch/>
        </p:blipFill>
        <p:spPr>
          <a:xfrm>
            <a:off x="4929120" y="1571760"/>
            <a:ext cx="37861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ссказ Максима Горького</a:t>
            </a:r>
            <a:br>
              <a:rPr sz="42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«Дед Архип и Лёнька».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й герой рассказа – мальчик Лёнька, судьба его глубоко трагич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учи нищим скитальцем на чужбине, он был добрым и справедливым мальчи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: при любых  обстоятельствах надо бороться за жизнь, быть честным и справедливым, помогать и сочувствовать другим, любить природу и свободу, как это делал Лёнь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Год милосердия и волонтёра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Горького появилась мечта о лучшей доле просты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 был против дикости, грубости, зло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18 год - Год милосердия и волонтё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верное, возникла проблема «дефицита» доброты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бра и милосердия всегда не хватает. Проблемы, затронутые Горьким, актуальны и в наш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дет"/>
          <p:cNvPicPr/>
          <p:nvPr/>
        </p:nvPicPr>
        <p:blipFill>
          <a:blip r:embed="rId1"/>
          <a:stretch/>
        </p:blipFill>
        <p:spPr>
          <a:xfrm>
            <a:off x="571680" y="1071720"/>
            <a:ext cx="3500280" cy="2663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чало дружб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ексей Максимович Горький и Фёдор Шаляпин познакомились в сентябре 1900 года в Москве, затем встречались в Нижнем Новгороде, когда молодой певец приезжал на гастр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Содержимое 4" descr="http://www.hrono.ru/img/foto/shlp1901gorki.jpg"/>
          <p:cNvPicPr/>
          <p:nvPr/>
        </p:nvPicPr>
        <p:blipFill>
          <a:blip r:embed="rId1"/>
          <a:stretch/>
        </p:blipFill>
        <p:spPr>
          <a:xfrm>
            <a:off x="1809720" y="2532240"/>
            <a:ext cx="2019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ДРУЖБА ГОРЬКОГО И ШАЛЯПИНА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аляпин по просьбе Максима Горького давал благотворительные концерты. Деньги от выступлений шли на строительство Народного дома в Нижнем Новгороде, на открытие новых школ для бедных и  другие добрые 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4" descr="https://ic.pics.livejournal.com/inbio/39693556/552022/552022_original.jpg"/>
          <p:cNvPicPr/>
          <p:nvPr/>
        </p:nvPicPr>
        <p:blipFill>
          <a:blip r:embed="rId1"/>
          <a:stretch/>
        </p:blipFill>
        <p:spPr>
          <a:xfrm>
            <a:off x="1104840" y="1698480"/>
            <a:ext cx="342900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БЛАГОТВОРИТЕЛЬНОСТЬ В ЖИЗНИ МАКСИМА ГОРЬКОГО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ественная жизнь Максима Горького была бурн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 встречается с рабочими, колхозниками, читает им свои произведения, беседует о жизни, помогает справиться с  пробле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786200" y="150012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 устраивал благотворительные ё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обое внимание уделял бедным детям. 4 января 1901 года ему предстояло провести впервые в Нижнем, а, может быть, и в России, ёлку для 500 беднейших детей родного г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КЛЮЧЕНИЕ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бра и милосерд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ажена в жизни   и в творчестве Алексея Максимовича Горь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ы действительно учим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бр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Горь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ворить добр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ак это делали Горький и Шаляпин, можно в любом возрас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пасибо за внимание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i (43)"/>
          <p:cNvPicPr/>
          <p:nvPr/>
        </p:nvPicPr>
        <p:blipFill>
          <a:blip r:embed="rId1"/>
          <a:stretch/>
        </p:blipFill>
        <p:spPr>
          <a:xfrm>
            <a:off x="857160" y="2500200"/>
            <a:ext cx="1928880" cy="2714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67" name="Picture 6" descr="i?id=216362378-56-72&amp;n=21"/>
          <p:cNvPicPr/>
          <p:nvPr/>
        </p:nvPicPr>
        <p:blipFill>
          <a:blip r:embed="rId2"/>
          <a:stretch/>
        </p:blipFill>
        <p:spPr>
          <a:xfrm rot="495600">
            <a:off x="6765840" y="2592360"/>
            <a:ext cx="1890720" cy="2639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68" name="Picture 7" descr="i (42)"/>
          <p:cNvPicPr/>
          <p:nvPr/>
        </p:nvPicPr>
        <p:blipFill>
          <a:blip r:embed="rId3"/>
          <a:stretch/>
        </p:blipFill>
        <p:spPr>
          <a:xfrm rot="20947200">
            <a:off x="3745080" y="2843280"/>
            <a:ext cx="2385720" cy="2819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Содержание исследовательской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1571760" y="1928880"/>
            <a:ext cx="65005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І. ИЗ БИОГРАФИИ МАКСИМА ГОРЬ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ІІ. ТЕМА ДОБРА И МИЛОСЕРДИЯ В ТВОРЧЕСТВЕ А.М.ГОРЬ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ІІІ.ДРУЖБА ГОРЬКОГО И ШАЛЯП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БЛАГОТВОРИТЕЛЬНОСТЬ В ЖИЗНИ МАКСИМА ГОРЬ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ВЕДЕНИЕ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4429080" y="1500120"/>
            <a:ext cx="4214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ша исследовательская работа посвящена Максиму Горькому и тому, как тема добра и милосердия отразилась в его произведе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C:\Users\GusevaYV\Desktop\Горький\gor6.JPG"/>
          <p:cNvPicPr/>
          <p:nvPr/>
        </p:nvPicPr>
        <p:blipFill>
          <a:blip r:embed="rId1"/>
          <a:stretch/>
        </p:blipFill>
        <p:spPr>
          <a:xfrm>
            <a:off x="762120" y="1620720"/>
            <a:ext cx="362088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Цель нашей работ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наблюд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отражена тема «Добра» в жизни и творчестве  Максима Горьк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ъект исследования: жизнь и творчество Алексея Максимовича Горь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горький"/>
          <p:cNvPicPr/>
          <p:nvPr/>
        </p:nvPicPr>
        <p:blipFill>
          <a:blip r:embed="rId1"/>
          <a:stretch/>
        </p:blipFill>
        <p:spPr>
          <a:xfrm>
            <a:off x="1143000" y="2071800"/>
            <a:ext cx="2998800" cy="3643200"/>
          </a:xfrm>
          <a:prstGeom prst="rect">
            <a:avLst/>
          </a:prstGeom>
          <a:ln w="5724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ем интересна данная тем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8 год юбилейный. Максиму Горькому исполнилось 150  лет. Шаляпину 145 лет. Также 2018 год был назван годом милосердия и волонтё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тво Горького  близко моему учителю, и она смогла заинтересовать  меня. Я захотел как можно глубже  изучить 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ИЗ БИОГРАФИИ МАКСИМА ГОРЬКОГО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ство Горь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од Нижний Новгород – это место, где прошло детство Алексея Пешк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ький – внук солдата, разжалованного из офицеров, сын столяра-краснодеревщика Максима Пешк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ец писателя работал управляющим пароходной конторой, умер от хол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ь, Варвара Васильевна Каширина— из мещанской семь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нижний"/>
          <p:cNvPicPr/>
          <p:nvPr/>
        </p:nvPicPr>
        <p:blipFill>
          <a:blip r:embed="rId1"/>
          <a:stretch/>
        </p:blipFill>
        <p:spPr>
          <a:xfrm>
            <a:off x="5143680" y="4429080"/>
            <a:ext cx="3286080" cy="215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чёба писателя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84 году Алексей уезжает в Казань, чтобы поступить в университет, но учиться ему там не пришлось. Будущий писатель проходит свои университеты на пристанях, в ночлежках, да и просто -  где придё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своих странствиях писатель рассказывает в трилогии «Детство», «В людях», «Мои университет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i (100)"/>
          <p:cNvPicPr/>
          <p:nvPr/>
        </p:nvPicPr>
        <p:blipFill>
          <a:blip r:embed="rId1"/>
          <a:stretch/>
        </p:blipFill>
        <p:spPr>
          <a:xfrm>
            <a:off x="4857840" y="3857760"/>
            <a:ext cx="3867120" cy="2457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КАК ЖЕ ТЕМА ДОБРА И МИЛОСЕРДИЯ ОТРАЖЕНА В ТВОРЧЕСТВЕ А.М.ГОРЬКОГО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Picture 8" descr="макар"/>
          <p:cNvPicPr/>
          <p:nvPr/>
        </p:nvPicPr>
        <p:blipFill>
          <a:blip r:embed="rId1"/>
          <a:stretch/>
        </p:blipFill>
        <p:spPr>
          <a:xfrm>
            <a:off x="5429160" y="4572000"/>
            <a:ext cx="2714760" cy="2000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8" name="Picture 4" descr="изерг"/>
          <p:cNvPicPr/>
          <p:nvPr/>
        </p:nvPicPr>
        <p:blipFill>
          <a:blip r:embed="rId2"/>
          <a:stretch/>
        </p:blipFill>
        <p:spPr>
          <a:xfrm rot="21060600">
            <a:off x="4273200" y="1717200"/>
            <a:ext cx="20844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9" name="Picture 14" descr="i?id=184310676-05-72&amp;n=21"/>
          <p:cNvPicPr/>
          <p:nvPr/>
        </p:nvPicPr>
        <p:blipFill>
          <a:blip r:embed="rId3"/>
          <a:stretch/>
        </p:blipFill>
        <p:spPr>
          <a:xfrm>
            <a:off x="571680" y="4572000"/>
            <a:ext cx="1525320" cy="228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0" name="Picture 12" descr="i?id=67377433-31-72&amp;n=21"/>
          <p:cNvPicPr/>
          <p:nvPr/>
        </p:nvPicPr>
        <p:blipFill>
          <a:blip r:embed="rId4"/>
          <a:stretch/>
        </p:blipFill>
        <p:spPr>
          <a:xfrm>
            <a:off x="7061040" y="1500120"/>
            <a:ext cx="2082960" cy="2648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1" name="Picture 4" descr="фома"/>
          <p:cNvPicPr/>
          <p:nvPr/>
        </p:nvPicPr>
        <p:blipFill>
          <a:blip r:embed="rId5"/>
          <a:stretch/>
        </p:blipFill>
        <p:spPr>
          <a:xfrm>
            <a:off x="2643120" y="3809880"/>
            <a:ext cx="2295720" cy="3048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2" name="Picture 7" descr="м г"/>
          <p:cNvPicPr/>
          <p:nvPr/>
        </p:nvPicPr>
        <p:blipFill>
          <a:blip r:embed="rId6"/>
          <a:stretch/>
        </p:blipFill>
        <p:spPr>
          <a:xfrm>
            <a:off x="214200" y="1357200"/>
            <a:ext cx="1892520" cy="2895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накомство с творчество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ё знакомство с творчеством Максима Горького началось  со сказки «Воробьишко». Потом я прочитал сказку «Случай с Евсейкой». Автор  с тобой разговаривает и объясняет, как поступать в трудную мину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33320" y="102852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C:\Users\user\Desktop\0706011236180.jpg"/>
          <p:cNvPicPr/>
          <p:nvPr/>
        </p:nvPicPr>
        <p:blipFill>
          <a:blip r:embed="rId1"/>
          <a:stretch/>
        </p:blipFill>
        <p:spPr>
          <a:xfrm>
            <a:off x="5143680" y="2000160"/>
            <a:ext cx="373680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1:50:22Z</dcterms:created>
  <dc:creator>offmaxx</dc:creator>
  <dc:description/>
  <dc:language>en-US</dc:language>
  <cp:lastModifiedBy>Елена Петровна</cp:lastModifiedBy>
  <dcterms:modified xsi:type="dcterms:W3CDTF">2018-11-12T03:36:10Z</dcterms:modified>
  <cp:revision>76</cp:revision>
  <dc:subject/>
  <dc:title>105 лет со дня рождения</dc:title>
</cp:coreProperties>
</file>