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A92D-5E1B-4E11-B7B8-E5B94347E1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5F20-8665-4F9F-A316-E50EED008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5FD-0BA4-41D7-851B-81D7406E6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89F-09A8-4A2F-9A18-84751343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4E2-5531-46AA-AC2B-AD712D2A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10-4C45-42D2-B39B-5257B34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DEC-057A-40CA-98A6-824011F0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883-0464-4CF8-89B5-F3AF149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1C2-E3C3-4850-8A67-EF3C74F1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83BA-8610-496C-A914-E79301B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0D66-E0AD-4B28-A274-A4D7959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9A56-A50A-4035-AD86-65774C9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0F90-71BB-4BE0-9D06-4306734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63E-2CA2-4830-9501-B19DE0F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41D-1950-4CE5-AA2E-0C1799A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B41-4838-4180-8F02-7B0301A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53D-3B08-461E-9F8A-74807B8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F18C-CAF2-489E-8DDB-7DE6A8E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ADB2-9C73-4EDC-85FA-4E0E3518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DD7F-2F5B-4479-9A4E-36F4C729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9C3-E1E2-493A-AB8E-2F4C6CC7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C88-0C54-40CA-B041-25D5E0C1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6CE-D51E-4DF7-AF02-235D98F0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C7B-8ED9-4005-B7BA-9EAC1CB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CFF-DE1A-4507-BDB5-82F012D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E86-1489-4016-BDA4-8CEFEA5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E0B-3DB7-4196-9525-E514259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4E72-8ADC-4843-82E2-F81DAC6B5D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C52-8613-4E89-93A7-4FCA974868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30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УЧИМСЯ ЛИ МЫ ДОБРУ У ГОРЬКОГО?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0" y="407160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: ученик  5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Кочуновской ОО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овов Ник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шина Елена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зор произведенийА.М.Горького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ярких произведений  М.Горького является «Песня о Со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Сокола автор учит нас быть смелыми, выносливыми, уметь постоять за себя. Есть даже такая пословица: «Добро должно быть с кулак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Users\user\Desktop\1011039663.jpg"/>
          <p:cNvPicPr/>
          <p:nvPr/>
        </p:nvPicPr>
        <p:blipFill>
          <a:blip r:embed="rId1"/>
          <a:stretch/>
        </p:blipFill>
        <p:spPr>
          <a:xfrm>
            <a:off x="4929120" y="1571760"/>
            <a:ext cx="37861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сказ Максима Горького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«Дед Архип и Лёнька»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герой рассказа – мальчик Лёнька, судьба его глубоко траги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чи нищим скитальцем на чужбине, он был добрым и справедливым мальч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при любых  обстоятельствах надо бороться за жизнь, быть честным и справедливым, помогать и сочувствовать другим, любить природу и свободу, как это делал Лён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од милосердия и волонтёра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Горького появилась мечта о лучшей доле просты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ыл против дикости, грубости, зл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8 год - Год милосердия и волонтё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ое, возникла проблема «дефицита» доброт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ра и милосердия всегда не хватает. Проблемы, затронутые Горьким, актуальны и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дет"/>
          <p:cNvPicPr/>
          <p:nvPr/>
        </p:nvPicPr>
        <p:blipFill>
          <a:blip r:embed="rId1"/>
          <a:stretch/>
        </p:blipFill>
        <p:spPr>
          <a:xfrm>
            <a:off x="571680" y="1071720"/>
            <a:ext cx="3500280" cy="26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чало друж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Максимович Горький и Фёдор Шаляпин познакомились в сентябре 1900 года в Москве, затем встречались в Нижнем Новгороде, когда молодой певец приезжал на гаст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http://www.hrono.ru/img/foto/shlp1901gorki.jpg"/>
          <p:cNvPicPr/>
          <p:nvPr/>
        </p:nvPicPr>
        <p:blipFill>
          <a:blip r:embed="rId1"/>
          <a:stretch/>
        </p:blipFill>
        <p:spPr>
          <a:xfrm>
            <a:off x="1809720" y="2532240"/>
            <a:ext cx="2019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РУЖБА ГОРЬКОГО И ШАЛЯПИНА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ляпин по просьбе Максима Горького давал благотворительные концерты. Деньги от выступлений шли на строительство Народного дома в Нижнем Новгороде, на открытие новых школ для бедных и  другие добры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https://ic.pics.livejournal.com/inbio/39693556/552022/552022_original.jpg"/>
          <p:cNvPicPr/>
          <p:nvPr/>
        </p:nvPicPr>
        <p:blipFill>
          <a:blip r:embed="rId1"/>
          <a:stretch/>
        </p:blipFill>
        <p:spPr>
          <a:xfrm>
            <a:off x="1104840" y="1698480"/>
            <a:ext cx="3429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БЛАГОТВОРИТЕЛЬНОСТЬ В ЖИЗНИ МАКСИМА ГОРЬКОГО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ственная жизнь Максима Горького была бур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встречается с рабочими, колхозниками, читает им свои произведения, беседует о жизни, помогает справиться с 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86200" y="150012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устраивал благотворительные ё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ое внимание уделял бедным детям. 4 января 1901 года ему предстояло провести впервые в Нижнем, а, может быть, и в России, ёлку для 500 беднейших детей родн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а и милосерд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ена в жизни   и в творчестве Алексея Максимовича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действительно учим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орить доб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к это делали Горький и Шаляпин, можно в люб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 (43)"/>
          <p:cNvPicPr/>
          <p:nvPr/>
        </p:nvPicPr>
        <p:blipFill>
          <a:blip r:embed="rId1"/>
          <a:stretch/>
        </p:blipFill>
        <p:spPr>
          <a:xfrm>
            <a:off x="857160" y="2500200"/>
            <a:ext cx="1928880" cy="27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7" name="Picture 6" descr="i?id=216362378-56-72&amp;n=21"/>
          <p:cNvPicPr/>
          <p:nvPr/>
        </p:nvPicPr>
        <p:blipFill>
          <a:blip r:embed="rId2"/>
          <a:stretch/>
        </p:blipFill>
        <p:spPr>
          <a:xfrm rot="495600">
            <a:off x="6765840" y="2592360"/>
            <a:ext cx="1890720" cy="263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8" name="Picture 7" descr="i (42)"/>
          <p:cNvPicPr/>
          <p:nvPr/>
        </p:nvPicPr>
        <p:blipFill>
          <a:blip r:embed="rId3"/>
          <a:stretch/>
        </p:blipFill>
        <p:spPr>
          <a:xfrm rot="20947200">
            <a:off x="3745080" y="2843280"/>
            <a:ext cx="2385720" cy="281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Содержание исследовательск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571760" y="1928880"/>
            <a:ext cx="65005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. ИЗ БИОГРАФИИ МАКСИМА ГОРЬ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. ТЕМА ДОБРА И МИЛОСЕРДИЯ В ТВОРЧЕСТВЕ А.М.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І.ДРУЖБА ГОРЬКОГО И ШАЛЯ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БЛАГОТВОРИТЕЛЬНОСТЬ В ЖИЗНИ МАКСИМА 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429080" y="150012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ша исследовательская работа посвящена Максиму Горькому и тому, как тема добра и милосердия отразилась в его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Users\GusevaYV\Desktop\Горький\gor6.JPG"/>
          <p:cNvPicPr/>
          <p:nvPr/>
        </p:nvPicPr>
        <p:blipFill>
          <a:blip r:embed="rId1"/>
          <a:stretch/>
        </p:blipFill>
        <p:spPr>
          <a:xfrm>
            <a:off x="762120" y="1620720"/>
            <a:ext cx="36208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нашей рабо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наблю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тражена тема «Добра» в жизни и творчестве  Максима Горь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 исследования: жизнь и творчество Алексея Максимовича Горь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горький"/>
          <p:cNvPicPr/>
          <p:nvPr/>
        </p:nvPicPr>
        <p:blipFill>
          <a:blip r:embed="rId1"/>
          <a:stretch/>
        </p:blipFill>
        <p:spPr>
          <a:xfrm>
            <a:off x="1143000" y="2071800"/>
            <a:ext cx="2998800" cy="36432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ем интересна данная 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8 год юбилейный. Максиму Горькому исполнилось 150  лет. Шаляпину 145 лет. Также 2018 год был назван годом милосердия и волонтё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Горького  близко моему учителю, и она смогла заинтересовать  меня. Я захотел как можно глубже  изучить 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ИЗ БИОГРАФИИ МАКСИМА ГОРЬКОГО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тво Гор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 Нижний Новгород – это место, где прошло детство Алексея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ький – внук солдата, разжалованного из офицеров, сын столяра-краснодеревщика Максима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ц писателя работал управляющим пароходной конторой, умер от хол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ь, Варвара Васильевна Каширина— из мещанской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нижний"/>
          <p:cNvPicPr/>
          <p:nvPr/>
        </p:nvPicPr>
        <p:blipFill>
          <a:blip r:embed="rId1"/>
          <a:stretch/>
        </p:blipFill>
        <p:spPr>
          <a:xfrm>
            <a:off x="5143680" y="4429080"/>
            <a:ext cx="3286080" cy="215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ёба писател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84 году Алексей уезжает в Казань, чтобы поступить в университет, но учиться ему там не пришлось. Будущий писатель проходит свои университеты на пристанях, в ночлежках, да и просто -  где прид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воих странствиях писатель рассказывает в трилогии «Детство», «В людях», «Мои университе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 (100)"/>
          <p:cNvPicPr/>
          <p:nvPr/>
        </p:nvPicPr>
        <p:blipFill>
          <a:blip r:embed="rId1"/>
          <a:stretch/>
        </p:blipFill>
        <p:spPr>
          <a:xfrm>
            <a:off x="4857840" y="3857760"/>
            <a:ext cx="3867120" cy="245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АК ЖЕ ТЕМА ДОБРА И МИЛОСЕРДИЯ ОТРАЖЕНА В ТВОРЧЕСТВЕ А.М.ГОРЬКОГО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8" descr="макар"/>
          <p:cNvPicPr/>
          <p:nvPr/>
        </p:nvPicPr>
        <p:blipFill>
          <a:blip r:embed="rId1"/>
          <a:stretch/>
        </p:blipFill>
        <p:spPr>
          <a:xfrm>
            <a:off x="5429160" y="4572000"/>
            <a:ext cx="2714760" cy="200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Picture 4" descr="изерг"/>
          <p:cNvPicPr/>
          <p:nvPr/>
        </p:nvPicPr>
        <p:blipFill>
          <a:blip r:embed="rId2"/>
          <a:stretch/>
        </p:blipFill>
        <p:spPr>
          <a:xfrm rot="21060600">
            <a:off x="4273200" y="1717200"/>
            <a:ext cx="20844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Picture 14" descr="i?id=184310676-05-72&amp;n=21"/>
          <p:cNvPicPr/>
          <p:nvPr/>
        </p:nvPicPr>
        <p:blipFill>
          <a:blip r:embed="rId3"/>
          <a:stretch/>
        </p:blipFill>
        <p:spPr>
          <a:xfrm>
            <a:off x="571680" y="4572000"/>
            <a:ext cx="15253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0" name="Picture 12" descr="i?id=67377433-31-72&amp;n=21"/>
          <p:cNvPicPr/>
          <p:nvPr/>
        </p:nvPicPr>
        <p:blipFill>
          <a:blip r:embed="rId4"/>
          <a:stretch/>
        </p:blipFill>
        <p:spPr>
          <a:xfrm>
            <a:off x="7061040" y="1500120"/>
            <a:ext cx="2082960" cy="26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1" name="Picture 4" descr="фома"/>
          <p:cNvPicPr/>
          <p:nvPr/>
        </p:nvPicPr>
        <p:blipFill>
          <a:blip r:embed="rId5"/>
          <a:stretch/>
        </p:blipFill>
        <p:spPr>
          <a:xfrm>
            <a:off x="2643120" y="3809880"/>
            <a:ext cx="229572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Picture 7" descr="м г"/>
          <p:cNvPicPr/>
          <p:nvPr/>
        </p:nvPicPr>
        <p:blipFill>
          <a:blip r:embed="rId6"/>
          <a:stretch/>
        </p:blipFill>
        <p:spPr>
          <a:xfrm>
            <a:off x="214200" y="1357200"/>
            <a:ext cx="189252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комство с творчеств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ё знакомство с творчеством Максима Горького началось  со сказки «Воробьишко». Потом я прочитал сказку «Случай с Евсейкой». Автор  с тобой разговаривает и объясняет, как поступать в трудную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3320" y="10285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Users\user\Desktop\0706011236180.jpg"/>
          <p:cNvPicPr/>
          <p:nvPr/>
        </p:nvPicPr>
        <p:blipFill>
          <a:blip r:embed="rId1"/>
          <a:stretch/>
        </p:blipFill>
        <p:spPr>
          <a:xfrm>
            <a:off x="5143680" y="2000160"/>
            <a:ext cx="3736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1:50:22Z</dcterms:created>
  <dc:creator>offmaxx</dc:creator>
  <dc:description/>
  <dc:language>en-US</dc:language>
  <cp:lastModifiedBy>Елена Петровна</cp:lastModifiedBy>
  <dcterms:modified xsi:type="dcterms:W3CDTF">2018-11-12T03:36:10Z</dcterms:modified>
  <cp:revision>76</cp:revision>
  <dc:subject/>
  <dc:title>105 лет со дня рождения</dc:title>
</cp:coreProperties>
</file>