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9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CE1F-070A-4D46-BC7B-C0B74830A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0BA-D786-4A8C-85F9-B4D3677D2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4EE1-9B42-44AA-903E-BFAC36414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AA-3E06-4B19-B21C-744EFE8D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44D-57AF-4F18-B0A9-6F511DE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CBE-CE15-48E5-B566-69545E4B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6AE-DFEB-44FC-9FC3-86B916C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D219-D015-4BAD-BEC4-23910A4E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936-CEAE-43FA-9E14-439F0E3E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A83-4F30-483D-A92E-64213398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0EE-7684-4A11-BF1E-80079334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4C2-E282-43B2-8DAD-EA72ED0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02D7-5412-419A-9993-CD91D33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19FD-C81E-4965-B7C9-DC4E836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217-B844-4B10-9638-26ABB6F0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66E3-45C4-4460-A48B-5DA6EAC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8ED-86D9-4101-9DB7-0353826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C6D-76F9-4E22-975A-94371EB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FCF-4DC4-4F10-8BF6-58546F37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3FC3-45FB-4C8C-81BD-2CC8C8DC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4F49-F5DB-46A1-BFE6-ABD7035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A0CD-3D14-4EA9-B28F-9D2AD74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7AC3-0FDB-48CA-AC7E-0ADD620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51E8-9B18-44CE-81FC-8A63B70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DC62-AA71-4A26-B3B2-B8C6F59A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6DD-E7B3-46B8-B185-45F86715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25EE-F65C-4543-A579-0D6C8E4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9803-9D06-4DF6-9B31-9BF7CF5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2B0B-01F5-4D43-80EC-4B0ABA5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7C0F-74A8-4F65-8188-54E055B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7CCB-FC4C-41F8-BFF3-9756CFC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7165-B62D-4ACD-9659-6A89C114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D3A1-60AC-4B28-A82B-8BACE57A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4B0-697D-4F68-9761-ED2DDE6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C81-323C-4AC5-95A3-7B3C4DC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673-B208-452C-B5C4-2C3FF6D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875-C908-4F55-9867-C51DC94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AE5-04E3-42C9-943A-AA43F1D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A10-6D6C-44F7-B8E3-5D9BC8D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2E0-97FD-42CF-AC26-86ADC375A165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2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2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Freeform 22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22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Freeform 28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28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reeform 29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Point Star 32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9630-E7FE-4392-B07C-25687FBD35B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042-2F59-439A-A13C-E2D370C696EE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Impact"/>
              </a:rPr>
              <a:t>8 </a:t>
            </a:r>
            <a:r>
              <a:rPr b="0" lang="ru-RU" sz="6600" spc="-1" strike="noStrike">
                <a:solidFill>
                  <a:srgbClr val="002060"/>
                </a:solidFill>
                <a:latin typeface="Impact"/>
              </a:rPr>
              <a:t>СЕНТЯБРЯ 1941 ГОДА</a:t>
            </a:r>
            <a:endParaRPr b="0" lang="en-US" sz="6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2060"/>
                </a:solidFill>
                <a:latin typeface="Impact"/>
              </a:rPr>
              <a:t>НАЧАЛО БЛОКАДЫ ЛЕНИНГРАДА</a:t>
            </a:r>
            <a:endParaRPr b="0" lang="en-US" sz="51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228600" y="1609560"/>
            <a:ext cx="7010280" cy="4791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cap057.jpg"/>
          <p:cNvPicPr/>
          <p:nvPr/>
        </p:nvPicPr>
        <p:blipFill>
          <a:blip r:embed="rId2"/>
          <a:stretch/>
        </p:blipFill>
        <p:spPr>
          <a:xfrm>
            <a:off x="5562720" y="1828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-за голода и болезней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городу ходила 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438280" y="228600"/>
            <a:ext cx="6400800" cy="299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оябре 1941 г. Гитлер заявил: «Ленинград сам поднимет руки: он неминуемо падет, раньше или позже. Никто оттуда не освободится, никто не прорвется через наши линии. Ленинграду суждено умереть голодной смертью». Однако это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ь продолжалась в осажденном Ленинграде. Заводы работали на полную мощность, выпуская военную продукцию. Работали кинотеатры, создавались произведения музыки и литературы. Рождались  де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i[31]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28600"/>
            <a:ext cx="205596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сканирование0012"/>
          <p:cNvPicPr/>
          <p:nvPr/>
        </p:nvPicPr>
        <p:blipFill>
          <a:blip r:embed="rId2">
            <a:grayscl/>
          </a:blip>
          <a:stretch/>
        </p:blipFill>
        <p:spPr>
          <a:xfrm>
            <a:off x="304920" y="3429000"/>
            <a:ext cx="4114800" cy="2978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Год рождения - 1942"/>
          <p:cNvPicPr/>
          <p:nvPr/>
        </p:nvPicPr>
        <p:blipFill>
          <a:blip r:embed="rId3">
            <a:grayscl/>
          </a:blip>
          <a:stretch/>
        </p:blipFill>
        <p:spPr>
          <a:xfrm>
            <a:off x="4648320" y="34290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ЦЫ ДЕРЖАЛИСЬ                          НЕСМОТРЯ НИ НА ЧТО И ВЫСТОЯЛИ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Й БОРЬБЕ. И ДЛЯ ВСЕХ ВЫЖИВШИХ                   27 ЯНВАРЯ 1944 ГОДА ПРОГРЕМЕЛ               ПРАЗДНИЧНЫЙ САЛЮТ</a:t>
            </a:r>
            <a:endParaRPr b="0" lang="en-US" sz="29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98" name="Picture 1" descr="p220.jpg"/>
          <p:cNvPicPr/>
          <p:nvPr/>
        </p:nvPicPr>
        <p:blipFill>
          <a:blip r:embed="rId1"/>
          <a:stretch/>
        </p:blipFill>
        <p:spPr>
          <a:xfrm>
            <a:off x="1600200" y="228600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0" y="3045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ШНЫМ БЫЛ ИТОГ БЛОКАДЫ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900 ДНЕЙ ПОГИБЛО 800 ТЫСЯЧ ЧЕЛОВЕК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ИМ ПОСВЯЩЕНЫ ТОРЖЕСТВЕННЫЕ И ПЕЧАЛЬНЫЕ СЛОВА, НАЧЕРТАННЫЕ НА МЕМОРИАЛЬНОЙ СТЕНЕ ПИСКАРЁВСКОГО КЛАДБИЩА.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0" name="Picture 6" descr="пискаревское кладбище"/>
          <p:cNvPicPr/>
          <p:nvPr/>
        </p:nvPicPr>
        <p:blipFill>
          <a:blip r:embed="rId1">
            <a:grayscl/>
          </a:blip>
          <a:stretch/>
        </p:blipFill>
        <p:spPr>
          <a:xfrm>
            <a:off x="685800" y="2590920"/>
            <a:ext cx="7848720" cy="4029120"/>
          </a:xfrm>
          <a:prstGeom prst="rect">
            <a:avLst/>
          </a:prstGeom>
          <a:ln w="28440">
            <a:solidFill>
              <a:srgbClr val="000066"/>
            </a:solidFill>
            <a:prstDash val="sysDot"/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2282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Х ИМЕН БЛАГОРОДНЫХ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ДЕСЬ ПЕРЕЧИСЛИТЬ НЕ МОЖЕМ,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ИХ МНОГО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ВЕЧНОЙ ОХРАНОЙ ГРАНИТА.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ЗНАЙ, ВНЕМЛЮЩИЙ ЭТИМ КАМНЯМ,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ЗАБЫТ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ИЧТО НЕ ЗАБЫТО”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2" name="Picture 3" descr="пискаревка 1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3740040"/>
            <a:ext cx="41148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-152280" y="111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Е МАЛОЕ, ЧТО МЫ МОЖЕМ СДЕЛАТЬ –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СЕГДА ПОМНИТЬ ПОГИБШИХ ЗА СВОЮ СТРАНУ, ЗА РОДНОЙ ГОРОД ЛЕНИНГРАД.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4" name="Picture 3" descr="19b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2286000"/>
            <a:ext cx="4136760" cy="301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Blockade2.jpg"/>
          <p:cNvPicPr/>
          <p:nvPr/>
        </p:nvPicPr>
        <p:blipFill>
          <a:blip r:embed="rId2">
            <a:grayscl/>
          </a:blip>
          <a:stretch/>
        </p:blipFill>
        <p:spPr>
          <a:xfrm>
            <a:off x="4551480" y="3581280"/>
            <a:ext cx="416556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9"/>
          <p:cNvGrpSpPr/>
          <p:nvPr/>
        </p:nvGrpSpPr>
        <p:grpSpPr>
          <a:xfrm>
            <a:off x="4876920" y="304920"/>
            <a:ext cx="3657600" cy="5654520"/>
            <a:chOff x="4876920" y="304920"/>
            <a:chExt cx="3657600" cy="5654520"/>
          </a:xfrm>
        </p:grpSpPr>
        <p:pic>
          <p:nvPicPr>
            <p:cNvPr id="165" name="Picture 10" descr="1404"/>
            <p:cNvPicPr/>
            <p:nvPr/>
          </p:nvPicPr>
          <p:blipFill>
            <a:blip r:embed="rId1"/>
            <a:stretch/>
          </p:blipFill>
          <p:spPr>
            <a:xfrm>
              <a:off x="4876920" y="304920"/>
              <a:ext cx="36576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1"/>
            <p:cNvSpPr/>
            <p:nvPr/>
          </p:nvSpPr>
          <p:spPr>
            <a:xfrm>
              <a:off x="4876920" y="5562720"/>
              <a:ext cx="3657600" cy="396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-200160" y="685440"/>
            <a:ext cx="508176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ИЮНЯ 1941 ГОДА НАЧАЛАСЬ ВЕЛИКАЯ ОТЕЧЕСТВЕННАЯ ВОЙНА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10 ИЮНЯ 1941 Г. НЕМЕЦКИЕ ВОЙСКА ПОДОШЛИ К  ЛЕНИНГРАДУ                    НА РАССТОЯНИЕ 180-200 КМ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8" name="Содержимое 9" descr="03.jpg"/>
          <p:cNvPicPr/>
          <p:nvPr/>
        </p:nvPicPr>
        <p:blipFill>
          <a:blip r:embed="rId2">
            <a:grayscl/>
          </a:blip>
          <a:stretch/>
        </p:blipFill>
        <p:spPr>
          <a:xfrm>
            <a:off x="4854600" y="4114800"/>
            <a:ext cx="392904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НАСТУПЛЕНИЯ НЕМЕЦКИХ ВОЙСК БЫЛ ЗАХВАЧЕН ГОРОД ШЛИССЕЛЬБУРГ, РАСПОЛОЖЕННЫЙ У ИСТОКОВ НЕВЫ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3276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>
            <a:grayscl/>
            <a:lum bright="12000"/>
          </a:blip>
          <a:stretch/>
        </p:blipFill>
        <p:spPr>
          <a:xfrm>
            <a:off x="4114800" y="3095640"/>
            <a:ext cx="46483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304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СЕНТЯБРЯ 1941 Г. НАЧАЛАСЬ БЛОКАДА ЛЕНИНГРАДА, КОТОРАЯ ПРОДОЛЖИЛАСЬ ДОЛГИЕ 900 ДНЕЙ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3" name="Picture 4" descr="Советский плокат"/>
          <p:cNvPicPr/>
          <p:nvPr/>
        </p:nvPicPr>
        <p:blipFill>
          <a:blip r:embed="rId1">
            <a:grayscl/>
          </a:blip>
          <a:stretch/>
        </p:blipFill>
        <p:spPr>
          <a:xfrm>
            <a:off x="1335240" y="1981080"/>
            <a:ext cx="5711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358128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48320" y="3670200"/>
            <a:ext cx="4047840" cy="2394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22320" y="0"/>
            <a:ext cx="845820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омент начала блокады                                     в Ленинграде находились                                      2 миллиона 544 тысячи человек,                           в том числе около 400 тысяч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вакуацию осуществить не успели: начались бомбардировки и обстрелы, город оказался в кольце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81240" y="533520"/>
            <a:ext cx="464796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НТЯБРЕ 1941 Г. ПРЕКРАТИЛОСЬ ПОСТУПЛЕНИЕ В ГОРОД ПРОДОВОЛЬСТВИЯ, ГОРЮЧЕГО И МЕДИКАМЕНТОВ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И ВВЕДЕНЫ ПРОДОВОЛЬСТВЕННЫЕ КАРТОЧКИ. ЗАКРЫВАЛИСЬ ПУНКТЫ ОБЩЕСТВЕННОГО ПИТАНИЯ. ЛЮДИ СТАЛИ ИСПЫТЫВАТЬ ГОЛОД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8" name="Picture 8" descr="Хлебная карточка блокадника"/>
          <p:cNvPicPr/>
          <p:nvPr/>
        </p:nvPicPr>
        <p:blipFill>
          <a:blip r:embed="rId1"/>
          <a:stretch/>
        </p:blipFill>
        <p:spPr>
          <a:xfrm>
            <a:off x="4191120" y="228600"/>
            <a:ext cx="3019320" cy="449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329_1211580479"/>
          <p:cNvPicPr/>
          <p:nvPr/>
        </p:nvPicPr>
        <p:blipFill>
          <a:blip r:embed="rId2">
            <a:grayscl/>
          </a:blip>
          <a:stretch/>
        </p:blipFill>
        <p:spPr>
          <a:xfrm>
            <a:off x="6019920" y="2514600"/>
            <a:ext cx="28843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7979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 ГОРОДЕ НЕ БЫЛО НИ ТОПЛИВА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И ЭЛЕКТРИЧЕСТВА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81" name="Содержимое 4" descr="tmp11B-135.jpg"/>
          <p:cNvPicPr/>
          <p:nvPr/>
        </p:nvPicPr>
        <p:blipFill>
          <a:blip r:embed="rId1"/>
          <a:stretch/>
        </p:blipFill>
        <p:spPr>
          <a:xfrm>
            <a:off x="304920" y="1992240"/>
            <a:ext cx="5699160" cy="34704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080530c90ca19093ee937198dafde5ea.jpg"/>
          <p:cNvPicPr/>
          <p:nvPr/>
        </p:nvPicPr>
        <p:blipFill>
          <a:blip r:embed="rId2"/>
          <a:stretch/>
        </p:blipFill>
        <p:spPr>
          <a:xfrm>
            <a:off x="4648320" y="3276720"/>
            <a:ext cx="4128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4" descr="Рисунок9.jpg"/>
          <p:cNvPicPr/>
          <p:nvPr/>
        </p:nvPicPr>
        <p:blipFill>
          <a:blip r:embed="rId1"/>
          <a:stretch/>
        </p:blipFill>
        <p:spPr>
          <a:xfrm>
            <a:off x="228600" y="182880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5" descr="tarasevi4.jpg"/>
          <p:cNvPicPr/>
          <p:nvPr/>
        </p:nvPicPr>
        <p:blipFill>
          <a:blip r:embed="rId2"/>
          <a:stretch/>
        </p:blipFill>
        <p:spPr>
          <a:xfrm>
            <a:off x="7024680" y="1214280"/>
            <a:ext cx="2119320" cy="2500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2E5D5C468438A754E7B52146687DD863.jpg"/>
          <p:cNvPicPr/>
          <p:nvPr/>
        </p:nvPicPr>
        <p:blipFill>
          <a:blip r:embed="rId3"/>
          <a:stretch/>
        </p:blipFill>
        <p:spPr>
          <a:xfrm>
            <a:off x="6215040" y="4214880"/>
            <a:ext cx="2347920" cy="2428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457200" y="274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ел из строя водопровод                  и воду приходилось набирать прямо из Не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5" descr="11264.jpg"/>
          <p:cNvPicPr/>
          <p:nvPr/>
        </p:nvPicPr>
        <p:blipFill>
          <a:blip r:embed="rId1"/>
          <a:stretch/>
        </p:blipFill>
        <p:spPr>
          <a:xfrm>
            <a:off x="0" y="2714760"/>
            <a:ext cx="5367240" cy="40258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d2af73e6a108.jpg"/>
          <p:cNvPicPr/>
          <p:nvPr/>
        </p:nvPicPr>
        <p:blipFill>
          <a:blip r:embed="rId2"/>
          <a:stretch/>
        </p:blipFill>
        <p:spPr>
          <a:xfrm>
            <a:off x="4267080" y="1523880"/>
            <a:ext cx="4707000" cy="3243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шисты постоянно атаковали город артобстре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bis</dc:creator>
  <dc:description/>
  <dc:language>en-US</dc:language>
  <cp:lastModifiedBy>irbis</cp:lastModifiedBy>
  <dcterms:modified xsi:type="dcterms:W3CDTF">2019-03-24T12:3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