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9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602-C11D-4A58-8665-EFA4A3E217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BF9F-B95D-4456-8542-651D53AA8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FC4C-0926-45E3-A718-CBD584A6B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643-E94F-48C5-B86F-DBE8E098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17D-904D-4A3F-9741-EE55920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9C5-9052-46AE-A371-4F3093F8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368-85F6-4F20-9A58-6E8155DF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873-6BA3-4A64-BDB1-7428F816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3D3-5A40-4116-8CC1-EDFC87B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C06-8FBC-4F32-A356-8DE3489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AFC-1960-4705-950E-AF6E5D16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FF3-DDDB-45D3-9F46-218A401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647-C3B3-4D3C-9E15-041BB29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FE4C-F9D9-420D-9969-3E64550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F9-1E5B-4137-9348-0B09C07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0E2-C3C6-43B4-A00F-576C1E3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E5D-0A76-4E85-BC06-19ED7F2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55E-9509-4D63-8DE9-4DA002E1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7389-B725-4DEA-8218-6212961D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7700-927C-42BA-84F4-17885CEC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8E48-AAD4-48E6-9B68-23A41E7D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C9EC-5F96-415D-86F2-3FF77A3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A80F-8433-465B-B229-C6846E00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F1C3-14F8-439C-8BF5-8D60147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3706-A744-44E7-B3A2-BC50939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7E5-A37B-408A-BC1A-2126823F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CD91-8860-41E7-8E09-67B00D7B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4257-139E-425B-81D5-39899D7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A931-6576-4707-81B7-31C427A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5E88-1BA0-454C-9990-9A84898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8CC4-F23F-4CCF-B3C3-9213DD7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91AC-9923-48BB-BE2C-2366BA2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A8EE-CB89-42B2-BEDE-DADAB5C8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D30-6B94-4B1D-A6E1-792F290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706-55D5-486D-9790-02D1ADD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3A2-793F-42EE-BCFE-BD551BE6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D67-AF57-401A-BE6C-08512C8A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059-7F46-4B6D-AFC9-531EC1FD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CAD-EF52-4F84-BD27-35D1A70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8DA-A020-44C2-B7D1-573912D6EAFE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2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2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Freeform 22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22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Freeform 28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28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reeform 29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Point Star 32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590-7E22-4BBD-8976-364265DD800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D0D-886C-4AE6-9A9E-45FCDDA0FA47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Impact"/>
              </a:rPr>
              <a:t>8 </a:t>
            </a:r>
            <a:r>
              <a:rPr b="0" lang="ru-RU" sz="6600" spc="-1" strike="noStrike">
                <a:solidFill>
                  <a:srgbClr val="002060"/>
                </a:solidFill>
                <a:latin typeface="Impact"/>
              </a:rPr>
              <a:t>СЕНТЯБРЯ 1941 ГОДА</a:t>
            </a:r>
            <a:endParaRPr b="0" lang="en-US" sz="6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2060"/>
                </a:solidFill>
                <a:latin typeface="Impact"/>
              </a:rPr>
              <a:t>НАЧАЛО БЛОКАДЫ ЛЕНИНГРАДА</a:t>
            </a:r>
            <a:endParaRPr b="0" lang="en-US" sz="51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228600" y="1609560"/>
            <a:ext cx="7010280" cy="4791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cap057.jpg"/>
          <p:cNvPicPr/>
          <p:nvPr/>
        </p:nvPicPr>
        <p:blipFill>
          <a:blip r:embed="rId2"/>
          <a:stretch/>
        </p:blipFill>
        <p:spPr>
          <a:xfrm>
            <a:off x="5562720" y="1828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-за голода и болезней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городу ходила 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438280" y="228600"/>
            <a:ext cx="6400800" cy="299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оябре 1941 г. Гитлер заявил: «Ленинград сам поднимет руки: он неминуемо падет, раньше или позже. Никто оттуда не освободится, никто не прорвется через наши линии. Ленинграду суждено умереть голодной смертью». Однако это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ь продолжалась в осажденном Ленинграде. Заводы работали на полную мощность, выпуская военную продукцию. Работали кинотеатры, создавались произведения музыки и литературы. Рождались  де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i[31]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28600"/>
            <a:ext cx="205596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сканирование0012"/>
          <p:cNvPicPr/>
          <p:nvPr/>
        </p:nvPicPr>
        <p:blipFill>
          <a:blip r:embed="rId2">
            <a:grayscl/>
          </a:blip>
          <a:stretch/>
        </p:blipFill>
        <p:spPr>
          <a:xfrm>
            <a:off x="304920" y="3429000"/>
            <a:ext cx="4114800" cy="2978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Год рождения - 1942"/>
          <p:cNvPicPr/>
          <p:nvPr/>
        </p:nvPicPr>
        <p:blipFill>
          <a:blip r:embed="rId3">
            <a:grayscl/>
          </a:blip>
          <a:stretch/>
        </p:blipFill>
        <p:spPr>
          <a:xfrm>
            <a:off x="4648320" y="34290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ЦЫ ДЕРЖАЛИСЬ                          НЕСМОТРЯ НИ НА ЧТО И ВЫСТОЯЛИ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Й БОРЬБЕ. И ДЛЯ ВСЕХ ВЫЖИВШИХ                   27 ЯНВАРЯ 1944 ГОДА ПРОГРЕМЕЛ               ПРАЗДНИЧНЫЙ САЛЮТ</a:t>
            </a:r>
            <a:endParaRPr b="0" lang="en-US" sz="29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98" name="Picture 1" descr="p220.jpg"/>
          <p:cNvPicPr/>
          <p:nvPr/>
        </p:nvPicPr>
        <p:blipFill>
          <a:blip r:embed="rId1"/>
          <a:stretch/>
        </p:blipFill>
        <p:spPr>
          <a:xfrm>
            <a:off x="1600200" y="228600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0" y="3045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ШНЫМ БЫЛ ИТОГ БЛОКАДЫ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900 ДНЕЙ ПОГИБЛО 800 ТЫСЯЧ ЧЕЛОВЕК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ИМ ПОСВЯЩЕНЫ ТОРЖЕСТВЕННЫЕ И ПЕЧАЛЬНЫЕ СЛОВА, НАЧЕРТАННЫЕ НА МЕМОРИАЛЬНОЙ СТЕНЕ ПИСКАРЁВСКОГО КЛАДБИЩА.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0" name="Picture 6" descr="пискаревское кладбище"/>
          <p:cNvPicPr/>
          <p:nvPr/>
        </p:nvPicPr>
        <p:blipFill>
          <a:blip r:embed="rId1">
            <a:grayscl/>
          </a:blip>
          <a:stretch/>
        </p:blipFill>
        <p:spPr>
          <a:xfrm>
            <a:off x="685800" y="2590920"/>
            <a:ext cx="7848720" cy="4029120"/>
          </a:xfrm>
          <a:prstGeom prst="rect">
            <a:avLst/>
          </a:prstGeom>
          <a:ln w="28440">
            <a:solidFill>
              <a:srgbClr val="000066"/>
            </a:solidFill>
            <a:prstDash val="sysDot"/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2282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Х ИМЕН БЛАГОРОДНЫХ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ДЕСЬ ПЕРЕЧИСЛИТЬ НЕ МОЖЕМ,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ИХ МНОГО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ВЕЧНОЙ ОХРАНОЙ ГРАНИТА.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ЗНАЙ, ВНЕМЛЮЩИЙ ЭТИМ КАМНЯМ,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ЗАБЫТ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ИЧТО НЕ ЗАБЫТО”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2" name="Picture 3" descr="пискаревка 1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3740040"/>
            <a:ext cx="41148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-152280" y="111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Е МАЛОЕ, ЧТО МЫ МОЖЕМ СДЕЛАТЬ –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СЕГДА ПОМНИТЬ ПОГИБШИХ ЗА СВОЮ СТРАНУ, ЗА РОДНОЙ ГОРОД ЛЕНИНГРАД.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4" name="Picture 3" descr="19b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2286000"/>
            <a:ext cx="4136760" cy="301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Blockade2.jpg"/>
          <p:cNvPicPr/>
          <p:nvPr/>
        </p:nvPicPr>
        <p:blipFill>
          <a:blip r:embed="rId2">
            <a:grayscl/>
          </a:blip>
          <a:stretch/>
        </p:blipFill>
        <p:spPr>
          <a:xfrm>
            <a:off x="4551480" y="3581280"/>
            <a:ext cx="416556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9"/>
          <p:cNvGrpSpPr/>
          <p:nvPr/>
        </p:nvGrpSpPr>
        <p:grpSpPr>
          <a:xfrm>
            <a:off x="4876920" y="304920"/>
            <a:ext cx="3657600" cy="5654520"/>
            <a:chOff x="4876920" y="304920"/>
            <a:chExt cx="3657600" cy="5654520"/>
          </a:xfrm>
        </p:grpSpPr>
        <p:pic>
          <p:nvPicPr>
            <p:cNvPr id="165" name="Picture 10" descr="1404"/>
            <p:cNvPicPr/>
            <p:nvPr/>
          </p:nvPicPr>
          <p:blipFill>
            <a:blip r:embed="rId1"/>
            <a:stretch/>
          </p:blipFill>
          <p:spPr>
            <a:xfrm>
              <a:off x="4876920" y="304920"/>
              <a:ext cx="36576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1"/>
            <p:cNvSpPr/>
            <p:nvPr/>
          </p:nvSpPr>
          <p:spPr>
            <a:xfrm>
              <a:off x="4876920" y="5562720"/>
              <a:ext cx="3657600" cy="396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-200160" y="685440"/>
            <a:ext cx="508176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ИЮНЯ 1941 ГОДА НАЧАЛАСЬ ВЕЛИКАЯ ОТЕЧЕСТВЕННАЯ ВОЙНА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10 ИЮНЯ 1941 Г. НЕМЕЦКИЕ ВОЙСКА ПОДОШЛИ К  ЛЕНИНГРАДУ                    НА РАССТОЯНИЕ 180-200 КМ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8" name="Содержимое 9" descr="03.jpg"/>
          <p:cNvPicPr/>
          <p:nvPr/>
        </p:nvPicPr>
        <p:blipFill>
          <a:blip r:embed="rId2">
            <a:grayscl/>
          </a:blip>
          <a:stretch/>
        </p:blipFill>
        <p:spPr>
          <a:xfrm>
            <a:off x="4854600" y="4114800"/>
            <a:ext cx="392904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НАСТУПЛЕНИЯ НЕМЕЦКИХ ВОЙСК БЫЛ ЗАХВАЧЕН ГОРОД ШЛИССЕЛЬБУРГ, РАСПОЛОЖЕННЫЙ У ИСТОКОВ НЕВЫ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3276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>
            <a:grayscl/>
            <a:lum bright="12000"/>
          </a:blip>
          <a:stretch/>
        </p:blipFill>
        <p:spPr>
          <a:xfrm>
            <a:off x="4114800" y="3095640"/>
            <a:ext cx="46483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304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СЕНТЯБРЯ 1941 Г. НАЧАЛАСЬ БЛОКАДА ЛЕНИНГРАДА, КОТОРАЯ ПРОДОЛЖИЛАСЬ ДОЛГИЕ 900 ДНЕЙ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3" name="Picture 4" descr="Советский плокат"/>
          <p:cNvPicPr/>
          <p:nvPr/>
        </p:nvPicPr>
        <p:blipFill>
          <a:blip r:embed="rId1">
            <a:grayscl/>
          </a:blip>
          <a:stretch/>
        </p:blipFill>
        <p:spPr>
          <a:xfrm>
            <a:off x="1335240" y="1981080"/>
            <a:ext cx="5711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358128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48320" y="3670200"/>
            <a:ext cx="4047840" cy="2394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22320" y="0"/>
            <a:ext cx="845820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омент начала блокады                                     в Ленинграде находились                                      2 миллиона 544 тысячи человек,                           в том числе около 400 тысяч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вакуацию осуществить не успели: начались бомбардировки и обстрелы, город оказался в кольце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81240" y="533520"/>
            <a:ext cx="464796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НТЯБРЕ 1941 Г. ПРЕКРАТИЛОСЬ ПОСТУПЛЕНИЕ В ГОРОД ПРОДОВОЛЬСТВИЯ, ГОРЮЧЕГО И МЕДИКАМЕНТОВ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И ВВЕДЕНЫ ПРОДОВОЛЬСТВЕННЫЕ КАРТОЧКИ. ЗАКРЫВАЛИСЬ ПУНКТЫ ОБЩЕСТВЕННОГО ПИТАНИЯ. ЛЮДИ СТАЛИ ИСПЫТЫВАТЬ ГОЛОД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8" name="Picture 8" descr="Хлебная карточка блокадника"/>
          <p:cNvPicPr/>
          <p:nvPr/>
        </p:nvPicPr>
        <p:blipFill>
          <a:blip r:embed="rId1"/>
          <a:stretch/>
        </p:blipFill>
        <p:spPr>
          <a:xfrm>
            <a:off x="4191120" y="228600"/>
            <a:ext cx="3019320" cy="449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329_1211580479"/>
          <p:cNvPicPr/>
          <p:nvPr/>
        </p:nvPicPr>
        <p:blipFill>
          <a:blip r:embed="rId2">
            <a:grayscl/>
          </a:blip>
          <a:stretch/>
        </p:blipFill>
        <p:spPr>
          <a:xfrm>
            <a:off x="6019920" y="2514600"/>
            <a:ext cx="28843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7979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 ГОРОДЕ НЕ БЫЛО НИ ТОПЛИВА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И ЭЛЕКТРИЧЕСТВА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81" name="Содержимое 4" descr="tmp11B-135.jpg"/>
          <p:cNvPicPr/>
          <p:nvPr/>
        </p:nvPicPr>
        <p:blipFill>
          <a:blip r:embed="rId1"/>
          <a:stretch/>
        </p:blipFill>
        <p:spPr>
          <a:xfrm>
            <a:off x="304920" y="1992240"/>
            <a:ext cx="5699160" cy="34704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080530c90ca19093ee937198dafde5ea.jpg"/>
          <p:cNvPicPr/>
          <p:nvPr/>
        </p:nvPicPr>
        <p:blipFill>
          <a:blip r:embed="rId2"/>
          <a:stretch/>
        </p:blipFill>
        <p:spPr>
          <a:xfrm>
            <a:off x="4648320" y="3276720"/>
            <a:ext cx="4128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4" descr="Рисунок9.jpg"/>
          <p:cNvPicPr/>
          <p:nvPr/>
        </p:nvPicPr>
        <p:blipFill>
          <a:blip r:embed="rId1"/>
          <a:stretch/>
        </p:blipFill>
        <p:spPr>
          <a:xfrm>
            <a:off x="228600" y="182880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5" descr="tarasevi4.jpg"/>
          <p:cNvPicPr/>
          <p:nvPr/>
        </p:nvPicPr>
        <p:blipFill>
          <a:blip r:embed="rId2"/>
          <a:stretch/>
        </p:blipFill>
        <p:spPr>
          <a:xfrm>
            <a:off x="7024680" y="1214280"/>
            <a:ext cx="2119320" cy="2500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2E5D5C468438A754E7B52146687DD863.jpg"/>
          <p:cNvPicPr/>
          <p:nvPr/>
        </p:nvPicPr>
        <p:blipFill>
          <a:blip r:embed="rId3"/>
          <a:stretch/>
        </p:blipFill>
        <p:spPr>
          <a:xfrm>
            <a:off x="6215040" y="4214880"/>
            <a:ext cx="2347920" cy="2428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457200" y="274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ел из строя водопровод                  и воду приходилось набирать прямо из Не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5" descr="11264.jpg"/>
          <p:cNvPicPr/>
          <p:nvPr/>
        </p:nvPicPr>
        <p:blipFill>
          <a:blip r:embed="rId1"/>
          <a:stretch/>
        </p:blipFill>
        <p:spPr>
          <a:xfrm>
            <a:off x="0" y="2714760"/>
            <a:ext cx="5367240" cy="40258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d2af73e6a108.jpg"/>
          <p:cNvPicPr/>
          <p:nvPr/>
        </p:nvPicPr>
        <p:blipFill>
          <a:blip r:embed="rId2"/>
          <a:stretch/>
        </p:blipFill>
        <p:spPr>
          <a:xfrm>
            <a:off x="4267080" y="1523880"/>
            <a:ext cx="4707000" cy="3243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шисты постоянно атаковали город артобстре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bis</dc:creator>
  <dc:description/>
  <dc:language>en-US</dc:language>
  <cp:lastModifiedBy>irbis</cp:lastModifiedBy>
  <dcterms:modified xsi:type="dcterms:W3CDTF">2019-03-24T12:3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