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9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34A0-EAF6-4B73-8597-E6F47DDFF2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BE02-7DF8-4F84-BB68-71C0F1D63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B4DD-44D5-4755-8BAE-5AF7D8297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101-6C63-4192-BD4C-77C50E5E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ECD-C595-4614-9D61-A91CBD26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95A-3A96-4539-98A2-24033C45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A10-6816-4A6F-B1BD-B997ADF6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6774-73BA-4B43-84E2-1E7A9A3C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0448-201E-4616-A213-26D576DF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379B-4228-408F-BF0D-8EA37E30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1BA6-C82C-4984-B102-E27EA6BE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02AE-5D6E-40F2-AAA3-A6F4205E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3224-BDA2-49CF-A552-54833EA9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5F4E-E25E-447E-8A8A-D6ABC91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4A0-3E27-46F1-BD28-67D55182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4A5A-828F-4BF7-9485-A3233833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0D26-7CCC-4E5E-B10A-7B8E55A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6505-751B-4C86-A2F7-A970BADF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3D3F-2193-4031-A088-F2364251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79A3-7611-4B65-BC6F-9E4D8DBE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67CD-99E8-4C84-AF5E-D1F56F8F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7A05-06FD-4987-AF30-A4592CA3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E3CDA-170D-4CFE-B7B7-FA76E8E8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92D6-7D3D-427C-86EA-1321FB44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18AB-0F59-4DFC-A690-1A9C9D7F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688-159D-48A9-8A30-2191CF88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B0C7-D5A6-485F-BD51-8CB516EA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D8E9-C447-435C-AA6B-FE1D2394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8E8A-4398-43D3-B524-1A62DFB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3394-7EB1-448B-B87A-247276AF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EAFF9-FA87-489E-8208-27FD124A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8DDE-F275-42F6-ABF9-DC99CA64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F88A-674A-431F-883E-C64E8453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D4B-58D2-4B68-94DF-B5D56BE0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8A3-AA59-482B-8C24-6EDE1C13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29F-45EA-4131-A25B-BE2F71F1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3EE-0044-4F3F-AE37-BC7866D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C06-0F5B-4A4F-BDEA-38A121A7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164-19E2-4E82-8A21-6D76D69E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2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3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6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D52A-B1EB-4B5C-93F9-DA0F306E4CCE}" type="slidenum">
              <a:rPr b="0" lang="ru-RU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12"/>
          <p:cNvGrpSpPr/>
          <p:nvPr/>
        </p:nvGrpSpPr>
        <p:grpSpPr>
          <a:xfrm>
            <a:off x="-85680" y="-49320"/>
            <a:ext cx="8955000" cy="6662880"/>
            <a:chOff x="-85680" y="-49320"/>
            <a:chExt cx="8955000" cy="6662880"/>
          </a:xfrm>
        </p:grpSpPr>
        <p:pic>
          <p:nvPicPr>
            <p:cNvPr id="52" name="Freeform 12" descr=""/>
            <p:cNvPicPr/>
            <p:nvPr/>
          </p:nvPicPr>
          <p:blipFill>
            <a:blip r:embed="rId4"/>
            <a:stretch/>
          </p:blipFill>
          <p:spPr>
            <a:xfrm>
              <a:off x="-85680" y="-49320"/>
              <a:ext cx="8955000" cy="66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7920" y="-17640"/>
              <a:ext cx="875340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Freeform 22"/>
          <p:cNvGrpSpPr/>
          <p:nvPr/>
        </p:nvGrpSpPr>
        <p:grpSpPr>
          <a:xfrm>
            <a:off x="-12600" y="4443480"/>
            <a:ext cx="8467560" cy="1719360"/>
            <a:chOff x="-12600" y="4443480"/>
            <a:chExt cx="8467560" cy="1719360"/>
          </a:xfrm>
        </p:grpSpPr>
        <p:pic>
          <p:nvPicPr>
            <p:cNvPr id="55" name="Freeform 22" descr=""/>
            <p:cNvPicPr/>
            <p:nvPr/>
          </p:nvPicPr>
          <p:blipFill>
            <a:blip r:embed="rId5"/>
            <a:stretch/>
          </p:blipFill>
          <p:spPr>
            <a:xfrm>
              <a:off x="-12600" y="4443480"/>
              <a:ext cx="8467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-11160" y="4444920"/>
              <a:ext cx="846612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Freeform 28"/>
          <p:cNvGrpSpPr/>
          <p:nvPr/>
        </p:nvGrpSpPr>
        <p:grpSpPr>
          <a:xfrm>
            <a:off x="0" y="0"/>
            <a:ext cx="5810040" cy="324000"/>
            <a:chOff x="0" y="0"/>
            <a:chExt cx="5810040" cy="324000"/>
          </a:xfrm>
        </p:grpSpPr>
        <p:pic>
          <p:nvPicPr>
            <p:cNvPr id="58" name="Freeform 28" descr=""/>
            <p:cNvPicPr/>
            <p:nvPr/>
          </p:nvPicPr>
          <p:blipFill>
            <a:blip r:embed="rId6"/>
            <a:stretch/>
          </p:blipFill>
          <p:spPr>
            <a:xfrm>
              <a:off x="2880" y="0"/>
              <a:ext cx="58071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5808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Freeform 29"/>
          <p:cNvSpPr/>
          <p:nvPr/>
        </p:nvSpPr>
        <p:spPr>
          <a:xfrm rot="21420000">
            <a:off x="-171360" y="212400"/>
            <a:ext cx="8480160" cy="5746680"/>
          </a:xfrm>
          <a:custGeom>
            <a:avLst/>
            <a:gdLst/>
            <a:ahLst/>
            <a:rect l="l" t="t" r="r" b="b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-Point Star 32"/>
          <p:cNvSpPr/>
          <p:nvPr/>
        </p:nvSpPr>
        <p:spPr>
          <a:xfrm rot="21420000">
            <a:off x="3122640" y="5057280"/>
            <a:ext cx="51444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72322" y="161524"/>
                </a:lnTo>
                <a:lnTo>
                  <a:pt x="257175" y="0"/>
                </a:lnTo>
                <a:lnTo>
                  <a:pt x="342028" y="161524"/>
                </a:lnTo>
                <a:lnTo>
                  <a:pt x="514349" y="196464"/>
                </a:lnTo>
                <a:lnTo>
                  <a:pt x="394470" y="331231"/>
                </a:lnTo>
                <a:lnTo>
                  <a:pt x="416118" y="514349"/>
                </a:lnTo>
                <a:lnTo>
                  <a:pt x="257175" y="436115"/>
                </a:lnTo>
                <a:lnTo>
                  <a:pt x="98232" y="514349"/>
                </a:lnTo>
                <a:lnTo>
                  <a:pt x="119880" y="331231"/>
                </a:lnTo>
                <a:lnTo>
                  <a:pt x="1" y="196464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 rot="21420000">
            <a:off x="3668040" y="4714560"/>
            <a:ext cx="4608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 rot="21420000">
            <a:off x="-12600" y="4954320"/>
            <a:ext cx="29876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 rot="21420000">
            <a:off x="7400520" y="3819240"/>
            <a:ext cx="681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42FD-6850-4C6A-9792-010536555F90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0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0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0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13"/>
          <p:cNvSpPr/>
          <p:nvPr/>
        </p:nvSpPr>
        <p:spPr>
          <a:xfrm>
            <a:off x="404640" y="88740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7897680" y="2906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CBD2-4C0E-41C7-B089-081BD87EC04E}" type="slidenum">
              <a:rPr b="0" lang="ru-RU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Impact"/>
              </a:rPr>
              <a:t>8 </a:t>
            </a:r>
            <a:r>
              <a:rPr b="0" lang="ru-RU" sz="6600" spc="-1" strike="noStrike">
                <a:solidFill>
                  <a:srgbClr val="002060"/>
                </a:solidFill>
                <a:latin typeface="Impact"/>
              </a:rPr>
              <a:t>СЕНТЯБРЯ 1941 ГОДА</a:t>
            </a:r>
            <a:endParaRPr b="0" lang="en-US" sz="6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2060"/>
                </a:solidFill>
                <a:latin typeface="Impact"/>
              </a:rPr>
              <a:t>НАЧАЛО БЛОКАДЫ ЛЕНИНГРАДА</a:t>
            </a:r>
            <a:endParaRPr b="0" lang="en-US" sz="51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6" descr="Рисунок12.jpg"/>
          <p:cNvPicPr/>
          <p:nvPr/>
        </p:nvPicPr>
        <p:blipFill>
          <a:blip r:embed="rId1"/>
          <a:stretch/>
        </p:blipFill>
        <p:spPr>
          <a:xfrm>
            <a:off x="228600" y="1609560"/>
            <a:ext cx="7010280" cy="4791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cap057.jpg"/>
          <p:cNvPicPr/>
          <p:nvPr/>
        </p:nvPicPr>
        <p:blipFill>
          <a:blip r:embed="rId2"/>
          <a:stretch/>
        </p:blipFill>
        <p:spPr>
          <a:xfrm>
            <a:off x="5562720" y="1828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-за голода и болезней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городу ходила см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2438280" y="228600"/>
            <a:ext cx="6400800" cy="299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оябре 1941 г. Гитлер заявил: «Ленинград сам поднимет руки: он неминуемо падет, раньше или позже. Никто оттуда не освободится, никто не прорвется через наши линии. Ленинграду суждено умереть голодной смертью». Однако этого не произош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знь продолжалась в осажденном Ленинграде. Заводы работали на полную мощность, выпуская военную продукцию. Работали кинотеатры, создавались произведения музыки и литературы. Рождались  дет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i[31]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228600"/>
            <a:ext cx="2055960" cy="2666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сканирование0012"/>
          <p:cNvPicPr/>
          <p:nvPr/>
        </p:nvPicPr>
        <p:blipFill>
          <a:blip r:embed="rId2">
            <a:grayscl/>
          </a:blip>
          <a:stretch/>
        </p:blipFill>
        <p:spPr>
          <a:xfrm>
            <a:off x="304920" y="3429000"/>
            <a:ext cx="4114800" cy="2978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Год рождения - 1942"/>
          <p:cNvPicPr/>
          <p:nvPr/>
        </p:nvPicPr>
        <p:blipFill>
          <a:blip r:embed="rId3">
            <a:grayscl/>
          </a:blip>
          <a:stretch/>
        </p:blipFill>
        <p:spPr>
          <a:xfrm>
            <a:off x="4648320" y="34290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ИНГРАДЦЫ ДЕРЖАЛИСЬ                          НЕСМОТРЯ НИ НА ЧТО И ВЫСТОЯЛИ 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ЭТОЙ БОРЬБЕ. И ДЛЯ ВСЕХ ВЫЖИВШИХ                   27 ЯНВАРЯ 1944 ГОДА ПРОГРЕМЕЛ               ПРАЗДНИЧНЫЙ САЛЮТ</a:t>
            </a:r>
            <a:endParaRPr b="0" lang="en-US" sz="29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198" name="Picture 1" descr="p220.jpg"/>
          <p:cNvPicPr/>
          <p:nvPr/>
        </p:nvPicPr>
        <p:blipFill>
          <a:blip r:embed="rId1"/>
          <a:stretch/>
        </p:blipFill>
        <p:spPr>
          <a:xfrm>
            <a:off x="1600200" y="228600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-360" y="30456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ШНЫМ БЫЛ ИТОГ БЛОКАДЫ. 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900 ДНЕЙ ПОГИБЛО 800 ТЫСЯЧ ЧЕЛОВЕК. 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ИМ ПОСВЯЩЕНЫ ТОРЖЕСТВЕННЫЕ И ПЕЧАЛЬНЫЕ СЛОВА, НАЧЕРТАННЫЕ НА МЕМОРИАЛЬНОЙ СТЕНЕ ПИСКАРЁВСКОГО КЛАДБИЩА.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0" name="Picture 6" descr="пискаревское кладбище"/>
          <p:cNvPicPr/>
          <p:nvPr/>
        </p:nvPicPr>
        <p:blipFill>
          <a:blip r:embed="rId1">
            <a:grayscl/>
          </a:blip>
          <a:stretch/>
        </p:blipFill>
        <p:spPr>
          <a:xfrm>
            <a:off x="685800" y="2590920"/>
            <a:ext cx="7848720" cy="4029120"/>
          </a:xfrm>
          <a:prstGeom prst="rect">
            <a:avLst/>
          </a:prstGeom>
          <a:ln w="28440">
            <a:solidFill>
              <a:srgbClr val="000066"/>
            </a:solidFill>
            <a:prstDash val="sysDot"/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2282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Х ИМЕН БЛАГОРОДНЫХ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ЗДЕСЬ ПЕРЕЧИСЛИТЬ НЕ МОЖЕМ,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 ИХ МНОГО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ВЕЧНОЙ ОХРАНОЙ ГРАНИТА.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ЗНАЙ, ВНЕМЛЮЩИЙ ЭТИМ КАМНЯМ,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ТО НЕ ЗАБЫТ 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6080" indent="-226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ИЧТО НЕ ЗАБЫТО”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2" name="Picture 3" descr="пискаревка 1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3740040"/>
            <a:ext cx="411480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-152280" y="1116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Е МАЛОЕ, ЧТО МЫ МОЖЕМ СДЕЛАТЬ –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ВСЕГДА ПОМНИТЬ ПОГИБШИХ ЗА СВОЮ СТРАНУ, ЗА РОДНОЙ ГОРОД ЛЕНИНГРАД.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4" name="Picture 3" descr="19b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2286000"/>
            <a:ext cx="4136760" cy="301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" descr="Blockade2.jpg"/>
          <p:cNvPicPr/>
          <p:nvPr/>
        </p:nvPicPr>
        <p:blipFill>
          <a:blip r:embed="rId2">
            <a:grayscl/>
          </a:blip>
          <a:stretch/>
        </p:blipFill>
        <p:spPr>
          <a:xfrm>
            <a:off x="4551480" y="3581280"/>
            <a:ext cx="4165560" cy="30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9"/>
          <p:cNvGrpSpPr/>
          <p:nvPr/>
        </p:nvGrpSpPr>
        <p:grpSpPr>
          <a:xfrm>
            <a:off x="4876920" y="304920"/>
            <a:ext cx="3657600" cy="5654520"/>
            <a:chOff x="4876920" y="304920"/>
            <a:chExt cx="3657600" cy="5654520"/>
          </a:xfrm>
        </p:grpSpPr>
        <p:pic>
          <p:nvPicPr>
            <p:cNvPr id="165" name="Picture 10" descr="1404"/>
            <p:cNvPicPr/>
            <p:nvPr/>
          </p:nvPicPr>
          <p:blipFill>
            <a:blip r:embed="rId1"/>
            <a:stretch/>
          </p:blipFill>
          <p:spPr>
            <a:xfrm>
              <a:off x="4876920" y="304920"/>
              <a:ext cx="365760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1"/>
            <p:cNvSpPr/>
            <p:nvPr/>
          </p:nvSpPr>
          <p:spPr>
            <a:xfrm>
              <a:off x="4876920" y="5562720"/>
              <a:ext cx="3657600" cy="396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-200160" y="685440"/>
            <a:ext cx="508176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2 ИЮНЯ 1941 ГОДА НАЧАЛАСЬ ВЕЛИКАЯ ОТЕЧЕСТВЕННАЯ ВОЙНА.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10 ИЮНЯ 1941 Г. НЕМЕЦКИЕ ВОЙСКА ПОДОШЛИ К  ЛЕНИНГРАДУ                    НА РАССТОЯНИЕ 180-200 КМ.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8" name="Содержимое 9" descr="03.jpg"/>
          <p:cNvPicPr/>
          <p:nvPr/>
        </p:nvPicPr>
        <p:blipFill>
          <a:blip r:embed="rId2">
            <a:grayscl/>
          </a:blip>
          <a:stretch/>
        </p:blipFill>
        <p:spPr>
          <a:xfrm>
            <a:off x="4854600" y="4114800"/>
            <a:ext cx="392904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4920" y="4568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ЗУЛЬТАТЕ НАСТУПЛЕНИЯ НЕМЕЦКИХ ВОЙСК БЫЛ ЗАХВАЧЕН ГОРОД ШЛИССЕЛЬБУРГ, РАСПОЛОЖЕННЫЙ У ИСТОКОВ НЕВЫ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32767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>
            <a:grayscl/>
            <a:lum bright="12000"/>
          </a:blip>
          <a:stretch/>
        </p:blipFill>
        <p:spPr>
          <a:xfrm>
            <a:off x="4114800" y="3095640"/>
            <a:ext cx="464832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3049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СЕНТЯБРЯ 1941 Г. НАЧАЛАСЬ БЛОКАДА ЛЕНИНГРАДА, КОТОРАЯ ПРОДОЛЖИЛАСЬ ДОЛГИЕ 900 ДНЕЙ.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3" name="Picture 4" descr="Советский плокат"/>
          <p:cNvPicPr/>
          <p:nvPr/>
        </p:nvPicPr>
        <p:blipFill>
          <a:blip r:embed="rId1">
            <a:grayscl/>
          </a:blip>
          <a:stretch/>
        </p:blipFill>
        <p:spPr>
          <a:xfrm>
            <a:off x="1335240" y="1981080"/>
            <a:ext cx="57117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04920" y="3581280"/>
            <a:ext cx="4267080" cy="2571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48320" y="3670200"/>
            <a:ext cx="4047840" cy="2394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22320" y="0"/>
            <a:ext cx="845820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момент начала блокады                                     в Ленинграде находились                                      2 миллиона 544 тысячи человек,                           в том числе около 400 тысяч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вакуацию осуществить не успели: начались бомбардировки и обстрелы, город оказался в кольце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81240" y="533520"/>
            <a:ext cx="464796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ЕНТЯБРЕ 1941 Г. ПРЕКРАТИЛОСЬ ПОСТУПЛЕНИЕ В ГОРОД ПРОДОВОЛЬСТВИЯ, ГОРЮЧЕГО И МЕДИКАМЕНТОВ. </a:t>
            </a: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И ВВЕДЕНЫ ПРОДОВОЛЬСТВЕННЫЕ КАРТОЧКИ. ЗАКРЫВАЛИСЬ ПУНКТЫ ОБЩЕСТВЕННОГО ПИТАНИЯ. ЛЮДИ СТАЛИ ИСПЫТЫВАТЬ ГОЛОД. </a:t>
            </a: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78" name="Picture 8" descr="Хлебная карточка блокадника"/>
          <p:cNvPicPr/>
          <p:nvPr/>
        </p:nvPicPr>
        <p:blipFill>
          <a:blip r:embed="rId1"/>
          <a:stretch/>
        </p:blipFill>
        <p:spPr>
          <a:xfrm>
            <a:off x="4191120" y="228600"/>
            <a:ext cx="3019320" cy="449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329_1211580479"/>
          <p:cNvPicPr/>
          <p:nvPr/>
        </p:nvPicPr>
        <p:blipFill>
          <a:blip r:embed="rId2">
            <a:grayscl/>
          </a:blip>
          <a:stretch/>
        </p:blipFill>
        <p:spPr>
          <a:xfrm>
            <a:off x="6019920" y="2514600"/>
            <a:ext cx="28843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7979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 ГОРОДЕ НЕ БЫЛО НИ ТОПЛИВА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НИ ЭЛЕКТРИЧЕСТВА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181" name="Содержимое 4" descr="tmp11B-135.jpg"/>
          <p:cNvPicPr/>
          <p:nvPr/>
        </p:nvPicPr>
        <p:blipFill>
          <a:blip r:embed="rId1"/>
          <a:stretch/>
        </p:blipFill>
        <p:spPr>
          <a:xfrm>
            <a:off x="304920" y="1992240"/>
            <a:ext cx="5699160" cy="34704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080530c90ca19093ee937198dafde5ea.jpg"/>
          <p:cNvPicPr/>
          <p:nvPr/>
        </p:nvPicPr>
        <p:blipFill>
          <a:blip r:embed="rId2"/>
          <a:stretch/>
        </p:blipFill>
        <p:spPr>
          <a:xfrm>
            <a:off x="4648320" y="3276720"/>
            <a:ext cx="41288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4" descr="Рисунок9.jpg"/>
          <p:cNvPicPr/>
          <p:nvPr/>
        </p:nvPicPr>
        <p:blipFill>
          <a:blip r:embed="rId1"/>
          <a:stretch/>
        </p:blipFill>
        <p:spPr>
          <a:xfrm>
            <a:off x="228600" y="1828800"/>
            <a:ext cx="6400800" cy="419112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5" descr="tarasevi4.jpg"/>
          <p:cNvPicPr/>
          <p:nvPr/>
        </p:nvPicPr>
        <p:blipFill>
          <a:blip r:embed="rId2"/>
          <a:stretch/>
        </p:blipFill>
        <p:spPr>
          <a:xfrm>
            <a:off x="7024680" y="1214280"/>
            <a:ext cx="2119320" cy="25005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" descr="2E5D5C468438A754E7B52146687DD863.jpg"/>
          <p:cNvPicPr/>
          <p:nvPr/>
        </p:nvPicPr>
        <p:blipFill>
          <a:blip r:embed="rId3"/>
          <a:stretch/>
        </p:blipFill>
        <p:spPr>
          <a:xfrm>
            <a:off x="6215040" y="4214880"/>
            <a:ext cx="2347920" cy="2428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457200" y="2746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шел из строя водопровод                  и воду приходилось набирать прямо из Не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5" descr="11264.jpg"/>
          <p:cNvPicPr/>
          <p:nvPr/>
        </p:nvPicPr>
        <p:blipFill>
          <a:blip r:embed="rId1"/>
          <a:stretch/>
        </p:blipFill>
        <p:spPr>
          <a:xfrm>
            <a:off x="0" y="2714760"/>
            <a:ext cx="5367240" cy="40258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6" descr="d2af73e6a108.jpg"/>
          <p:cNvPicPr/>
          <p:nvPr/>
        </p:nvPicPr>
        <p:blipFill>
          <a:blip r:embed="rId2"/>
          <a:stretch/>
        </p:blipFill>
        <p:spPr>
          <a:xfrm>
            <a:off x="4267080" y="1523880"/>
            <a:ext cx="4707000" cy="3243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ашисты постоянно атаковали город артобстре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bis</dc:creator>
  <dc:description/>
  <dc:language>en-US</dc:language>
  <cp:lastModifiedBy>irbis</cp:lastModifiedBy>
  <dcterms:modified xsi:type="dcterms:W3CDTF">2019-03-24T12:38:4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