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6.png" ContentType="image/png"/>
  <Override PartName="/ppt/media/image14.jpeg" ContentType="image/jpeg"/>
  <Override PartName="/ppt/media/image1.jpeg" ContentType="image/jpeg"/>
  <Override PartName="/ppt/media/image2.jpeg" ContentType="image/jpeg"/>
  <Override PartName="/ppt/media/image5.jpeg" ContentType="image/jpeg"/>
  <Override PartName="/ppt/media/image8.jpeg" ContentType="image/jpeg"/>
  <Override PartName="/ppt/media/image10.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7.jpeg" ContentType="image/jpeg"/>
  <Override PartName="/ppt/media/image13.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DDB5F8-0902-4343-BE6E-E7E3BDC679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A2713-D144-4211-B17F-149F1C76F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7E41C7-744A-4592-ADFB-E7B84557A3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7CC817-C755-46EA-9DBD-ADE9E3262F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056272-1F08-402F-843E-A3859B7D23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3CDDFB-CE95-410F-AC94-BA3E62B454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2C4F76-DBAE-4746-B6C9-F28A7374C3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61B99E-F4DB-415E-9876-E2F3B65B27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95B489-71A4-47C3-9805-E8CAD55587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E66699-D4F6-4E48-AAFD-0A1D413146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7ABD06-6BFB-4B6B-B3FA-71F4A130BB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3DF2B-0357-4189-8A8A-3A9588FB4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A631A-DBBB-4A37-AF4E-9AA3AF48D6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24D1EE-0646-4608-B148-D4AAA9639E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85CEBC-D078-44A5-B60E-2FE769E439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C7A9E5-1EBC-4395-9EB3-70FFD0E196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23011F-593B-4AE1-B0E5-E354183C29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DB5AE-64DF-4310-A734-A2BDD3A23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DDD3C-4960-4F0A-A1A9-EB0A65C10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3F0B5-E06B-49A4-91A0-CD35EF493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93BF5-4F20-4E7A-B280-8BABA0FB5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10F71-C3C7-4543-A064-CB7D10144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62893-1FCE-4ED5-8084-717CD8C14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C1F94-90DE-4778-A4AA-9D5A0FE99D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59FDC9-7C58-4316-AB1C-208FB371F19F}"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4"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55ADEF-8B8D-488E-A639-07E8660039EE}"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66560"/>
            <a:ext cx="7772400" cy="12430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400" spc="-1" strike="noStrike">
                <a:solidFill>
                  <a:srgbClr val="000000"/>
                </a:solidFill>
                <a:latin typeface="Domkrat"/>
              </a:rPr>
              <a:t>Блокадный Ленинград в 1943 году </a:t>
            </a:r>
            <a:endParaRPr b="0" lang="en-US" sz="5400" spc="-1" strike="noStrike">
              <a:solidFill>
                <a:srgbClr val="000000"/>
              </a:solidFill>
              <a:latin typeface="Calibri Light"/>
            </a:endParaRPr>
          </a:p>
        </p:txBody>
      </p:sp>
      <p:sp>
        <p:nvSpPr>
          <p:cNvPr id="83" name="PlaceHolder 2"/>
          <p:cNvSpPr>
            <a:spLocks noGrp="1"/>
          </p:cNvSpPr>
          <p:nvPr>
            <p:ph type="subTitle"/>
          </p:nvPr>
        </p:nvSpPr>
        <p:spPr>
          <a:xfrm>
            <a:off x="1143000" y="3601800"/>
            <a:ext cx="6858000" cy="16556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nfisa Grotesk"/>
              </a:rPr>
              <a:t>9 класс</a:t>
            </a:r>
            <a:endParaRPr b="0" lang="en-US" sz="2400" spc="-1" strike="noStrike">
              <a:solidFill>
                <a:srgbClr val="000000"/>
              </a:solidFill>
              <a:latin typeface="Calibri"/>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628200" y="379440"/>
            <a:ext cx="8091720" cy="61848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сле того как войска 67-й и 2-й ударной армии образовали общий фронт и закрепились на новых рубежах, было принято решение продолжить операцию и выйти на рубеж Мустолово – Михайловский (по реке Мойка), а затем захватить Кировскую железную дорогу. 20 января Жуков доложил Сталину план Мгинской операции, подготовленный совместно с Ворошиловым, Мерецковым и Говоровым. 20 января после артиллерийской подготовки армии пошли в наступление. Армия была должна захватить Мустолово и обойти Синявино с запада. 142-я бригада морской пехоты, 123-я стрелковая бригада наступали на Синявино. 123-я стрелковая дивизия, 102-я стрелковая, 220-я танковая бригады имели задачу сломить сопротивление противника в районе 1-го и 2-го Городков и выйти к Арбузово. Но советские войска встретили мощное сопротивление и не смогли решить поставленные задачи. Успехи были незначительными. Комфронта Говоров решил продолжить атаки и выделили из резерва фронта 4 стрелковые дивизии, 2 стрелковые и 1 танковая бригады. 25 января войска снова пошли в наступление, но, несмотря на ввод в сражение подкреплений, прорвать немецкую оборону не удалось. Упорные бои продолжались до конца января, но 67-я армия так и не смогла сломить немецкие порядки.</a:t>
            </a:r>
            <a:br>
              <a:rPr sz="2000"/>
            </a:br>
            <a:endParaRPr b="0" lang="en-US" sz="2000" spc="-1" strike="noStrike">
              <a:solidFill>
                <a:srgbClr val="000000"/>
              </a:solidFill>
              <a:latin typeface="Calibri"/>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245880" y="0"/>
            <a:ext cx="8692920" cy="271944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К концу месяца стало ясно, что наступление провалилось и реализовать план освобождения Невы и Кировской железной дороги пока не выходит. План нуждался в сильной корректировке, позиции немцев на линии: 1-го и 2-го Городков – Синявино – Гайтолово, оказались слишком сильными. Чтобы исключить возможные попытки врага восстановить блокаду, войска 67-й и 2-й ударной армий 30 января перешли к обороне на рубеже севернее и восточнее 2-го Городка, южнее Рабочего Посёлка № 6 и севернее Синявино, западнее Гонтовой Липки и восточнее Гайтолово. Войска 67-й армии продолжали удерживать небольшой плацдарм на левом берегу Невы в районе Московской Дубровки. Советское командование начинает готовить новую операцию, которую проведут в феврале 1943 года.</a:t>
            </a:r>
            <a:endParaRPr b="0" lang="en-US" sz="1600" spc="-1" strike="noStrike">
              <a:solidFill>
                <a:srgbClr val="000000"/>
              </a:solidFill>
              <a:latin typeface="Calibri"/>
            </a:endParaRPr>
          </a:p>
        </p:txBody>
      </p:sp>
      <p:pic>
        <p:nvPicPr>
          <p:cNvPr id="100" name="Picture 2" descr="https://topwar.ru/uploads/posts/2018-01/thumbs/1516220008_1280px-proryv_blokady_sovinformburo.jpg"/>
          <p:cNvPicPr/>
          <p:nvPr/>
        </p:nvPicPr>
        <p:blipFill>
          <a:blip r:embed="rId1"/>
          <a:stretch/>
        </p:blipFill>
        <p:spPr>
          <a:xfrm>
            <a:off x="1992240" y="2031840"/>
            <a:ext cx="6319800" cy="4826160"/>
          </a:xfrm>
          <a:prstGeom prst="rect">
            <a:avLst/>
          </a:prstGeom>
          <a:ln w="0">
            <a:noFill/>
          </a:ln>
        </p:spPr>
      </p:pic>
      <p:sp>
        <p:nvSpPr>
          <p:cNvPr id="101" name="Прямоугольник 3"/>
          <p:cNvSpPr/>
          <p:nvPr/>
        </p:nvSpPr>
        <p:spPr>
          <a:xfrm>
            <a:off x="0" y="3105000"/>
            <a:ext cx="19922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alibri"/>
              </a:rPr>
              <a:t>Сообщение Совинформбюро о прорыве блокады Ленинграда</a:t>
            </a:r>
            <a:endParaRPr b="0" lang="en-US" sz="1800" spc="-1" strike="noStrike">
              <a:solidFill>
                <a:srgbClr val="000000"/>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614160" y="379080"/>
            <a:ext cx="788652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апреле — мае немецкое командование в ходе операции «Айсштосс» безуспешно попыталось уничтожить стоящие на Неве корабли Балтийского флота.</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 лету руководство нацистской Германии приняло решение активизировать боевые действия на Ленинградском фронте, и в первую очередь, усилить артиллерийские обстрелы и бомбардировки города.</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округ Ленинграда были развернуты новые артиллерийские батареи. Были, в частности, развернуты сверхтяжёлые орудия на железнодорожных платформах. Они били снарядами на расстояние 13, 22 и даже 28 км. Вес снарядов достигал 800—900 кг. Немцы составили схему города и наметили несколько тысяч самых важных целей, которые обстреливались ежедневно.</a:t>
            </a:r>
            <a:endParaRPr b="0" lang="en-US" sz="1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231480" y="159840"/>
            <a:ext cx="881676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Благодаря усилиям ленинградских трудящихся 1943 год стал годом ускорения темпов в работе промышленности. По Ленинграду производительность труда по сравнению с 1942 г. возросла на 60%. После прорыва блокады объем валовой продукции ленинградской промышленности стал быстро возрастать. Всего за 1943 г. заводы и фабрики Ленинграда произвели промышленной продукции на 2,5 млрд. руб. Общий прирост производства увеличился по сравнению с предыдущим годом на 84% С ноября вывоз оборудования с ленинградских заводов в тыловые районы был окончательно прекращен. К концу года в осажденном городе полностью или частично действовали уже 186 крупных промышленных предприятий.</a:t>
            </a:r>
            <a:r>
              <a:rPr b="0" lang="ru-RU" sz="1800" spc="-1" strike="noStrike" baseline="30000">
                <a:solidFill>
                  <a:srgbClr val="000000"/>
                </a:solidFill>
                <a:latin typeface="Calibri"/>
              </a:rPr>
              <a:t> </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течение всего 1943 г. ленинградцы, проявляя исключительную самоотверженность и непреклонную волю, упорно готовились к окончательному разгрому немецко-фашистских войск, осаждавших город Ленина. </a:t>
            </a:r>
            <a:br>
              <a:rPr sz="1800"/>
            </a:br>
            <a:endParaRPr b="0" lang="en-US" sz="1800" spc="-1" strike="noStrike">
              <a:solidFill>
                <a:srgbClr val="000000"/>
              </a:solidFill>
              <a:latin typeface="Calibri"/>
            </a:endParaRPr>
          </a:p>
        </p:txBody>
      </p:sp>
      <p:pic>
        <p:nvPicPr>
          <p:cNvPr id="104" name="Picture 2" descr="https://img.gazeta.ru/files3/28/11617028/upload-TASS_10624324-pic4_zoom-1500x1500-30568.jpg"/>
          <p:cNvPicPr/>
          <p:nvPr/>
        </p:nvPicPr>
        <p:blipFill>
          <a:blip r:embed="rId1"/>
          <a:stretch/>
        </p:blipFill>
        <p:spPr>
          <a:xfrm>
            <a:off x="1460520" y="3389400"/>
            <a:ext cx="6005520" cy="334944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96720" y="382680"/>
            <a:ext cx="7560000" cy="158256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Блокадное объявление — предупреждение сохраняется в наши дни на Невском пр., — уже как памятная доска.</a:t>
            </a:r>
            <a:endParaRPr b="0" lang="en-US" sz="1600" spc="-1" strike="noStrike">
              <a:solidFill>
                <a:srgbClr val="000000"/>
              </a:solidFill>
              <a:latin typeface="Calibri"/>
            </a:endParaRPr>
          </a:p>
        </p:txBody>
      </p:sp>
      <p:pic>
        <p:nvPicPr>
          <p:cNvPr id="106" name="Picture 2" descr="ÐÐ°ÑÑÐ¸Ð½ÐºÐ¸ Ð¿Ð¾ Ð·Ð°Ð¿ÑÐ¾ÑÑ Ð±Ð»Ð¾ÐºÐ°Ð´Ð½Ð¾Ðµ Ð¾Ð±ÑÑÐ²Ð»ÐµÐ½Ð¸Ðµ Ð² Ð¿Ð¸ÑÐµÑÐµ"/>
          <p:cNvPicPr/>
          <p:nvPr/>
        </p:nvPicPr>
        <p:blipFill>
          <a:blip r:embed="rId1"/>
          <a:stretch/>
        </p:blipFill>
        <p:spPr>
          <a:xfrm>
            <a:off x="368280" y="1222200"/>
            <a:ext cx="8066160" cy="540396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622840" y="287280"/>
            <a:ext cx="3151440" cy="14032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Light"/>
              </a:rPr>
              <a:t>Памятник посвящен тяжелейшей странице в истории Великой Отечественной войны, Блокаде Ленинграда</a:t>
            </a:r>
            <a:endParaRPr b="0" lang="en-US" sz="1800" spc="-1" strike="noStrike">
              <a:solidFill>
                <a:srgbClr val="000000"/>
              </a:solidFill>
              <a:latin typeface="Calibri Light"/>
            </a:endParaRPr>
          </a:p>
        </p:txBody>
      </p:sp>
      <p:sp>
        <p:nvSpPr>
          <p:cNvPr id="108" name="Прямоугольник 3"/>
          <p:cNvSpPr/>
          <p:nvPr/>
        </p:nvSpPr>
        <p:spPr>
          <a:xfrm>
            <a:off x="0" y="141120"/>
            <a:ext cx="457200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alibri"/>
              </a:rPr>
              <a:t>«Разорванное кольцо» — мемориал, входящий в Зеленый пояс Славы, то есть комплекс мемориальных сооружений на рубежах битвы за Ленинград. Его построили в 1965—1968 гг. по инициативе поэта Михаила Дудина, человека пережившего блокаду и посвятившего этим тяжелым, но героическим годам, множество поэтических строк. Одно из главных сооружений пояса Славы, мемориал «Разорванное кольцо», расположен на западном берегу Ладожского озера, на Вагановском спуске, откуда автоколонны брали курс к восточному берегу бухты Петрокрепость. Потом им надо было проделать опасный путь обратно, он составлял расстояние в 30 км.</a:t>
            </a:r>
            <a:endParaRPr b="0" lang="en-US" sz="1800" spc="-1" strike="noStrike">
              <a:solidFill>
                <a:srgbClr val="000000"/>
              </a:solidFill>
              <a:latin typeface="Calibri"/>
            </a:endParaRPr>
          </a:p>
        </p:txBody>
      </p:sp>
      <p:pic>
        <p:nvPicPr>
          <p:cNvPr id="109" name="Picture 2" descr="ÐÐµÐ»ÐµÐ½ÑÐ¹ Ð¿Ð¾ÑÑ Ð¡Ð»Ð°Ð²Ñ, Ð Ð°Ð·Ð¾ÑÐ²Ð°Ð½Ð½Ð¾Ðµ ÐºÐ¾Ð»ÑÑÐ¾"/>
          <p:cNvPicPr/>
          <p:nvPr/>
        </p:nvPicPr>
        <p:blipFill>
          <a:blip r:embed="rId1"/>
          <a:stretch/>
        </p:blipFill>
        <p:spPr>
          <a:xfrm>
            <a:off x="4524480" y="1938240"/>
            <a:ext cx="4619520" cy="4430880"/>
          </a:xfrm>
          <a:prstGeom prst="rect">
            <a:avLst/>
          </a:prstGeom>
          <a:ln w="0">
            <a:noFill/>
          </a:ln>
        </p:spPr>
      </p:pic>
      <p:sp>
        <p:nvSpPr>
          <p:cNvPr id="110" name="Прямоугольник 4"/>
          <p:cNvSpPr/>
          <p:nvPr/>
        </p:nvSpPr>
        <p:spPr>
          <a:xfrm>
            <a:off x="0" y="514656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alibri"/>
              </a:rPr>
              <a:t>Две железобетонные полуарки высотой 7 м, символизируют кольцо блокады, разрыв между ними — Дорогу жизни, на бетонном основании — следы от автомобильных шин, уходящие в сторону озера.</a:t>
            </a:r>
            <a:endParaRPr b="0" lang="en-US" sz="1800" spc="-1" strike="noStrike">
              <a:solidFill>
                <a:srgbClr val="000000"/>
              </a:solidFill>
              <a:latin typeface="Calibri"/>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pic>
        <p:nvPicPr>
          <p:cNvPr id="112" name="" descr=""/>
          <p:cNvPicPr/>
          <p:nvPr/>
        </p:nvPicPr>
        <p:blipFill>
          <a:blip r:embed="rId1"/>
          <a:stretch/>
        </p:blipFill>
        <p:spPr>
          <a:xfrm>
            <a:off x="628560" y="1825200"/>
            <a:ext cx="7886880" cy="4351320"/>
          </a:xfrm>
          <a:prstGeom prst="rect">
            <a:avLst/>
          </a:prstGeom>
          <a:ln w="0">
            <a:noFill/>
          </a:ln>
        </p:spPr>
      </p:pic>
      <p:pic>
        <p:nvPicPr>
          <p:cNvPr id="113" name="Picture 2" descr="http://player.myshared.ru/27/1293698/slides/slide_15.jpg"/>
          <p:cNvPicPr/>
          <p:nvPr/>
        </p:nvPicPr>
        <p:blipFill>
          <a:blip r:embed="rId2"/>
          <a:stretch/>
        </p:blipFill>
        <p:spPr>
          <a:xfrm>
            <a:off x="0" y="3240"/>
            <a:ext cx="9144000" cy="685800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БЛОКАДНЫЙ ЛЕНИНГРАД' (муз.и исп.Игорь Корнилов, сл.Виктор Пурга)..mp4" descr=""/>
          <p:cNvPicPr/>
          <p:nvPr/>
        </p:nvPicPr>
        <p:blipFill>
          <a:blip r:embed="rId1"/>
          <a:stretch/>
        </p:blipFill>
        <p:spPr>
          <a:xfrm>
            <a:off x="12600" y="763560"/>
            <a:ext cx="9131400" cy="5137200"/>
          </a:xfrm>
          <a:prstGeom prst="rect">
            <a:avLst/>
          </a:prstGeom>
          <a:ln w="0">
            <a:noFill/>
          </a:ln>
        </p:spPr>
      </p:pic>
    </p:spTree>
  </p:cSld>
  <p:transition spd="med">
    <p:fade/>
  </p:transition>
  <p:timing>
    <p:tnLst>
      <p:par>
        <p:cTn id="1" dur="indefinite" restart="never" nodeType="tmRoot">
          <p:childTnLst>
            <p:seq>
              <p:cTn id="2" restart="whenNotActive" nodeType="interactiveSeq" fill="hold">
                <p:stCondLst>
                  <p:cond evt="onClick">
                    <p:tgtEl>
                      <p:spTgt spid="114"/>
                    </p:tgtEl>
                  </p:cond>
                </p:stCondLst>
                <p:childTnLst>
                  <p:par>
                    <p:cTn id="3" nodeType="clickEffect" fill="hold">
                      <p:stCondLst>
                        <p:cond evt="onClick">
                          <p:tgtEl>
                            <p:spTgt spid="114"/>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60" y="0"/>
            <a:ext cx="7859880" cy="58896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то-то помнит об этом со школьной скамьи,</a:t>
            </a:r>
            <a:br>
              <a:rPr sz="1800"/>
            </a:br>
            <a:r>
              <a:rPr b="0" lang="ru-RU" sz="1800" spc="-1" strike="noStrike">
                <a:solidFill>
                  <a:srgbClr val="000000"/>
                </a:solidFill>
                <a:latin typeface="Calibri"/>
              </a:rPr>
              <a:t>Кто-то – с первых ступеней детсада...</a:t>
            </a:r>
            <a:br>
              <a:rPr sz="1800"/>
            </a:br>
            <a:r>
              <a:rPr b="0" lang="ru-RU" sz="1800" spc="-1" strike="noStrike">
                <a:solidFill>
                  <a:srgbClr val="000000"/>
                </a:solidFill>
                <a:latin typeface="Calibri"/>
              </a:rPr>
              <a:t>В необъятной стране нет, пожалуй, семьи,</a:t>
            </a:r>
            <a:br>
              <a:rPr sz="1800"/>
            </a:br>
            <a:r>
              <a:rPr b="0" lang="ru-RU" sz="1800" spc="-1" strike="noStrike">
                <a:solidFill>
                  <a:srgbClr val="000000"/>
                </a:solidFill>
                <a:latin typeface="Calibri"/>
              </a:rPr>
              <a:t>Где не знают, что значит – БЛОКАДА...</a:t>
            </a:r>
            <a:br>
              <a:rPr sz="1800"/>
            </a:br>
            <a:br>
              <a:rPr sz="1800"/>
            </a:br>
            <a:r>
              <a:rPr b="0" lang="ru-RU" sz="1800" spc="-1" strike="noStrike">
                <a:solidFill>
                  <a:srgbClr val="000000"/>
                </a:solidFill>
                <a:latin typeface="Calibri"/>
              </a:rPr>
              <a:t>Про разруху и голод, про жизнь без прикрас,</a:t>
            </a:r>
            <a:br>
              <a:rPr sz="1800"/>
            </a:br>
            <a:r>
              <a:rPr b="0" lang="ru-RU" sz="1800" spc="-1" strike="noStrike">
                <a:solidFill>
                  <a:srgbClr val="000000"/>
                </a:solidFill>
                <a:latin typeface="Calibri"/>
              </a:rPr>
              <a:t>Про спасение Летнего сада...</a:t>
            </a:r>
            <a:br>
              <a:rPr sz="1800"/>
            </a:br>
            <a:r>
              <a:rPr b="0" lang="ru-RU" sz="1800" spc="-1" strike="noStrike">
                <a:solidFill>
                  <a:srgbClr val="000000"/>
                </a:solidFill>
                <a:latin typeface="Calibri"/>
              </a:rPr>
              <a:t>Мы вдыхаем, как воздух, правдивый рассказ</a:t>
            </a:r>
            <a:br>
              <a:rPr sz="1800"/>
            </a:br>
            <a:r>
              <a:rPr b="0" lang="ru-RU" sz="1800" spc="-1" strike="noStrike">
                <a:solidFill>
                  <a:srgbClr val="000000"/>
                </a:solidFill>
                <a:latin typeface="Calibri"/>
              </a:rPr>
              <a:t>О суровой судьбе Ленинграда.</a:t>
            </a:r>
            <a:br>
              <a:rPr sz="1800"/>
            </a:br>
            <a:br>
              <a:rPr sz="1800"/>
            </a:br>
            <a:r>
              <a:rPr b="0" lang="ru-RU" sz="1800" spc="-1" strike="noStrike">
                <a:solidFill>
                  <a:srgbClr val="000000"/>
                </a:solidFill>
                <a:latin typeface="Calibri"/>
              </a:rPr>
              <a:t>Из музейных архивов, из фильмов и книг</a:t>
            </a:r>
            <a:br>
              <a:rPr sz="1800"/>
            </a:br>
            <a:r>
              <a:rPr b="0" lang="ru-RU" sz="1800" spc="-1" strike="noStrike">
                <a:solidFill>
                  <a:srgbClr val="000000"/>
                </a:solidFill>
                <a:latin typeface="Calibri"/>
              </a:rPr>
              <a:t>Про блокадные дни или ночи...</a:t>
            </a:r>
            <a:br>
              <a:rPr sz="1800"/>
            </a:br>
            <a:r>
              <a:rPr b="0" lang="ru-RU" sz="1800" spc="-1" strike="noStrike">
                <a:solidFill>
                  <a:srgbClr val="000000"/>
                </a:solidFill>
                <a:latin typeface="Calibri"/>
              </a:rPr>
              <a:t>Я ни разу не слышал про тяжесть «вериг»,</a:t>
            </a:r>
            <a:br>
              <a:rPr sz="1800"/>
            </a:br>
            <a:r>
              <a:rPr b="0" lang="ru-RU" sz="1800" spc="-1" strike="noStrike">
                <a:solidFill>
                  <a:srgbClr val="000000"/>
                </a:solidFill>
                <a:latin typeface="Calibri"/>
              </a:rPr>
              <a:t>Кровь за кровь – в череде многоточий.</a:t>
            </a:r>
            <a:br>
              <a:rPr sz="1800"/>
            </a:br>
            <a:br>
              <a:rPr sz="1800"/>
            </a:br>
            <a:r>
              <a:rPr b="0" lang="ru-RU" sz="1800" spc="-1" strike="noStrike">
                <a:solidFill>
                  <a:srgbClr val="000000"/>
                </a:solidFill>
                <a:latin typeface="Calibri"/>
              </a:rPr>
              <a:t>Пискарёвские плиты – священный гранит</a:t>
            </a:r>
            <a:br>
              <a:rPr sz="1800"/>
            </a:br>
            <a:r>
              <a:rPr b="0" lang="ru-RU" sz="1800" spc="-1" strike="noStrike">
                <a:solidFill>
                  <a:srgbClr val="000000"/>
                </a:solidFill>
                <a:latin typeface="Calibri"/>
              </a:rPr>
              <a:t>С миллионом непрожитых жизней...</a:t>
            </a:r>
            <a:br>
              <a:rPr sz="1800"/>
            </a:br>
            <a:r>
              <a:rPr b="0" lang="ru-RU" sz="1800" spc="-1" strike="noStrike">
                <a:solidFill>
                  <a:srgbClr val="000000"/>
                </a:solidFill>
                <a:latin typeface="Calibri"/>
              </a:rPr>
              <a:t>Имена, словно знамя на теле, хранит,</a:t>
            </a:r>
            <a:br>
              <a:rPr sz="1800"/>
            </a:br>
            <a:r>
              <a:rPr b="0" lang="ru-RU" sz="1800" spc="-1" strike="noStrike">
                <a:solidFill>
                  <a:srgbClr val="000000"/>
                </a:solidFill>
                <a:latin typeface="Calibri"/>
              </a:rPr>
              <a:t>Как присягу на верность Отчизне.</a:t>
            </a:r>
            <a:endParaRPr b="0" lang="en-US" sz="1800" spc="-1" strike="noStrike">
              <a:solidFill>
                <a:srgbClr val="000000"/>
              </a:solidFill>
              <a:latin typeface="Calibri"/>
            </a:endParaRPr>
          </a:p>
        </p:txBody>
      </p:sp>
      <p:pic>
        <p:nvPicPr>
          <p:cNvPr id="116" name="Picture 2" descr="ÐÐ°ÑÑÐ¸Ð½ÐºÐ¸ Ð¿Ð¾ Ð·Ð°Ð¿ÑÐ¾ÑÑ Ð¼Ñ Ð¿Ð¾Ð¼Ð½Ð¸Ð¼"/>
          <p:cNvPicPr/>
          <p:nvPr/>
        </p:nvPicPr>
        <p:blipFill>
          <a:blip r:embed="rId1"/>
          <a:stretch/>
        </p:blipFill>
        <p:spPr>
          <a:xfrm>
            <a:off x="3657600" y="-231840"/>
            <a:ext cx="6313320" cy="631368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382680" y="1692360"/>
            <a:ext cx="8337600" cy="14191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000000"/>
                </a:solidFill>
                <a:latin typeface="Calibri"/>
              </a:rPr>
              <a:t>Спасибо за внимание!</a:t>
            </a:r>
            <a:endParaRPr b="0" lang="en-US" sz="6600" spc="-1" strike="noStrike">
              <a:solidFill>
                <a:srgbClr val="000000"/>
              </a:solidFill>
              <a:latin typeface="Calibri"/>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5"/>
          <p:cNvSpPr/>
          <p:nvPr/>
        </p:nvSpPr>
        <p:spPr>
          <a:xfrm flipV="1" rot="10800000">
            <a:off x="263160" y="313920"/>
            <a:ext cx="5197320" cy="593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Над Невою туманное утро,</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Тают в дымке последние сны.</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Только память доносит как будто</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Грохот залпов минувшей войны.</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Боль утрат невозможно изгладить,</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Не утихнет за давностью лет.</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Жизнь свою проверяй по блокаде:</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Так же мужествен ты или нет?</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В сердце врезалась линия фронта,</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Гулкий сумрак бессонных ночей,</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Чтоб не быть нам в плену у комфорта,</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Не томиться во власти вещей.</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Не уюта, не почестей ради</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Мы дерзаем в космический век.</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Жизнь свою проверяй по блокаде:</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Не погиб ли в тебе человек?</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Ты живешь на земле ленинградской.</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Пусть душа не приемлет покой!</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Пусть над каждой могилою братской</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Вспыхнет памяти вечный огонь!</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И суровость, и твердость во взгляде,</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Словно щит оградит от врагов.</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Жизнь свою проверяй по блокаде, </a:t>
            </a:r>
            <a:r>
              <a:rPr b="0" lang="en-US" sz="1600" spc="-1" strike="noStrike">
                <a:solidFill>
                  <a:srgbClr val="000000"/>
                </a:solidFill>
                <a:latin typeface="Calibri"/>
                <a:ea typeface="Arial"/>
              </a:rPr>
              <a:t>–</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Будь достоин своих земляков!</a:t>
            </a:r>
            <a:endParaRPr b="0" lang="en-US" sz="1600" spc="-1" strike="noStrike">
              <a:solidFill>
                <a:srgbClr val="000000"/>
              </a:solidFill>
              <a:latin typeface="Calibri"/>
            </a:endParaRPr>
          </a:p>
        </p:txBody>
      </p:sp>
      <p:pic>
        <p:nvPicPr>
          <p:cNvPr id="85" name="Picture 7" descr="http://900igr.net/up/datai/226705/0009-007-.jpg"/>
          <p:cNvPicPr/>
          <p:nvPr/>
        </p:nvPicPr>
        <p:blipFill>
          <a:blip r:embed="rId1"/>
          <a:stretch/>
        </p:blipFill>
        <p:spPr>
          <a:xfrm>
            <a:off x="4143240" y="1582560"/>
            <a:ext cx="4729320" cy="372456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286920" y="228240"/>
            <a:ext cx="8420040" cy="3414600"/>
          </a:xfrm>
          <a:prstGeom prst="rect">
            <a:avLst/>
          </a:prstGeom>
          <a:noFill/>
          <a:ln w="0">
            <a:noFill/>
          </a:ln>
        </p:spPr>
        <p:txBody>
          <a:bodyPr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Утром 12 января 1943 года войска двух фронтов одновременно начали наступление. Предварительно ночью советская авиация нанесла мощный удар по позициям вермахта в полосе прорыва, также по аэродромам, пунктам управления, связи и железнодорожным узлам во вражеском тылу. На немцев обрушились тонны металла, уничтожая его живую силу, разрушая оборонительные сооружения и подавляя боевой дух.</a:t>
            </a:r>
            <a:endParaRPr b="0" lang="en-US" sz="2800" spc="-1" strike="noStrike">
              <a:solidFill>
                <a:srgbClr val="000000"/>
              </a:solidFill>
              <a:latin typeface="Calibri"/>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246240" y="246240"/>
            <a:ext cx="8378640" cy="341136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Утром 13 января наступление продолжилось. Советское командование, чтобы окончательно переломить ситуацию в свою пользу начало вводить в бой второй эшелон наступающих армий. Однако, немцы опираясь на опорные пункты и развитую систему обороны оказывали упорное сопротивление, постоянно контратаковали, пытаясь восстановить утраченное положение. Бои приняли затяжной и ожесточенный характер.</a:t>
            </a:r>
            <a:br>
              <a:rPr sz="1800"/>
            </a:br>
            <a:br>
              <a:rPr sz="1800"/>
            </a:br>
            <a:r>
              <a:rPr b="0" lang="ru-RU" sz="1800" spc="-1" strike="noStrike">
                <a:solidFill>
                  <a:srgbClr val="000000"/>
                </a:solidFill>
                <a:latin typeface="Calibri"/>
              </a:rPr>
              <a:t>В полосе наступления 67-й армии на левом фланге 86-я стрелковая дивизия и батальон бронеавтомобилей, при поддержке с севера 34-й лыжной бригады и 55-й стрелковой бригады (по льду озера) несколько дней штурмовали подступы к Шлиссельбургу. К вечеру 15-го красноармейцы вышли к окраинам города, немецкие войска в Шлиссельбурге оказались в критическом положении, но продолжали упорно драться.</a:t>
            </a:r>
            <a:endParaRPr b="0" lang="en-US" sz="1800" spc="-1" strike="noStrike">
              <a:solidFill>
                <a:srgbClr val="000000"/>
              </a:solidFill>
              <a:latin typeface="Calibri"/>
            </a:endParaRPr>
          </a:p>
        </p:txBody>
      </p:sp>
      <p:pic>
        <p:nvPicPr>
          <p:cNvPr id="88" name="Picture 2" descr="https://topwar.ru/uploads/posts/2018-01/1516218777_schlisselbourg11.5kcah5otos08sc08sos0s4scs.ejcuplo1l0oo0sk8c40s8osc4.th.jpeg"/>
          <p:cNvPicPr/>
          <p:nvPr/>
        </p:nvPicPr>
        <p:blipFill>
          <a:blip r:embed="rId1"/>
          <a:stretch/>
        </p:blipFill>
        <p:spPr>
          <a:xfrm>
            <a:off x="3370320" y="3341520"/>
            <a:ext cx="4668840" cy="340056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23720" y="101160"/>
            <a:ext cx="788688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3 января, несмотря на ввод в сражение части сил второго эшелона, войска 2-й ударной армии не достигли серьёзного успеха ни на одном направлении. В последующие дни командование армии попыталось расширить прорыв на южном участке от рощи Круглая до Гайтолово, но без видимых результатов. Наибольших успехов на этом направлении смогла добиться 256-я стрелковая дивизия, 14 января она заняла Рабочий поселок № 7, станцию Подгорную и вышла на подступы к Синявино.</a:t>
            </a:r>
            <a:endParaRPr b="0" lang="en-US" sz="1800" spc="-1" strike="noStrike">
              <a:solidFill>
                <a:srgbClr val="000000"/>
              </a:solidFill>
              <a:latin typeface="Calibri"/>
            </a:endParaRPr>
          </a:p>
        </p:txBody>
      </p:sp>
      <p:pic>
        <p:nvPicPr>
          <p:cNvPr id="90" name="Picture 2" descr="https://topwar.ru/uploads/posts/2018-01/1516219577_825180248.e9nxc1cs1wgkgggscgw8kswcw.ejcuplo1l0oo0sk8c40s8osc4.th.jpeg"/>
          <p:cNvPicPr/>
          <p:nvPr/>
        </p:nvPicPr>
        <p:blipFill>
          <a:blip r:embed="rId1"/>
          <a:stretch/>
        </p:blipFill>
        <p:spPr>
          <a:xfrm>
            <a:off x="1209600" y="2146320"/>
            <a:ext cx="6664320" cy="433368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272880" y="272880"/>
            <a:ext cx="8871120" cy="630576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 18 января войска Ленинградского и Волховского фронтов вели ожесточённый бой в районе Рабочего посёлка № 5, и их разделяло всего несколько километров. Немецкое командование, поняв, что удерживать окружённые опорные пункты уже нет необходимости, отдало приказ гарнизонам Шлиссельбурга и Липки пробиваться к Синявино. Чтобы облегчить прорыв силы защищавшие Рабочие поселки № 1 и № 5 должны были держаться максимально долго. Кроме того, был организован контрудар из района Рабочего поселка № 5 по 136-й стрелковой дивизии и 61-й отдельной танковой бригаде, чтобы опрокинуть её и облегчить прорыв окружённых войск. Однако удар был отражён, было уничтожено до 600 немцев, в плен взяли до 500 человек. Советские воины, преследуя противника ворвались в посёлок, где в примерно в 12 часов дня войска 2-й ударной и 67-й армии соединились. Встретились войска двух армий и в районе Рабочего поселка № 1 – это были 123-я отдельная стрелковая бригада Ленинградского фронта во главе с заместителем командира по политической части майором Мелконяном и 372-я стрелковая дивизия Волховского фронта во главе с начальником 1-го отделения штаба дивизии майором Мельниковым. В этот же день был полностью очищен от немцев Шлиссельбург, а концу дня южное побережье Ладожского озера было освобождено от врага, а его разрозненные группы уничтожены или пленены. Были освобождены и Липки. </a:t>
            </a:r>
            <a:br>
              <a:rPr sz="2000"/>
            </a:br>
            <a:endParaRPr b="0" lang="en-US" sz="2000" spc="-1" strike="noStrike">
              <a:solidFill>
                <a:srgbClr val="000000"/>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696960" y="364680"/>
            <a:ext cx="7778880" cy="1490760"/>
          </a:xfrm>
          <a:prstGeom prst="rect">
            <a:avLst/>
          </a:prstGeom>
          <a:noFill/>
          <a:ln w="0">
            <a:noFill/>
          </a:ln>
        </p:spPr>
        <p:txBody>
          <a:bodyPr anchor="t">
            <a:normAutofit fontScale="69000"/>
          </a:bodyPr>
          <a:p>
            <a:pPr marL="157680" indent="-157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Я увидел, — вспоминал Г.К. Жуков, — с какой радостью бросились навстречу друг другу бойцы фронтов, прорвавших блокаду. Не обращая внимания на артиллерийский обстрел противника со стороны Синявинских высот, солдаты по-братски, крепко обнимали друг друга. Это была воистину выстраданная радость!» Таким образом, 18 января 1943 года блокада Ленинграда была прорвана.</a:t>
            </a:r>
            <a:br>
              <a:rPr sz="2000"/>
            </a:br>
            <a:br>
              <a:rPr sz="2000"/>
            </a:br>
            <a:br>
              <a:rPr sz="2000"/>
            </a:br>
            <a:r>
              <a:rPr b="0" lang="ru-RU" sz="2000" spc="-1" strike="noStrike">
                <a:solidFill>
                  <a:srgbClr val="000000"/>
                </a:solidFill>
                <a:latin typeface="Calibri"/>
              </a:rPr>
              <a:t> </a:t>
            </a:r>
            <a:endParaRPr b="0" lang="en-US" sz="2000" spc="-1" strike="noStrike">
              <a:solidFill>
                <a:srgbClr val="000000"/>
              </a:solidFill>
              <a:latin typeface="Calibri"/>
            </a:endParaRPr>
          </a:p>
        </p:txBody>
      </p:sp>
      <p:pic>
        <p:nvPicPr>
          <p:cNvPr id="93" name="Picture 2" descr="https://topwar.ru/uploads/posts/2018-01/thumbs/1516217575_leningrad11.jpg"/>
          <p:cNvPicPr/>
          <p:nvPr/>
        </p:nvPicPr>
        <p:blipFill>
          <a:blip r:embed="rId1"/>
          <a:stretch/>
        </p:blipFill>
        <p:spPr>
          <a:xfrm>
            <a:off x="880920" y="2276640"/>
            <a:ext cx="7620120" cy="437184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518760" y="218880"/>
            <a:ext cx="8147160" cy="5467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8 января, как только в Москве получили известие о прорыве блокады, ГКО принял решение о форсированном строительстве на освобожденной полосе земли железнодорожной ветки, которая должна была соединить Ленинград с Волховским железнодорожным узлом. Железную дорогу от станции Поляна до Шлиссельбурга должны были соорудить за 18 дней. Одновременно через Неву был построен временный железнодорожный мост. Железнодорожную линию назвали Дорогой Победы. Уже утром 7 февраля ленинградцы с большой радостью встретили первый железнодорожный эшелон, пришедший с Большой земли и доставивший 800 т. сливочного масла. Кроме того, вдоль южного берега Ладожского озера стало функционировать и автомобильное движение. Продолжала действовать и Дорога жизни. Через две недели в Ленинграде начали действовать нормы продовольственного снабжения, установленные для крупнейших промышленных центров страны: рабочие стали получать по 700—600 грамм хлеба в день, служащие — по 500, дети и иждивенцы — 400 грамм. Увеличились нормы снабжения другими видами продовольствия.</a:t>
            </a:r>
            <a:endParaRPr b="0" lang="en-US" sz="1600" spc="-1" strike="noStrike">
              <a:solidFill>
                <a:srgbClr val="000000"/>
              </a:solidFill>
              <a:latin typeface="Calibri"/>
            </a:endParaRPr>
          </a:p>
        </p:txBody>
      </p:sp>
      <p:pic>
        <p:nvPicPr>
          <p:cNvPr id="95" name="Picture 5" descr="ÐÐ°ÑÑÐ¸Ð½ÐºÐ¸ Ð¿Ð¾ Ð·Ð°Ð¿ÑÐ¾ÑÑ ÐÐµÐ½Ð¸Ð½Ð³ÑÐ°Ð´ Ñ ÐÐ¾Ð»ÑÐ¾Ð²ÑÐºÐ¸Ð¼ Ð¶ÐµÐ»ÐµÐ·Ð½Ð¾Ð´Ð¾ÑÐ¾Ð¶Ð½ÑÐ¼ ÑÐ·Ð»Ð¾Ð¼"/>
          <p:cNvPicPr/>
          <p:nvPr/>
        </p:nvPicPr>
        <p:blipFill>
          <a:blip r:embed="rId1"/>
          <a:stretch/>
        </p:blipFill>
        <p:spPr>
          <a:xfrm>
            <a:off x="3679920" y="3274920"/>
            <a:ext cx="5286240" cy="338472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601200" y="296640"/>
            <a:ext cx="8420040" cy="43434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Таким образом, крупнейший политический, экономический и культурный центр СССР после тяжелейшей 16-месячной борьбы вновь обрёл сухопутную связь со страной. Значительно было улучшено снабжение города продовольствием и товарами первой необходимости, а промышленные предприятия стали получать в большем количестве сырьё и топливо. Уже в феврале 1943 года в Ленинграде резко возросла выработка электроэнергии, заметно увеличилось производство вооружения. Восстановление коммуникаций позволило непрерывно усиливать войска Ленинградского фронта и Балтийского флота пополнением, вооружениями и боеприпасами. Это улучшило стратегическое положение советских войск, действовавших на северо-западном направлении.</a:t>
            </a:r>
            <a:br>
              <a:rPr sz="1800"/>
            </a:br>
            <a:endParaRPr b="0" lang="en-US" sz="1800" spc="-1" strike="noStrike">
              <a:solidFill>
                <a:srgbClr val="000000"/>
              </a:solidFill>
              <a:latin typeface="Calibri"/>
            </a:endParaRPr>
          </a:p>
        </p:txBody>
      </p:sp>
      <p:pic>
        <p:nvPicPr>
          <p:cNvPr id="97" name="Picture 2" descr="https://topwar.ru/uploads/posts/2018-01/1516218377_915507338.5cnz59o9lcowsg0s4g8sgcg80.ejcuplo1l0oo0sk8c40s8osc4.th.jpeg"/>
          <p:cNvPicPr/>
          <p:nvPr/>
        </p:nvPicPr>
        <p:blipFill>
          <a:blip r:embed="rId1"/>
          <a:stretch/>
        </p:blipFill>
        <p:spPr>
          <a:xfrm>
            <a:off x="1720800" y="2935440"/>
            <a:ext cx="5403960" cy="378288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9T11:23:23Z</dcterms:created>
  <dc:creator>pptforschool.ru</dc:creator>
  <dc:description/>
  <dc:language>en-US</dc:language>
  <cp:lastModifiedBy>irbis</cp:lastModifiedBy>
  <dcterms:modified xsi:type="dcterms:W3CDTF">2019-03-24T12:29:47Z</dcterms:modified>
  <cp:revision>15</cp:revision>
  <dc:subject/>
  <dc:title>Название презентации</dc:title>
</cp:coreProperties>
</file>