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A00-B85F-48AF-8772-073A09F1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ED-257E-453C-91FC-AB51F4DC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CDA-FB29-45B7-9289-2F3B985D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BE8-2DE4-420F-B67B-5E41AF19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FF2-108E-4205-A380-DA605956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8EE-284B-42BE-9C3C-E4727EEB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225-6594-4DAC-AB62-C2836A64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5F6-4B61-4FB0-9021-B0EBEA1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DBC-3B9E-445A-9058-200BED33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119-23E3-44CC-9315-6388F13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5C6-B897-4B30-A0DC-38A90A3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19B-80AF-4E83-8CD9-9F50FC4C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A7E6-9628-4EA8-8E25-B153063FD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гномик 13"/>
          <p:cNvPicPr/>
          <p:nvPr/>
        </p:nvPicPr>
        <p:blipFill>
          <a:blip r:embed="rId3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гномик 6"/>
          <p:cNvPicPr/>
          <p:nvPr/>
        </p:nvPicPr>
        <p:blipFill>
          <a:blip r:embed="rId4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8" descr="лист 1"/>
          <p:cNvPicPr/>
          <p:nvPr/>
        </p:nvPicPr>
        <p:blipFill>
          <a:blip r:embed="rId5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лист 1"/>
          <p:cNvPicPr/>
          <p:nvPr/>
        </p:nvPicPr>
        <p:blipFill>
          <a:blip r:embed="rId6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лист 1"/>
          <p:cNvPicPr/>
          <p:nvPr/>
        </p:nvPicPr>
        <p:blipFill>
          <a:blip r:embed="rId7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лист 1"/>
          <p:cNvPicPr/>
          <p:nvPr/>
        </p:nvPicPr>
        <p:blipFill>
          <a:blip r:embed="rId8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лист 1"/>
          <p:cNvPicPr/>
          <p:nvPr/>
        </p:nvPicPr>
        <p:blipFill>
          <a:blip r:embed="rId9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2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4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8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0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1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2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3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5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come - be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an -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row – g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ve -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- большой хвастун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Ciborg</cp:lastModifiedBy>
  <dcterms:modified xsi:type="dcterms:W3CDTF">2017-04-17T03:19:54Z</dcterms:modified>
  <cp:revision>14</cp:revision>
  <dc:subject/>
  <dc:title>Слайд 1</dc:title>
</cp:coreProperties>
</file>