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CB7-878C-484A-851A-4DC10995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E1F-A18E-4E0C-9298-BBCA957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9A5-6958-44C2-A376-639CD184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9BD-0C87-4499-8143-FEF59D6F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316-2860-4D2F-A841-0226AD7F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366-5DB4-4EAD-8AD1-C014063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E58-87B5-472F-BD97-0A553DB3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8C8-5D81-425A-937D-20B84872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216-DE4D-4983-B377-88F8F353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A18-6D59-469E-9CEF-73F0597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6F8-8C04-4088-AAB5-A1095DA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25B-3D1A-474E-879F-E59D855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0AC-4D40-4685-9C46-AC6A4F47D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гномик 13"/>
          <p:cNvPicPr/>
          <p:nvPr/>
        </p:nvPicPr>
        <p:blipFill>
          <a:blip r:embed="rId3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гномик 6"/>
          <p:cNvPicPr/>
          <p:nvPr/>
        </p:nvPicPr>
        <p:blipFill>
          <a:blip r:embed="rId4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8" descr="лист 1"/>
          <p:cNvPicPr/>
          <p:nvPr/>
        </p:nvPicPr>
        <p:blipFill>
          <a:blip r:embed="rId5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лист 1"/>
          <p:cNvPicPr/>
          <p:nvPr/>
        </p:nvPicPr>
        <p:blipFill>
          <a:blip r:embed="rId6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лист 1"/>
          <p:cNvPicPr/>
          <p:nvPr/>
        </p:nvPicPr>
        <p:blipFill>
          <a:blip r:embed="rId7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лист 1"/>
          <p:cNvPicPr/>
          <p:nvPr/>
        </p:nvPicPr>
        <p:blipFill>
          <a:blip r:embed="rId8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лист 1"/>
          <p:cNvPicPr/>
          <p:nvPr/>
        </p:nvPicPr>
        <p:blipFill>
          <a:blip r:embed="rId9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0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2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3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5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come - be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an -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row – g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ve -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- большой хвастун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Ciborg</cp:lastModifiedBy>
  <dcterms:modified xsi:type="dcterms:W3CDTF">2017-04-17T03:19:54Z</dcterms:modified>
  <cp:revision>14</cp:revision>
  <dc:subject/>
  <dc:title>Слайд 1</dc:title>
</cp:coreProperties>
</file>