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147-D126-4C9A-A9D8-6B3D4F56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3C7-FC47-47A6-8F3A-DFD7AA09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099-FA55-405C-ACBB-C3AC9C26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8E8-2158-4574-AF50-313553BD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8C3-F639-4447-83E5-D88835A7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9DB-43B0-4533-BB45-D976040A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C5C-5724-4A07-A48D-103A46FC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0F6-1D49-4D9C-9FE4-4561E554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DD1-02FE-4E57-9900-0E3786BB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C26-D0CF-41A6-8756-2075E007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E92-01FC-445F-9811-C377BC31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48D-3984-4FC6-9296-95EE1B3F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CC59-E110-4F73-BDA3-921C7B70E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65920" y="4936680"/>
            <a:ext cx="13780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1680" y="856800"/>
            <a:ext cx="8215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cc33"/>
                </a:solidFill>
                <a:latin typeface="Monotype Corsiva"/>
              </a:rPr>
              <a:t>Ох, уж эти экзамены</a:t>
            </a:r>
            <a:r>
              <a:rPr b="1" lang="ru-RU" sz="9600" spc="-1" strike="noStrike">
                <a:solidFill>
                  <a:srgbClr val="33cc33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d4d4d"/>
                </a:solidFill>
                <a:latin typeface="Arial"/>
              </a:rPr>
              <a:t>Советы   выпускника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учивая (повторяя) материал, постарайтесь составить план ответа, запишите его и запомните. Моторная память - неплохой помощник, выру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нуне экзамена просмотрите каждый вопрос билета, вспомните план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закончить работу накануне экзамена хотя бы в первой половине дня, чтобы к вечеру просмотреть весь материал, заострив внимание на наиболее трудных вопро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итесь спать рано, чтобы ут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спокой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не болела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Картинка 46 из 71"/>
          <p:cNvPicPr/>
          <p:nvPr/>
        </p:nvPicPr>
        <p:blipFill>
          <a:blip r:embed="rId1"/>
          <a:stretch/>
        </p:blipFill>
        <p:spPr>
          <a:xfrm>
            <a:off x="6143760" y="4786200"/>
            <a:ext cx="2428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3840" y="1500120"/>
            <a:ext cx="41864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бираясь на экзамен, не забывайте и о своем внешнем виде. Аккуратный и опрятный человек всегда вызывает симпатию со стороны экзаменато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Картинка 1303 из 76037"/>
          <p:cNvPicPr/>
          <p:nvPr/>
        </p:nvPicPr>
        <p:blipFill>
          <a:blip r:embed="rId1"/>
          <a:stretch/>
        </p:blipFill>
        <p:spPr>
          <a:xfrm>
            <a:off x="4286160" y="2000160"/>
            <a:ext cx="457200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Бессонная ночь перед экзаменом – это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 рекомендуют: в процессе активной подготовки к экзаменам не забывать про сон. На свежую голову материал запоминается лучше. Итак, напом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ть учить с самого трудного раздела или с того, который кажется интересне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Monotype Corsiva"/>
              </a:rPr>
              <a:t>Как себя вести на экзаме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480" y="1857240"/>
            <a:ext cx="84294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 то письменный или устный экзамен, настройте себя на работу; не паникуйте, что ничего не знаете (если, конечно, все повтори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идев текст письменной работы, не хватайтесь за работу со словами: "О! Я это знаю!". Прочитайте бегло текст, чтобы познакомиться с содержанием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я второй раз, к каждому заданию мысленно составьте план. Незнакомые задания оставьте, пропустите, вернетесь к ним поз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йте решение самого легкого для вас задания, оформите его в черновике так, чтобы при переписывании не тратить м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Monotype Corsiva"/>
              </a:rPr>
              <a:t>5 спасательных </a:t>
            </a:r>
            <a:br>
              <a:rPr sz="6000"/>
            </a:br>
            <a:r>
              <a:rPr b="1" lang="ru-RU" sz="6000" spc="-1" strike="noStrike">
                <a:solidFill>
                  <a:srgbClr val="33cc33"/>
                </a:solidFill>
                <a:latin typeface="Monotype Corsiva"/>
              </a:rPr>
              <a:t>кругов в трудную минуту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2214360"/>
            <a:ext cx="8715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пытайтесь оспаривать замечание преподавателя, а используйте перефразир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мечание экзаменатора" Вы ошиблись", учтиво уточните: "Да, я перепутал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атор утверждает: "Вы не знаете", вы признаетесь: "Да, мне трудно вспомнить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480" y="1714320"/>
            <a:ext cx="5500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Вот и все. 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Счастливого вам 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билета, 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знакомых заданий</a:t>
            </a:r>
            <a:br>
              <a:rPr sz="5400"/>
            </a:br>
            <a:r>
              <a:rPr b="0" lang="ru-RU" sz="5400" spc="-1" strike="noStrike">
                <a:solidFill>
                  <a:srgbClr val="33cc33"/>
                </a:solidFill>
                <a:latin typeface="Monotype Corsiva"/>
              </a:rPr>
              <a:t> на письменном экзамене!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Удачи на экзамене"/>
          <p:cNvPicPr/>
          <p:nvPr/>
        </p:nvPicPr>
        <p:blipFill>
          <a:blip r:embed="rId1"/>
          <a:srcRect l="0" t="0" r="0" b="3001"/>
          <a:stretch/>
        </p:blipFill>
        <p:spPr>
          <a:xfrm>
            <a:off x="5357880" y="1214280"/>
            <a:ext cx="3085920" cy="461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5010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Ц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ть методические рекомендации, объясняющие как справиться с экзаменационным   стресс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учить правильно организовать подготовку   к   экзамен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оветовать как лучше вести себя во время   экзаме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му человеку приходится в жизни сдавать экзамены. Кому-то больше, кому-то меньше, но каждому. Когда-нибудь можно столкнутся с ситуацией профессиональной аттестации, кадровой оценки и т.п. Таким образом, в определённом смысле экзамен – неизбежность. Примиримся с эт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артинка 280 из 417"/>
          <p:cNvPicPr/>
          <p:nvPr/>
        </p:nvPicPr>
        <p:blipFill>
          <a:blip r:embed="rId1"/>
          <a:stretch/>
        </p:blipFill>
        <p:spPr>
          <a:xfrm>
            <a:off x="6572160" y="3929040"/>
            <a:ext cx="19861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ая жизнь человека постоянно ставит его в ситуации «экзаменов» – тех или иных испытаний, где ему приходится доказывать свою социальную состоятельность, материальное благополучие, физическое самочувствие или уровень интелл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755640" y="692280"/>
            <a:ext cx="7632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>
                    <a:alphaModFix amt="9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>
                  <a:alphaModFix amt="95000"/>
                </a:blip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22" descr="Картинка 31 из 1582"/>
          <p:cNvPicPr/>
          <p:nvPr/>
        </p:nvPicPr>
        <p:blipFill>
          <a:blip r:embed="rId3"/>
          <a:stretch/>
        </p:blipFill>
        <p:spPr>
          <a:xfrm>
            <a:off x="428760" y="3429000"/>
            <a:ext cx="4071960" cy="29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Картинка 143 из 2026"/>
          <p:cNvPicPr/>
          <p:nvPr/>
        </p:nvPicPr>
        <p:blipFill>
          <a:blip r:embed="rId4"/>
          <a:stretch/>
        </p:blipFill>
        <p:spPr>
          <a:xfrm>
            <a:off x="4929120" y="3571920"/>
            <a:ext cx="381024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инципе, симптомы экзаменационного стр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можем видеть у школьников перед контрольной работой, у студентов во время сессии, у водителей, впервые сдающих на права, у хирурга, который осваивает новую операцию, у безработного, пришедшего на собеседование к потенциальному работодателю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Картинка 412 из 421"/>
          <p:cNvPicPr/>
          <p:nvPr/>
        </p:nvPicPr>
        <p:blipFill>
          <a:blip r:embed="rId1"/>
          <a:stretch/>
        </p:blipFill>
        <p:spPr>
          <a:xfrm>
            <a:off x="6429240" y="285840"/>
            <a:ext cx="190512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Экзаменационный стре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7200" y="2928960"/>
            <a:ext cx="77868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ческий пример «экзаменационного стресса» можно обнаружить в периоды сессии в любом учебном заведении. Бессонные ночи, тревожные мысли, снижение аппетита, учащенный пульс и дрожь в конечностях – вот типичные проявления страха перед экзам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http://www.spyworm.ru/wp-content/uploads/2009/03/27.jpg"/>
          <p:cNvPicPr/>
          <p:nvPr/>
        </p:nvPicPr>
        <p:blipFill>
          <a:blip r:embed="rId1"/>
          <a:stretch/>
        </p:blipFill>
        <p:spPr>
          <a:xfrm>
            <a:off x="2357280" y="1071720"/>
            <a:ext cx="371484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нение перед экзаменом – вещь совершенно естественная: организм готовится к предстоящему испытанию, в кровь выбрасывается адреналин, и т.п. Если вам кажется, что волнение или страх перед экзаменом достигли такой силы, что будут вам серьезно мешать, и вам советуют выпить какие-то таблетки, транквилизаторы, например, этого ни в коем случае не следует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www.health.gov.ua/health.nsf/1b45f02676a7cea4c125678d003f98dc/7837f6f10409f601c125698900314d6e/HTMDoc/6.3C42?OpenElement&amp;FieldElemFormat=gif"/>
          <p:cNvPicPr/>
          <p:nvPr/>
        </p:nvPicPr>
        <p:blipFill>
          <a:blip r:embed="rId1"/>
          <a:stretch/>
        </p:blipFill>
        <p:spPr>
          <a:xfrm>
            <a:off x="642960" y="285840"/>
            <a:ext cx="150012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www.health.gov.ua/health.nsf/1b45f02676a7cea4c125678d003f98dc/7837f6f10409f601c125698900314d6e/HTMDoc/8.44EE?OpenElement&amp;FieldElemFormat=gif"/>
          <p:cNvPicPr/>
          <p:nvPr/>
        </p:nvPicPr>
        <p:blipFill>
          <a:blip r:embed="rId2"/>
          <a:stretch/>
        </p:blipFill>
        <p:spPr>
          <a:xfrm>
            <a:off x="3571920" y="357120"/>
            <a:ext cx="1500120" cy="135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www.health.gov.ua/health.nsf/1b45f02676a7cea4c125678d003f98dc/7837f6f10409f601c125698900314d6e/HTMDoc/18.3A92?OpenElement&amp;FieldElemFormat=gif"/>
          <p:cNvPicPr/>
          <p:nvPr/>
        </p:nvPicPr>
        <p:blipFill>
          <a:blip r:embed="rId3"/>
          <a:stretch/>
        </p:blipFill>
        <p:spPr>
          <a:xfrm>
            <a:off x="7072200" y="285840"/>
            <a:ext cx="1571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 в такой напряженной ситуации обычно непредсказуем, особенно если эти таблетки вы раньше не употребляли: вас может начать очень сильно клонить ко сну, или наступит состояние полного отупения, или еще что-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всего справляться с волнением самостоятельно. Например, можно выйти из дома с дополнительным запасом времени и часть пути проделать пешком, сделать несколько глубоких вдохов и медленных выдохов и т.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Monotype Corsiva"/>
              </a:rPr>
              <a:t>Как готовиться к экзамен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довать время работы и отды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ировать работу на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 (повторять) нужно по темам, а не по билетам. Взяв билет, вы вспомните тему и сможете выделить то, что нужно по конкретн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у би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Картинка 1751 из 76037"/>
          <p:cNvPicPr/>
          <p:nvPr/>
        </p:nvPicPr>
        <p:blipFill>
          <a:blip r:embed="rId1"/>
          <a:stretch/>
        </p:blipFill>
        <p:spPr>
          <a:xfrm>
            <a:off x="4857840" y="4429080"/>
            <a:ext cx="3071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6:59:24Z</dcterms:created>
  <dc:creator>Наденька</dc:creator>
  <dc:description/>
  <dc:language>en-US</dc:language>
  <cp:lastModifiedBy>Раиль</cp:lastModifiedBy>
  <dcterms:modified xsi:type="dcterms:W3CDTF">2019-03-27T17:24:17Z</dcterms:modified>
  <cp:revision>31</cp:revision>
  <dc:subject/>
  <dc:title>Слайд 1</dc:title>
</cp:coreProperties>
</file>