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FFF-FF9A-4D93-9847-5DD37D63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A1B-AC8B-44E6-A2C2-A335CFCA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7C1-1EBD-4125-86EC-06369783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FA0-B002-47D6-BBF8-673BFD85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0A0-30DA-423C-A1DC-8F6EEF46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811-C934-45F2-85BB-58A6F063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DE7-D0E6-4B9A-9523-A8D37103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A97-A34E-405C-BFB4-29C0958C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D2C-1F75-4323-A5BE-6A48977C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CFE-81D1-4890-9CB3-93D5AD98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695-9C8D-44A2-BFD0-24399AB9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62B-B06F-4FF2-9C1F-C4FDB2CE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5236-C58F-49AD-A6E4-703002E4F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coportal.ru/news.php?id=40469" TargetMode="External"/><Relationship Id="rId2" Type="http://schemas.openxmlformats.org/officeDocument/2006/relationships/hyperlink" Target="http://zoo.kaliningrad.net/index.php?type=110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47640" y="134136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сследовательский прое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«Русские в Кёнигсберг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924360" y="551664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лефон школы: 8-401-58-3-53-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28920" y="31431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роткина А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-б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735280" y="4869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ители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мендантова 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тья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логжанина-Фридель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и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411280" y="104616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чн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403280" y="189000"/>
            <a:ext cx="619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есская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900000" y="1989000"/>
            <a:ext cx="741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русскому солдату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"/>
          <p:cNvPicPr/>
          <p:nvPr/>
        </p:nvPicPr>
        <p:blipFill>
          <a:blip r:embed="rId1"/>
          <a:stretch/>
        </p:blipFill>
        <p:spPr>
          <a:xfrm>
            <a:off x="324000" y="476280"/>
            <a:ext cx="3987720" cy="241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1"/>
          <p:cNvPicPr/>
          <p:nvPr/>
        </p:nvPicPr>
        <p:blipFill>
          <a:blip r:embed="rId2"/>
          <a:stretch/>
        </p:blipFill>
        <p:spPr>
          <a:xfrm>
            <a:off x="3492360" y="2997360"/>
            <a:ext cx="2210040" cy="241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2"/>
          <p:cNvPicPr/>
          <p:nvPr/>
        </p:nvPicPr>
        <p:blipFill>
          <a:blip r:embed="rId3"/>
          <a:stretch/>
        </p:blipFill>
        <p:spPr>
          <a:xfrm>
            <a:off x="4788000" y="476280"/>
            <a:ext cx="3441600" cy="2413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403280" y="551664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Четвёртые – познакомились с историей зооп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692360" y="4221000"/>
            <a:ext cx="63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Кёнигсбергский зоопарк, который был основан Германом Клаассом, немецким предпринимателем, к моменту открытия, 21 мая 1896 года,  имел девятьсот экземпляров животных двухсот шестидесяти видов. Коллекция животных в 1910 году достигла 2161 экземпля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4"/>
          <p:cNvPicPr/>
          <p:nvPr/>
        </p:nvPicPr>
        <p:blipFill>
          <a:blip r:embed="rId1"/>
          <a:stretch/>
        </p:blipFill>
        <p:spPr>
          <a:xfrm>
            <a:off x="1979640" y="549360"/>
            <a:ext cx="54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0" y="0"/>
            <a:ext cx="88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Во время событий той войны в зоопарке фашисты перестреляли всех звер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не пощадили даже слонов. Некоторые звери погибли во время бомбёж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Из разрушенных клеток сбежали хищники, уползли змеи, улетели ор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Уцелел один бегемот. Бегемоту было 18 лет. Огромного ро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Кличка «Ганс». У него было 7 ранений. Он лежал в бетонном бассейне без вод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Сильно простуд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behemoth_Hans"/>
          <p:cNvPicPr/>
          <p:nvPr/>
        </p:nvPicPr>
        <p:blipFill>
          <a:blip r:embed="rId1"/>
          <a:stretch/>
        </p:blipFill>
        <p:spPr>
          <a:xfrm>
            <a:off x="2268360" y="2455920"/>
            <a:ext cx="6480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0" y="1125360"/>
            <a:ext cx="586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Бегемот не ел 13 дней.  За помощью обратились к русским солдатам. Среди них нашелся ветеринар. Но он сказал, что умет лечить лошадей, а такого пациента, как бегемот, ему лечить не приходил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Но ветеринар понял, что бегемот простужен и голоден. Поэтому решили подогреть воду в бассейне, накормить и давать пойло  с разбавленным спир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Первыми в зоопарк пришли советские разведч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реди них был 16 летний Антось. Антось услышал про больного бегемота и принёс ему хлеб и сах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Он очень огорчился тому, что его подарок остался лежать в кармане, ведь у бегемота было строгое мен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869080" y="1268280"/>
            <a:ext cx="3274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-123840" y="4386960"/>
            <a:ext cx="916164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реди зверей в зоопарке был пони с пушистой гри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Ему-то и скормил свой подарок Ант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Разведчики пригрели пушистого пони и с разрешения начальства взя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его в артиллерийский обоз, где пони подружился с двугорбым верблю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Верблюда отбили у немцев, когда полк воевал еще под Сталингра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Верблюд прижился в обозе и дошёл своим гордели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неторопливым шагом до Балтики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77594"/>
          <p:cNvPicPr/>
          <p:nvPr/>
        </p:nvPicPr>
        <p:blipFill>
          <a:blip r:embed="rId1"/>
          <a:stretch/>
        </p:blipFill>
        <p:spPr>
          <a:xfrm>
            <a:off x="611280" y="189000"/>
            <a:ext cx="7524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802640" y="5929200"/>
            <a:ext cx="1341360" cy="693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214200" y="571500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И сейчас, когда мы прочитали книгу Е.Воробьева  «Последние выстрелы», то поняли что должны благодарить русских солдат за то, что они сберегли калининградский зоопарк и защитили его питом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35006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257359637_800px-zookaliningrad"/>
          <p:cNvPicPr/>
          <p:nvPr/>
        </p:nvPicPr>
        <p:blipFill>
          <a:blip r:embed="rId1"/>
          <a:stretch/>
        </p:blipFill>
        <p:spPr>
          <a:xfrm>
            <a:off x="250920" y="404640"/>
            <a:ext cx="4897440" cy="366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amp"/>
          <p:cNvPicPr/>
          <p:nvPr/>
        </p:nvPicPr>
        <p:blipFill>
          <a:blip r:embed="rId2"/>
          <a:stretch/>
        </p:blipFill>
        <p:spPr>
          <a:xfrm>
            <a:off x="5364000" y="549360"/>
            <a:ext cx="2659320" cy="2638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042920" y="5013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Проведя исследование истории зоопарка, мы поняли, почему на эмблеме зоопарка изображён бегем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55640" y="414972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Учитывая условия жизни бегемотов в природе, в Калининградском зоопарке созданы специальные условия: построены два отапливаемых павильона с бассей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RR_Kaliningrad2-20"/>
          <p:cNvPicPr/>
          <p:nvPr/>
        </p:nvPicPr>
        <p:blipFill>
          <a:blip r:embed="rId1"/>
          <a:stretch/>
        </p:blipFill>
        <p:spPr>
          <a:xfrm>
            <a:off x="395280" y="333360"/>
            <a:ext cx="4067280" cy="2711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168480" y="3140640"/>
            <a:ext cx="46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м карликовых бегемотов. Построен в 1970-х год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961080" cy="3960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0" y="189000"/>
            <a:ext cx="519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Неволю, если созданы необходимые услов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они переносят неплохо и размнож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932360" y="55166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рликовый бегемот Бася родилась в зоопарке и искусственно выкормлена его работн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468360" y="5013360"/>
            <a:ext cx="78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Рацион взрослых животных обилен и разнообраз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Они съедают до 70 килограммов различных корнеплодов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фруктов, овощей, каш, сена в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Зоопарк Калининграда получил по обмену бегемота из Чехии. Фото: РИА Новости"/>
          <p:cNvPicPr/>
          <p:nvPr/>
        </p:nvPicPr>
        <p:blipFill>
          <a:blip r:embed="rId1"/>
          <a:stretch/>
        </p:blipFill>
        <p:spPr>
          <a:xfrm>
            <a:off x="324000" y="404640"/>
            <a:ext cx="7200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4572000" y="7858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 с мамой и папой живу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лининград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 уроке внеклассного чтения наша учительница Ирина Викторовна читала нам книгу Евгения Воробьёва «Последние выстрелы».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032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811800" y="504000"/>
            <a:ext cx="7520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В настояще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в Калининградском зоопарке содержится 2030 животных 305 ви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з н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Млекопитающих – 50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тиц – 89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ресмыкающихся – 44 вида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Земноводных – 18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Рыбы – 78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Беспозвоночные – 8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54 вида животных включены в Международную Красную Книгу,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з н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Млекопитающие – 43 вида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тицы – 82 вида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ресмыкающиеся – 15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Земноводные – 18 вид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Рыбы – 27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84 вида животных включены в список CITES,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з н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Пресмыкающиеся - 19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тицы - 40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Млекопитающие - 25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68360" y="5373720"/>
            <a:ext cx="820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При создании проекта мы поняли, что сила солдата не только в оружии, но и в его</a:t>
            </a:r>
            <a:r>
              <a:rPr b="0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мирных , светлых и праведных делах</a:t>
            </a:r>
            <a:r>
              <a:rPr b="0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Спасибо русскому солдат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F:\конкурс\сироткина\рисунки\2.jpg"/>
          <p:cNvPicPr/>
          <p:nvPr/>
        </p:nvPicPr>
        <p:blipFill>
          <a:blip r:embed="rId1"/>
          <a:stretch/>
        </p:blipFill>
        <p:spPr>
          <a:xfrm>
            <a:off x="2340000" y="189000"/>
            <a:ext cx="36846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50920" y="1125360"/>
            <a:ext cx="82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. 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Е. Воробьев «Последние выстрелы» Калининградское книжное издательство 1988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худ. В.М. Ласточ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2. Калининградский зоопарк Л.А.Воронина, Л.А.Данилова  Книжное издательство 198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ecoportal.ru/news.php?id=404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zoo.kaliningrad.net/index.php?type=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79280" y="42210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Рисунки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Сироткиной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Алё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92360" y="47628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спользуем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 rot="720600">
            <a:off x="4344480" y="431280"/>
            <a:ext cx="4407120" cy="2401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714240" y="62118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а книга о том, как на месте разрушенного города Кёнигсберга вырос наш город Калинин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31147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571680" y="2071800"/>
            <a:ext cx="2193840" cy="50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3203640" y="2708280"/>
            <a:ext cx="2233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5133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80400" y="55897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Зоопарк любимое место Калининград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Его создавали, любили и берегли прежние жители Кенигсбе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395280" y="414972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 родителями, с одноклассниками мы часто бываем в Калининградском зоопарке и любим стоять  возле бассейна с бегемо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читав эту книгу, мы  решили провести исследовательскую работу по истории зоопарка. Класс был разделён на рабочие группы: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Зоопарк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5364000" y="6021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дни читали книги о зоопа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672000" cy="206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203640" y="2060640"/>
            <a:ext cx="3168720" cy="178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348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852000" y="616572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ругие встречались с сотрудниками зооп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289560" cy="4908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79280" y="4869000"/>
            <a:ext cx="6191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 МОУ Полесская СОШ 1985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уромцев Александр Борисович, доктор ветеринарных наук, заведующий кафедрой животноводства Калининградского государственного техниче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ti-114625-31089"/>
          <p:cNvPicPr/>
          <p:nvPr/>
        </p:nvPicPr>
        <p:blipFill>
          <a:blip r:embed="rId1"/>
          <a:stretch/>
        </p:blipFill>
        <p:spPr>
          <a:xfrm>
            <a:off x="7711920" y="4724280"/>
            <a:ext cx="143208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5289480" y="5875200"/>
            <a:ext cx="2073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Александр Муромцев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аучный руководитель Научно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тельского центр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етеринарии и зоотехники КГТ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0" y="0"/>
            <a:ext cx="91440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«Легко ли лечить бегемо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Александр Борисович, Вам доводилось лечить бегемо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Бегемоты – жители тёплых стран. Часто простужаются в нашем холодном клима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А как вы определяете, болеет ли животн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У него так же, как и у ребёнка поднимается температура, появляется насмор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И как Вы их лечи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Мерим температуру, прослушиваем дыхание, даём микстуры с ложечки, рекомендуем соблюдать диету и тепловой реж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В прочитанной нами книге Евгения Воробьёва «Последние выстрелы» мы узнали, что не все, кто умеет лечить лошадей, смогут вылечить бегемота.  А чем отличается лечение лошади от лечения бегемо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Строение организма животных схожи. Но очень различается строение желудка. У лошади 3 желудочка, а у бегемота –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324000" y="5229360"/>
            <a:ext cx="417672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терв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858560" y="544500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третьи – рисовали рису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464000" cy="251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4464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47:54Z</dcterms:created>
  <dc:creator>Пользователь</dc:creator>
  <dc:description/>
  <dc:language>en-US</dc:language>
  <cp:lastModifiedBy>MAOU-PSOSH2</cp:lastModifiedBy>
  <dcterms:modified xsi:type="dcterms:W3CDTF">2019-04-02T10:09:12Z</dcterms:modified>
  <cp:revision>28</cp:revision>
  <dc:subject/>
  <dc:title>Слайд 1</dc:title>
</cp:coreProperties>
</file>