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7CDD-CE64-4D10-BFBD-462C48B0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C15B-9224-41E3-9B28-8B1F9F9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32DD-C290-49B0-ADA2-B0E6B48A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CBCB-E8D6-40E8-8C10-427BC10D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431A-6BE0-4275-8EAC-3BE72F49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7976-4609-417F-8123-7D7D25FD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9514-5801-4D57-A514-8F034D14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3B83-5CB3-4FCF-B272-32A04952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641E-A4C8-48E6-BB9D-D8D7E6A4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1EED-F251-40C2-9BC2-FB915F24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91F7-763F-46D7-B7BD-D3526183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DD75-D7CA-4F6A-A143-AA3BE1E0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935D-9F96-420C-8500-9D4B67E5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D6EE-7099-4B62-B7D3-D0A69C87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0FD9-5CD2-462E-914A-E9460813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A7E3-18FE-4791-A10C-E5E59151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B40B-7F6D-4B53-A479-B93D99B7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29AE-C2AB-4703-BBC4-1D4145B3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E0EE-1435-491B-B133-B4515D05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990B-E5AE-4244-B7BE-442319A1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F6DB-E4CE-4643-A738-185F76BB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3E0A-38A5-4FF2-AB96-B9180CF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FB95-DB71-427B-B8F6-7631F2C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FF61-403C-4EB2-AE64-CF1D09F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50000">
                  <a:srgbClr val="9cbca8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91af9c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b8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b8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50000">
                  <a:srgbClr val="b2d7c0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5000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50000">
                  <a:srgbClr val="b2d7c0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784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d878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a68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a68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a68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B3F9-C319-416C-A6F1-FE466BD953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68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50000">
                  <a:srgbClr val="9cbca8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91af9c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b8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b8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50000">
                  <a:srgbClr val="b2d7c0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5000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50000">
                  <a:srgbClr val="b2d7c0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b8dec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de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a6866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784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d878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a68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a68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a68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8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6866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68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2455-D059-4D26-A46C-1AC5305B9AE4}" type="slidenum">
              <a:rPr b="0" lang="ru-RU" sz="1000" spc="-1" strike="noStrike">
                <a:solidFill>
                  <a:srgbClr val="0a68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6040" y="1557000"/>
            <a:ext cx="8245800" cy="36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В ДОМЕ И НА КУХНЕ</a:t>
            </a:r>
            <a:br>
              <a:rPr sz="3600"/>
            </a:br>
            <a:r>
              <a:rPr b="1" lang="ru-RU" sz="3600" spc="-1" strike="noStrike">
                <a:solidFill>
                  <a:srgbClr val="0d8784"/>
                </a:solidFill>
                <a:latin typeface="Times New Roman"/>
                <a:ea typeface="Times New Roman"/>
              </a:rPr>
              <a:t>                           </a:t>
            </a:r>
            <a:br>
              <a:rPr sz="3600"/>
            </a:br>
            <a:br>
              <a:rPr sz="1400"/>
            </a:br>
            <a:r>
              <a:rPr b="1" lang="ru-RU" sz="3600" spc="-1" strike="noStrike">
                <a:solidFill>
                  <a:srgbClr val="0d8784"/>
                </a:solidFill>
                <a:latin typeface="Times New Roman"/>
                <a:ea typeface="Times New Roman"/>
              </a:rPr>
              <a:t>                                   </a:t>
            </a: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УКОВОДИТЕЛЬ: Грушина Л.В.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арший воспитатель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ВТОР: 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красов Иван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питанник подготовительной к школе группы</a:t>
            </a:r>
            <a:endParaRPr b="0" lang="en-US" sz="16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«Детский сад №92 общеразвивающего вида</a:t>
            </a: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51868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: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да – это,  то без чего не сможет жить ни один человек, ни одно животное.  Русская народная сказка – это «учебник жизни». В русских народных сказках животные не всегда питаются тем, чем питаются в природе. В сказках животные едят пищу, что и люди. Хотя прошло много лет, мы едим ту же пищу, что и герои. Русские народные сказки – «кулинарная книга» людей живших очень давно.</a:t>
            </a:r>
            <a:endParaRPr b="0" lang="en-US" sz="20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707920"/>
            <a:ext cx="8640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кт исследования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a68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усские народные сказки.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  исследования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еда.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чем питаются герои сказок.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 исследования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если внимательно прочитать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азки, то можно приготовить еду, которой питались герои.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324000" y="115920"/>
            <a:ext cx="835164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866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казки бывают:</a:t>
            </a:r>
            <a:endParaRPr b="0" lang="en-US" sz="36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азки бывают разные – веселые и грустные, страшные и смешные: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азки о животных – главные герои животные, ведут себя как люди;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шебные сказки – происходит волшебство, сказочные герои побеждают «зло»;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товые сказки – герои сказок люди.</a:t>
            </a: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68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 опросе  приняло участие 33 ребёнка 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подготовительной к школе группе:</a:t>
            </a:r>
            <a:endParaRPr b="0" lang="en-US" sz="3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Знаете ли Вы  русские народные сказки?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Да – 100%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Знаете ли Вы, чем питаются герои сказок?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Да – 84%; Нет – 16%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Знаете ли Вы, чем питаются герои русской народной сказки «Лиса и журавль»?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Да – 18%; Нет – 82%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Ребята знают сказку, но только 4 человека смогли назвать пи щу героев: манная каша, окрошка.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Знаете ли Вы, чем питаются герои русской народной сказки «Колобок»?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Да – 91%; Нет – 9%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Все дети знают сказку, но 2 ребёнка не смогли ответить, кого хотели съесть герои.</a:t>
            </a:r>
            <a:endParaRPr b="0" lang="en-US" sz="20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6866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68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пт изготовления колобка</a:t>
            </a:r>
            <a:endParaRPr b="0" lang="en-US" sz="4200" spc="-1" strike="noStrike">
              <a:solidFill>
                <a:srgbClr val="0d8784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                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ки насыпать 2 горсти,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рожжей ты ложку положи,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йцо разбей же поскорей, 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метаны в тесто ты налей,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 сахар, соль , ты не позабудь,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масло надо б ливануть.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сковородку.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арь быстрей!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на окошко положи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го минуточки на три…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сматривай!</a:t>
            </a:r>
            <a:endParaRPr b="0" lang="en-US" sz="2400" spc="-1" strike="noStrike">
              <a:solidFill>
                <a:srgbClr val="0a6866"/>
              </a:solidFill>
              <a:latin typeface="Tahoma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1"/>
          <a:srcRect l="0" t="0" r="51971" b="52499"/>
          <a:stretch/>
        </p:blipFill>
        <p:spPr>
          <a:xfrm>
            <a:off x="1547640" y="1549440"/>
            <a:ext cx="1727280" cy="2016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2"/>
          <a:srcRect l="51110" t="0" r="0" b="52499"/>
          <a:stretch/>
        </p:blipFill>
        <p:spPr>
          <a:xfrm>
            <a:off x="5940360" y="3789360"/>
            <a:ext cx="2009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4"/>
          <p:cNvSpPr/>
          <p:nvPr/>
        </p:nvSpPr>
        <p:spPr>
          <a:xfrm>
            <a:off x="324000" y="1557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</a:t>
            </a:r>
            <a:endParaRPr b="0" lang="en-US" sz="6000" spc="-1" strike="noStrike">
              <a:solidFill>
                <a:srgbClr val="0a686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 !</a:t>
            </a:r>
            <a:endParaRPr b="0" lang="en-US" sz="6000" spc="-1" strike="noStrike">
              <a:solidFill>
                <a:srgbClr val="0a68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4:57:24Z</dcterms:created>
  <dc:creator>User</dc:creator>
  <dc:description/>
  <dc:language>en-US</dc:language>
  <cp:lastModifiedBy>user</cp:lastModifiedBy>
  <dcterms:modified xsi:type="dcterms:W3CDTF">2019-04-07T10:29:01Z</dcterms:modified>
  <cp:revision>36</cp:revision>
  <dc:subject/>
  <dc:title>Развитие творческих способностей</dc:title>
</cp:coreProperties>
</file>