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2.wmf" ContentType="image/x-wmf"/>
  <Override PartName="/ppt/media/image3.gif" ContentType="image/gif"/>
  <Override PartName="/ppt/media/image4.wmf" ContentType="image/x-wmf"/>
  <Override PartName="/ppt/media/image5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A2E0-68C1-4FFD-B476-12D3A32198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8C8F-9AB0-460B-AF47-5F1FD27DAC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8D6-C013-4AC3-9954-6F37B605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A38-89F5-48AA-8A28-28322D5F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2F5-2A53-4A6D-9D45-A7FBCE82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3C5-3B2F-489B-A328-CE6F6332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4799-3C7E-4126-89AC-B207223D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0ED0-F99D-458C-A9B2-9D10A94D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43B5-8529-4BE3-B455-FBCF51A5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FD16-584B-49A6-ACDC-9EEEB233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8CEE-160C-4B8A-BEDE-AB228FE2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5ED9-B460-404C-A011-7EB41906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FB04-70E3-4032-94AC-9B04857A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968-8765-43D8-B489-19BD51EC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4E1D-288E-4A7E-AEA0-E5CF0079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75D1-E76E-4AB6-A1BC-9480EAA8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F82F-16E2-46BA-B7C1-52AE51CB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B67D-5E5E-4BF5-B976-8DA58FE3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FF85-02DA-4635-B0E5-376D9C4E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0FDBA-BDEF-4B2E-BD8F-7C11E902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04FB2-01D2-4513-A09F-66359307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8172C-0296-45A3-A116-8680614A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77745-2B99-4A69-9A09-F13C075F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2ACC2-CD45-4B05-A63C-E6EA95D2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AF4-FDFC-4FF6-B806-CC340A70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979A1-6136-414F-A658-52651ACD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1C1EC-D768-41AB-8AC1-6631C629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BDB5C-AB8C-4A0C-9848-9F5D9601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D95C8-0AC5-4604-8AD4-19B3AA69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A7039-656F-4E54-B014-D1BF57AE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D8E8B-DB9E-4CBA-B52A-0AF778FE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63C76-60B9-4739-BC58-FB6006A9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EC291-EA99-4DFD-9569-DA32B6C9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18885-D95D-4B01-AD3D-F3857CD2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9D119-ADA1-4A84-AFF7-F18BD1E0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D9E-F834-4EF1-88B0-9BCA790B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C3002-3814-4BCE-8AEF-6961C8F9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8DD79-6BD2-4A40-9A7D-B0905C2C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3775B-A204-4FC8-9950-7810E8FD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D083-0C57-4241-ACD8-F11993AF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21E60-3F16-47E7-B598-B0B60AB2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7DF74-E128-42B7-A2B7-B7F4C5BB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2A30C-7DA1-4738-9094-0E7F81A3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CA69F-7B70-4C8E-BFC4-4BDE9A62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65AD3-F8FB-43C2-B267-A1DEAC94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00D7B-D789-40F7-B5C5-2927B3E0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43A-7A19-48D4-8E3B-F432C2E8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D16DC-E68F-4564-A221-4482E804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6A5E75-A1DA-4688-8156-83E5D071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5207C-305D-46E3-BCD0-40B122BC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502A89-8264-40C5-ADD9-E7D41BAA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B6D54C-76B1-48CA-97DB-714076EF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ED9DE-09EA-4E4A-8EB2-51EF1A91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BC3B8-E64F-4B9F-8EE4-1C71498D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55E666-0C08-47BC-ABA7-6CFC56FC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2526D-6FFE-49AE-A456-FDB289A3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19C05-5343-42EC-8254-ACC7F823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75B-AED2-4B18-93F7-DE9E407F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5F20E-FA7F-4D91-A99D-80070D66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6487C-07FD-485F-9834-19047747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6EB96-C660-40E2-8776-AD2A62DF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66E64E-6120-42D2-93C0-7213A40A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5A02A-91D0-4BBE-BD79-1E48BA81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C13EA-EEE3-4F11-A80C-B56FC988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B8786-15D8-4E71-8656-6F2176CA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4997F-AE30-4383-909B-DC7A2A50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74127-899F-4A47-9F03-57E2C480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A2F8D-C6BE-410B-BAFA-E705B645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D62-FFC1-4978-AD56-7821E79D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0BE0E-D65D-4034-8DB9-DAD9C3B0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6E479-1818-436D-BB04-CBCD8390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FC7D2C-C0CB-4DB7-BE99-3C983A73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701FB-BDE9-4631-B034-B8870B8D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7583F-AA98-4716-9E73-77FEA9DD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04761-D2B5-44B1-B6F9-7DF9621A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CC986-F4B6-4A48-8933-7E64BFB0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00518-45FF-4870-A6B6-17CD7588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A521F8-2A4A-4542-8890-41A352CD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DAFCC-1995-4627-9444-784C30FC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689-FCCD-47CD-A8D7-F2A502CC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E60B61-BE79-4610-B57C-0E0D4A4A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32E0F-F5A4-497B-B2F5-7DA72E28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C40DC-631D-46FB-A64B-7EC93A6B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96D22-BD07-44E2-A5B7-CF9296B5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5045D-E3F0-40BB-9376-DF5885F9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098-4722-46BF-9821-65CA31C9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C55F-0767-4124-81A6-579AC78DC5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7D8C-B673-4911-9E91-EDA7FF3619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4BA8-80F3-453F-B9D5-9ECB5846C22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DFEB-AA17-4376-AD8D-207B303166D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4274-2D2F-4041-93A2-4329E94391D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D695-6642-431D-8544-97A3D309B92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B669-FA28-41F1-9A49-81ACF04F41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518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c3036"/>
                </a:solidFill>
                <a:latin typeface="Century Schoolbook"/>
              </a:rPr>
              <a:t>ПРИНЦИПЫ РАБОТЫ </a:t>
            </a:r>
            <a:br>
              <a:rPr sz="3600"/>
            </a:br>
            <a:r>
              <a:rPr b="1" i="1" lang="ru-RU" sz="3600" spc="-1" strike="noStrike">
                <a:solidFill>
                  <a:srgbClr val="2c3036"/>
                </a:solidFill>
                <a:latin typeface="Century Schoolbook"/>
              </a:rPr>
              <a:t>С ОДАРЕННЫМИ ДЕТЬМИ </a:t>
            </a:r>
            <a:br>
              <a:rPr sz="3600"/>
            </a:br>
            <a:r>
              <a:rPr b="1" i="1" lang="ru-RU" sz="3600" spc="-1" strike="noStrike">
                <a:solidFill>
                  <a:srgbClr val="2c3036"/>
                </a:solidFill>
                <a:latin typeface="Century Schoolbook"/>
              </a:rPr>
              <a:t>В ОБРАЗОВАТЕЛЬНОМ УЧРЕЖДЕНИ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560" y="5003640"/>
            <a:ext cx="4608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ыступление на методическом объединении МБОУ «СОШ №7», г. Мегион, пгт Высокий. 2016 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дготовил Скабёлкин К.Ю.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4840200" y="-49320"/>
            <a:ext cx="4359240" cy="5784840"/>
          </a:xfrm>
          <a:prstGeom prst="rect">
            <a:avLst/>
          </a:prstGeom>
          <a:ln w="0">
            <a:noFill/>
          </a:ln>
        </p:spPr>
      </p:pic>
      <p:sp>
        <p:nvSpPr>
          <p:cNvPr id="361" name="Заголовок 1"/>
          <p:cNvSpPr/>
          <p:nvPr/>
        </p:nvSpPr>
        <p:spPr>
          <a:xfrm>
            <a:off x="250920" y="4581360"/>
            <a:ext cx="432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32c16"/>
                </a:solidFill>
                <a:latin typeface="Century Schoolbook"/>
              </a:rPr>
              <a:t>ПРИНЦИПЫ РАБОТЫ С ОДАРЕННЫМИ ДЕТЬМ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23640" y="1341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принцип развивающего обуч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принцип дифференциации и индивидуализации обучения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принцип учета возрастных возможност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принцип максимального разнообразия предоставляемых возможносте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принцип возрастания роли внеурочной деятельности одаренных детей через кружки, секции, факультативы, научное общество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принцип  усиления внимания к проблеме межпредметных связей в индивидуальной работе с учащимися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принцип создания условий для творческой работы учащих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32c16"/>
                </a:solidFill>
                <a:latin typeface="Century Schoolbook"/>
              </a:rPr>
              <a:t>ФОРМЫ РАБОТЫ С ОДАРЕННЫМИ ДЕТЬМ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групповые занят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работа по индивидуальным плана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кружки по интереса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сек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лектор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заочные школ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выездные школы или занят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соревнов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конкурс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интеллектуальные марафон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участие в олимпиада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научно-исследовательские конферен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РГАНИЗАЦИЯ РАБОТЫ С ОДАРЕННЫМИ ДЕТЬМ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28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 с научной литературой о психологических особенностях и методических приемах, эффективных при работе с одаренными деть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целенаправленных наблюдений,  за учебной и внеучебной деятельностью учащих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материалов и проведение специальных тестов, анкет, диагностических обследований позволяющих определить наличие одареннос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, способствующих оптимальному развитию одарен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3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3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ОЖИДАЕМЫЕ РЕЗУЛЬТАТЫ</a:t>
            </a:r>
            <a:br>
              <a:rPr sz="27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85840" y="1356840"/>
            <a:ext cx="822960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 интеллектуального  уровня  учащихся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самореализация выпускник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еемственности в работе начальной, средней и старшей школы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 системы работы с одаренными учащими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Рисунок 3" descr="i.jpg"/>
          <p:cNvPicPr/>
          <p:nvPr/>
        </p:nvPicPr>
        <p:blipFill>
          <a:blip r:embed="rId1"/>
          <a:stretch/>
        </p:blipFill>
        <p:spPr>
          <a:xfrm>
            <a:off x="6357960" y="4429080"/>
            <a:ext cx="2428920" cy="2130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3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3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rcRect l="0" t="0" r="1155" b="389"/>
          <a:stretch/>
        </p:blipFill>
        <p:spPr>
          <a:xfrm>
            <a:off x="179280" y="0"/>
            <a:ext cx="8763120" cy="6622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5" name="Объект 3" descr=""/>
          <p:cNvPicPr/>
          <p:nvPr/>
        </p:nvPicPr>
        <p:blipFill>
          <a:blip r:embed="rId1"/>
          <a:srcRect l="4297" t="0" r="1853" b="2732"/>
          <a:stretch/>
        </p:blipFill>
        <p:spPr>
          <a:xfrm>
            <a:off x="468360" y="189000"/>
            <a:ext cx="8280360" cy="643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Скругленный прямоугольник 31"/>
          <p:cNvSpPr/>
          <p:nvPr/>
        </p:nvSpPr>
        <p:spPr>
          <a:xfrm>
            <a:off x="357120" y="6000840"/>
            <a:ext cx="8501040" cy="642960"/>
          </a:xfrm>
          <a:prstGeom prst="roundRect">
            <a:avLst>
              <a:gd name="adj" fmla="val 16667"/>
            </a:avLst>
          </a:prstGeom>
          <a:solidFill>
            <a:srgbClr val="e4e5e6"/>
          </a:solidFill>
          <a:ln w="25560">
            <a:solidFill>
              <a:srgbClr val="adb0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Скругленный прямоугольник 3"/>
          <p:cNvSpPr/>
          <p:nvPr/>
        </p:nvSpPr>
        <p:spPr>
          <a:xfrm>
            <a:off x="357120" y="142920"/>
            <a:ext cx="8572680" cy="720720"/>
          </a:xfrm>
          <a:prstGeom prst="roundRect">
            <a:avLst>
              <a:gd name="adj" fmla="val 16667"/>
            </a:avLst>
          </a:prstGeom>
          <a:solidFill>
            <a:srgbClr val="e4e5e6"/>
          </a:solidFill>
          <a:ln w="25560">
            <a:solidFill>
              <a:srgbClr val="adb0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Скругленный прямоугольник 4"/>
          <p:cNvSpPr/>
          <p:nvPr/>
        </p:nvSpPr>
        <p:spPr>
          <a:xfrm>
            <a:off x="214200" y="1143000"/>
            <a:ext cx="2357640" cy="576360"/>
          </a:xfrm>
          <a:prstGeom prst="roundRect">
            <a:avLst>
              <a:gd name="adj" fmla="val 16667"/>
            </a:avLst>
          </a:prstGeom>
          <a:solidFill>
            <a:srgbClr val="f8cfc8"/>
          </a:solidFill>
          <a:ln w="255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Скругленный прямоугольник 5"/>
          <p:cNvSpPr/>
          <p:nvPr/>
        </p:nvSpPr>
        <p:spPr>
          <a:xfrm>
            <a:off x="2643120" y="1143000"/>
            <a:ext cx="2071800" cy="576360"/>
          </a:xfrm>
          <a:prstGeom prst="roundRect">
            <a:avLst>
              <a:gd name="adj" fmla="val 16667"/>
            </a:avLst>
          </a:prstGeom>
          <a:solidFill>
            <a:srgbClr val="e3eaf7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Скругленный прямоугольник 6"/>
          <p:cNvSpPr/>
          <p:nvPr/>
        </p:nvSpPr>
        <p:spPr>
          <a:xfrm>
            <a:off x="4786200" y="1143000"/>
            <a:ext cx="1857600" cy="576360"/>
          </a:xfrm>
          <a:prstGeom prst="roundRect">
            <a:avLst>
              <a:gd name="adj" fmla="val 16667"/>
            </a:avLst>
          </a:prstGeom>
          <a:solidFill>
            <a:srgbClr val="eff1f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Скругленный прямоугольник 7"/>
          <p:cNvSpPr/>
          <p:nvPr/>
        </p:nvSpPr>
        <p:spPr>
          <a:xfrm>
            <a:off x="6715080" y="1143000"/>
            <a:ext cx="2232000" cy="576360"/>
          </a:xfrm>
          <a:prstGeom prst="roundRect">
            <a:avLst>
              <a:gd name="adj" fmla="val 16667"/>
            </a:avLst>
          </a:prstGeom>
          <a:solidFill>
            <a:srgbClr val="fdf5d5"/>
          </a:solidFill>
          <a:ln w="25560">
            <a:solidFill>
              <a:srgbClr val="d0a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2" name="Прямая со стрелкой 16"/>
          <p:cNvCxnSpPr/>
          <p:nvPr/>
        </p:nvCxnSpPr>
        <p:spPr>
          <a:xfrm>
            <a:off x="1356840" y="8571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03" name="Скругленный прямоугольник 25"/>
          <p:cNvSpPr/>
          <p:nvPr/>
        </p:nvSpPr>
        <p:spPr>
          <a:xfrm>
            <a:off x="357120" y="2000160"/>
            <a:ext cx="8501040" cy="714600"/>
          </a:xfrm>
          <a:prstGeom prst="roundRect">
            <a:avLst>
              <a:gd name="adj" fmla="val 16667"/>
            </a:avLst>
          </a:prstGeom>
          <a:solidFill>
            <a:srgbClr val="e4e5e6"/>
          </a:solidFill>
          <a:ln w="25560">
            <a:solidFill>
              <a:srgbClr val="adb0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Скругленный прямоугольник 26"/>
          <p:cNvSpPr/>
          <p:nvPr/>
        </p:nvSpPr>
        <p:spPr>
          <a:xfrm>
            <a:off x="357120" y="3000240"/>
            <a:ext cx="8501040" cy="428760"/>
          </a:xfrm>
          <a:prstGeom prst="roundRect">
            <a:avLst>
              <a:gd name="adj" fmla="val 16667"/>
            </a:avLst>
          </a:prstGeom>
          <a:solidFill>
            <a:srgbClr val="e4e5e6"/>
          </a:solidFill>
          <a:ln w="25560">
            <a:solidFill>
              <a:srgbClr val="adb0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Скругленный прямоугольник 27"/>
          <p:cNvSpPr/>
          <p:nvPr/>
        </p:nvSpPr>
        <p:spPr>
          <a:xfrm>
            <a:off x="214200" y="3714840"/>
            <a:ext cx="2357640" cy="2000160"/>
          </a:xfrm>
          <a:prstGeom prst="roundRect">
            <a:avLst>
              <a:gd name="adj" fmla="val 16667"/>
            </a:avLst>
          </a:prstGeom>
          <a:solidFill>
            <a:srgbClr val="f8cfc8"/>
          </a:solidFill>
          <a:ln w="255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Скругленный прямоугольник 28"/>
          <p:cNvSpPr/>
          <p:nvPr/>
        </p:nvSpPr>
        <p:spPr>
          <a:xfrm>
            <a:off x="2643120" y="3714840"/>
            <a:ext cx="2071800" cy="2000160"/>
          </a:xfrm>
          <a:prstGeom prst="roundRect">
            <a:avLst>
              <a:gd name="adj" fmla="val 16667"/>
            </a:avLst>
          </a:prstGeom>
          <a:solidFill>
            <a:srgbClr val="e3eaf7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Скругленный прямоугольник 29"/>
          <p:cNvSpPr/>
          <p:nvPr/>
        </p:nvSpPr>
        <p:spPr>
          <a:xfrm>
            <a:off x="4786200" y="3714840"/>
            <a:ext cx="1857600" cy="2000160"/>
          </a:xfrm>
          <a:custGeom>
            <a:avLst/>
            <a:gdLst>
              <a:gd name="textAreaLeft" fmla="*/ 90360 w 1857600"/>
              <a:gd name="textAreaRight" fmla="*/ 1767240 w 1857600"/>
              <a:gd name="textAreaTop" fmla="*/ 90360 h 2000160"/>
              <a:gd name="textAreaBottom" fmla="*/ 1909800 h 2000160"/>
            </a:gdLst>
            <a:ahLst/>
            <a:rect l="textAreaLeft" t="textAreaTop" r="textAreaRight" b="textAreaBottom"/>
            <a:pathLst>
              <a:path w="21600" h="23257">
                <a:moveTo>
                  <a:pt x="3600" y="0"/>
                </a:moveTo>
                <a:arcTo wR="3600" hR="3600" stAng="16200000" swAng="-5400000"/>
                <a:lnTo>
                  <a:pt x="0" y="19657"/>
                </a:lnTo>
                <a:arcTo wR="3600" hR="3600" stAng="10800000" swAng="-5400000"/>
                <a:lnTo>
                  <a:pt x="18000" y="232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ff1f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Скругленный прямоугольник 30"/>
          <p:cNvSpPr/>
          <p:nvPr/>
        </p:nvSpPr>
        <p:spPr>
          <a:xfrm>
            <a:off x="6715080" y="3714840"/>
            <a:ext cx="2232000" cy="2000160"/>
          </a:xfrm>
          <a:prstGeom prst="roundRect">
            <a:avLst>
              <a:gd name="adj" fmla="val 16667"/>
            </a:avLst>
          </a:prstGeom>
          <a:solidFill>
            <a:srgbClr val="fdf5d5"/>
          </a:solidFill>
          <a:ln w="25560">
            <a:solidFill>
              <a:srgbClr val="d0a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9" name="Прямая со стрелкой 32"/>
          <p:cNvCxnSpPr/>
          <p:nvPr/>
        </p:nvCxnSpPr>
        <p:spPr>
          <a:xfrm>
            <a:off x="3499920" y="8571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0" name="Прямая со стрелкой 33"/>
          <p:cNvCxnSpPr/>
          <p:nvPr/>
        </p:nvCxnSpPr>
        <p:spPr>
          <a:xfrm>
            <a:off x="5571720" y="8571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1" name="Прямая со стрелкой 34"/>
          <p:cNvCxnSpPr/>
          <p:nvPr/>
        </p:nvCxnSpPr>
        <p:spPr>
          <a:xfrm>
            <a:off x="7929360" y="8571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12" name="TextBox 36"/>
          <p:cNvSpPr/>
          <p:nvPr/>
        </p:nvSpPr>
        <p:spPr>
          <a:xfrm>
            <a:off x="857160" y="21420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84807"/>
                </a:solidFill>
                <a:latin typeface="Calibri"/>
              </a:rPr>
              <a:t>Выявление одаренности (диагности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37"/>
          <p:cNvSpPr/>
          <p:nvPr/>
        </p:nvSpPr>
        <p:spPr>
          <a:xfrm>
            <a:off x="0" y="11970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Calibri"/>
              </a:rPr>
              <a:t>интеллектуаль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38"/>
          <p:cNvSpPr/>
          <p:nvPr/>
        </p:nvSpPr>
        <p:spPr>
          <a:xfrm>
            <a:off x="2643120" y="121428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44583"/>
                </a:solidFill>
                <a:latin typeface="Calibri"/>
              </a:rPr>
              <a:t>социаль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39"/>
          <p:cNvSpPr/>
          <p:nvPr/>
        </p:nvSpPr>
        <p:spPr>
          <a:xfrm>
            <a:off x="4786200" y="121428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a3d01"/>
                </a:solidFill>
                <a:latin typeface="Calibri"/>
              </a:rPr>
              <a:t>творче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40"/>
          <p:cNvSpPr/>
          <p:nvPr/>
        </p:nvSpPr>
        <p:spPr>
          <a:xfrm>
            <a:off x="6715080" y="1214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44583"/>
                </a:solidFill>
                <a:latin typeface="Calibri"/>
              </a:rPr>
              <a:t>психомотор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7" name="Прямая со стрелкой 41"/>
          <p:cNvCxnSpPr/>
          <p:nvPr/>
        </p:nvCxnSpPr>
        <p:spPr>
          <a:xfrm>
            <a:off x="1356840" y="171468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8" name="Прямая со стрелкой 42"/>
          <p:cNvCxnSpPr/>
          <p:nvPr/>
        </p:nvCxnSpPr>
        <p:spPr>
          <a:xfrm>
            <a:off x="3571560" y="171468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9" name="Прямая со стрелкой 43"/>
          <p:cNvCxnSpPr/>
          <p:nvPr/>
        </p:nvCxnSpPr>
        <p:spPr>
          <a:xfrm>
            <a:off x="5571720" y="171468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0" name="Прямая со стрелкой 44"/>
          <p:cNvCxnSpPr/>
          <p:nvPr/>
        </p:nvCxnSpPr>
        <p:spPr>
          <a:xfrm>
            <a:off x="7929360" y="171468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1" name="Прямая со стрелкой 46"/>
          <p:cNvCxnSpPr/>
          <p:nvPr/>
        </p:nvCxnSpPr>
        <p:spPr>
          <a:xfrm>
            <a:off x="1356840" y="27147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2" name="Прямая со стрелкой 47"/>
          <p:cNvCxnSpPr/>
          <p:nvPr/>
        </p:nvCxnSpPr>
        <p:spPr>
          <a:xfrm>
            <a:off x="3571560" y="27147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3" name="Прямая со стрелкой 48"/>
          <p:cNvCxnSpPr/>
          <p:nvPr/>
        </p:nvCxnSpPr>
        <p:spPr>
          <a:xfrm>
            <a:off x="5571720" y="27147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4" name="Прямая со стрелкой 49"/>
          <p:cNvCxnSpPr/>
          <p:nvPr/>
        </p:nvCxnSpPr>
        <p:spPr>
          <a:xfrm>
            <a:off x="7929360" y="271476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5" name="Прямая со стрелкой 51"/>
          <p:cNvCxnSpPr/>
          <p:nvPr/>
        </p:nvCxnSpPr>
        <p:spPr>
          <a:xfrm>
            <a:off x="1356840" y="342900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6" name="Прямая со стрелкой 52"/>
          <p:cNvCxnSpPr/>
          <p:nvPr/>
        </p:nvCxnSpPr>
        <p:spPr>
          <a:xfrm>
            <a:off x="3571560" y="342900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7" name="Прямая со стрелкой 53"/>
          <p:cNvCxnSpPr/>
          <p:nvPr/>
        </p:nvCxnSpPr>
        <p:spPr>
          <a:xfrm>
            <a:off x="5571720" y="342900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8" name="Прямая со стрелкой 54"/>
          <p:cNvCxnSpPr/>
          <p:nvPr/>
        </p:nvCxnSpPr>
        <p:spPr>
          <a:xfrm>
            <a:off x="7929360" y="3429000"/>
            <a:ext cx="1080" cy="28800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29" name="TextBox 55"/>
          <p:cNvSpPr/>
          <p:nvPr/>
        </p:nvSpPr>
        <p:spPr>
          <a:xfrm>
            <a:off x="214200" y="378612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Calibri"/>
              </a:rPr>
              <a:t>кружки, лектори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Calibri"/>
              </a:rPr>
              <a:t>заочные школ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Calibri"/>
              </a:rPr>
              <a:t>выездные школ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Calibri"/>
              </a:rPr>
              <a:t>конференции, олимпиа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Calibri"/>
              </a:rPr>
              <a:t>турниры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56"/>
          <p:cNvSpPr/>
          <p:nvPr/>
        </p:nvSpPr>
        <p:spPr>
          <a:xfrm>
            <a:off x="2643120" y="392904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конкурсы, городские программ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самоуправ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Проек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57"/>
          <p:cNvSpPr/>
          <p:nvPr/>
        </p:nvSpPr>
        <p:spPr>
          <a:xfrm>
            <a:off x="4786200" y="3929040"/>
            <a:ext cx="18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Calibri"/>
              </a:rPr>
              <a:t>кружки, конкурс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Calibri"/>
              </a:rPr>
              <a:t>проекты, выста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Calibri"/>
              </a:rPr>
              <a:t>и т.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58"/>
          <p:cNvSpPr/>
          <p:nvPr/>
        </p:nvSpPr>
        <p:spPr>
          <a:xfrm>
            <a:off x="6715080" y="3786120"/>
            <a:ext cx="221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секции, соревновани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турниры, спартакиа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эстафеты, олимпиады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45"/>
          <p:cNvSpPr/>
          <p:nvPr/>
        </p:nvSpPr>
        <p:spPr>
          <a:xfrm>
            <a:off x="0" y="2000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e42"/>
                </a:solidFill>
                <a:latin typeface="Calibri"/>
              </a:rPr>
              <a:t>Урочная деятель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e42"/>
                </a:solidFill>
                <a:latin typeface="Calibri"/>
              </a:rPr>
              <a:t>(проблематизация, углубление, ускорение, обогащение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50"/>
          <p:cNvSpPr/>
          <p:nvPr/>
        </p:nvSpPr>
        <p:spPr>
          <a:xfrm>
            <a:off x="357120" y="300024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e42"/>
                </a:solidFill>
                <a:latin typeface="Calibri"/>
              </a:rPr>
              <a:t>Внеурочная деятельность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5" name="Прямая со стрелкой 62"/>
          <p:cNvCxnSpPr>
            <a:stCxn id="429" idx="2"/>
          </p:cNvCxnSpPr>
          <p:nvPr/>
        </p:nvCxnSpPr>
        <p:spPr>
          <a:xfrm flipH="1">
            <a:off x="1402560" y="5733720"/>
            <a:ext cx="2520" cy="27684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6" name="Прямая со стрелкой 63"/>
          <p:cNvCxnSpPr/>
          <p:nvPr/>
        </p:nvCxnSpPr>
        <p:spPr>
          <a:xfrm flipH="1">
            <a:off x="3642480" y="5714640"/>
            <a:ext cx="2520" cy="27684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7" name="Прямая со стрелкой 64"/>
          <p:cNvCxnSpPr/>
          <p:nvPr/>
        </p:nvCxnSpPr>
        <p:spPr>
          <a:xfrm flipH="1">
            <a:off x="5643360" y="5714640"/>
            <a:ext cx="2160" cy="27684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8" name="Прямая со стрелкой 65"/>
          <p:cNvCxnSpPr/>
          <p:nvPr/>
        </p:nvCxnSpPr>
        <p:spPr>
          <a:xfrm flipH="1">
            <a:off x="8000640" y="5714640"/>
            <a:ext cx="2160" cy="276840"/>
          </a:xfrm>
          <a:prstGeom prst="straightConnector1">
            <a:avLst/>
          </a:prstGeom>
          <a:ln w="1908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39" name="5-конечная звезда 66"/>
          <p:cNvSpPr/>
          <p:nvPr/>
        </p:nvSpPr>
        <p:spPr>
          <a:xfrm>
            <a:off x="500040" y="6143760"/>
            <a:ext cx="428760" cy="357120"/>
          </a:xfrm>
          <a:custGeom>
            <a:avLst/>
            <a:gdLst>
              <a:gd name="textAreaLeft" fmla="*/ 132480 w 428760"/>
              <a:gd name="textAreaRight" fmla="*/ 296280 w 428760"/>
              <a:gd name="textAreaTop" fmla="*/ 136440 h 357120"/>
              <a:gd name="textAreaBottom" fmla="*/ 272880 h 357120"/>
            </a:gdLst>
            <a:ahLst/>
            <a:rect l="textAreaLeft" t="textAreaTop" r="textAreaRight" b="textAreaBottom"/>
            <a:pathLst>
              <a:path w="428625" h="357188">
                <a:moveTo>
                  <a:pt x="0" y="136433"/>
                </a:moveTo>
                <a:lnTo>
                  <a:pt x="163721" y="136434"/>
                </a:lnTo>
                <a:lnTo>
                  <a:pt x="214313" y="0"/>
                </a:lnTo>
                <a:lnTo>
                  <a:pt x="264904" y="136434"/>
                </a:lnTo>
                <a:lnTo>
                  <a:pt x="428625" y="136433"/>
                </a:lnTo>
                <a:lnTo>
                  <a:pt x="296171" y="220753"/>
                </a:lnTo>
                <a:lnTo>
                  <a:pt x="346765" y="357187"/>
                </a:lnTo>
                <a:lnTo>
                  <a:pt x="214313" y="272865"/>
                </a:lnTo>
                <a:lnTo>
                  <a:pt x="81860" y="357187"/>
                </a:lnTo>
                <a:lnTo>
                  <a:pt x="132454" y="220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5-конечная звезда 67"/>
          <p:cNvSpPr/>
          <p:nvPr/>
        </p:nvSpPr>
        <p:spPr>
          <a:xfrm>
            <a:off x="1214280" y="6143760"/>
            <a:ext cx="428760" cy="357120"/>
          </a:xfrm>
          <a:custGeom>
            <a:avLst/>
            <a:gdLst>
              <a:gd name="textAreaLeft" fmla="*/ 132480 w 428760"/>
              <a:gd name="textAreaRight" fmla="*/ 296280 w 428760"/>
              <a:gd name="textAreaTop" fmla="*/ 136440 h 357120"/>
              <a:gd name="textAreaBottom" fmla="*/ 272880 h 357120"/>
            </a:gdLst>
            <a:ahLst/>
            <a:rect l="textAreaLeft" t="textAreaTop" r="textAreaRight" b="textAreaBottom"/>
            <a:pathLst>
              <a:path w="428625" h="357188">
                <a:moveTo>
                  <a:pt x="0" y="136433"/>
                </a:moveTo>
                <a:lnTo>
                  <a:pt x="163721" y="136434"/>
                </a:lnTo>
                <a:lnTo>
                  <a:pt x="214313" y="0"/>
                </a:lnTo>
                <a:lnTo>
                  <a:pt x="264904" y="136434"/>
                </a:lnTo>
                <a:lnTo>
                  <a:pt x="428625" y="136433"/>
                </a:lnTo>
                <a:lnTo>
                  <a:pt x="296171" y="220753"/>
                </a:lnTo>
                <a:lnTo>
                  <a:pt x="346765" y="357187"/>
                </a:lnTo>
                <a:lnTo>
                  <a:pt x="214313" y="272865"/>
                </a:lnTo>
                <a:lnTo>
                  <a:pt x="81860" y="357187"/>
                </a:lnTo>
                <a:lnTo>
                  <a:pt x="132454" y="220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5-конечная звезда 68"/>
          <p:cNvSpPr/>
          <p:nvPr/>
        </p:nvSpPr>
        <p:spPr>
          <a:xfrm>
            <a:off x="8286840" y="6143760"/>
            <a:ext cx="428400" cy="357120"/>
          </a:xfrm>
          <a:custGeom>
            <a:avLst/>
            <a:gdLst>
              <a:gd name="textAreaLeft" fmla="*/ 132480 w 428400"/>
              <a:gd name="textAreaRight" fmla="*/ 295920 w 428400"/>
              <a:gd name="textAreaTop" fmla="*/ 136440 h 357120"/>
              <a:gd name="textAreaBottom" fmla="*/ 272880 h 357120"/>
            </a:gdLst>
            <a:ahLst/>
            <a:rect l="textAreaLeft" t="textAreaTop" r="textAreaRight" b="textAreaBottom"/>
            <a:pathLst>
              <a:path w="428625" h="357188">
                <a:moveTo>
                  <a:pt x="0" y="136433"/>
                </a:moveTo>
                <a:lnTo>
                  <a:pt x="163721" y="136434"/>
                </a:lnTo>
                <a:lnTo>
                  <a:pt x="214313" y="0"/>
                </a:lnTo>
                <a:lnTo>
                  <a:pt x="264904" y="136434"/>
                </a:lnTo>
                <a:lnTo>
                  <a:pt x="428625" y="136433"/>
                </a:lnTo>
                <a:lnTo>
                  <a:pt x="296171" y="220753"/>
                </a:lnTo>
                <a:lnTo>
                  <a:pt x="346765" y="357187"/>
                </a:lnTo>
                <a:lnTo>
                  <a:pt x="214313" y="272865"/>
                </a:lnTo>
                <a:lnTo>
                  <a:pt x="81860" y="357187"/>
                </a:lnTo>
                <a:lnTo>
                  <a:pt x="132454" y="220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5-конечная звезда 69"/>
          <p:cNvSpPr/>
          <p:nvPr/>
        </p:nvSpPr>
        <p:spPr>
          <a:xfrm>
            <a:off x="7572240" y="6143760"/>
            <a:ext cx="428760" cy="357120"/>
          </a:xfrm>
          <a:custGeom>
            <a:avLst/>
            <a:gdLst>
              <a:gd name="textAreaLeft" fmla="*/ 132480 w 428760"/>
              <a:gd name="textAreaRight" fmla="*/ 296280 w 428760"/>
              <a:gd name="textAreaTop" fmla="*/ 136440 h 357120"/>
              <a:gd name="textAreaBottom" fmla="*/ 272880 h 357120"/>
            </a:gdLst>
            <a:ahLst/>
            <a:rect l="textAreaLeft" t="textAreaTop" r="textAreaRight" b="textAreaBottom"/>
            <a:pathLst>
              <a:path w="428625" h="357188">
                <a:moveTo>
                  <a:pt x="0" y="136433"/>
                </a:moveTo>
                <a:lnTo>
                  <a:pt x="163721" y="136434"/>
                </a:lnTo>
                <a:lnTo>
                  <a:pt x="214313" y="0"/>
                </a:lnTo>
                <a:lnTo>
                  <a:pt x="264904" y="136434"/>
                </a:lnTo>
                <a:lnTo>
                  <a:pt x="428625" y="136433"/>
                </a:lnTo>
                <a:lnTo>
                  <a:pt x="296171" y="220753"/>
                </a:lnTo>
                <a:lnTo>
                  <a:pt x="346765" y="357187"/>
                </a:lnTo>
                <a:lnTo>
                  <a:pt x="214313" y="272865"/>
                </a:lnTo>
                <a:lnTo>
                  <a:pt x="81860" y="357187"/>
                </a:lnTo>
                <a:lnTo>
                  <a:pt x="132454" y="220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Прямоугольник 71" descr=""/>
          <p:cNvPicPr/>
          <p:nvPr/>
        </p:nvPicPr>
        <p:blipFill>
          <a:blip r:embed="rId1"/>
          <a:stretch/>
        </p:blipFill>
        <p:spPr>
          <a:xfrm>
            <a:off x="2567160" y="5919840"/>
            <a:ext cx="4005000" cy="669960"/>
          </a:xfrm>
          <a:prstGeom prst="rect">
            <a:avLst/>
          </a:prstGeom>
          <a:ln w="0">
            <a:noFill/>
          </a:ln>
        </p:spPr>
      </p:pic>
      <p:sp>
        <p:nvSpPr>
          <p:cNvPr id="444" name="5-конечная звезда 72"/>
          <p:cNvSpPr/>
          <p:nvPr/>
        </p:nvSpPr>
        <p:spPr>
          <a:xfrm>
            <a:off x="1928880" y="6143760"/>
            <a:ext cx="428400" cy="357120"/>
          </a:xfrm>
          <a:custGeom>
            <a:avLst/>
            <a:gdLst>
              <a:gd name="textAreaLeft" fmla="*/ 132480 w 428400"/>
              <a:gd name="textAreaRight" fmla="*/ 295920 w 428400"/>
              <a:gd name="textAreaTop" fmla="*/ 136440 h 357120"/>
              <a:gd name="textAreaBottom" fmla="*/ 272880 h 357120"/>
            </a:gdLst>
            <a:ahLst/>
            <a:rect l="textAreaLeft" t="textAreaTop" r="textAreaRight" b="textAreaBottom"/>
            <a:pathLst>
              <a:path w="428625" h="357188">
                <a:moveTo>
                  <a:pt x="0" y="136433"/>
                </a:moveTo>
                <a:lnTo>
                  <a:pt x="163721" y="136434"/>
                </a:lnTo>
                <a:lnTo>
                  <a:pt x="214313" y="0"/>
                </a:lnTo>
                <a:lnTo>
                  <a:pt x="264904" y="136434"/>
                </a:lnTo>
                <a:lnTo>
                  <a:pt x="428625" y="136433"/>
                </a:lnTo>
                <a:lnTo>
                  <a:pt x="296171" y="220753"/>
                </a:lnTo>
                <a:lnTo>
                  <a:pt x="346765" y="357187"/>
                </a:lnTo>
                <a:lnTo>
                  <a:pt x="214313" y="272865"/>
                </a:lnTo>
                <a:lnTo>
                  <a:pt x="81860" y="357187"/>
                </a:lnTo>
                <a:lnTo>
                  <a:pt x="132454" y="220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5-конечная звезда 73"/>
          <p:cNvSpPr/>
          <p:nvPr/>
        </p:nvSpPr>
        <p:spPr>
          <a:xfrm>
            <a:off x="6786720" y="6143760"/>
            <a:ext cx="428400" cy="357120"/>
          </a:xfrm>
          <a:custGeom>
            <a:avLst/>
            <a:gdLst>
              <a:gd name="textAreaLeft" fmla="*/ 132480 w 428400"/>
              <a:gd name="textAreaRight" fmla="*/ 295920 w 428400"/>
              <a:gd name="textAreaTop" fmla="*/ 136440 h 357120"/>
              <a:gd name="textAreaBottom" fmla="*/ 272880 h 357120"/>
            </a:gdLst>
            <a:ahLst/>
            <a:rect l="textAreaLeft" t="textAreaTop" r="textAreaRight" b="textAreaBottom"/>
            <a:pathLst>
              <a:path w="428625" h="357188">
                <a:moveTo>
                  <a:pt x="0" y="136433"/>
                </a:moveTo>
                <a:lnTo>
                  <a:pt x="163721" y="136434"/>
                </a:lnTo>
                <a:lnTo>
                  <a:pt x="214313" y="0"/>
                </a:lnTo>
                <a:lnTo>
                  <a:pt x="264904" y="136434"/>
                </a:lnTo>
                <a:lnTo>
                  <a:pt x="428625" y="136433"/>
                </a:lnTo>
                <a:lnTo>
                  <a:pt x="296171" y="220753"/>
                </a:lnTo>
                <a:lnTo>
                  <a:pt x="346765" y="357187"/>
                </a:lnTo>
                <a:lnTo>
                  <a:pt x="214313" y="272865"/>
                </a:lnTo>
                <a:lnTo>
                  <a:pt x="81860" y="357187"/>
                </a:lnTo>
                <a:lnTo>
                  <a:pt x="132454" y="220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РЕКОМЕНДАЦИИ УЧИТЕЛЯМ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чителю не следует уделять слишком много внимания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гровому обучению с ярко выраженным элементом соревновательности. Одаренный ребенок будет чащ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сего оказываться победителем, что может вызват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приязнь соучеников и не благоприятствует созданию атмосферы всеобщей заинтересованности, к которо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ремится учитель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читель не должен возводить одаренного ребенка н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ьедестал или делать из него вундеркинда в глазах других учеников. Успехи его будут должным образом оценены, а неуместное выпячивание его исключительности достижений рождает чаще всего раздражение, ревность и отторжение вместо ожидаемой похвалы. Другая крайность — преднамеренное публичное принижение уникальных способностей и даже сарказм со стороны учителя,— конечно, недопустим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DC70-E0C2-43AE-A059-68801405CFF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8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88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88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88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88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88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88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РЕКОМЕНДАЦИИ УЧИТЕЛЯМ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занимайтесь наставлениями, помогайте детям действовать независимо, не давайте прямых инструкций относительно того, чем они должны заниматься 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сдерживайте инициативы и не делайте за них то, что они могут сделать самостоятельно 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учите школьников прослеживать межпредметные связи и использовать знания, полученные при изучении других предметов.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учайте детей к навыкам самостоятельного решения проблем, исследования и анализа ситуации.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уйте трудные ситуации, возникшие в школе или дома, как область приложения полученных навыков при решении задач.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могайте детям научиться управлять процессом усвоения знаний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9860-3FEA-4A6B-8680-4DCDFE0E8B3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В КАЖДОМ ЧЕЛОВЕКЕ – СОЛНЦЕ, ТОЛЬКО ДАЙТЕ ЕМУ СВЕТИТЬ.</a:t>
            </a:r>
            <a:br>
              <a:rPr sz="2700"/>
            </a:br>
            <a:r>
              <a:rPr b="1" i="1" lang="ru-RU" sz="27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1" i="1" lang="ru-RU" sz="29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ОКРАТ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3" name="Рисунок 2" descr="i (1).jpg"/>
          <p:cNvPicPr/>
          <p:nvPr/>
        </p:nvPicPr>
        <p:blipFill>
          <a:blip r:embed="rId1"/>
          <a:stretch/>
        </p:blipFill>
        <p:spPr>
          <a:xfrm>
            <a:off x="571680" y="4143240"/>
            <a:ext cx="3929040" cy="2405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.А.СУХОМЛИНСКИЙ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8147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a3d01"/>
                </a:solidFill>
                <a:latin typeface="Century Schoolbook"/>
              </a:rPr>
              <a:t>Одаренные дети – учащиеся, имеющие высокий интеллектуальный, творческий и учебно-познавательный потенциа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a3d01"/>
                </a:solidFill>
                <a:latin typeface="Century Schoolbook"/>
              </a:rPr>
              <a:t>Дети должны жить в мире красоты, игры и сказки, музыки, рисунка, фантазии, творчеств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ИСПОЛЬЗУЕМЫЕ САЙТЫ И ЛИТЕРАТУРА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6840" y="1999800"/>
            <a:ext cx="7467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я одаренности детей и подростков / Под ред. Н.C Лейтеса. – М., 2000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нков. А.И. Одаренные дети в школе и дома. – М., 2000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экэкс К., Карне М. Одаренные дети. – М., 199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http://images.yandex.ru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6840" y="4357800"/>
            <a:ext cx="74674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2c16"/>
                </a:solidFill>
                <a:latin typeface="Century Schoolbook"/>
              </a:rPr>
              <a:t>ЗА СОТРУДНИЧЕСТВО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8" name="Рисунок 4" descr="&amp;Kcy;&amp;acy;&amp;rcy;&amp;tcy;&amp;icy;&amp;ncy;&amp;kcy;&amp;icy; &amp;pcy;&amp;ocy; &amp;zcy;&amp;acy;&amp;pcy;&amp;rcy;&amp;ocy;&amp;scy;&amp;ucy; &amp;Bcy;&amp;lcy;&amp;acy;&amp;gcy;&amp;ocy;&amp;dcy;&amp;acy;&amp;rcy;&amp;yucy;, &amp;scy;&amp;pcy;&amp;acy;&amp;scy;&amp;icy;&amp;bcy;&amp;ocy; &amp;kcy;&amp;acy;&amp;rcy;&amp;tcy;&amp;icy;&amp;ncy;&amp;kcy;&amp;icy;"/>
          <p:cNvPicPr/>
          <p:nvPr/>
        </p:nvPicPr>
        <p:blipFill>
          <a:blip r:embed="rId1"/>
          <a:stretch/>
        </p:blipFill>
        <p:spPr>
          <a:xfrm>
            <a:off x="571680" y="0"/>
            <a:ext cx="7000560" cy="3994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0" y="259920"/>
            <a:ext cx="82231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98d9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Задание учителям! Ниже перечислены личностные черты и деловые качества,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которые учитель встречает у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своих учеников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тметьте знаком «+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е свойства, которые Вам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равятся в учениках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 знаком «-» те, что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е нравя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88E3-466F-4E62-9038-53B2E481183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5" descr="j0428227[1]"/>
          <p:cNvPicPr/>
          <p:nvPr/>
        </p:nvPicPr>
        <p:blipFill>
          <a:blip r:embed="rId1"/>
          <a:stretch/>
        </p:blipFill>
        <p:spPr>
          <a:xfrm>
            <a:off x="5029200" y="380880"/>
            <a:ext cx="3562200" cy="6032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75960" y="15228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исциплинирован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еровно успевающ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рганизован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ыбивающийся из общего темп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Эрудирован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ранный в поведении, непонят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меющий поддержать общее дел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ыскакивающий на уроке с нелепыми замечания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бильно успевающий (всегда хорошо учится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нятый своими делами (индивидуалист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Быстро, «на лету» схватывающ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е умеющий общаться, конфликт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бщающийся легко, приятный в общен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ногда тугодум, иногда не может понять очевидног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Ясно,  понятно для всех выражающий свои мысл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е всегда желающий подчиняться большинству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ли официальному руководителю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4194-2154-414E-BE16-CB4C3243652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3" descr="AG00317_"/>
          <p:cNvPicPr/>
          <p:nvPr/>
        </p:nvPicPr>
        <p:blipFill>
          <a:blip r:embed="rId1"/>
          <a:stretch/>
        </p:blipFill>
        <p:spPr>
          <a:xfrm>
            <a:off x="7010280" y="4572000"/>
            <a:ext cx="1905120" cy="2095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598d9"/>
                </a:solidFill>
                <a:latin typeface="VivaldiD CL"/>
              </a:rPr>
              <a:t>КАКИХ «+» У ВАС БОЛЬШЕ?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000" y="2565360"/>
            <a:ext cx="746748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сли чётных «+» больше, то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ы – нестандартный учитель, умеющий обнаружить, выявить, разглядеть скрытую незаурядную одарённость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 практике такие учителя встречаются редко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E594-D850-4988-8821-7444EA898B9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УСЛОВИЯ РАЗВИТИЯ ОДАРЕННОСТ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се маленькие дети наделены с рождения определенными задатками и способностям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днако не все они развивают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ераскрытые возможности постепенно угасают вследствие невостребован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оцент одаренных с годами резко снижается: если в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-летнем возрасте их примерно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60‑70 %,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то к четырнадцати годам —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30‑40 %,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а к семнадцати — только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15‑20 %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6B4A-615E-4A8C-A2FD-E9F6566D087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Century Schoolbook"/>
              </a:rPr>
              <a:t>УСЛОВИЯ РАЗВИТИЯ ОДАРЕННОСТ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Интеллектуальное развитие к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5,5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годам имеет положительное ускорение, которое сменяется отрицательным, а к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12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годам в основном завершает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годам достигается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90%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развития интеллект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 результатам диагностики интеллект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-летних подростков и уч-ся </a:t>
            </a:r>
            <a:r>
              <a:rPr b="1" lang="ru-RU" sz="2800" spc="-1" strike="noStrike">
                <a:solidFill>
                  <a:srgbClr val="ff3300"/>
                </a:solidFill>
                <a:latin typeface="Century Schoolbook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-х классов существенно н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тличают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779C-36B2-45F3-ACB6-83090527FC9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4" descr="MCj03974900000[1]"/>
          <p:cNvPicPr/>
          <p:nvPr/>
        </p:nvPicPr>
        <p:blipFill>
          <a:blip r:embed="rId1"/>
          <a:stretch/>
        </p:blipFill>
        <p:spPr>
          <a:xfrm>
            <a:off x="6629400" y="5410080"/>
            <a:ext cx="2206800" cy="1282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68000" y="620280"/>
            <a:ext cx="669636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b32c16"/>
                </a:solidFill>
                <a:uFillTx/>
                <a:latin typeface="Century Schoolbook"/>
              </a:rPr>
              <a:t>ЦЕЛЬ </a:t>
            </a:r>
            <a:r>
              <a:rPr b="1" i="1" lang="ru-RU" sz="3600" spc="-1" strike="noStrike">
                <a:solidFill>
                  <a:srgbClr val="414752"/>
                </a:solidFill>
                <a:latin typeface="Century Schoolbook"/>
              </a:rPr>
              <a:t>– ФОРМИРОВАНИЕ И РЕАЛИЗАЦИЯ СИСТЕМЫ ПЛАНОМЕРНЫХ </a:t>
            </a:r>
            <a:br>
              <a:rPr sz="3600"/>
            </a:br>
            <a:r>
              <a:rPr b="1" i="1" lang="ru-RU" sz="3600" spc="-1" strike="noStrike">
                <a:solidFill>
                  <a:srgbClr val="414752"/>
                </a:solidFill>
                <a:latin typeface="Century Schoolbook"/>
              </a:rPr>
              <a:t>И ЦЕЛЕНАПРАВЛЕННЫХ ДЕЙСТВИЙ, ОБЕСПЕЧИВАЮЩИХ ОПТИМАЛЬНОЕ РАЗВИТИЕ ОДАРЕННЫХ ДЕТЕЙ.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468360" y="2606760"/>
            <a:ext cx="2190600" cy="3527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b32c16"/>
                </a:solidFill>
                <a:uFillTx/>
                <a:latin typeface="Century Schoolbook"/>
              </a:rPr>
              <a:t>ЗАДАЧ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Создание банка данных учащихся, имеющих высокий уровень интеллектуального, творческого и учебно-познавательного потенциал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Создание условий для инновационного развития учащихся и учителей школы с целью успешной организации учебного процесс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Совершенствование форм и приемов работы с учащимися, имеющими высокий интеллектуальный, творческий и учебно-познавательный потенциа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14752"/>
                </a:solidFill>
                <a:latin typeface="Century Schoolbook"/>
              </a:rPr>
              <a:t>Социальная и психологическая поддержка одаренных де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09:54:01Z</dcterms:created>
  <dc:creator>zav</dc:creator>
  <dc:description/>
  <dc:language>en-US</dc:language>
  <cp:lastModifiedBy>asus</cp:lastModifiedBy>
  <dcterms:modified xsi:type="dcterms:W3CDTF">2019-04-07T15:33:00Z</dcterms:modified>
  <cp:revision>27</cp:revision>
  <dc:subject/>
  <dc:title>Презентация PowerPoint</dc:title>
</cp:coreProperties>
</file>