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2.wmf" ContentType="image/x-wmf"/>
  <Override PartName="/ppt/media/image3.gif" ContentType="image/gif"/>
  <Override PartName="/ppt/media/image4.wmf" ContentType="image/x-wmf"/>
  <Override PartName="/ppt/media/image5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4963-9831-425F-8875-73C619DA0F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1DB1-695A-4F5E-915D-7331E2804A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3FD-49AD-42CD-85FE-615B8642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7B5-056C-490D-9F58-6ABBC830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41F-DAF1-45A7-9566-8506D857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5FB-C4E1-4D86-8E16-4577A146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FBC8-78C9-40B4-98A1-B427A78D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26AF-7361-4D19-82A5-55B62910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220A-F88A-4297-95EE-251F915A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89C1-C914-4A54-B8FB-47DF1BFE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5A1C-DD33-4B8C-BC78-0B7FD6B5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4C12-EF17-46EA-A0B3-5200A793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7EDE-3986-48DE-A00A-7FBA2B22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FB1-B566-47A8-BF8C-301B1ED5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1E20-64BD-41E3-A11F-3482F8E5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5AB5-D79A-4AAA-A805-A0BBF1DF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0363-1240-402F-B686-C09AC218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A6C1-A40E-46A4-BDBF-DD79D95F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3326-A081-4E50-892E-BE8C0D4A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91DD6-80E0-427B-8392-619A9244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6FE6D-4FE3-4EB3-8CD7-C0807E1C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13052-8BF9-4DAC-B059-D3146839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C066B-DA31-44F3-8D2C-3CB685BE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E3132-40AE-490E-A741-A9072A75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910F-9E60-40F7-97FD-A4DAE210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F7032-1554-4D2B-BBE8-3496EAEF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866E8-AF77-47AA-9ED8-B4DE91BE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865EF-237F-4067-A948-317080B8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04FC3-1EB9-45FF-904B-B236F051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0B387-865A-4501-B208-961CC087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91F67-AB5C-43F2-B848-59EB00AC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1C320-4C8E-4CD9-B42F-16EF64F9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5A2C6-7E11-44A7-8474-71BDFBA4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0E11A-29D4-43A7-BF3A-2C5A5624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B587D-5E4A-4358-B62F-AB0FBC7F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9DC-7477-49BE-AA39-A183E033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73517-F7E5-4AD2-B3BA-EB6FF4FF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B81BE-BB27-461D-A80F-6B92FF79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CCAF2-355A-4D6D-8EDB-52017006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6E065-ECD1-41E7-8968-87493797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942CC-F684-472E-B03A-57161279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34C8C-7B29-43D4-8B03-59500D5C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F840-E960-4FB8-923F-756E8A99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429C3-F47D-4664-B503-69B4BDA5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3F846-33BC-40D5-B57E-F01DCC5E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21F73-B8FB-49C2-8F57-11618CBA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533-FB2B-4970-A847-E6B82E84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921D69-0DA1-4D35-94A8-02E39E63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4113D-F201-481A-81CF-7F3AEC79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58C3C7-F4F7-4B81-9730-EB0D52EA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B26D1-954D-478C-A97E-14E64832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C2F83-7A3E-4248-80D0-F1A478BE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B3B2F-EBA5-40AD-98FF-510E3327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C0A23-9B56-42DE-859A-991605FA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62FD6-FCFA-4126-BAA4-002424D7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A08A2-DF54-4967-A6C9-69D24D67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964E5-0D21-4AB9-8544-92748FD7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AA9-476C-4D0C-A11C-EA5C9586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6B915C-6E0A-46CB-AD7C-E7A73C0F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DE02C-4B14-4503-87C5-A76A94B1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F7F05C-4D98-4956-9E06-A8644AD5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7E98B-3CE5-4F59-ACD0-9A934443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7D6B15-E04A-45A8-9FD2-817D9191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49C3B-334E-4ACA-9FF3-576F2D90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4AB633-4861-416D-B8C9-6914C320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E3F1A-CB69-4F68-9D56-4BC294FE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FF696E-6124-4A23-9A69-ED63B6F8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51895E-3A10-4CC5-B184-C4EEB0A8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DA5-B0B0-441E-919F-B42AADEE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9CE53-823A-480D-97BB-D42584B0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6D3C9A-3944-43A5-A206-B44B39A2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879CF-6193-4575-85BD-59AF5D8B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C881E5-195E-4315-8C5D-4035139F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1D6D8-E5F3-4F21-8072-9234777C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8DB09-0B07-4E70-8873-233F0830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F96BC-10F8-497A-AD4A-3318939A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DC56C-F221-4E5C-9240-090716E5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E34CC7-2D9F-49FF-9873-444539C2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BD665-27A5-44F7-BBA6-E0CA2F1F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C0B-A2D7-43A1-B19C-3105B27B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D156E8-B422-40D4-9892-705E3145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860620-7C26-4318-8217-C21CF52D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7ED13-07C7-4772-A7B5-BAC3305D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4D91F2-E9FD-4761-8572-2E4C6A4E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219C57-7819-4170-AD98-CA43AA09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EC2-EFA0-438B-AF3E-6968BF68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AA8B-F0FF-495B-97C6-2F08FC0BAC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FBFB-9DA6-4A7C-B685-9C150AE7072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94F7-1928-4EFB-99F4-9B8917AB0E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9562-7FCB-48DF-8C62-8FFD1FDE130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1333-BAF8-4D84-BE82-23354B36C20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69EE-55AD-4476-A8CC-EA31FD24FC3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109D-4399-444E-8C6F-C5171A5C11B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518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c3036"/>
                </a:solidFill>
                <a:latin typeface="Century Schoolbook"/>
              </a:rPr>
              <a:t>ПРИНЦИПЫ РАБОТЫ </a:t>
            </a:r>
            <a:br>
              <a:rPr sz="3600"/>
            </a:br>
            <a:r>
              <a:rPr b="1" i="1" lang="ru-RU" sz="3600" spc="-1" strike="noStrike">
                <a:solidFill>
                  <a:srgbClr val="2c3036"/>
                </a:solidFill>
                <a:latin typeface="Century Schoolbook"/>
              </a:rPr>
              <a:t>С ОДАРЕННЫМИ ДЕТЬМИ </a:t>
            </a:r>
            <a:br>
              <a:rPr sz="3600"/>
            </a:br>
            <a:r>
              <a:rPr b="1" i="1" lang="ru-RU" sz="3600" spc="-1" strike="noStrike">
                <a:solidFill>
                  <a:srgbClr val="2c3036"/>
                </a:solidFill>
                <a:latin typeface="Century Schoolbook"/>
              </a:rPr>
              <a:t>В ОБРАЗОВАТЕЛЬНОМ УЧРЕЖДЕНИ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560" y="5003640"/>
            <a:ext cx="4608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ыступление на методическом объединении МБОУ «СОШ №7», г. Мегион, пгт Высокий. 2016 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одготовил Скабёлкин К.Ю.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4840200" y="-49320"/>
            <a:ext cx="4359240" cy="5784840"/>
          </a:xfrm>
          <a:prstGeom prst="rect">
            <a:avLst/>
          </a:prstGeom>
          <a:ln w="0">
            <a:noFill/>
          </a:ln>
        </p:spPr>
      </p:pic>
      <p:sp>
        <p:nvSpPr>
          <p:cNvPr id="361" name="Заголовок 1"/>
          <p:cNvSpPr/>
          <p:nvPr/>
        </p:nvSpPr>
        <p:spPr>
          <a:xfrm>
            <a:off x="250920" y="4581360"/>
            <a:ext cx="4321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820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32c16"/>
                </a:solidFill>
                <a:latin typeface="Century Schoolbook"/>
              </a:rPr>
              <a:t>ПРИНЦИПЫ РАБОТЫ С ОДАРЕННЫМИ ДЕТЬМ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23640" y="1341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принцип развивающего обуче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принцип дифференциации и индивидуализации обучения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принцип учета возрастных возможност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принцип максимального разнообразия предоставляемых возможносте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принцип возрастания роли внеурочной деятельности одаренных детей через кружки, секции, факультативы, научное общество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принцип  усиления внимания к проблеме межпредметных связей в индивидуальной работе с учащимися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принцип создания условий для творческой работы учащих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32c16"/>
                </a:solidFill>
                <a:latin typeface="Century Schoolbook"/>
              </a:rPr>
              <a:t>ФОРМЫ РАБОТЫ С ОДАРЕННЫМИ ДЕТЬМ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групповые занят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работа по индивидуальным плана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кружки по интереса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секц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лектор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заочные школ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выездные школы или занят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соревнова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конкурс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интеллектуальные марафон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участие в олимпиада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научно-исследовательские конферен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РГАНИЗАЦИЯ РАБОТЫ С ОДАРЕННЫМИ ДЕТЬМ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28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 с научной литературой о психологических особенностях и методических приемах, эффективных при работе с одаренными деть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целенаправленных наблюдений,  за учебной и внеучебной деятельностью учащих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материалов и проведение специальных тестов, анкет, диагностических обследований позволяющих определить наличие одареннос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, способствующих оптимальному развитию одарен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3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3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3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ОЖИДАЕМЫЕ РЕЗУЛЬТАТЫ</a:t>
            </a:r>
            <a:br>
              <a:rPr sz="27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85840" y="1356840"/>
            <a:ext cx="822960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 интеллектуального  уровня  учащихся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самореализация выпускник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еемственности в работе начальной, средней и старшей школы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 системы работы с одаренными учащими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Рисунок 3" descr="i.jpg"/>
          <p:cNvPicPr/>
          <p:nvPr/>
        </p:nvPicPr>
        <p:blipFill>
          <a:blip r:embed="rId1"/>
          <a:stretch/>
        </p:blipFill>
        <p:spPr>
          <a:xfrm>
            <a:off x="6357960" y="4429080"/>
            <a:ext cx="2428920" cy="2130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3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3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3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Объект 3" descr=""/>
          <p:cNvPicPr/>
          <p:nvPr/>
        </p:nvPicPr>
        <p:blipFill>
          <a:blip r:embed="rId1"/>
          <a:srcRect l="0" t="0" r="1155" b="389"/>
          <a:stretch/>
        </p:blipFill>
        <p:spPr>
          <a:xfrm>
            <a:off x="179280" y="0"/>
            <a:ext cx="8763120" cy="6622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5" name="Объект 3" descr=""/>
          <p:cNvPicPr/>
          <p:nvPr/>
        </p:nvPicPr>
        <p:blipFill>
          <a:blip r:embed="rId1"/>
          <a:srcRect l="4297" t="0" r="1853" b="2732"/>
          <a:stretch/>
        </p:blipFill>
        <p:spPr>
          <a:xfrm>
            <a:off x="468360" y="189000"/>
            <a:ext cx="8280360" cy="6435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Скругленный прямоугольник 31"/>
          <p:cNvSpPr/>
          <p:nvPr/>
        </p:nvSpPr>
        <p:spPr>
          <a:xfrm>
            <a:off x="357120" y="6000840"/>
            <a:ext cx="8501040" cy="642960"/>
          </a:xfrm>
          <a:prstGeom prst="roundRect">
            <a:avLst>
              <a:gd name="adj" fmla="val 16667"/>
            </a:avLst>
          </a:prstGeom>
          <a:solidFill>
            <a:srgbClr val="e4e5e6"/>
          </a:solidFill>
          <a:ln w="25560">
            <a:solidFill>
              <a:srgbClr val="adb0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Скругленный прямоугольник 3"/>
          <p:cNvSpPr/>
          <p:nvPr/>
        </p:nvSpPr>
        <p:spPr>
          <a:xfrm>
            <a:off x="357120" y="142920"/>
            <a:ext cx="8572680" cy="720720"/>
          </a:xfrm>
          <a:prstGeom prst="roundRect">
            <a:avLst>
              <a:gd name="adj" fmla="val 16667"/>
            </a:avLst>
          </a:prstGeom>
          <a:solidFill>
            <a:srgbClr val="e4e5e6"/>
          </a:solidFill>
          <a:ln w="25560">
            <a:solidFill>
              <a:srgbClr val="adb0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Скругленный прямоугольник 4"/>
          <p:cNvSpPr/>
          <p:nvPr/>
        </p:nvSpPr>
        <p:spPr>
          <a:xfrm>
            <a:off x="214200" y="1143000"/>
            <a:ext cx="2357640" cy="576360"/>
          </a:xfrm>
          <a:prstGeom prst="roundRect">
            <a:avLst>
              <a:gd name="adj" fmla="val 16667"/>
            </a:avLst>
          </a:prstGeom>
          <a:solidFill>
            <a:srgbClr val="f8cfc8"/>
          </a:solidFill>
          <a:ln w="255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Скругленный прямоугольник 5"/>
          <p:cNvSpPr/>
          <p:nvPr/>
        </p:nvSpPr>
        <p:spPr>
          <a:xfrm>
            <a:off x="2643120" y="1143000"/>
            <a:ext cx="2071800" cy="576360"/>
          </a:xfrm>
          <a:prstGeom prst="roundRect">
            <a:avLst>
              <a:gd name="adj" fmla="val 16667"/>
            </a:avLst>
          </a:prstGeom>
          <a:solidFill>
            <a:srgbClr val="e3eaf7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Скругленный прямоугольник 6"/>
          <p:cNvSpPr/>
          <p:nvPr/>
        </p:nvSpPr>
        <p:spPr>
          <a:xfrm>
            <a:off x="4786200" y="1143000"/>
            <a:ext cx="1857600" cy="576360"/>
          </a:xfrm>
          <a:prstGeom prst="roundRect">
            <a:avLst>
              <a:gd name="adj" fmla="val 16667"/>
            </a:avLst>
          </a:prstGeom>
          <a:solidFill>
            <a:srgbClr val="eff1f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Скругленный прямоугольник 7"/>
          <p:cNvSpPr/>
          <p:nvPr/>
        </p:nvSpPr>
        <p:spPr>
          <a:xfrm>
            <a:off x="6715080" y="1143000"/>
            <a:ext cx="2232000" cy="576360"/>
          </a:xfrm>
          <a:prstGeom prst="roundRect">
            <a:avLst>
              <a:gd name="adj" fmla="val 16667"/>
            </a:avLst>
          </a:prstGeom>
          <a:solidFill>
            <a:srgbClr val="fdf5d5"/>
          </a:solidFill>
          <a:ln w="25560">
            <a:solidFill>
              <a:srgbClr val="d0a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2" name="Прямая со стрелкой 16"/>
          <p:cNvCxnSpPr/>
          <p:nvPr/>
        </p:nvCxnSpPr>
        <p:spPr>
          <a:xfrm>
            <a:off x="1356840" y="85716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03" name="Скругленный прямоугольник 25"/>
          <p:cNvSpPr/>
          <p:nvPr/>
        </p:nvSpPr>
        <p:spPr>
          <a:xfrm>
            <a:off x="357120" y="2000160"/>
            <a:ext cx="8501040" cy="714600"/>
          </a:xfrm>
          <a:prstGeom prst="roundRect">
            <a:avLst>
              <a:gd name="adj" fmla="val 16667"/>
            </a:avLst>
          </a:prstGeom>
          <a:solidFill>
            <a:srgbClr val="e4e5e6"/>
          </a:solidFill>
          <a:ln w="25560">
            <a:solidFill>
              <a:srgbClr val="adb0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Скругленный прямоугольник 26"/>
          <p:cNvSpPr/>
          <p:nvPr/>
        </p:nvSpPr>
        <p:spPr>
          <a:xfrm>
            <a:off x="357120" y="3000240"/>
            <a:ext cx="8501040" cy="428760"/>
          </a:xfrm>
          <a:prstGeom prst="roundRect">
            <a:avLst>
              <a:gd name="adj" fmla="val 16667"/>
            </a:avLst>
          </a:prstGeom>
          <a:solidFill>
            <a:srgbClr val="e4e5e6"/>
          </a:solidFill>
          <a:ln w="25560">
            <a:solidFill>
              <a:srgbClr val="adb0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Скругленный прямоугольник 27"/>
          <p:cNvSpPr/>
          <p:nvPr/>
        </p:nvSpPr>
        <p:spPr>
          <a:xfrm>
            <a:off x="214200" y="3714840"/>
            <a:ext cx="2357640" cy="2000160"/>
          </a:xfrm>
          <a:prstGeom prst="roundRect">
            <a:avLst>
              <a:gd name="adj" fmla="val 16667"/>
            </a:avLst>
          </a:prstGeom>
          <a:solidFill>
            <a:srgbClr val="f8cfc8"/>
          </a:solidFill>
          <a:ln w="255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Скругленный прямоугольник 28"/>
          <p:cNvSpPr/>
          <p:nvPr/>
        </p:nvSpPr>
        <p:spPr>
          <a:xfrm>
            <a:off x="2643120" y="3714840"/>
            <a:ext cx="2071800" cy="2000160"/>
          </a:xfrm>
          <a:prstGeom prst="roundRect">
            <a:avLst>
              <a:gd name="adj" fmla="val 16667"/>
            </a:avLst>
          </a:prstGeom>
          <a:solidFill>
            <a:srgbClr val="e3eaf7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Скругленный прямоугольник 29"/>
          <p:cNvSpPr/>
          <p:nvPr/>
        </p:nvSpPr>
        <p:spPr>
          <a:xfrm>
            <a:off x="4786200" y="3714840"/>
            <a:ext cx="1857600" cy="2000160"/>
          </a:xfrm>
          <a:custGeom>
            <a:avLst/>
            <a:gdLst>
              <a:gd name="textAreaLeft" fmla="*/ 90360 w 1857600"/>
              <a:gd name="textAreaRight" fmla="*/ 1767240 w 1857600"/>
              <a:gd name="textAreaTop" fmla="*/ 90360 h 2000160"/>
              <a:gd name="textAreaBottom" fmla="*/ 1909800 h 2000160"/>
            </a:gdLst>
            <a:ahLst/>
            <a:rect l="textAreaLeft" t="textAreaTop" r="textAreaRight" b="textAreaBottom"/>
            <a:pathLst>
              <a:path w="21600" h="23257">
                <a:moveTo>
                  <a:pt x="3600" y="0"/>
                </a:moveTo>
                <a:arcTo wR="3600" hR="3600" stAng="16200000" swAng="-5400000"/>
                <a:lnTo>
                  <a:pt x="0" y="19657"/>
                </a:lnTo>
                <a:arcTo wR="3600" hR="3600" stAng="10800000" swAng="-5400000"/>
                <a:lnTo>
                  <a:pt x="18000" y="232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ff1f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Скругленный прямоугольник 30"/>
          <p:cNvSpPr/>
          <p:nvPr/>
        </p:nvSpPr>
        <p:spPr>
          <a:xfrm>
            <a:off x="6715080" y="3714840"/>
            <a:ext cx="2232000" cy="2000160"/>
          </a:xfrm>
          <a:prstGeom prst="roundRect">
            <a:avLst>
              <a:gd name="adj" fmla="val 16667"/>
            </a:avLst>
          </a:prstGeom>
          <a:solidFill>
            <a:srgbClr val="fdf5d5"/>
          </a:solidFill>
          <a:ln w="25560">
            <a:solidFill>
              <a:srgbClr val="d0a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9" name="Прямая со стрелкой 32"/>
          <p:cNvCxnSpPr/>
          <p:nvPr/>
        </p:nvCxnSpPr>
        <p:spPr>
          <a:xfrm>
            <a:off x="3499920" y="85716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0" name="Прямая со стрелкой 33"/>
          <p:cNvCxnSpPr/>
          <p:nvPr/>
        </p:nvCxnSpPr>
        <p:spPr>
          <a:xfrm>
            <a:off x="5571720" y="85716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1" name="Прямая со стрелкой 34"/>
          <p:cNvCxnSpPr/>
          <p:nvPr/>
        </p:nvCxnSpPr>
        <p:spPr>
          <a:xfrm>
            <a:off x="7929360" y="85716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12" name="TextBox 36"/>
          <p:cNvSpPr/>
          <p:nvPr/>
        </p:nvSpPr>
        <p:spPr>
          <a:xfrm>
            <a:off x="857160" y="21420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84807"/>
                </a:solidFill>
                <a:latin typeface="Calibri"/>
              </a:rPr>
              <a:t>Выявление одаренности (диагности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37"/>
          <p:cNvSpPr/>
          <p:nvPr/>
        </p:nvSpPr>
        <p:spPr>
          <a:xfrm>
            <a:off x="0" y="11970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Calibri"/>
              </a:rPr>
              <a:t>интеллектуаль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38"/>
          <p:cNvSpPr/>
          <p:nvPr/>
        </p:nvSpPr>
        <p:spPr>
          <a:xfrm>
            <a:off x="2643120" y="121428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44583"/>
                </a:solidFill>
                <a:latin typeface="Calibri"/>
              </a:rPr>
              <a:t>социаль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39"/>
          <p:cNvSpPr/>
          <p:nvPr/>
        </p:nvSpPr>
        <p:spPr>
          <a:xfrm>
            <a:off x="4786200" y="121428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a3d01"/>
                </a:solidFill>
                <a:latin typeface="Calibri"/>
              </a:rPr>
              <a:t>творчес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40"/>
          <p:cNvSpPr/>
          <p:nvPr/>
        </p:nvSpPr>
        <p:spPr>
          <a:xfrm>
            <a:off x="6715080" y="1214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44583"/>
                </a:solidFill>
                <a:latin typeface="Calibri"/>
              </a:rPr>
              <a:t>психомотор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7" name="Прямая со стрелкой 41"/>
          <p:cNvCxnSpPr/>
          <p:nvPr/>
        </p:nvCxnSpPr>
        <p:spPr>
          <a:xfrm>
            <a:off x="1356840" y="171468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8" name="Прямая со стрелкой 42"/>
          <p:cNvCxnSpPr/>
          <p:nvPr/>
        </p:nvCxnSpPr>
        <p:spPr>
          <a:xfrm>
            <a:off x="3571560" y="171468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9" name="Прямая со стрелкой 43"/>
          <p:cNvCxnSpPr/>
          <p:nvPr/>
        </p:nvCxnSpPr>
        <p:spPr>
          <a:xfrm>
            <a:off x="5571720" y="171468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0" name="Прямая со стрелкой 44"/>
          <p:cNvCxnSpPr/>
          <p:nvPr/>
        </p:nvCxnSpPr>
        <p:spPr>
          <a:xfrm>
            <a:off x="7929360" y="171468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1" name="Прямая со стрелкой 46"/>
          <p:cNvCxnSpPr/>
          <p:nvPr/>
        </p:nvCxnSpPr>
        <p:spPr>
          <a:xfrm>
            <a:off x="1356840" y="271476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2" name="Прямая со стрелкой 47"/>
          <p:cNvCxnSpPr/>
          <p:nvPr/>
        </p:nvCxnSpPr>
        <p:spPr>
          <a:xfrm>
            <a:off x="3571560" y="271476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3" name="Прямая со стрелкой 48"/>
          <p:cNvCxnSpPr/>
          <p:nvPr/>
        </p:nvCxnSpPr>
        <p:spPr>
          <a:xfrm>
            <a:off x="5571720" y="271476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4" name="Прямая со стрелкой 49"/>
          <p:cNvCxnSpPr/>
          <p:nvPr/>
        </p:nvCxnSpPr>
        <p:spPr>
          <a:xfrm>
            <a:off x="7929360" y="271476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5" name="Прямая со стрелкой 51"/>
          <p:cNvCxnSpPr/>
          <p:nvPr/>
        </p:nvCxnSpPr>
        <p:spPr>
          <a:xfrm>
            <a:off x="1356840" y="342900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6" name="Прямая со стрелкой 52"/>
          <p:cNvCxnSpPr/>
          <p:nvPr/>
        </p:nvCxnSpPr>
        <p:spPr>
          <a:xfrm>
            <a:off x="3571560" y="342900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7" name="Прямая со стрелкой 53"/>
          <p:cNvCxnSpPr/>
          <p:nvPr/>
        </p:nvCxnSpPr>
        <p:spPr>
          <a:xfrm>
            <a:off x="5571720" y="342900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8" name="Прямая со стрелкой 54"/>
          <p:cNvCxnSpPr/>
          <p:nvPr/>
        </p:nvCxnSpPr>
        <p:spPr>
          <a:xfrm>
            <a:off x="7929360" y="342900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29" name="TextBox 55"/>
          <p:cNvSpPr/>
          <p:nvPr/>
        </p:nvSpPr>
        <p:spPr>
          <a:xfrm>
            <a:off x="214200" y="378612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Calibri"/>
              </a:rPr>
              <a:t>кружки, лектори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Calibri"/>
              </a:rPr>
              <a:t>заочные школ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Calibri"/>
              </a:rPr>
              <a:t>выездные школ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Calibri"/>
              </a:rPr>
              <a:t>конференции, олимпиад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Calibri"/>
              </a:rPr>
              <a:t>турниры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56"/>
          <p:cNvSpPr/>
          <p:nvPr/>
        </p:nvSpPr>
        <p:spPr>
          <a:xfrm>
            <a:off x="2643120" y="3929040"/>
            <a:ext cx="214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конкурсы, городские программ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самоуправ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Проек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57"/>
          <p:cNvSpPr/>
          <p:nvPr/>
        </p:nvSpPr>
        <p:spPr>
          <a:xfrm>
            <a:off x="4786200" y="3929040"/>
            <a:ext cx="18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Calibri"/>
              </a:rPr>
              <a:t>кружки, конкурс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Calibri"/>
              </a:rPr>
              <a:t>проекты, выста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Calibri"/>
              </a:rPr>
              <a:t>и т.п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58"/>
          <p:cNvSpPr/>
          <p:nvPr/>
        </p:nvSpPr>
        <p:spPr>
          <a:xfrm>
            <a:off x="6715080" y="3786120"/>
            <a:ext cx="221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секции, соревновани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турниры, спартакиад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эстафеты, олимпиады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45"/>
          <p:cNvSpPr/>
          <p:nvPr/>
        </p:nvSpPr>
        <p:spPr>
          <a:xfrm>
            <a:off x="0" y="2000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3e42"/>
                </a:solidFill>
                <a:latin typeface="Calibri"/>
              </a:rPr>
              <a:t>Урочная деятельно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3e42"/>
                </a:solidFill>
                <a:latin typeface="Calibri"/>
              </a:rPr>
              <a:t>(проблематизация, углубление, ускорение, обогащение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50"/>
          <p:cNvSpPr/>
          <p:nvPr/>
        </p:nvSpPr>
        <p:spPr>
          <a:xfrm>
            <a:off x="357120" y="300024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3e42"/>
                </a:solidFill>
                <a:latin typeface="Calibri"/>
              </a:rPr>
              <a:t>Внеурочная деятельность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5" name="Прямая со стрелкой 62"/>
          <p:cNvCxnSpPr>
            <a:stCxn id="429" idx="2"/>
          </p:cNvCxnSpPr>
          <p:nvPr/>
        </p:nvCxnSpPr>
        <p:spPr>
          <a:xfrm flipH="1">
            <a:off x="1402560" y="5733720"/>
            <a:ext cx="2520" cy="27684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6" name="Прямая со стрелкой 63"/>
          <p:cNvCxnSpPr/>
          <p:nvPr/>
        </p:nvCxnSpPr>
        <p:spPr>
          <a:xfrm flipH="1">
            <a:off x="3642480" y="5714640"/>
            <a:ext cx="2520" cy="27684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7" name="Прямая со стрелкой 64"/>
          <p:cNvCxnSpPr/>
          <p:nvPr/>
        </p:nvCxnSpPr>
        <p:spPr>
          <a:xfrm flipH="1">
            <a:off x="5643360" y="5714640"/>
            <a:ext cx="2160" cy="27684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8" name="Прямая со стрелкой 65"/>
          <p:cNvCxnSpPr/>
          <p:nvPr/>
        </p:nvCxnSpPr>
        <p:spPr>
          <a:xfrm flipH="1">
            <a:off x="8000640" y="5714640"/>
            <a:ext cx="2160" cy="27684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39" name="5-конечная звезда 66"/>
          <p:cNvSpPr/>
          <p:nvPr/>
        </p:nvSpPr>
        <p:spPr>
          <a:xfrm>
            <a:off x="500040" y="6143760"/>
            <a:ext cx="428760" cy="357120"/>
          </a:xfrm>
          <a:custGeom>
            <a:avLst/>
            <a:gdLst>
              <a:gd name="textAreaLeft" fmla="*/ 132480 w 428760"/>
              <a:gd name="textAreaRight" fmla="*/ 296280 w 428760"/>
              <a:gd name="textAreaTop" fmla="*/ 136440 h 357120"/>
              <a:gd name="textAreaBottom" fmla="*/ 272880 h 357120"/>
            </a:gdLst>
            <a:ahLst/>
            <a:rect l="textAreaLeft" t="textAreaTop" r="textAreaRight" b="textAreaBottom"/>
            <a:pathLst>
              <a:path w="428625" h="357188">
                <a:moveTo>
                  <a:pt x="0" y="136433"/>
                </a:moveTo>
                <a:lnTo>
                  <a:pt x="163721" y="136434"/>
                </a:lnTo>
                <a:lnTo>
                  <a:pt x="214313" y="0"/>
                </a:lnTo>
                <a:lnTo>
                  <a:pt x="264904" y="136434"/>
                </a:lnTo>
                <a:lnTo>
                  <a:pt x="428625" y="136433"/>
                </a:lnTo>
                <a:lnTo>
                  <a:pt x="296171" y="220753"/>
                </a:lnTo>
                <a:lnTo>
                  <a:pt x="346765" y="357187"/>
                </a:lnTo>
                <a:lnTo>
                  <a:pt x="214313" y="272865"/>
                </a:lnTo>
                <a:lnTo>
                  <a:pt x="81860" y="357187"/>
                </a:lnTo>
                <a:lnTo>
                  <a:pt x="132454" y="2207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5-конечная звезда 67"/>
          <p:cNvSpPr/>
          <p:nvPr/>
        </p:nvSpPr>
        <p:spPr>
          <a:xfrm>
            <a:off x="1214280" y="6143760"/>
            <a:ext cx="428760" cy="357120"/>
          </a:xfrm>
          <a:custGeom>
            <a:avLst/>
            <a:gdLst>
              <a:gd name="textAreaLeft" fmla="*/ 132480 w 428760"/>
              <a:gd name="textAreaRight" fmla="*/ 296280 w 428760"/>
              <a:gd name="textAreaTop" fmla="*/ 136440 h 357120"/>
              <a:gd name="textAreaBottom" fmla="*/ 272880 h 357120"/>
            </a:gdLst>
            <a:ahLst/>
            <a:rect l="textAreaLeft" t="textAreaTop" r="textAreaRight" b="textAreaBottom"/>
            <a:pathLst>
              <a:path w="428625" h="357188">
                <a:moveTo>
                  <a:pt x="0" y="136433"/>
                </a:moveTo>
                <a:lnTo>
                  <a:pt x="163721" y="136434"/>
                </a:lnTo>
                <a:lnTo>
                  <a:pt x="214313" y="0"/>
                </a:lnTo>
                <a:lnTo>
                  <a:pt x="264904" y="136434"/>
                </a:lnTo>
                <a:lnTo>
                  <a:pt x="428625" y="136433"/>
                </a:lnTo>
                <a:lnTo>
                  <a:pt x="296171" y="220753"/>
                </a:lnTo>
                <a:lnTo>
                  <a:pt x="346765" y="357187"/>
                </a:lnTo>
                <a:lnTo>
                  <a:pt x="214313" y="272865"/>
                </a:lnTo>
                <a:lnTo>
                  <a:pt x="81860" y="357187"/>
                </a:lnTo>
                <a:lnTo>
                  <a:pt x="132454" y="2207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5-конечная звезда 68"/>
          <p:cNvSpPr/>
          <p:nvPr/>
        </p:nvSpPr>
        <p:spPr>
          <a:xfrm>
            <a:off x="8286840" y="6143760"/>
            <a:ext cx="428400" cy="357120"/>
          </a:xfrm>
          <a:custGeom>
            <a:avLst/>
            <a:gdLst>
              <a:gd name="textAreaLeft" fmla="*/ 132480 w 428400"/>
              <a:gd name="textAreaRight" fmla="*/ 295920 w 428400"/>
              <a:gd name="textAreaTop" fmla="*/ 136440 h 357120"/>
              <a:gd name="textAreaBottom" fmla="*/ 272880 h 357120"/>
            </a:gdLst>
            <a:ahLst/>
            <a:rect l="textAreaLeft" t="textAreaTop" r="textAreaRight" b="textAreaBottom"/>
            <a:pathLst>
              <a:path w="428625" h="357188">
                <a:moveTo>
                  <a:pt x="0" y="136433"/>
                </a:moveTo>
                <a:lnTo>
                  <a:pt x="163721" y="136434"/>
                </a:lnTo>
                <a:lnTo>
                  <a:pt x="214313" y="0"/>
                </a:lnTo>
                <a:lnTo>
                  <a:pt x="264904" y="136434"/>
                </a:lnTo>
                <a:lnTo>
                  <a:pt x="428625" y="136433"/>
                </a:lnTo>
                <a:lnTo>
                  <a:pt x="296171" y="220753"/>
                </a:lnTo>
                <a:lnTo>
                  <a:pt x="346765" y="357187"/>
                </a:lnTo>
                <a:lnTo>
                  <a:pt x="214313" y="272865"/>
                </a:lnTo>
                <a:lnTo>
                  <a:pt x="81860" y="357187"/>
                </a:lnTo>
                <a:lnTo>
                  <a:pt x="132454" y="2207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5-конечная звезда 69"/>
          <p:cNvSpPr/>
          <p:nvPr/>
        </p:nvSpPr>
        <p:spPr>
          <a:xfrm>
            <a:off x="7572240" y="6143760"/>
            <a:ext cx="428760" cy="357120"/>
          </a:xfrm>
          <a:custGeom>
            <a:avLst/>
            <a:gdLst>
              <a:gd name="textAreaLeft" fmla="*/ 132480 w 428760"/>
              <a:gd name="textAreaRight" fmla="*/ 296280 w 428760"/>
              <a:gd name="textAreaTop" fmla="*/ 136440 h 357120"/>
              <a:gd name="textAreaBottom" fmla="*/ 272880 h 357120"/>
            </a:gdLst>
            <a:ahLst/>
            <a:rect l="textAreaLeft" t="textAreaTop" r="textAreaRight" b="textAreaBottom"/>
            <a:pathLst>
              <a:path w="428625" h="357188">
                <a:moveTo>
                  <a:pt x="0" y="136433"/>
                </a:moveTo>
                <a:lnTo>
                  <a:pt x="163721" y="136434"/>
                </a:lnTo>
                <a:lnTo>
                  <a:pt x="214313" y="0"/>
                </a:lnTo>
                <a:lnTo>
                  <a:pt x="264904" y="136434"/>
                </a:lnTo>
                <a:lnTo>
                  <a:pt x="428625" y="136433"/>
                </a:lnTo>
                <a:lnTo>
                  <a:pt x="296171" y="220753"/>
                </a:lnTo>
                <a:lnTo>
                  <a:pt x="346765" y="357187"/>
                </a:lnTo>
                <a:lnTo>
                  <a:pt x="214313" y="272865"/>
                </a:lnTo>
                <a:lnTo>
                  <a:pt x="81860" y="357187"/>
                </a:lnTo>
                <a:lnTo>
                  <a:pt x="132454" y="2207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Прямоугольник 71" descr=""/>
          <p:cNvPicPr/>
          <p:nvPr/>
        </p:nvPicPr>
        <p:blipFill>
          <a:blip r:embed="rId1"/>
          <a:stretch/>
        </p:blipFill>
        <p:spPr>
          <a:xfrm>
            <a:off x="2567160" y="5919840"/>
            <a:ext cx="4005000" cy="669960"/>
          </a:xfrm>
          <a:prstGeom prst="rect">
            <a:avLst/>
          </a:prstGeom>
          <a:ln w="0">
            <a:noFill/>
          </a:ln>
        </p:spPr>
      </p:pic>
      <p:sp>
        <p:nvSpPr>
          <p:cNvPr id="444" name="5-конечная звезда 72"/>
          <p:cNvSpPr/>
          <p:nvPr/>
        </p:nvSpPr>
        <p:spPr>
          <a:xfrm>
            <a:off x="1928880" y="6143760"/>
            <a:ext cx="428400" cy="357120"/>
          </a:xfrm>
          <a:custGeom>
            <a:avLst/>
            <a:gdLst>
              <a:gd name="textAreaLeft" fmla="*/ 132480 w 428400"/>
              <a:gd name="textAreaRight" fmla="*/ 295920 w 428400"/>
              <a:gd name="textAreaTop" fmla="*/ 136440 h 357120"/>
              <a:gd name="textAreaBottom" fmla="*/ 272880 h 357120"/>
            </a:gdLst>
            <a:ahLst/>
            <a:rect l="textAreaLeft" t="textAreaTop" r="textAreaRight" b="textAreaBottom"/>
            <a:pathLst>
              <a:path w="428625" h="357188">
                <a:moveTo>
                  <a:pt x="0" y="136433"/>
                </a:moveTo>
                <a:lnTo>
                  <a:pt x="163721" y="136434"/>
                </a:lnTo>
                <a:lnTo>
                  <a:pt x="214313" y="0"/>
                </a:lnTo>
                <a:lnTo>
                  <a:pt x="264904" y="136434"/>
                </a:lnTo>
                <a:lnTo>
                  <a:pt x="428625" y="136433"/>
                </a:lnTo>
                <a:lnTo>
                  <a:pt x="296171" y="220753"/>
                </a:lnTo>
                <a:lnTo>
                  <a:pt x="346765" y="357187"/>
                </a:lnTo>
                <a:lnTo>
                  <a:pt x="214313" y="272865"/>
                </a:lnTo>
                <a:lnTo>
                  <a:pt x="81860" y="357187"/>
                </a:lnTo>
                <a:lnTo>
                  <a:pt x="132454" y="2207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5-конечная звезда 73"/>
          <p:cNvSpPr/>
          <p:nvPr/>
        </p:nvSpPr>
        <p:spPr>
          <a:xfrm>
            <a:off x="6786720" y="6143760"/>
            <a:ext cx="428400" cy="357120"/>
          </a:xfrm>
          <a:custGeom>
            <a:avLst/>
            <a:gdLst>
              <a:gd name="textAreaLeft" fmla="*/ 132480 w 428400"/>
              <a:gd name="textAreaRight" fmla="*/ 295920 w 428400"/>
              <a:gd name="textAreaTop" fmla="*/ 136440 h 357120"/>
              <a:gd name="textAreaBottom" fmla="*/ 272880 h 357120"/>
            </a:gdLst>
            <a:ahLst/>
            <a:rect l="textAreaLeft" t="textAreaTop" r="textAreaRight" b="textAreaBottom"/>
            <a:pathLst>
              <a:path w="428625" h="357188">
                <a:moveTo>
                  <a:pt x="0" y="136433"/>
                </a:moveTo>
                <a:lnTo>
                  <a:pt x="163721" y="136434"/>
                </a:lnTo>
                <a:lnTo>
                  <a:pt x="214313" y="0"/>
                </a:lnTo>
                <a:lnTo>
                  <a:pt x="264904" y="136434"/>
                </a:lnTo>
                <a:lnTo>
                  <a:pt x="428625" y="136433"/>
                </a:lnTo>
                <a:lnTo>
                  <a:pt x="296171" y="220753"/>
                </a:lnTo>
                <a:lnTo>
                  <a:pt x="346765" y="357187"/>
                </a:lnTo>
                <a:lnTo>
                  <a:pt x="214313" y="272865"/>
                </a:lnTo>
                <a:lnTo>
                  <a:pt x="81860" y="357187"/>
                </a:lnTo>
                <a:lnTo>
                  <a:pt x="132454" y="2207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РЕКОМЕНДАЦИИ УЧИТЕЛЯМ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чителю не следует уделять слишком много внимания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гровому обучению с ярко выраженным элементом соревновательности. Одаренный ребенок будет чащ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сего оказываться победителем, что может вызвать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приязнь соучеников и не благоприятствует созданию атмосферы всеобщей заинтересованности, к которой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ремится учитель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читель не должен возводить одаренного ребенка н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ьедестал или делать из него вундеркинда в глазах других учеников. Успехи его будут должным образом оценены, а неуместное выпячивание его исключительности достижений рождает чаще всего раздражение, ревность и отторжение вместо ожидаемой похвалы. Другая крайность — преднамеренное публичное принижение уникальных способностей и даже сарказм со стороны учителя,— конечно, недопустим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F9EE-B321-4B38-AA78-DEB74EC3CF0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8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88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88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88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88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88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88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РЕКОМЕНДАЦИИ УЧИТЕЛЯМ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 занимайтесь наставлениями, помогайте детям действовать независимо, не давайте прямых инструкций относительно того, чем они должны заниматься 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 сдерживайте инициативы и не делайте за них то, что они могут сделать самостоятельно 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учите школьников прослеживать межпредметные связи и использовать знания, полученные при изучении других предметов.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учайте детей к навыкам самостоятельного решения проблем, исследования и анализа ситуации.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спользуйте трудные ситуации, возникшие в школе или дома, как область приложения полученных навыков при решении задач.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могайте детям научиться управлять процессом усвоения знаний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7BFF-BE2A-4392-9D7C-4FAD3A6FBC9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В КАЖДОМ ЧЕЛОВЕКЕ – СОЛНЦЕ, ТОЛЬКО ДАЙТЕ ЕМУ СВЕТИТЬ.</a:t>
            </a:r>
            <a:br>
              <a:rPr sz="2700"/>
            </a:br>
            <a:r>
              <a:rPr b="1" i="1" lang="ru-RU" sz="27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1" i="1" lang="ru-RU" sz="29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СОКРАТ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3" name="Рисунок 2" descr="i (1).jpg"/>
          <p:cNvPicPr/>
          <p:nvPr/>
        </p:nvPicPr>
        <p:blipFill>
          <a:blip r:embed="rId1"/>
          <a:stretch/>
        </p:blipFill>
        <p:spPr>
          <a:xfrm>
            <a:off x="571680" y="4143240"/>
            <a:ext cx="3929040" cy="2405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.А.СУХОМЛИНСКИЙ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8147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a3d01"/>
                </a:solidFill>
                <a:latin typeface="Century Schoolbook"/>
              </a:rPr>
              <a:t>Одаренные дети – учащиеся, имеющие высокий интеллектуальный, творческий и учебно-познавательный потенциа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a3d01"/>
                </a:solidFill>
                <a:latin typeface="Century Schoolbook"/>
              </a:rPr>
              <a:t>Дети должны жить в мире красоты, игры и сказки, музыки, рисунка, фантазии, творчеств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ИСПОЛЬЗУЕМЫЕ САЙТЫ И ЛИТЕРАТУРА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6840" y="1999800"/>
            <a:ext cx="7467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я одаренности детей и подростков / Под ред. Н.C Лейтеса. – М., 2000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нков. А.И. Одаренные дети в школе и дома. – М., 2000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экэкс К., Карне М. Одаренные дети. – М., 199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/>
              </a:rPr>
              <a:t>http://images.yandex.ru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6840" y="4357800"/>
            <a:ext cx="74674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2c16"/>
                </a:solidFill>
                <a:latin typeface="Century Schoolbook"/>
              </a:rPr>
              <a:t>ЗА СОТРУДНИЧЕСТВО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8" name="Рисунок 4" descr="&amp;Kcy;&amp;acy;&amp;rcy;&amp;tcy;&amp;icy;&amp;ncy;&amp;kcy;&amp;icy; &amp;pcy;&amp;ocy; &amp;zcy;&amp;acy;&amp;pcy;&amp;rcy;&amp;ocy;&amp;scy;&amp;ucy; &amp;Bcy;&amp;lcy;&amp;acy;&amp;gcy;&amp;ocy;&amp;dcy;&amp;acy;&amp;rcy;&amp;yucy;, &amp;scy;&amp;pcy;&amp;acy;&amp;scy;&amp;icy;&amp;bcy;&amp;ocy; &amp;kcy;&amp;acy;&amp;rcy;&amp;tcy;&amp;icy;&amp;ncy;&amp;kcy;&amp;icy;"/>
          <p:cNvPicPr/>
          <p:nvPr/>
        </p:nvPicPr>
        <p:blipFill>
          <a:blip r:embed="rId1"/>
          <a:stretch/>
        </p:blipFill>
        <p:spPr>
          <a:xfrm>
            <a:off x="571680" y="0"/>
            <a:ext cx="7000560" cy="3994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0" y="259920"/>
            <a:ext cx="82231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98d9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Задание учителям! Ниже перечислены личностные черты и деловые качества,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которые учитель встречает у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своих учеников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тметьте знаком «+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е свойства, которые Вам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равятся в учениках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 знаком «-» те, что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е нравя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F3FB-FB31-461B-80DA-0B0A0062371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5" descr="j0428227[1]"/>
          <p:cNvPicPr/>
          <p:nvPr/>
        </p:nvPicPr>
        <p:blipFill>
          <a:blip r:embed="rId1"/>
          <a:stretch/>
        </p:blipFill>
        <p:spPr>
          <a:xfrm>
            <a:off x="5029200" y="380880"/>
            <a:ext cx="3562200" cy="6032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75960" y="152280"/>
            <a:ext cx="8839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Дисциплинирован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еровно успевающи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рганизован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ыбивающийся из общего темп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Эрудирован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ранный в поведении, непонят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меющий поддержать общее дел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ыскакивающий на уроке с нелепыми замечания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бильно успевающий (всегда хорошо учится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нятый своими делами (индивидуалист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Быстро, «на лету» схватывающи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е умеющий общаться, конфликт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бщающийся легко, приятный в общен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ногда тугодум, иногда не может понять очевидног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Ясно,  понятно для всех выражающий свои мысл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е всегда желающий подчиняться большинству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ли официальному руководителю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E9A5-A458-409D-AC96-FC8E0184811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3" descr="AG00317_"/>
          <p:cNvPicPr/>
          <p:nvPr/>
        </p:nvPicPr>
        <p:blipFill>
          <a:blip r:embed="rId1"/>
          <a:stretch/>
        </p:blipFill>
        <p:spPr>
          <a:xfrm>
            <a:off x="7010280" y="4572000"/>
            <a:ext cx="1905120" cy="2095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598d9"/>
                </a:solidFill>
                <a:latin typeface="VivaldiD CL"/>
              </a:rPr>
              <a:t>КАКИХ «+» У ВАС БОЛЬШЕ?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000" y="2565360"/>
            <a:ext cx="746748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сли чётных «+» больше, то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ы – нестандартный учитель, умеющий обнаружить, выявить, разглядеть скрытую незаурядную одарённость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 практике такие учителя встречаются редко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37D5-E670-42C6-B254-CFAFEE2673A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УСЛОВИЯ РАЗВИТИЯ ОДАРЕННОСТ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се маленькие дети наделены с рождения определенными задатками и способностям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днако не все они развивают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ераскрытые возможности постепенно угасают вследствие невостребован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роцент одаренных с годами резко снижается: если в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-летнем возрасте их примерно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60‑70 %,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то к четырнадцати годам —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30‑40 %,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а к семнадцати — только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15‑20 %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9DEE-BC36-4C2A-B6DB-09527E0AD58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УСЛОВИЯ РАЗВИТИЯ ОДАРЕННОСТ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Интеллектуальное развитие к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5,5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годам имеет положительное ускорение, которое сменяется отрицательным, а к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12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годам в основном завершает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годам достигается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90%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развития интеллект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 результатам диагностики интеллект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-летних подростков и уч-ся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-х классов существенно н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тличают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EF82-AA91-4DE6-9EE8-4C01C2F2952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4" descr="MCj03974900000[1]"/>
          <p:cNvPicPr/>
          <p:nvPr/>
        </p:nvPicPr>
        <p:blipFill>
          <a:blip r:embed="rId1"/>
          <a:stretch/>
        </p:blipFill>
        <p:spPr>
          <a:xfrm>
            <a:off x="6629400" y="5410080"/>
            <a:ext cx="2206800" cy="1282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68000" y="620280"/>
            <a:ext cx="669636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b32c16"/>
                </a:solidFill>
                <a:uFillTx/>
                <a:latin typeface="Century Schoolbook"/>
              </a:rPr>
              <a:t>ЦЕЛЬ </a:t>
            </a:r>
            <a:r>
              <a:rPr b="1" i="1" lang="ru-RU" sz="3600" spc="-1" strike="noStrike">
                <a:solidFill>
                  <a:srgbClr val="414752"/>
                </a:solidFill>
                <a:latin typeface="Century Schoolbook"/>
              </a:rPr>
              <a:t>– ФОРМИРОВАНИЕ И РЕАЛИЗАЦИЯ СИСТЕМЫ ПЛАНОМЕРНЫХ </a:t>
            </a:r>
            <a:br>
              <a:rPr sz="3600"/>
            </a:br>
            <a:r>
              <a:rPr b="1" i="1" lang="ru-RU" sz="3600" spc="-1" strike="noStrike">
                <a:solidFill>
                  <a:srgbClr val="414752"/>
                </a:solidFill>
                <a:latin typeface="Century Schoolbook"/>
              </a:rPr>
              <a:t>И ЦЕЛЕНАПРАВЛЕННЫХ ДЕЙСТВИЙ, ОБЕСПЕЧИВАЮЩИХ ОПТИМАЛЬНОЕ РАЗВИТИЕ ОДАРЕННЫХ ДЕТЕЙ.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468360" y="2606760"/>
            <a:ext cx="2190600" cy="3527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b32c16"/>
                </a:solidFill>
                <a:uFillTx/>
                <a:latin typeface="Century Schoolbook"/>
              </a:rPr>
              <a:t>ЗАДАЧ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Создание банка данных учащихся, имеющих высокий уровень интеллектуального, творческого и учебно-познавательного потенциал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Создание условий для инновационного развития учащихся и учителей школы с целью успешной организации учебного процесс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Совершенствование форм и приемов работы с учащимися, имеющими высокий интеллектуальный, творческий и учебно-познавательный потенциа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Социальная и психологическая поддержка одаренных дет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09:54:01Z</dcterms:created>
  <dc:creator>zav</dc:creator>
  <dc:description/>
  <dc:language>en-US</dc:language>
  <cp:lastModifiedBy>asus</cp:lastModifiedBy>
  <dcterms:modified xsi:type="dcterms:W3CDTF">2019-04-07T15:33:00Z</dcterms:modified>
  <cp:revision>27</cp:revision>
  <dc:subject/>
  <dc:title>Презентация PowerPoint</dc:title>
</cp:coreProperties>
</file>