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28.wmf" ContentType="image/x-wmf"/>
  <Override PartName="/ppt/media/image4.png" ContentType="image/png"/>
  <Override PartName="/ppt/media/image3.png" ContentType="image/png"/>
  <Override PartName="/ppt/media/image2.png" ContentType="image/png"/>
  <Override PartName="/ppt/media/image1.wmf" ContentType="image/x-wmf"/>
  <Override PartName="/ppt/media/image24.wmf" ContentType="image/x-wmf"/>
  <Override PartName="/ppt/media/image29.wmf" ContentType="image/x-wmf"/>
  <Override PartName="/ppt/media/image27.wmf" ContentType="image/x-wmf"/>
  <Override PartName="/ppt/media/image16.jpeg" ContentType="image/jpeg"/>
  <Override PartName="/ppt/media/image25.wmf" ContentType="image/x-wmf"/>
  <Override PartName="/ppt/media/image22.wmf" ContentType="image/x-wmf"/>
  <Override PartName="/ppt/media/image20.wmf" ContentType="image/x-wmf"/>
  <Override PartName="/ppt/media/image1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15.jpeg" ContentType="image/jpeg"/>
  <Override PartName="/ppt/media/image2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DBA-4BD9-45DA-9385-ACAC67DB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4B03-DBFE-45C7-8362-A2DE663D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B63-F16F-4F8F-8059-7DB69A6E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8EEC-6433-48D7-A1BC-56F0EEE9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1FE0-5EDD-4E94-8E49-B84DB516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0CD9-A65E-4863-9F1C-55143B19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F6CA-0298-4A67-87CE-F6061AB4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0DB2-4E7E-460B-B7C4-9E59042F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77D5-71CD-4FED-80A2-8916D11B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0350-00C0-4E3D-8371-8C1F19AF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8EF6-9694-4001-8EAC-1AEE6616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583A-DC6B-4C7A-A9C6-9FBC4B4B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E85B-FE10-43DE-8C42-DB8E85C0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9B71-8562-4672-B0FD-EBA7B037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2661-6465-4273-8B44-5C007424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C65E-5BC8-4651-8E79-DAE3FA85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1853-62F5-4BDA-ACD5-AAE4F040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A0264-7137-4245-9F2B-1B951051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57983-7A34-499D-A9D4-E2BFAB8F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09F54-B951-4D74-BABD-DDBC1B9F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D1AF-E807-4018-B442-9C1F8433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74EC2-3266-4A42-90D5-CCCCA387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0DC6-5559-41F6-B2E7-C0CBE3E0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9499D-0B75-41DB-87FA-A41712C9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0F877-3348-4FBB-B5A1-F72E32C3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76331-1514-4C29-9F81-D704127A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84664-F2DE-4639-8CBE-13BC24F3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55BA1-0FFE-4BA4-9E7C-D9642E12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47DC2-19CF-4401-93CE-D424A73C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65817-C0EC-40C7-8E65-890CEB91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59CD9-CEA2-48AA-9190-7CC1E8A8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19188-4EDA-490F-B303-19B908CA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F9DDC-5D3E-49BA-A58B-4C58D5EE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7031-D02F-4237-BDED-F9DBCC31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3FF1D-F53E-43D2-B312-801714A7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F7F9E-1928-4E50-87FB-EC6958EE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5900A-1D80-4755-94C6-E99FE5AA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5CCEE-1F5D-414A-BDF5-71AB10C9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7B3BE-DB1C-429C-B3E8-35B68A56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CC787-3401-456E-88E2-E00EB4DD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BA2BB-13B4-4B01-9026-71E08589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A7C63-E8B6-49F0-B0B3-D2CF3BB3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CF096-6A7F-4A16-94E2-D0AEC058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EBA-AF6F-4CF2-8F5A-94D6DD20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5F55-3FDB-4855-831F-230C169D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6AED-A25C-48AC-98CD-1CEEC874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796-8F31-4045-AF1E-F6138D0C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4DC-121C-4F79-94A0-8A8C9211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BD79-6E35-48BE-9D03-FD184DC2432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9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3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4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5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6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2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2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B98F-FF41-4718-B09A-EF8528B5619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D8B1-615A-4C5A-BE9D-7E2660144DB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192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96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197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98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99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1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5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21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5" name="Freeform 46"/>
            <p:cNvSpPr/>
            <p:nvPr/>
          </p:nvSpPr>
          <p:spPr>
            <a:xfrm>
              <a:off x="7953480" y="4909320"/>
              <a:ext cx="1190520" cy="1938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7"/>
            <p:cNvSpPr/>
            <p:nvPr/>
          </p:nvSpPr>
          <p:spPr>
            <a:xfrm>
              <a:off x="7939080" y="4858560"/>
              <a:ext cx="1219320" cy="199908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8"/>
            <p:cNvSpPr/>
            <p:nvPr/>
          </p:nvSpPr>
          <p:spPr>
            <a:xfrm>
              <a:off x="7927920" y="2819520"/>
              <a:ext cx="1231920" cy="403488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9"/>
            <p:cNvSpPr/>
            <p:nvPr/>
          </p:nvSpPr>
          <p:spPr>
            <a:xfrm>
              <a:off x="8010360" y="3539880"/>
              <a:ext cx="979560" cy="218340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0"/>
            <p:cNvSpPr/>
            <p:nvPr/>
          </p:nvSpPr>
          <p:spPr>
            <a:xfrm>
              <a:off x="8244000" y="429840"/>
              <a:ext cx="914400" cy="504576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1"/>
            <p:cNvSpPr/>
            <p:nvPr/>
          </p:nvSpPr>
          <p:spPr>
            <a:xfrm>
              <a:off x="8250120" y="264960"/>
              <a:ext cx="909720" cy="30697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2"/>
            <p:cNvSpPr/>
            <p:nvPr/>
          </p:nvSpPr>
          <p:spPr>
            <a:xfrm>
              <a:off x="7943760" y="2880"/>
              <a:ext cx="576360" cy="33508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3"/>
            <p:cNvSpPr/>
            <p:nvPr/>
          </p:nvSpPr>
          <p:spPr>
            <a:xfrm>
              <a:off x="7943760" y="4320"/>
              <a:ext cx="300240" cy="33512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56"/>
            <p:cNvSpPr/>
            <p:nvPr/>
          </p:nvSpPr>
          <p:spPr>
            <a:xfrm rot="5400000">
              <a:off x="4325760" y="3317400"/>
              <a:ext cx="685476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7383-A499-445B-9537-49B047BA8C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Номер слайда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33D0-0782-4792-8A7D-162D91241B7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https://ds03.infourok.ru/uploads/ex/0cf3/0000d042-23f1fe83/img0.jpg"/>
          <p:cNvPicPr/>
          <p:nvPr/>
        </p:nvPicPr>
        <p:blipFill>
          <a:blip r:embed="rId1"/>
          <a:srcRect l="0" t="154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8BBD-17D4-47B0-9641-1262D3FB63F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9 класс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ма: «Свойства степени с целым показателе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42BB-389B-4A10-833D-4D979A9BFD3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70480" y="297360"/>
            <a:ext cx="770724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br>
              <a:rPr sz="3200"/>
            </a:b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История создания современной теории степеней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294" name="Picture 6" descr="img001"/>
          <p:cNvPicPr/>
          <p:nvPr/>
        </p:nvPicPr>
        <p:blipFill>
          <a:blip r:embed="rId1"/>
          <a:stretch/>
        </p:blipFill>
        <p:spPr>
          <a:xfrm>
            <a:off x="826920" y="3462480"/>
            <a:ext cx="1368720" cy="28810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img001"/>
          <p:cNvPicPr/>
          <p:nvPr/>
        </p:nvPicPr>
        <p:blipFill>
          <a:blip r:embed="rId2"/>
          <a:stretch/>
        </p:blipFill>
        <p:spPr>
          <a:xfrm>
            <a:off x="2050920" y="3429000"/>
            <a:ext cx="1173240" cy="29005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8" descr="img001"/>
          <p:cNvPicPr/>
          <p:nvPr/>
        </p:nvPicPr>
        <p:blipFill>
          <a:blip r:embed="rId3"/>
          <a:stretch/>
        </p:blipFill>
        <p:spPr>
          <a:xfrm>
            <a:off x="3203640" y="3573360"/>
            <a:ext cx="2171520" cy="1152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9" descr="img001"/>
          <p:cNvPicPr/>
          <p:nvPr/>
        </p:nvPicPr>
        <p:blipFill>
          <a:blip r:embed="rId4"/>
          <a:stretch/>
        </p:blipFill>
        <p:spPr>
          <a:xfrm>
            <a:off x="5435640" y="3645000"/>
            <a:ext cx="3097080" cy="1228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img001"/>
          <p:cNvPicPr/>
          <p:nvPr/>
        </p:nvPicPr>
        <p:blipFill>
          <a:blip r:embed="rId5"/>
          <a:stretch/>
        </p:blipFill>
        <p:spPr>
          <a:xfrm>
            <a:off x="3203640" y="5013360"/>
            <a:ext cx="2089080" cy="13683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821880" y="2492280"/>
            <a:ext cx="783756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вычисления. Заполните таблицы буквами, учитывая найденные отве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3" descr="img001"/>
          <p:cNvPicPr/>
          <p:nvPr/>
        </p:nvPicPr>
        <p:blipFill>
          <a:blip r:embed="rId6"/>
          <a:stretch/>
        </p:blipFill>
        <p:spPr>
          <a:xfrm>
            <a:off x="5508720" y="5013360"/>
            <a:ext cx="2950920" cy="13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022D-3D97-4CC9-96DF-105ABF0778F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827640" y="837000"/>
            <a:ext cx="778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имон Стевин и Рене Декарт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03" name="Picture 3" descr="декарт 2"/>
          <p:cNvPicPr/>
          <p:nvPr/>
        </p:nvPicPr>
        <p:blipFill>
          <a:blip r:embed="rId1"/>
          <a:stretch/>
        </p:blipFill>
        <p:spPr>
          <a:xfrm>
            <a:off x="5003640" y="2781360"/>
            <a:ext cx="2521080" cy="3168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стевин"/>
          <p:cNvPicPr/>
          <p:nvPr/>
        </p:nvPicPr>
        <p:blipFill>
          <a:blip r:embed="rId2"/>
          <a:stretch/>
        </p:blipFill>
        <p:spPr>
          <a:xfrm>
            <a:off x="1547640" y="2781360"/>
            <a:ext cx="23209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5DD4-6746-4C74-80CD-30EB2ECB16A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861480" y="433080"/>
            <a:ext cx="7725240" cy="137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2481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ДАНИЕ №2 </a:t>
            </a:r>
            <a:br>
              <a:rPr sz="3200"/>
            </a:br>
            <a:r>
              <a:rPr b="1" lang="ru-RU" sz="3600" spc="-1" strike="noStrike">
                <a:solidFill>
                  <a:srgbClr val="9900cc"/>
                </a:solidFill>
                <a:latin typeface="Arial"/>
                <a:ea typeface="Calibri"/>
              </a:rPr>
              <a:t>Сравнение выражений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307" name="Picture 7" descr="img002"/>
          <p:cNvPicPr/>
          <p:nvPr/>
        </p:nvPicPr>
        <p:blipFill>
          <a:blip r:embed="rId1"/>
          <a:stretch/>
        </p:blipFill>
        <p:spPr>
          <a:xfrm>
            <a:off x="5003640" y="3357720"/>
            <a:ext cx="3019680" cy="23032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е, не выполняя вычис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верные неравенства. Из соответствующих им букв составьте фамилию архитектора, по проекту которого в 1825 году было построено здание Большого театра в Моск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Arial"/>
              </a:rPr>
              <a:t>Бов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оектам этого известного архитектора также были построены здания Манежа и Триумфальные ворота, создан проект Александров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" descr="img002"/>
          <p:cNvPicPr/>
          <p:nvPr/>
        </p:nvPicPr>
        <p:blipFill>
          <a:blip r:embed="rId2"/>
          <a:stretch/>
        </p:blipFill>
        <p:spPr>
          <a:xfrm>
            <a:off x="826920" y="3500280"/>
            <a:ext cx="1800360" cy="1441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2" descr=""/>
          <p:cNvPicPr/>
          <p:nvPr/>
        </p:nvPicPr>
        <p:blipFill>
          <a:blip r:embed="rId3"/>
          <a:stretch/>
        </p:blipFill>
        <p:spPr>
          <a:xfrm>
            <a:off x="2540160" y="3524400"/>
            <a:ext cx="2057400" cy="1584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3" descr="БТ 2"/>
          <p:cNvPicPr/>
          <p:nvPr/>
        </p:nvPicPr>
        <p:blipFill>
          <a:blip r:embed="rId4"/>
          <a:stretch/>
        </p:blipFill>
        <p:spPr>
          <a:xfrm>
            <a:off x="4714920" y="3357720"/>
            <a:ext cx="3240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2DD6-5CDE-4CB1-BF28-C0A89BF38AF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войства степеней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14"/>
          <p:cNvGrpSpPr/>
          <p:nvPr/>
        </p:nvGrpSpPr>
        <p:grpSpPr>
          <a:xfrm>
            <a:off x="2014560" y="2422440"/>
            <a:ext cx="5114520" cy="4175280"/>
            <a:chOff x="2014560" y="2422440"/>
            <a:chExt cx="5114520" cy="4175280"/>
          </a:xfrm>
        </p:grpSpPr>
        <p:sp>
          <p:nvSpPr>
            <p:cNvPr id="317" name="AutoShape 7"/>
            <p:cNvSpPr/>
            <p:nvPr/>
          </p:nvSpPr>
          <p:spPr>
            <a:xfrm>
              <a:off x="2014560" y="2422440"/>
              <a:ext cx="5114520" cy="4175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Object 12"/>
                <p:cNvSpPr txBox="1"/>
                <p:nvPr/>
              </p:nvSpPr>
              <p:spPr>
                <a:xfrm>
                  <a:off x="2203560" y="2422440"/>
                  <a:ext cx="4879440" cy="404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: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sSup>
                            <m:e/>
                            <m:sup/>
                          </m:sSup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n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>
                                        <m:t xml:space="preserve">b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limUpp>
                            <m:e/>
                            <m:lim/>
                          </m:limUpp>
                          <m:r>
                            <m:t xml:space="preserve">b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36162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8"/>
          <p:cNvGraphicFramePr/>
          <p:nvPr/>
        </p:nvGraphicFramePr>
        <p:xfrm>
          <a:off x="1258920" y="1916280"/>
          <a:ext cx="82692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6280"/>
                    <a:ext cx="8269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10"/>
          <p:cNvGraphicFramePr/>
          <p:nvPr/>
        </p:nvGraphicFramePr>
        <p:xfrm>
          <a:off x="1258920" y="2637000"/>
          <a:ext cx="82692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2637000"/>
                    <a:ext cx="8269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Object 12"/>
          <p:cNvGraphicFramePr/>
          <p:nvPr/>
        </p:nvGraphicFramePr>
        <p:xfrm>
          <a:off x="1187280" y="3351240"/>
          <a:ext cx="1043280" cy="43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3351240"/>
                    <a:ext cx="1043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14"/>
          <p:cNvGraphicFramePr/>
          <p:nvPr/>
        </p:nvGraphicFramePr>
        <p:xfrm>
          <a:off x="1042920" y="4005360"/>
          <a:ext cx="1224000" cy="45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2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4005360"/>
                    <a:ext cx="12240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1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16"/>
          <p:cNvGraphicFramePr/>
          <p:nvPr/>
        </p:nvGraphicFramePr>
        <p:xfrm>
          <a:off x="1116000" y="4653000"/>
          <a:ext cx="1008000" cy="861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5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4653000"/>
                    <a:ext cx="1008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18"/>
          <p:cNvGraphicFramePr/>
          <p:nvPr/>
        </p:nvGraphicFramePr>
        <p:xfrm>
          <a:off x="5003640" y="1844640"/>
          <a:ext cx="1368720" cy="37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8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3640" y="1844640"/>
                    <a:ext cx="13687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21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20"/>
          <p:cNvGraphicFramePr/>
          <p:nvPr/>
        </p:nvGraphicFramePr>
        <p:xfrm>
          <a:off x="5003640" y="2349360"/>
          <a:ext cx="1008360" cy="41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1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3640" y="2349360"/>
                    <a:ext cx="10083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2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22"/>
          <p:cNvGraphicFramePr/>
          <p:nvPr/>
        </p:nvGraphicFramePr>
        <p:xfrm>
          <a:off x="5003640" y="2924280"/>
          <a:ext cx="648000" cy="379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4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03640" y="2924280"/>
                    <a:ext cx="6480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Rectangle 2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24"/>
          <p:cNvGraphicFramePr/>
          <p:nvPr/>
        </p:nvGraphicFramePr>
        <p:xfrm>
          <a:off x="5003640" y="3357720"/>
          <a:ext cx="1152720" cy="384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7" name="Object 2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03640" y="3357720"/>
                    <a:ext cx="11527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2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6"/>
          <p:cNvGraphicFramePr/>
          <p:nvPr/>
        </p:nvGraphicFramePr>
        <p:xfrm>
          <a:off x="5003640" y="3860640"/>
          <a:ext cx="1079640" cy="411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50" name="Object 2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03640" y="3860640"/>
                    <a:ext cx="107964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Rectangle 2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28"/>
          <p:cNvGraphicFramePr/>
          <p:nvPr/>
        </p:nvGraphicFramePr>
        <p:xfrm>
          <a:off x="5003640" y="4292640"/>
          <a:ext cx="774720" cy="792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53" name="Object 2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03640" y="4292640"/>
                    <a:ext cx="7747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TextBox 28"/>
          <p:cNvSpPr/>
          <p:nvPr/>
        </p:nvSpPr>
        <p:spPr>
          <a:xfrm>
            <a:off x="7072200" y="62866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5"/>
              <p:cNvSpPr txBox="1"/>
              <p:nvPr/>
            </p:nvSpPr>
            <p:spPr>
              <a:xfrm>
                <a:off x="2843280" y="1844640"/>
                <a:ext cx="3556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28"/>
              <p:cNvSpPr txBox="1"/>
              <p:nvPr/>
            </p:nvSpPr>
            <p:spPr>
              <a:xfrm>
                <a:off x="2771640" y="2565360"/>
                <a:ext cx="4921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7"/>
              <p:cNvSpPr txBox="1"/>
              <p:nvPr/>
            </p:nvSpPr>
            <p:spPr>
              <a:xfrm>
                <a:off x="2700360" y="3336840"/>
                <a:ext cx="642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30"/>
              <p:cNvSpPr txBox="1"/>
              <p:nvPr/>
            </p:nvSpPr>
            <p:spPr>
              <a:xfrm>
                <a:off x="2556000" y="3933720"/>
                <a:ext cx="614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19"/>
              <p:cNvSpPr txBox="1"/>
              <p:nvPr/>
            </p:nvSpPr>
            <p:spPr>
              <a:xfrm>
                <a:off x="2556000" y="4581360"/>
                <a:ext cx="5238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2"/>
              <p:cNvSpPr txBox="1"/>
              <p:nvPr/>
            </p:nvSpPr>
            <p:spPr>
              <a:xfrm>
                <a:off x="6786720" y="1857240"/>
                <a:ext cx="47124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21"/>
              <p:cNvSpPr txBox="1"/>
              <p:nvPr/>
            </p:nvSpPr>
            <p:spPr>
              <a:xfrm>
                <a:off x="6715080" y="2214720"/>
                <a:ext cx="6429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4"/>
              <p:cNvSpPr txBox="1"/>
              <p:nvPr/>
            </p:nvSpPr>
            <p:spPr>
              <a:xfrm>
                <a:off x="6357960" y="2928960"/>
                <a:ext cx="6332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3"/>
              <p:cNvSpPr txBox="1"/>
              <p:nvPr/>
            </p:nvSpPr>
            <p:spPr>
              <a:xfrm>
                <a:off x="6286680" y="3429000"/>
                <a:ext cx="6141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36"/>
              <p:cNvSpPr txBox="1"/>
              <p:nvPr/>
            </p:nvSpPr>
            <p:spPr>
              <a:xfrm>
                <a:off x="6357960" y="3929040"/>
                <a:ext cx="519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25"/>
              <p:cNvSpPr txBox="1"/>
              <p:nvPr/>
            </p:nvSpPr>
            <p:spPr>
              <a:xfrm>
                <a:off x="6215040" y="4643280"/>
                <a:ext cx="6606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16000" y="907920"/>
            <a:ext cx="6192720" cy="43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Monotype Corsiva"/>
              </a:rPr>
              <a:t>Математику 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Monotype Corsiva"/>
              </a:rPr>
              <a:t>нельзя учить, наблюдая,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Monotype Corsiva"/>
              </a:rPr>
              <a:t>как это делает сосед.</a:t>
            </a:r>
            <a:endParaRPr b="0" lang="en-US" sz="5400" spc="-1" strike="noStrike">
              <a:solidFill>
                <a:srgbClr val="6667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3:37:33Z</dcterms:created>
  <dc:creator>Попова Екатерина</dc:creator>
  <dc:description/>
  <dc:language>en-US</dc:language>
  <cp:lastModifiedBy>Matem</cp:lastModifiedBy>
  <dcterms:modified xsi:type="dcterms:W3CDTF">2018-01-22T14:15:42Z</dcterms:modified>
  <cp:revision>82</cp:revision>
  <dc:subject/>
  <dc:title>Слайд 1</dc:title>
</cp:coreProperties>
</file>