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8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.wmf" ContentType="image/x-wmf"/>
  <Override PartName="/ppt/media/image24.wmf" ContentType="image/x-wmf"/>
  <Override PartName="/ppt/media/image29.wmf" ContentType="image/x-wmf"/>
  <Override PartName="/ppt/media/image27.wmf" ContentType="image/x-wmf"/>
  <Override PartName="/ppt/media/image16.jpeg" ContentType="image/jpeg"/>
  <Override PartName="/ppt/media/image25.wmf" ContentType="image/x-wmf"/>
  <Override PartName="/ppt/media/image22.wmf" ContentType="image/x-wmf"/>
  <Override PartName="/ppt/media/image20.wmf" ContentType="image/x-wmf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230-07B3-441B-8491-86F765DC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7F4-3758-47E7-B4D8-4766E45B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11E-AC55-4FC3-8786-0570D426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675-154E-4846-B83C-3695C2BC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7F1C-A004-4BCB-9637-B13FF1E6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5D39-99DE-44F0-B5F4-117506AE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9CCF-5362-4F68-AD14-C3D6059C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69C8-2DB4-409A-AA29-1641757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A22B-7643-413C-BF7A-3814E80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9669-AE02-49EE-B18E-8CC99E38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0AE6-F711-4F99-B20C-B8031D8F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4BF-DF3E-4C88-B657-FF68489F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86F3-513B-4A66-99F2-A31913F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25AD-453B-47C4-90CE-8746B39C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CBA8-33AD-4165-9399-1E5C9094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651F-FACB-4D6D-9F29-2877CF72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81BD-0A2B-4064-A5DC-A600DD21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6E2E-DD5F-4DBC-AA94-3437DAF3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D418-E191-4707-AB12-F5F12EF5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2C45-5C20-4029-A430-EDE48846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DC69-D5F4-4264-BA4B-7BC9DFC4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CDB5-5772-4F25-AE37-5B2855BE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2F0-9F32-496B-A978-C20EEDDE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512D-2F17-41F2-A2BE-A9101F7E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B5F7-EACB-4A6C-B83B-0AA90A5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DB0F-10D9-478C-BA7C-FA6EF571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A499-2489-436F-9DAE-27D98D35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4064-282A-495C-839F-CC5F6CC9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E36B-6214-4261-8898-551425E2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A488-6C34-421F-A6C9-750DBDEB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0A55-7303-4497-B2EB-B683CC79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A09A-912F-46FF-8D09-888603FD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7B90-7AD7-471F-923A-2E2B53AC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69E-59D6-41C3-9DB9-12FE1988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9CEE9-7870-468F-ADFD-74C145A1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3BAA-0C0C-4DA5-B93C-D0B1ED0D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309C-BBCA-4DFD-AA4A-03C2D322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1603-2C76-4DD0-9B1D-F6C0D20E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F3A2-AEA3-4A0D-AD4C-1C66816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4E2C-8954-4D99-944A-620B3E7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2024-4900-45A9-BD49-A13CAB56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D5037-CDF8-4A38-8DA2-15FB90B1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A38A-B20D-4A2A-B876-3E098A3A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DB6-B807-4601-B822-08DA990D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8DE-33FF-4D30-AA6B-5F7307C4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A43-6166-4105-965A-33F19B2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DCA-DC57-42A2-AD03-376E8A59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483-0616-4205-AB4B-B27225B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8DD-6BE9-493F-A234-AAA9F11EA22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E6EF-D20E-472F-A778-3657B39A46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F210-3FCB-4E2F-940E-EECCFA99E60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19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96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97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98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99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5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21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5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EE85-2D87-42C8-B26C-3DA3D61850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0E41-CF3B-4740-8F2C-CBF17056A0E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https://ds03.infourok.ru/uploads/ex/0cf3/0000d042-23f1fe83/img0.jpg"/>
          <p:cNvPicPr/>
          <p:nvPr/>
        </p:nvPicPr>
        <p:blipFill>
          <a:blip r:embed="rId1"/>
          <a:srcRect l="0" t="154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3679-874D-43A3-8C09-F98695003DB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9 класс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: «Свойства степени с целым показателе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82F7-2B1A-4119-97F8-6296AEA65FE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704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br>
              <a:rPr sz="3200"/>
            </a:b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94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21880" y="2492280"/>
            <a:ext cx="783756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2F43-25CB-46B3-A51C-9507E9C2F4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03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2E51-D9BF-47F9-BFED-63772DD2F0F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61480" y="433080"/>
            <a:ext cx="772524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2481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Е №2 </a:t>
            </a:r>
            <a:br>
              <a:rPr sz="3200"/>
            </a:br>
            <a:r>
              <a:rPr b="1" lang="ru-RU" sz="3600" spc="-1" strike="noStrike">
                <a:solidFill>
                  <a:srgbClr val="9900cc"/>
                </a:solidFill>
                <a:latin typeface="Arial"/>
                <a:ea typeface="Calibri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07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"/>
          <p:cNvPicPr/>
          <p:nvPr/>
        </p:nvPicPr>
        <p:blipFill>
          <a:blip r:embed="rId3"/>
          <a:stretch/>
        </p:blipFill>
        <p:spPr>
          <a:xfrm>
            <a:off x="2540160" y="3524400"/>
            <a:ext cx="2057400" cy="1584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52FF-C6C5-47B2-B0CC-E351372E7C5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4"/>
          <p:cNvGrpSpPr/>
          <p:nvPr/>
        </p:nvGrpSpPr>
        <p:grpSpPr>
          <a:xfrm>
            <a:off x="2014560" y="2422440"/>
            <a:ext cx="5114520" cy="4175280"/>
            <a:chOff x="2014560" y="2422440"/>
            <a:chExt cx="5114520" cy="4175280"/>
          </a:xfrm>
        </p:grpSpPr>
        <p:sp>
          <p:nvSpPr>
            <p:cNvPr id="317" name="AutoShape 7"/>
            <p:cNvSpPr/>
            <p:nvPr/>
          </p:nvSpPr>
          <p:spPr>
            <a:xfrm>
              <a:off x="2014560" y="2422440"/>
              <a:ext cx="511452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12"/>
                <p:cNvSpPr txBox="1"/>
                <p:nvPr/>
              </p:nvSpPr>
              <p:spPr>
                <a:xfrm>
                  <a:off x="2203560" y="2422440"/>
                  <a:ext cx="487944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36162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8"/>
          <p:cNvGraphicFramePr/>
          <p:nvPr/>
        </p:nvGraphicFramePr>
        <p:xfrm>
          <a:off x="1258920" y="1916280"/>
          <a:ext cx="82692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826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10"/>
          <p:cNvGraphicFramePr/>
          <p:nvPr/>
        </p:nvGraphicFramePr>
        <p:xfrm>
          <a:off x="1258920" y="2637000"/>
          <a:ext cx="82692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637000"/>
                    <a:ext cx="8269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2"/>
          <p:cNvGraphicFramePr/>
          <p:nvPr/>
        </p:nvGraphicFramePr>
        <p:xfrm>
          <a:off x="1187280" y="3351240"/>
          <a:ext cx="104328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3351240"/>
                    <a:ext cx="1043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4"/>
          <p:cNvGraphicFramePr/>
          <p:nvPr/>
        </p:nvGraphicFramePr>
        <p:xfrm>
          <a:off x="1042920" y="4005360"/>
          <a:ext cx="1224000" cy="45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005360"/>
                    <a:ext cx="12240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1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16"/>
          <p:cNvGraphicFramePr/>
          <p:nvPr/>
        </p:nvGraphicFramePr>
        <p:xfrm>
          <a:off x="1116000" y="4653000"/>
          <a:ext cx="100800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4653000"/>
                    <a:ext cx="1008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8"/>
          <p:cNvGraphicFramePr/>
          <p:nvPr/>
        </p:nvGraphicFramePr>
        <p:xfrm>
          <a:off x="5003640" y="1844640"/>
          <a:ext cx="1368720" cy="37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1844640"/>
                    <a:ext cx="13687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20"/>
          <p:cNvGraphicFramePr/>
          <p:nvPr/>
        </p:nvGraphicFramePr>
        <p:xfrm>
          <a:off x="5003640" y="2349360"/>
          <a:ext cx="10083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1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3640" y="2349360"/>
                    <a:ext cx="1008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22"/>
          <p:cNvGraphicFramePr/>
          <p:nvPr/>
        </p:nvGraphicFramePr>
        <p:xfrm>
          <a:off x="5003640" y="2924280"/>
          <a:ext cx="648000" cy="379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4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3640" y="2924280"/>
                    <a:ext cx="6480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24"/>
          <p:cNvGraphicFramePr/>
          <p:nvPr/>
        </p:nvGraphicFramePr>
        <p:xfrm>
          <a:off x="5003640" y="3357720"/>
          <a:ext cx="1152720" cy="38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7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03640" y="3357720"/>
                    <a:ext cx="1152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6"/>
          <p:cNvGraphicFramePr/>
          <p:nvPr/>
        </p:nvGraphicFramePr>
        <p:xfrm>
          <a:off x="5003640" y="3860640"/>
          <a:ext cx="1079640" cy="411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0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03640" y="3860640"/>
                    <a:ext cx="107964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2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28"/>
          <p:cNvGraphicFramePr/>
          <p:nvPr/>
        </p:nvGraphicFramePr>
        <p:xfrm>
          <a:off x="5003640" y="4292640"/>
          <a:ext cx="774720" cy="79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3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03640" y="4292640"/>
                    <a:ext cx="77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Box 28"/>
          <p:cNvSpPr/>
          <p:nvPr/>
        </p:nvSpPr>
        <p:spPr>
          <a:xfrm>
            <a:off x="7072200" y="6286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2843280" y="1844640"/>
                <a:ext cx="355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8"/>
              <p:cNvSpPr txBox="1"/>
              <p:nvPr/>
            </p:nvSpPr>
            <p:spPr>
              <a:xfrm>
                <a:off x="2771640" y="2565360"/>
                <a:ext cx="4921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7"/>
              <p:cNvSpPr txBox="1"/>
              <p:nvPr/>
            </p:nvSpPr>
            <p:spPr>
              <a:xfrm>
                <a:off x="2700360" y="3336840"/>
                <a:ext cx="642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0"/>
              <p:cNvSpPr txBox="1"/>
              <p:nvPr/>
            </p:nvSpPr>
            <p:spPr>
              <a:xfrm>
                <a:off x="2556000" y="3933720"/>
                <a:ext cx="614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9"/>
              <p:cNvSpPr txBox="1"/>
              <p:nvPr/>
            </p:nvSpPr>
            <p:spPr>
              <a:xfrm>
                <a:off x="2556000" y="4581360"/>
                <a:ext cx="523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2"/>
              <p:cNvSpPr txBox="1"/>
              <p:nvPr/>
            </p:nvSpPr>
            <p:spPr>
              <a:xfrm>
                <a:off x="6786720" y="1857240"/>
                <a:ext cx="4712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1"/>
              <p:cNvSpPr txBox="1"/>
              <p:nvPr/>
            </p:nvSpPr>
            <p:spPr>
              <a:xfrm>
                <a:off x="6715080" y="2214720"/>
                <a:ext cx="642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4"/>
              <p:cNvSpPr txBox="1"/>
              <p:nvPr/>
            </p:nvSpPr>
            <p:spPr>
              <a:xfrm>
                <a:off x="6357960" y="2928960"/>
                <a:ext cx="6332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6286680" y="3429000"/>
                <a:ext cx="614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6"/>
              <p:cNvSpPr txBox="1"/>
              <p:nvPr/>
            </p:nvSpPr>
            <p:spPr>
              <a:xfrm>
                <a:off x="6357960" y="3929040"/>
                <a:ext cx="519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5"/>
              <p:cNvSpPr txBox="1"/>
              <p:nvPr/>
            </p:nvSpPr>
            <p:spPr>
              <a:xfrm>
                <a:off x="6215040" y="4643280"/>
                <a:ext cx="660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619272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Математику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нельзя учить, наблюдая,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как это делает сосед.</a:t>
            </a:r>
            <a:endParaRPr b="0" lang="en-US" sz="54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Matem</cp:lastModifiedBy>
  <dcterms:modified xsi:type="dcterms:W3CDTF">2018-01-22T14:15:42Z</dcterms:modified>
  <cp:revision>82</cp:revision>
  <dc:subject/>
  <dc:title>Слайд 1</dc:title>
</cp:coreProperties>
</file>