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8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.wmf" ContentType="image/x-wmf"/>
  <Override PartName="/ppt/media/image24.wmf" ContentType="image/x-wmf"/>
  <Override PartName="/ppt/media/image29.wmf" ContentType="image/x-wmf"/>
  <Override PartName="/ppt/media/image27.wmf" ContentType="image/x-wmf"/>
  <Override PartName="/ppt/media/image16.jpeg" ContentType="image/jpeg"/>
  <Override PartName="/ppt/media/image25.wmf" ContentType="image/x-wmf"/>
  <Override PartName="/ppt/media/image22.wmf" ContentType="image/x-wmf"/>
  <Override PartName="/ppt/media/image20.wmf" ContentType="image/x-wmf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563-741F-48C4-8A46-92CFC357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462-88DD-4C4E-97E0-931AC51A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FB2-3E8C-48D9-AFC7-A446D9E3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447-DD21-4D8E-86DA-974D87DE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2D87-47C5-4653-AEAA-F9729E98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DA27-BA41-47A4-B381-CF5F5B34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620E-31A8-4133-AAFE-A7FBD7EC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EDCE-3B9F-491C-AC4C-5CFE906C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B865-B80D-4ED6-AD71-50C8F346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C097-3A7D-4697-9CE6-8032215A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C1CC-46BD-433C-83AF-E8FAC3B6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F8E-60C9-4815-9012-D13C6D39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5B1B-0FEB-4D1C-B258-F959D67D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321E-34F5-4DC6-AAAF-B5ACE562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EBDC-2FE7-4D77-97E8-11C553E9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307C-D5CF-4702-9AE3-4FA67D65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30B9-2C33-46C0-8749-93864D4B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E8D5-37C0-46EA-859A-13926479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4C44-9E71-4BA9-AB66-12591ABA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DF65-E826-473C-8FFE-BAB136FD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B82A-4CBF-4797-9FDC-1997884E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6D559-71CA-4EFA-8734-0D520460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CCB-3D1F-46A5-A8DF-4DFAEDA6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B4B5-83C7-49CF-9B76-108E02A0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CAA1-D9D3-4772-BC1E-8F2E6F3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6262B-0168-43B8-B72F-B18E460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419C-5779-4471-B813-CA60725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2EFE-0413-4A22-8266-3D57E631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ADEF6-E7AA-4873-BA9E-6336F3F6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52EA-AAD4-4A7E-9F4A-36EB9956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AFC7C-7833-460B-AADA-CBDA5DBD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9E24D-D66F-428D-B539-45C546B3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A9FE-FF17-4697-988F-65F90601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BAE-7D2F-4CC4-A252-4E433118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8FFC-1E67-4530-9B3B-0F1A4631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5A47-FF27-4319-B081-71AC5BD6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77BA0-2AC7-4325-B6CD-99CB0B01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A718-8BDB-418F-BAEA-CA6F369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0554-F785-4F45-A16A-C6300735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BAC4-740F-47D6-BEBA-BB639C6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9B47-BC51-41FD-8FB2-428569B7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270B3-9180-43D8-9442-A956DEE2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F4F77-BC6F-4CC9-8DFE-FBA4A55A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011-5C53-40D6-99DA-A015ECDB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991-67C1-4E11-8B48-50EC59EB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E43-E875-49CE-B8C5-7D592E98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AF7-22C9-49F3-B13E-DA024271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87E-0497-4F31-A80D-E806174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1D01-1449-4E06-BC9E-CE5BE797C0B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EAB9-56FD-4D37-8D17-316AB31212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8C33-273E-4DF3-983D-0ABACDC62B3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19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96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97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98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99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5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21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5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FEAD-7719-4775-95C3-93FC1FED66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B67F-D3AA-4066-9822-F6F623C7131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https://ds03.infourok.ru/uploads/ex/0cf3/0000d042-23f1fe83/img0.jpg"/>
          <p:cNvPicPr/>
          <p:nvPr/>
        </p:nvPicPr>
        <p:blipFill>
          <a:blip r:embed="rId1"/>
          <a:srcRect l="0" t="154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DCF9-290B-4EDB-8748-28FA9E930C1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9 класс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: «Свойства степени с целым показателе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483C-A10F-4E4E-895F-3723868068B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704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br>
              <a:rPr sz="3200"/>
            </a:b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94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21880" y="2492280"/>
            <a:ext cx="783756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50ED-977B-424F-8C0C-CAD1C5845B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03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A924-AEF2-4DCC-AE50-8B13E2ECA09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61480" y="433080"/>
            <a:ext cx="772524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2481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Е №2 </a:t>
            </a:r>
            <a:br>
              <a:rPr sz="3200"/>
            </a:br>
            <a:r>
              <a:rPr b="1" lang="ru-RU" sz="3600" spc="-1" strike="noStrike">
                <a:solidFill>
                  <a:srgbClr val="9900cc"/>
                </a:solidFill>
                <a:latin typeface="Arial"/>
                <a:ea typeface="Calibri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07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"/>
          <p:cNvPicPr/>
          <p:nvPr/>
        </p:nvPicPr>
        <p:blipFill>
          <a:blip r:embed="rId3"/>
          <a:stretch/>
        </p:blipFill>
        <p:spPr>
          <a:xfrm>
            <a:off x="2540160" y="3524400"/>
            <a:ext cx="2057400" cy="1584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4951-2200-4F3A-884A-8CF6161C17F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4"/>
          <p:cNvGrpSpPr/>
          <p:nvPr/>
        </p:nvGrpSpPr>
        <p:grpSpPr>
          <a:xfrm>
            <a:off x="2014560" y="2422440"/>
            <a:ext cx="5114520" cy="4175280"/>
            <a:chOff x="2014560" y="2422440"/>
            <a:chExt cx="5114520" cy="4175280"/>
          </a:xfrm>
        </p:grpSpPr>
        <p:sp>
          <p:nvSpPr>
            <p:cNvPr id="317" name="AutoShape 7"/>
            <p:cNvSpPr/>
            <p:nvPr/>
          </p:nvSpPr>
          <p:spPr>
            <a:xfrm>
              <a:off x="2014560" y="2422440"/>
              <a:ext cx="511452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12"/>
                <p:cNvSpPr txBox="1"/>
                <p:nvPr/>
              </p:nvSpPr>
              <p:spPr>
                <a:xfrm>
                  <a:off x="2203560" y="2422440"/>
                  <a:ext cx="487944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36162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8"/>
          <p:cNvGraphicFramePr/>
          <p:nvPr/>
        </p:nvGraphicFramePr>
        <p:xfrm>
          <a:off x="1258920" y="1916280"/>
          <a:ext cx="82692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826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10"/>
          <p:cNvGraphicFramePr/>
          <p:nvPr/>
        </p:nvGraphicFramePr>
        <p:xfrm>
          <a:off x="1258920" y="2637000"/>
          <a:ext cx="82692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637000"/>
                    <a:ext cx="8269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2"/>
          <p:cNvGraphicFramePr/>
          <p:nvPr/>
        </p:nvGraphicFramePr>
        <p:xfrm>
          <a:off x="1187280" y="3351240"/>
          <a:ext cx="104328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3351240"/>
                    <a:ext cx="1043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4"/>
          <p:cNvGraphicFramePr/>
          <p:nvPr/>
        </p:nvGraphicFramePr>
        <p:xfrm>
          <a:off x="1042920" y="4005360"/>
          <a:ext cx="1224000" cy="45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005360"/>
                    <a:ext cx="12240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1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16"/>
          <p:cNvGraphicFramePr/>
          <p:nvPr/>
        </p:nvGraphicFramePr>
        <p:xfrm>
          <a:off x="1116000" y="4653000"/>
          <a:ext cx="100800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4653000"/>
                    <a:ext cx="1008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8"/>
          <p:cNvGraphicFramePr/>
          <p:nvPr/>
        </p:nvGraphicFramePr>
        <p:xfrm>
          <a:off x="5003640" y="1844640"/>
          <a:ext cx="1368720" cy="37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1844640"/>
                    <a:ext cx="13687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20"/>
          <p:cNvGraphicFramePr/>
          <p:nvPr/>
        </p:nvGraphicFramePr>
        <p:xfrm>
          <a:off x="5003640" y="2349360"/>
          <a:ext cx="10083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1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3640" y="2349360"/>
                    <a:ext cx="1008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22"/>
          <p:cNvGraphicFramePr/>
          <p:nvPr/>
        </p:nvGraphicFramePr>
        <p:xfrm>
          <a:off x="5003640" y="2924280"/>
          <a:ext cx="648000" cy="379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4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3640" y="2924280"/>
                    <a:ext cx="6480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24"/>
          <p:cNvGraphicFramePr/>
          <p:nvPr/>
        </p:nvGraphicFramePr>
        <p:xfrm>
          <a:off x="5003640" y="3357720"/>
          <a:ext cx="1152720" cy="38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7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03640" y="3357720"/>
                    <a:ext cx="1152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6"/>
          <p:cNvGraphicFramePr/>
          <p:nvPr/>
        </p:nvGraphicFramePr>
        <p:xfrm>
          <a:off x="5003640" y="3860640"/>
          <a:ext cx="1079640" cy="411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0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03640" y="3860640"/>
                    <a:ext cx="107964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2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28"/>
          <p:cNvGraphicFramePr/>
          <p:nvPr/>
        </p:nvGraphicFramePr>
        <p:xfrm>
          <a:off x="5003640" y="4292640"/>
          <a:ext cx="774720" cy="79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3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03640" y="4292640"/>
                    <a:ext cx="77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Box 28"/>
          <p:cNvSpPr/>
          <p:nvPr/>
        </p:nvSpPr>
        <p:spPr>
          <a:xfrm>
            <a:off x="7072200" y="6286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2843280" y="1844640"/>
                <a:ext cx="355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8"/>
              <p:cNvSpPr txBox="1"/>
              <p:nvPr/>
            </p:nvSpPr>
            <p:spPr>
              <a:xfrm>
                <a:off x="2771640" y="2565360"/>
                <a:ext cx="4921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7"/>
              <p:cNvSpPr txBox="1"/>
              <p:nvPr/>
            </p:nvSpPr>
            <p:spPr>
              <a:xfrm>
                <a:off x="2700360" y="3336840"/>
                <a:ext cx="642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0"/>
              <p:cNvSpPr txBox="1"/>
              <p:nvPr/>
            </p:nvSpPr>
            <p:spPr>
              <a:xfrm>
                <a:off x="2556000" y="3933720"/>
                <a:ext cx="614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9"/>
              <p:cNvSpPr txBox="1"/>
              <p:nvPr/>
            </p:nvSpPr>
            <p:spPr>
              <a:xfrm>
                <a:off x="2556000" y="4581360"/>
                <a:ext cx="523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2"/>
              <p:cNvSpPr txBox="1"/>
              <p:nvPr/>
            </p:nvSpPr>
            <p:spPr>
              <a:xfrm>
                <a:off x="6786720" y="1857240"/>
                <a:ext cx="4712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1"/>
              <p:cNvSpPr txBox="1"/>
              <p:nvPr/>
            </p:nvSpPr>
            <p:spPr>
              <a:xfrm>
                <a:off x="6715080" y="2214720"/>
                <a:ext cx="642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4"/>
              <p:cNvSpPr txBox="1"/>
              <p:nvPr/>
            </p:nvSpPr>
            <p:spPr>
              <a:xfrm>
                <a:off x="6357960" y="2928960"/>
                <a:ext cx="6332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6286680" y="3429000"/>
                <a:ext cx="614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6"/>
              <p:cNvSpPr txBox="1"/>
              <p:nvPr/>
            </p:nvSpPr>
            <p:spPr>
              <a:xfrm>
                <a:off x="6357960" y="3929040"/>
                <a:ext cx="519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5"/>
              <p:cNvSpPr txBox="1"/>
              <p:nvPr/>
            </p:nvSpPr>
            <p:spPr>
              <a:xfrm>
                <a:off x="6215040" y="4643280"/>
                <a:ext cx="660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619272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Математику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нельзя учить, наблюдая,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как это делает сосед.</a:t>
            </a:r>
            <a:endParaRPr b="0" lang="en-US" sz="54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Matem</cp:lastModifiedBy>
  <dcterms:modified xsi:type="dcterms:W3CDTF">2018-01-22T14:15:42Z</dcterms:modified>
  <cp:revision>82</cp:revision>
  <dc:subject/>
  <dc:title>Слайд 1</dc:title>
</cp:coreProperties>
</file>