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E2AC-5C8B-4358-8326-5E7B0C3BA2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6A96-7456-4600-BE26-E653A9FBA7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E630-5883-4986-9828-2CF81A2A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3C1-CC4D-4AFC-A4C4-CD1A89C8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911A-4F05-4FF2-856D-B31E4CD0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DD59-6522-48D8-9FD7-43667892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C8DF-04D7-4E66-8096-969F316D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8597-CE8D-41DD-B565-A5F25369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C3A3-41CD-4C71-A690-3F371549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D8D2-C56C-4811-8AEC-2C8A7584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4D69-8200-4EEA-A135-DEAB6847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B742-B1EC-4AA9-A7DC-32EE0451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3BBF-B217-4E57-B645-43C0847E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181-4204-40A2-8A0C-D0D1227D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24BF-7AB2-4287-9E46-44A9E5CF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55E9-CA52-4348-B3FE-51A8D1CB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1B2D-46E4-402C-A47E-85448053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E875-A086-4432-B9BF-F8C2D9C3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D6B9-2069-4A8A-BBC0-5C882C6D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B13-88D0-4655-A152-395A3DE3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065-5E0C-417F-927C-22B137AA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68C-2B75-45C8-A1E5-E589FCB3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540-304C-4E8D-AA66-228422B8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88C-DA38-4837-8D8C-4C9ADFA0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406-D8CE-49E0-8872-3D33E5E3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41B-F3B3-4163-82EB-B242F2FA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0F93-2C25-4823-B3F6-ED43A43B3B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FC69-6B88-4228-961B-F6A4693A90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765000"/>
            <a:ext cx="816300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64000" y="1928880"/>
            <a:ext cx="5192640" cy="38052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гол есть фигура, образованная двумя лучами ОА и ОВ, исходящими из одной точки 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А и 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тороны уг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ершина уг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1143000" y="4495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085480" y="32320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461680" y="42228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731880" y="42670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16"/>
          <p:cNvSpPr/>
          <p:nvPr/>
        </p:nvSpPr>
        <p:spPr>
          <a:xfrm flipV="1">
            <a:off x="1143000" y="36576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17"/>
          <p:cNvSpPr/>
          <p:nvPr/>
        </p:nvSpPr>
        <p:spPr>
          <a:xfrm>
            <a:off x="1143000" y="449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pe01821_"/>
          <p:cNvPicPr/>
          <p:nvPr/>
        </p:nvPicPr>
        <p:blipFill>
          <a:blip r:embed="rId1"/>
          <a:stretch/>
        </p:blipFill>
        <p:spPr>
          <a:xfrm>
            <a:off x="6804000" y="476280"/>
            <a:ext cx="1147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1:31:39Z</dcterms:created>
  <dc:creator>username</dc:creator>
  <dc:description/>
  <dc:language>en-US</dc:language>
  <cp:lastModifiedBy>username</cp:lastModifiedBy>
  <dcterms:modified xsi:type="dcterms:W3CDTF">2009-09-23T15:03:40Z</dcterms:modified>
  <cp:revision>1</cp:revision>
  <dc:subject/>
  <dc:title> </dc:title>
</cp:coreProperties>
</file>