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5914-E61B-4E39-B7B1-DC339D8D1E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3465-5D63-4E2A-969E-B4EB6030BC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162-D939-470E-9CD9-FAE0A909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EFE-374B-4387-A281-1FB061DE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DAF-40C2-4F72-B85C-4ED8F305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725-014B-4DF5-B578-ECBAEBFC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9EA3-BE97-4F15-83B8-106A2CEA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1C66-7477-4F87-803B-01E7325B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3218-3365-4101-8610-53844B5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B11D-E61E-4098-8630-6216032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0222-CAEE-4268-BE8A-049920B4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2757-9963-48E3-B661-6A182785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EF7D-3B2B-4944-BDE0-60098761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CB8-3AF7-48E4-8032-E0E9F82F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A398-EFA9-4CCD-9A9F-045DB62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31F9-2F22-44DB-85EB-5EE3746D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96E-1D70-42DF-9EBA-16CBD75F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ECDE-34CE-4272-A15A-95E38FA9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FA1F-A3D8-4451-9B36-1B1B4892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54C-68ED-42EF-B44E-42B4683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438-F5B7-4E49-8F62-6A9FF1C3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C20-88F3-474E-96BD-E00820A5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B31-6942-454F-AB24-7C27A06D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0FB-1001-4BB1-8921-DBE12BA9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F90-BA42-4686-8AEF-0C491AF1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2B3-6EF7-494F-93F0-38D7952F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06F-B6C2-4335-BED7-BA1853C9D8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15A3-2735-49CF-8859-893A14201E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65000"/>
            <a:ext cx="81630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64000" y="1928880"/>
            <a:ext cx="5192640" cy="3805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 есть фигура, образованная двумя лучами ОА и ОВ, исходящими из одной точки 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А и 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ороны у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ршина у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14300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085480" y="32320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461680" y="4222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731880" y="4267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16"/>
          <p:cNvSpPr/>
          <p:nvPr/>
        </p:nvSpPr>
        <p:spPr>
          <a:xfrm flipV="1">
            <a:off x="1143000" y="36576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114300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pe01821_"/>
          <p:cNvPicPr/>
          <p:nvPr/>
        </p:nvPicPr>
        <p:blipFill>
          <a:blip r:embed="rId1"/>
          <a:stretch/>
        </p:blipFill>
        <p:spPr>
          <a:xfrm>
            <a:off x="6804000" y="476280"/>
            <a:ext cx="1147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1:31:39Z</dcterms:created>
  <dc:creator>username</dc:creator>
  <dc:description/>
  <dc:language>en-US</dc:language>
  <cp:lastModifiedBy>username</cp:lastModifiedBy>
  <dcterms:modified xsi:type="dcterms:W3CDTF">2009-09-23T15:03:40Z</dcterms:modified>
  <cp:revision>1</cp:revision>
  <dc:subject/>
  <dc:title> </dc:title>
</cp:coreProperties>
</file>