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EA31-D6AE-4460-B05A-9AED280862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B8B6-59CD-4F5B-A001-215050E49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71E-F5D7-4F3C-90B7-6F48FCBB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D0C-F30B-4D14-8FE2-9F61B99B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CED-ED5F-4D4D-8D97-348F1A89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EF1-5C0E-45A1-A3A6-7765094A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3616-B249-45DA-AB2E-586B6751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58E4-9FD9-4538-B581-1B722F26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D748-80A5-4022-8827-521469B7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8266-5C33-4644-9CA6-4BA081EC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544F-4FE4-40D0-9791-458234FB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F372-4DD3-4687-827B-6BF013C9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0B9B-FEBE-4B2A-941D-CFB931D6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3D2-90B6-46BB-8606-58E542D8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4338-1578-4B15-A66E-E2E4F497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65C9-22A6-487D-89DE-101FB1AF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61FC-FB8C-4C8F-BABF-E716D88A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4069-9FF0-4FFA-8BD0-B9D3241E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5EDC-6BAA-4F3B-A7FC-EE235FD5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A48-D841-41E9-A3D9-5A680990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CA3-DE8F-4BFA-819A-5303F67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05A-ECB2-46AD-A45B-1517C130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A42-A453-4378-845D-956C67E5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AC7-B17F-47A1-B05A-BBAD97C4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D02-1ACB-45AD-9E30-BF1F2E88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025-1676-442B-8376-EA3C541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E6AF-6A20-442B-B9EE-160D844068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5E19-5873-4C44-9064-DBFF074A88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65000"/>
            <a:ext cx="81630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64000" y="1928880"/>
            <a:ext cx="5192640" cy="3805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ол есть фигура, образованная двумя лучами ОА и ОВ, исходящими из одной точки 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А и 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ороны уг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ршина уг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14300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085480" y="32320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461680" y="42228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731880" y="42670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16"/>
          <p:cNvSpPr/>
          <p:nvPr/>
        </p:nvSpPr>
        <p:spPr>
          <a:xfrm flipV="1">
            <a:off x="1143000" y="36576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114300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pe01821_"/>
          <p:cNvPicPr/>
          <p:nvPr/>
        </p:nvPicPr>
        <p:blipFill>
          <a:blip r:embed="rId1"/>
          <a:stretch/>
        </p:blipFill>
        <p:spPr>
          <a:xfrm>
            <a:off x="6804000" y="476280"/>
            <a:ext cx="1147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1:31:39Z</dcterms:created>
  <dc:creator>username</dc:creator>
  <dc:description/>
  <dc:language>en-US</dc:language>
  <cp:lastModifiedBy>username</cp:lastModifiedBy>
  <dcterms:modified xsi:type="dcterms:W3CDTF">2009-09-23T15:03:40Z</dcterms:modified>
  <cp:revision>1</cp:revision>
  <dc:subject/>
  <dc:title> </dc:title>
</cp:coreProperties>
</file>